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143-3F01-4CAD-94E6-00273F8D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884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216-2A2A-40C4-9A2A-1E50BC28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0B2-7A4B-45C5-8F41-5C34B69A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0F5-5353-44AC-B262-30FCEBFF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827C-4D7B-4FF5-BAF7-1307EAFD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6BBB-F0D5-400C-9F5D-DE9E8236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8028-1F14-490C-B974-B11F9E31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5DAA-0203-47FD-A042-86B2BF35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8EBA-5C37-4418-A34A-226858B7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D42C-5ABF-4B56-BCA8-BAA9D165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FFE0-03AD-4588-B98B-2A84DCA3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48D-BB7C-4D95-AC10-5328EE4F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BF4B-AD95-4170-A0E9-209FCEE7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5E3A-CBED-4A65-BF4C-90E633CD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5884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0001-E08F-4068-A5DF-B36E9AE2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DCAF-B2DF-4D84-B2EB-530618BC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A6ED-C214-4649-B004-DFACF2D2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6C1-D005-4BAB-A096-5A7E4097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B70-0789-4363-ABF2-0A5D9100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176-7507-4057-B0F9-72E34064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E71-EE5E-4BF3-954E-C9A0D331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1BA-AD1C-43A4-9FB2-27375A95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D14-C7C6-453E-80CC-CA91F68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DBE-6DDA-4634-8C9C-A85B3773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6EA2-AD9D-45CA-B5CE-0EBB9F017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ntinuation 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3-08-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tep 4 : Network Adjus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0A05-2027-420D-B4BE-EA18E492E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justment Sl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al Adjustment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constrained geometric (horizon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ain 1 CORS (3D) (3D=LL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s internal consistency of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computed vs published CORS coo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y constrained geomet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ain all CORS (3D) (3D=LL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s final set of adjusted geometric coordinates (LL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2013-08-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Step 4 : Network Adjus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DD48-D0A1-4AFF-9583-62A9AF7872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431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al Adjustment Sequence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ally constrained orthometic (vertic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ain 1 CORS (Hor-only) (LL) an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ain 1 NAVD 88 BM (Ver-only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Geoid18 and enter published NAVD 88 orthometric height for the constrained B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computed orthometric heights to published orthometric heights for all other BM in pro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s which are “Valid”, i.e., the computed and published height agree within some tolerance (project specs, your comfort 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2013-08-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Step 4 : Network Adjus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C71B-5690-4389-A7F5-D7E43D0D2F1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431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al Adjustment Sequence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y constrained orthometric (vertic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ain 1 CORS (Hor-only) (LL)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ain all “valid” NAVD 88 BM (Ver-on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Geoid18 and enter published NAVD 88 orthometric heights for the constrained BM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ft of computed orthometric heights for unconstrained stations from min and full constrained adjustment should be less than what your vertical tolerance 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s final set of adjusted NAVD 88 H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2013-08-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Step 4 : Network Adjus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DAB5-6ED4-4FF2-9308-72DAC7D192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3:12:00Z</dcterms:created>
  <dc:creator>Dan Martin</dc:creator>
  <dc:description/>
  <dc:language>en-US</dc:language>
  <cp:lastModifiedBy>Dan Martin</cp:lastModifiedBy>
  <dcterms:modified xsi:type="dcterms:W3CDTF">2020-04-22T13:32:03Z</dcterms:modified>
  <cp:revision>3</cp:revision>
  <dc:subject/>
  <dc:title>Adjustment Slides</dc:title>
</cp:coreProperties>
</file>