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B65C-74F9-49F1-85CB-2EBC0C3BF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1143000"/>
            <a:ext cx="41148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like the Hatfield and McCoy situation from OPUS, but now we have a town of Hatfields and a town of McCoys, with no road connecting them.</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85DA-9C73-4C57-9E7B-D3A00ABA29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371600" y="1143000"/>
            <a:ext cx="41148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is a network?  Either of these CORSs cold be biased, and not play nice with the other, making two sub-networks that do not agree well.  Suggest adding additional (single base) ties to RTN-Derived points (red dashed lines) to directly tie sub-networks together?</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A456-AA10-4BA4-BF51-C42EFC4580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BCFEF-E975-421E-B318-F90D9D28A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87FD-489F-4C99-BEA9-AA5ECEBC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8DAA5-6670-493D-916F-CA9D56BA2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6DB5A-B65E-4F50-8331-D1F31B624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115D0-779A-4A57-B620-733E740E3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C0C9A-97F7-4FC6-A8EE-B39407731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F326A-32C5-4355-8F75-1BA5157A0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AAE16-7765-49A4-98D5-64CBF19E0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1CC8F-A7E4-4F97-AFA2-0284BA29F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4F893-6C9D-4C0E-B625-65D2AC172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246D-D87B-4DEB-BAF2-472095210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B90F-6FC9-4EC1-BBCB-617D70E19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1BDD0-A848-4A63-B9B4-0FFA75DB4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C5ACE-E6B6-4476-8FED-A76731F8B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B73ED-4D88-4D48-BDD8-0F668AF25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BF9CF-13CB-4015-9613-78B541B15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147A0-BB78-40BB-B7AC-7454C45C2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E428-5AD1-41C4-8616-5B5DE5D7A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8FEC-44B9-45D6-8850-60A40A5BF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F752-3B6D-49FA-92D6-9A0E8D063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10EA-B5FD-4F95-8CB1-411471585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763D-4397-4F60-AA98-8A4BB44E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1BDE-7364-491A-BFE9-ABB3EB067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3606-41BC-40C8-ACCA-DC5492DED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9B07-1B44-4689-92B2-2627E95239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Continuation Slide.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4568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279080"/>
            <a:ext cx="822960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3-08-07</a:t>
            </a:r>
            <a:endParaRPr b="0" lang="en-US" sz="1200" spc="-1" strike="noStrike">
              <a:solidFill>
                <a:srgbClr val="000000"/>
              </a:solidFill>
              <a:latin typeface="Calibri"/>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p 4 : Network Adjustment</a:t>
            </a:r>
            <a:endParaRPr b="0" lang="en-US" sz="12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31A4-DBEB-4A22-B1B6-9CEF7D12DC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 Slid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C9E1-E1F5-41AE-9881-AF51B72492A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348" name="Oval 6"/>
          <p:cNvSpPr/>
          <p:nvPr/>
        </p:nvSpPr>
        <p:spPr>
          <a:xfrm>
            <a:off x="1676520" y="8380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Oval 7"/>
          <p:cNvSpPr/>
          <p:nvPr/>
        </p:nvSpPr>
        <p:spPr>
          <a:xfrm>
            <a:off x="4486320" y="5867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Oval 9"/>
          <p:cNvSpPr/>
          <p:nvPr/>
        </p:nvSpPr>
        <p:spPr>
          <a:xfrm>
            <a:off x="609480" y="1627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Oval 10"/>
          <p:cNvSpPr/>
          <p:nvPr/>
        </p:nvSpPr>
        <p:spPr>
          <a:xfrm>
            <a:off x="7086600" y="29718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Oval 11"/>
          <p:cNvSpPr/>
          <p:nvPr/>
        </p:nvSpPr>
        <p:spPr>
          <a:xfrm>
            <a:off x="2765520" y="28954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Oval 12"/>
          <p:cNvSpPr/>
          <p:nvPr/>
        </p:nvSpPr>
        <p:spPr>
          <a:xfrm>
            <a:off x="1295280" y="5494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Oval 13"/>
          <p:cNvSpPr/>
          <p:nvPr/>
        </p:nvSpPr>
        <p:spPr>
          <a:xfrm>
            <a:off x="6324480" y="5029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Oval 14"/>
          <p:cNvSpPr/>
          <p:nvPr/>
        </p:nvSpPr>
        <p:spPr>
          <a:xfrm>
            <a:off x="6477120" y="12891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Oval 15"/>
          <p:cNvSpPr/>
          <p:nvPr/>
        </p:nvSpPr>
        <p:spPr>
          <a:xfrm>
            <a:off x="4648320" y="327672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Oval 16"/>
          <p:cNvSpPr/>
          <p:nvPr/>
        </p:nvSpPr>
        <p:spPr>
          <a:xfrm>
            <a:off x="2666880" y="4648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Oval 17"/>
          <p:cNvSpPr/>
          <p:nvPr/>
        </p:nvSpPr>
        <p:spPr>
          <a:xfrm>
            <a:off x="460440" y="3635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Oval 18"/>
          <p:cNvSpPr/>
          <p:nvPr/>
        </p:nvSpPr>
        <p:spPr>
          <a:xfrm>
            <a:off x="3657600" y="12175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Isosceles Triangle 1"/>
          <p:cNvSpPr/>
          <p:nvPr/>
        </p:nvSpPr>
        <p:spPr>
          <a:xfrm>
            <a:off x="3657600" y="3276720"/>
            <a:ext cx="239760" cy="206280"/>
          </a:xfrm>
          <a:prstGeom prst="triangle">
            <a:avLst>
              <a:gd name="adj" fmla="val 50000"/>
            </a:avLst>
          </a:prstGeom>
          <a:solidFill>
            <a:srgbClr val="ff0000"/>
          </a:solidFill>
          <a:ln w="25560">
            <a:solidFill>
              <a:srgbClr val="385d8a"/>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1" name="Group 9221"/>
          <p:cNvGrpSpPr/>
          <p:nvPr/>
        </p:nvGrpSpPr>
        <p:grpSpPr>
          <a:xfrm>
            <a:off x="761760" y="941400"/>
            <a:ext cx="3074760" cy="2411280"/>
            <a:chOff x="761760" y="941400"/>
            <a:chExt cx="3074760" cy="2411280"/>
          </a:xfrm>
        </p:grpSpPr>
        <p:sp>
          <p:nvSpPr>
            <p:cNvPr id="362" name="Straight Connector 3"/>
            <p:cNvSpPr/>
            <p:nvPr/>
          </p:nvSpPr>
          <p:spPr>
            <a:xfrm flipH="1" flipV="1">
              <a:off x="761760" y="1675800"/>
              <a:ext cx="3074760" cy="1676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Straight Connector 24"/>
            <p:cNvSpPr/>
            <p:nvPr/>
          </p:nvSpPr>
          <p:spPr>
            <a:xfrm flipH="1" flipV="1">
              <a:off x="2895480" y="2998440"/>
              <a:ext cx="822240" cy="3538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Straight Connector 27"/>
            <p:cNvSpPr/>
            <p:nvPr/>
          </p:nvSpPr>
          <p:spPr>
            <a:xfrm flipH="1" flipV="1">
              <a:off x="1806120" y="941400"/>
              <a:ext cx="1911240" cy="2411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Straight Connector 30"/>
            <p:cNvSpPr/>
            <p:nvPr/>
          </p:nvSpPr>
          <p:spPr>
            <a:xfrm flipV="1">
              <a:off x="3718080" y="1342440"/>
              <a:ext cx="15840" cy="20098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6" name="Group 9222"/>
          <p:cNvGrpSpPr/>
          <p:nvPr/>
        </p:nvGrpSpPr>
        <p:grpSpPr>
          <a:xfrm>
            <a:off x="631800" y="816120"/>
            <a:ext cx="3178080" cy="2079360"/>
            <a:chOff x="631800" y="816120"/>
            <a:chExt cx="3178080" cy="2079360"/>
          </a:xfrm>
        </p:grpSpPr>
        <p:sp>
          <p:nvSpPr>
            <p:cNvPr id="367" name="Straight Connector 20"/>
            <p:cNvSpPr/>
            <p:nvPr/>
          </p:nvSpPr>
          <p:spPr>
            <a:xfrm flipH="1">
              <a:off x="739080" y="816120"/>
              <a:ext cx="1012680" cy="8110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Straight Connector 23"/>
            <p:cNvSpPr/>
            <p:nvPr/>
          </p:nvSpPr>
          <p:spPr>
            <a:xfrm>
              <a:off x="631800" y="1735200"/>
              <a:ext cx="2155680" cy="11602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Straight Connector 26"/>
            <p:cNvSpPr/>
            <p:nvPr/>
          </p:nvSpPr>
          <p:spPr>
            <a:xfrm>
              <a:off x="1752480" y="839880"/>
              <a:ext cx="2057400" cy="4554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Straight Connector 28"/>
            <p:cNvSpPr/>
            <p:nvPr/>
          </p:nvSpPr>
          <p:spPr>
            <a:xfrm flipV="1">
              <a:off x="2841480" y="1347480"/>
              <a:ext cx="892080" cy="152532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Straight Connector 9218"/>
            <p:cNvSpPr/>
            <p:nvPr/>
          </p:nvSpPr>
          <p:spPr>
            <a:xfrm flipV="1">
              <a:off x="761760" y="1325160"/>
              <a:ext cx="2917800" cy="35532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Straight Connector 9220"/>
            <p:cNvSpPr/>
            <p:nvPr/>
          </p:nvSpPr>
          <p:spPr>
            <a:xfrm flipH="1" flipV="1">
              <a:off x="1806120" y="945720"/>
              <a:ext cx="981000" cy="19494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3" name="Group 9236"/>
          <p:cNvGrpSpPr/>
          <p:nvPr/>
        </p:nvGrpSpPr>
        <p:grpSpPr>
          <a:xfrm>
            <a:off x="2819520" y="1217520"/>
            <a:ext cx="3765600" cy="2211480"/>
            <a:chOff x="2819520" y="1217520"/>
            <a:chExt cx="3765600" cy="2211480"/>
          </a:xfrm>
        </p:grpSpPr>
        <p:sp>
          <p:nvSpPr>
            <p:cNvPr id="374" name="Straight Connector 64"/>
            <p:cNvSpPr/>
            <p:nvPr/>
          </p:nvSpPr>
          <p:spPr>
            <a:xfrm flipV="1">
              <a:off x="2849400" y="1418760"/>
              <a:ext cx="3627720" cy="150516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Group 9229"/>
            <p:cNvGrpSpPr/>
            <p:nvPr/>
          </p:nvGrpSpPr>
          <p:grpSpPr>
            <a:xfrm>
              <a:off x="2819520" y="1217520"/>
              <a:ext cx="3765600" cy="2211480"/>
              <a:chOff x="2819520" y="1217520"/>
              <a:chExt cx="3765600" cy="2211480"/>
            </a:xfrm>
          </p:grpSpPr>
          <p:sp>
            <p:nvSpPr>
              <p:cNvPr id="376" name="Straight Connector 31"/>
              <p:cNvSpPr/>
              <p:nvPr/>
            </p:nvSpPr>
            <p:spPr>
              <a:xfrm>
                <a:off x="3711600" y="1217520"/>
                <a:ext cx="2873520" cy="2016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Straight Connector 33"/>
              <p:cNvSpPr/>
              <p:nvPr/>
            </p:nvSpPr>
            <p:spPr>
              <a:xfrm flipH="1">
                <a:off x="4702320" y="1441080"/>
                <a:ext cx="1828800" cy="198792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Straight Connector 54"/>
              <p:cNvSpPr/>
              <p:nvPr/>
            </p:nvSpPr>
            <p:spPr>
              <a:xfrm flipV="1">
                <a:off x="2819520" y="1239480"/>
                <a:ext cx="946080" cy="16560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Straight Connector 65"/>
              <p:cNvSpPr/>
              <p:nvPr/>
            </p:nvSpPr>
            <p:spPr>
              <a:xfrm flipH="1" flipV="1">
                <a:off x="3765600" y="1347480"/>
                <a:ext cx="947520" cy="195768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Straight Connector 66"/>
              <p:cNvSpPr/>
              <p:nvPr/>
            </p:nvSpPr>
            <p:spPr>
              <a:xfrm>
                <a:off x="2857320" y="2970360"/>
                <a:ext cx="1920960" cy="45864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81" name="Group 9235"/>
          <p:cNvGrpSpPr/>
          <p:nvPr/>
        </p:nvGrpSpPr>
        <p:grpSpPr>
          <a:xfrm>
            <a:off x="2828880" y="1217520"/>
            <a:ext cx="3670200" cy="2265120"/>
            <a:chOff x="2828880" y="1217520"/>
            <a:chExt cx="3670200" cy="2265120"/>
          </a:xfrm>
        </p:grpSpPr>
        <p:sp>
          <p:nvSpPr>
            <p:cNvPr id="382" name="Straight Connector 9231"/>
            <p:cNvSpPr/>
            <p:nvPr/>
          </p:nvSpPr>
          <p:spPr>
            <a:xfrm flipV="1">
              <a:off x="3776400" y="3352680"/>
              <a:ext cx="871560" cy="1299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Straight Connector 69"/>
            <p:cNvSpPr/>
            <p:nvPr/>
          </p:nvSpPr>
          <p:spPr>
            <a:xfrm>
              <a:off x="2828880" y="2970360"/>
              <a:ext cx="887400" cy="4093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Straight Connector 70"/>
            <p:cNvSpPr/>
            <p:nvPr/>
          </p:nvSpPr>
          <p:spPr>
            <a:xfrm flipV="1">
              <a:off x="3770280" y="1419120"/>
              <a:ext cx="2728800" cy="195120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Straight Connector 71"/>
            <p:cNvSpPr/>
            <p:nvPr/>
          </p:nvSpPr>
          <p:spPr>
            <a:xfrm flipH="1" flipV="1">
              <a:off x="3733200" y="1217520"/>
              <a:ext cx="20520" cy="21895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6" name="Group 34"/>
          <p:cNvGrpSpPr/>
          <p:nvPr/>
        </p:nvGrpSpPr>
        <p:grpSpPr>
          <a:xfrm>
            <a:off x="3733920" y="1371600"/>
            <a:ext cx="3352680" cy="3738600"/>
            <a:chOff x="3733920" y="1371600"/>
            <a:chExt cx="3352680" cy="3738600"/>
          </a:xfrm>
        </p:grpSpPr>
        <p:sp>
          <p:nvSpPr>
            <p:cNvPr id="387" name="Straight Connector 78"/>
            <p:cNvSpPr/>
            <p:nvPr/>
          </p:nvSpPr>
          <p:spPr>
            <a:xfrm flipV="1">
              <a:off x="3759120" y="3047760"/>
              <a:ext cx="3327480" cy="32220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Straight Connector 77"/>
            <p:cNvSpPr/>
            <p:nvPr/>
          </p:nvSpPr>
          <p:spPr>
            <a:xfrm flipH="1">
              <a:off x="3770280" y="1371600"/>
              <a:ext cx="2674800" cy="196704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Straight Connector 79"/>
            <p:cNvSpPr/>
            <p:nvPr/>
          </p:nvSpPr>
          <p:spPr>
            <a:xfrm>
              <a:off x="3733920" y="3346560"/>
              <a:ext cx="2665440" cy="176364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Straight Connector 80"/>
            <p:cNvSpPr/>
            <p:nvPr/>
          </p:nvSpPr>
          <p:spPr>
            <a:xfrm flipV="1">
              <a:off x="3841560" y="3250800"/>
              <a:ext cx="880920" cy="1839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91" name="Group 38"/>
          <p:cNvGrpSpPr/>
          <p:nvPr/>
        </p:nvGrpSpPr>
        <p:grpSpPr>
          <a:xfrm>
            <a:off x="4695840" y="1295280"/>
            <a:ext cx="2466720" cy="3830760"/>
            <a:chOff x="4695840" y="1295280"/>
            <a:chExt cx="2466720" cy="3830760"/>
          </a:xfrm>
        </p:grpSpPr>
        <p:sp>
          <p:nvSpPr>
            <p:cNvPr id="392" name="Straight Connector 37"/>
            <p:cNvSpPr/>
            <p:nvPr/>
          </p:nvSpPr>
          <p:spPr>
            <a:xfrm flipH="1">
              <a:off x="6400440" y="3130560"/>
              <a:ext cx="762120" cy="1905120"/>
            </a:xfrm>
            <a:prstGeom prst="line">
              <a:avLst/>
            </a:prstGeom>
            <a:ln w="25560">
              <a:solidFill>
                <a:srgbClr val="f7964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Straight Connector 57"/>
            <p:cNvSpPr/>
            <p:nvPr/>
          </p:nvSpPr>
          <p:spPr>
            <a:xfrm flipH="1" flipV="1">
              <a:off x="4777920" y="3412800"/>
              <a:ext cx="1622520" cy="1622520"/>
            </a:xfrm>
            <a:prstGeom prst="line">
              <a:avLst/>
            </a:prstGeom>
            <a:ln w="25560">
              <a:solidFill>
                <a:srgbClr val="f7964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Straight Connector 87"/>
            <p:cNvSpPr/>
            <p:nvPr/>
          </p:nvSpPr>
          <p:spPr>
            <a:xfrm flipV="1">
              <a:off x="4732200" y="1447560"/>
              <a:ext cx="1820880" cy="188280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88"/>
            <p:cNvSpPr/>
            <p:nvPr/>
          </p:nvSpPr>
          <p:spPr>
            <a:xfrm flipV="1">
              <a:off x="4695840" y="3053880"/>
              <a:ext cx="2337120" cy="22212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Straight Connector 89"/>
            <p:cNvSpPr/>
            <p:nvPr/>
          </p:nvSpPr>
          <p:spPr>
            <a:xfrm flipH="1">
              <a:off x="6407280" y="1447560"/>
              <a:ext cx="125280" cy="367848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Straight Connector 96"/>
            <p:cNvSpPr/>
            <p:nvPr/>
          </p:nvSpPr>
          <p:spPr>
            <a:xfrm>
              <a:off x="6532920" y="1295280"/>
              <a:ext cx="555480" cy="170496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98" name="Group 43"/>
          <p:cNvGrpSpPr/>
          <p:nvPr/>
        </p:nvGrpSpPr>
        <p:grpSpPr>
          <a:xfrm>
            <a:off x="2743200" y="3352680"/>
            <a:ext cx="3658680" cy="2590920"/>
            <a:chOff x="2743200" y="3352680"/>
            <a:chExt cx="3658680" cy="2590920"/>
          </a:xfrm>
        </p:grpSpPr>
        <p:sp>
          <p:nvSpPr>
            <p:cNvPr id="399" name="Straight Connector 39"/>
            <p:cNvSpPr/>
            <p:nvPr/>
          </p:nvSpPr>
          <p:spPr>
            <a:xfrm flipH="1">
              <a:off x="4486320" y="5029200"/>
              <a:ext cx="1914480" cy="91440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Straight Connector 45"/>
            <p:cNvSpPr/>
            <p:nvPr/>
          </p:nvSpPr>
          <p:spPr>
            <a:xfrm flipH="1" flipV="1">
              <a:off x="2796480" y="4777920"/>
              <a:ext cx="1765080" cy="108900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Straight Connector 47"/>
            <p:cNvSpPr/>
            <p:nvPr/>
          </p:nvSpPr>
          <p:spPr>
            <a:xfrm flipV="1">
              <a:off x="2743200" y="3352680"/>
              <a:ext cx="2057400" cy="129528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Straight Connector 100"/>
            <p:cNvSpPr/>
            <p:nvPr/>
          </p:nvSpPr>
          <p:spPr>
            <a:xfrm flipV="1">
              <a:off x="4562280" y="3360600"/>
              <a:ext cx="106200" cy="250704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Straight Connector 101"/>
            <p:cNvSpPr/>
            <p:nvPr/>
          </p:nvSpPr>
          <p:spPr>
            <a:xfrm flipH="1" flipV="1">
              <a:off x="2796480" y="4669920"/>
              <a:ext cx="3583080" cy="42372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Straight Connector 102"/>
            <p:cNvSpPr/>
            <p:nvPr/>
          </p:nvSpPr>
          <p:spPr>
            <a:xfrm flipH="1" flipV="1">
              <a:off x="4777920" y="3352680"/>
              <a:ext cx="1623960" cy="167328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5" name="Group 72"/>
          <p:cNvGrpSpPr/>
          <p:nvPr/>
        </p:nvGrpSpPr>
        <p:grpSpPr>
          <a:xfrm>
            <a:off x="2819520" y="3352320"/>
            <a:ext cx="3635280" cy="2514960"/>
            <a:chOff x="2819520" y="3352320"/>
            <a:chExt cx="3635280" cy="2514960"/>
          </a:xfrm>
        </p:grpSpPr>
        <p:sp>
          <p:nvSpPr>
            <p:cNvPr id="406" name="Straight Connector 46"/>
            <p:cNvSpPr/>
            <p:nvPr/>
          </p:nvSpPr>
          <p:spPr>
            <a:xfrm flipV="1">
              <a:off x="3776760" y="3352320"/>
              <a:ext cx="871560" cy="12996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Straight Connector 51"/>
            <p:cNvSpPr/>
            <p:nvPr/>
          </p:nvSpPr>
          <p:spPr>
            <a:xfrm flipH="1">
              <a:off x="2819520" y="3482640"/>
              <a:ext cx="838080" cy="124128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Straight Connector 56"/>
            <p:cNvSpPr/>
            <p:nvPr/>
          </p:nvSpPr>
          <p:spPr>
            <a:xfrm>
              <a:off x="3776760" y="3482640"/>
              <a:ext cx="785520" cy="238464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Straight Connector 68"/>
            <p:cNvSpPr/>
            <p:nvPr/>
          </p:nvSpPr>
          <p:spPr>
            <a:xfrm>
              <a:off x="3776760" y="3482640"/>
              <a:ext cx="2678040" cy="167652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0" name="Group 76"/>
          <p:cNvGrpSpPr/>
          <p:nvPr/>
        </p:nvGrpSpPr>
        <p:grpSpPr>
          <a:xfrm>
            <a:off x="517680" y="2971800"/>
            <a:ext cx="2323800" cy="2549520"/>
            <a:chOff x="517680" y="2971800"/>
            <a:chExt cx="2323800" cy="2549520"/>
          </a:xfrm>
        </p:grpSpPr>
        <p:sp>
          <p:nvSpPr>
            <p:cNvPr id="411" name="Straight Connector 50"/>
            <p:cNvSpPr/>
            <p:nvPr/>
          </p:nvSpPr>
          <p:spPr>
            <a:xfrm flipH="1">
              <a:off x="1425600" y="4648320"/>
              <a:ext cx="1317600" cy="86832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Straight Connector 53"/>
            <p:cNvSpPr/>
            <p:nvPr/>
          </p:nvSpPr>
          <p:spPr>
            <a:xfrm flipH="1" flipV="1">
              <a:off x="536040" y="3787200"/>
              <a:ext cx="834840" cy="170676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Straight Connector 55"/>
            <p:cNvSpPr/>
            <p:nvPr/>
          </p:nvSpPr>
          <p:spPr>
            <a:xfrm flipV="1">
              <a:off x="2743200" y="3047400"/>
              <a:ext cx="98280" cy="160020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Straight Connector 117"/>
            <p:cNvSpPr/>
            <p:nvPr/>
          </p:nvSpPr>
          <p:spPr>
            <a:xfrm flipH="1" flipV="1">
              <a:off x="590040" y="3765240"/>
              <a:ext cx="2120760" cy="91764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Straight Connector 118"/>
            <p:cNvSpPr/>
            <p:nvPr/>
          </p:nvSpPr>
          <p:spPr>
            <a:xfrm flipH="1">
              <a:off x="517680" y="2971800"/>
              <a:ext cx="2270160" cy="67788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Straight Connector 119"/>
            <p:cNvSpPr/>
            <p:nvPr/>
          </p:nvSpPr>
          <p:spPr>
            <a:xfrm flipH="1">
              <a:off x="1382760" y="3025440"/>
              <a:ext cx="1404720" cy="249588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Group 93"/>
          <p:cNvGrpSpPr/>
          <p:nvPr/>
        </p:nvGrpSpPr>
        <p:grpSpPr>
          <a:xfrm>
            <a:off x="590400" y="2971800"/>
            <a:ext cx="3211560" cy="2490840"/>
            <a:chOff x="590400" y="2971800"/>
            <a:chExt cx="3211560" cy="2490840"/>
          </a:xfrm>
        </p:grpSpPr>
        <p:sp>
          <p:nvSpPr>
            <p:cNvPr id="418" name="Straight Connector 123"/>
            <p:cNvSpPr/>
            <p:nvPr/>
          </p:nvSpPr>
          <p:spPr>
            <a:xfrm flipH="1">
              <a:off x="2797200" y="3370320"/>
              <a:ext cx="931680" cy="124632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Straight Connector 126"/>
            <p:cNvSpPr/>
            <p:nvPr/>
          </p:nvSpPr>
          <p:spPr>
            <a:xfrm flipH="1">
              <a:off x="1424880" y="3370320"/>
              <a:ext cx="2305080" cy="209232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Straight Connector 127"/>
            <p:cNvSpPr/>
            <p:nvPr/>
          </p:nvSpPr>
          <p:spPr>
            <a:xfrm flipH="1" flipV="1">
              <a:off x="2895480" y="2971800"/>
              <a:ext cx="906480" cy="37296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Straight Connector 131"/>
            <p:cNvSpPr/>
            <p:nvPr/>
          </p:nvSpPr>
          <p:spPr>
            <a:xfrm flipH="1">
              <a:off x="590400" y="3359160"/>
              <a:ext cx="3175200" cy="35244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2" name="Group 105"/>
          <p:cNvGrpSpPr/>
          <p:nvPr/>
        </p:nvGrpSpPr>
        <p:grpSpPr>
          <a:xfrm>
            <a:off x="536400" y="1752480"/>
            <a:ext cx="4133880" cy="2008440"/>
            <a:chOff x="536400" y="1752480"/>
            <a:chExt cx="4133880" cy="2008440"/>
          </a:xfrm>
        </p:grpSpPr>
        <p:grpSp>
          <p:nvGrpSpPr>
            <p:cNvPr id="423" name="Group 104"/>
            <p:cNvGrpSpPr/>
            <p:nvPr/>
          </p:nvGrpSpPr>
          <p:grpSpPr>
            <a:xfrm>
              <a:off x="536400" y="1752480"/>
              <a:ext cx="4133520" cy="2008440"/>
              <a:chOff x="536400" y="1752480"/>
              <a:chExt cx="4133520" cy="2008440"/>
            </a:xfrm>
          </p:grpSpPr>
          <p:grpSp>
            <p:nvGrpSpPr>
              <p:cNvPr id="424" name="Group 94"/>
              <p:cNvGrpSpPr/>
              <p:nvPr/>
            </p:nvGrpSpPr>
            <p:grpSpPr>
              <a:xfrm>
                <a:off x="536400" y="1752480"/>
                <a:ext cx="4111560" cy="2008440"/>
                <a:chOff x="536400" y="1752480"/>
                <a:chExt cx="4111560" cy="2008440"/>
              </a:xfrm>
            </p:grpSpPr>
            <p:sp>
              <p:nvSpPr>
                <p:cNvPr id="425" name="Straight Connector 59"/>
                <p:cNvSpPr/>
                <p:nvPr/>
              </p:nvSpPr>
              <p:spPr>
                <a:xfrm flipH="1" flipV="1">
                  <a:off x="2917440" y="2967120"/>
                  <a:ext cx="1730520" cy="3808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Straight Connector 61"/>
                <p:cNvSpPr/>
                <p:nvPr/>
              </p:nvSpPr>
              <p:spPr>
                <a:xfrm flipH="1">
                  <a:off x="589680" y="3043440"/>
                  <a:ext cx="2251080" cy="717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Straight Connector 63"/>
                <p:cNvSpPr/>
                <p:nvPr/>
              </p:nvSpPr>
              <p:spPr>
                <a:xfrm flipV="1">
                  <a:off x="536400" y="1752480"/>
                  <a:ext cx="95040" cy="1878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8" name="Straight Connector 138"/>
              <p:cNvSpPr/>
              <p:nvPr/>
            </p:nvSpPr>
            <p:spPr>
              <a:xfrm flipH="1" flipV="1">
                <a:off x="693000" y="1764720"/>
                <a:ext cx="3976920" cy="15289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Straight Connector 139"/>
              <p:cNvSpPr/>
              <p:nvPr/>
            </p:nvSpPr>
            <p:spPr>
              <a:xfrm>
                <a:off x="739440" y="1752480"/>
                <a:ext cx="2025720" cy="12146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0" name="Straight Connector 140"/>
            <p:cNvSpPr/>
            <p:nvPr/>
          </p:nvSpPr>
          <p:spPr>
            <a:xfrm flipV="1">
              <a:off x="555120" y="3434040"/>
              <a:ext cx="4115160" cy="2937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Group 120"/>
          <p:cNvGrpSpPr/>
          <p:nvPr/>
        </p:nvGrpSpPr>
        <p:grpSpPr>
          <a:xfrm>
            <a:off x="590400" y="1752480"/>
            <a:ext cx="4057920" cy="1900440"/>
            <a:chOff x="590400" y="1752480"/>
            <a:chExt cx="4057920" cy="1900440"/>
          </a:xfrm>
        </p:grpSpPr>
        <p:sp>
          <p:nvSpPr>
            <p:cNvPr id="432" name="Straight Connector 107"/>
            <p:cNvSpPr/>
            <p:nvPr/>
          </p:nvSpPr>
          <p:spPr>
            <a:xfrm flipV="1">
              <a:off x="3897360" y="3348000"/>
              <a:ext cx="750960" cy="129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Straight Connector 111"/>
            <p:cNvSpPr/>
            <p:nvPr/>
          </p:nvSpPr>
          <p:spPr>
            <a:xfrm flipH="1" flipV="1">
              <a:off x="2895480" y="3020760"/>
              <a:ext cx="822240" cy="353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Straight Connector 113"/>
            <p:cNvSpPr/>
            <p:nvPr/>
          </p:nvSpPr>
          <p:spPr>
            <a:xfrm flipH="1">
              <a:off x="590400" y="3375360"/>
              <a:ext cx="3127680" cy="27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Straight Connector 115"/>
            <p:cNvSpPr/>
            <p:nvPr/>
          </p:nvSpPr>
          <p:spPr>
            <a:xfrm flipH="1" flipV="1">
              <a:off x="739080" y="1752480"/>
              <a:ext cx="2978280" cy="162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6" name="Freeform: Shape 160"/>
          <p:cNvSpPr/>
          <p:nvPr/>
        </p:nvSpPr>
        <p:spPr>
          <a:xfrm>
            <a:off x="579600" y="617400"/>
            <a:ext cx="3360600" cy="2575080"/>
          </a:xfrm>
          <a:custGeom>
            <a:avLst/>
            <a:gdLst/>
            <a:ahLst/>
            <a:rect l="l" t="t" r="r" b="b"/>
            <a:pathLst>
              <a:path w="3360420" h="2575560">
                <a:moveTo>
                  <a:pt x="1242060" y="22860"/>
                </a:moveTo>
                <a:lnTo>
                  <a:pt x="1242060" y="22860"/>
                </a:lnTo>
                <a:cubicBezTo>
                  <a:pt x="1235575" y="23400"/>
                  <a:pt x="1155224" y="22842"/>
                  <a:pt x="1127760" y="38100"/>
                </a:cubicBezTo>
                <a:cubicBezTo>
                  <a:pt x="1111749" y="46995"/>
                  <a:pt x="1099416" y="62788"/>
                  <a:pt x="1082040" y="68580"/>
                </a:cubicBezTo>
                <a:cubicBezTo>
                  <a:pt x="1059129" y="76217"/>
                  <a:pt x="1056015" y="75027"/>
                  <a:pt x="1036320" y="91440"/>
                </a:cubicBezTo>
                <a:cubicBezTo>
                  <a:pt x="1028041" y="98339"/>
                  <a:pt x="1022426" y="108322"/>
                  <a:pt x="1013460" y="114300"/>
                </a:cubicBezTo>
                <a:cubicBezTo>
                  <a:pt x="1006777" y="118755"/>
                  <a:pt x="997912" y="118596"/>
                  <a:pt x="990600" y="121920"/>
                </a:cubicBezTo>
                <a:cubicBezTo>
                  <a:pt x="969918" y="131321"/>
                  <a:pt x="951680" y="146890"/>
                  <a:pt x="929640" y="152400"/>
                </a:cubicBezTo>
                <a:cubicBezTo>
                  <a:pt x="914173" y="156267"/>
                  <a:pt x="891604" y="161081"/>
                  <a:pt x="876300" y="167640"/>
                </a:cubicBezTo>
                <a:cubicBezTo>
                  <a:pt x="865859" y="172115"/>
                  <a:pt x="856367" y="178661"/>
                  <a:pt x="845820" y="182880"/>
                </a:cubicBezTo>
                <a:cubicBezTo>
                  <a:pt x="830905" y="188846"/>
                  <a:pt x="813466" y="189209"/>
                  <a:pt x="800100" y="198120"/>
                </a:cubicBezTo>
                <a:lnTo>
                  <a:pt x="754380" y="228600"/>
                </a:lnTo>
                <a:lnTo>
                  <a:pt x="731520" y="243840"/>
                </a:lnTo>
                <a:cubicBezTo>
                  <a:pt x="723900" y="248920"/>
                  <a:pt x="715136" y="252604"/>
                  <a:pt x="708660" y="259080"/>
                </a:cubicBezTo>
                <a:cubicBezTo>
                  <a:pt x="701040" y="266700"/>
                  <a:pt x="692699" y="273661"/>
                  <a:pt x="685800" y="281940"/>
                </a:cubicBezTo>
                <a:cubicBezTo>
                  <a:pt x="679937" y="288975"/>
                  <a:pt x="677452" y="298769"/>
                  <a:pt x="670560" y="304800"/>
                </a:cubicBezTo>
                <a:cubicBezTo>
                  <a:pt x="656776" y="316861"/>
                  <a:pt x="640080" y="325120"/>
                  <a:pt x="624840" y="335280"/>
                </a:cubicBezTo>
                <a:lnTo>
                  <a:pt x="601980" y="350520"/>
                </a:lnTo>
                <a:cubicBezTo>
                  <a:pt x="594360" y="355600"/>
                  <a:pt x="585596" y="359284"/>
                  <a:pt x="579120" y="365760"/>
                </a:cubicBezTo>
                <a:cubicBezTo>
                  <a:pt x="527720" y="417160"/>
                  <a:pt x="553847" y="404664"/>
                  <a:pt x="510540" y="419100"/>
                </a:cubicBezTo>
                <a:cubicBezTo>
                  <a:pt x="502920" y="426720"/>
                  <a:pt x="496186" y="435344"/>
                  <a:pt x="487680" y="441960"/>
                </a:cubicBezTo>
                <a:cubicBezTo>
                  <a:pt x="473222" y="453205"/>
                  <a:pt x="457200" y="462280"/>
                  <a:pt x="441960" y="472440"/>
                </a:cubicBezTo>
                <a:lnTo>
                  <a:pt x="419100" y="487680"/>
                </a:lnTo>
                <a:cubicBezTo>
                  <a:pt x="411480" y="492760"/>
                  <a:pt x="403566" y="497425"/>
                  <a:pt x="396240" y="502920"/>
                </a:cubicBezTo>
                <a:cubicBezTo>
                  <a:pt x="386080" y="510540"/>
                  <a:pt x="376164" y="518497"/>
                  <a:pt x="365760" y="525780"/>
                </a:cubicBezTo>
                <a:cubicBezTo>
                  <a:pt x="350755" y="536284"/>
                  <a:pt x="332992" y="543308"/>
                  <a:pt x="320040" y="556260"/>
                </a:cubicBezTo>
                <a:cubicBezTo>
                  <a:pt x="303188" y="573112"/>
                  <a:pt x="295538" y="583751"/>
                  <a:pt x="274320" y="594360"/>
                </a:cubicBezTo>
                <a:cubicBezTo>
                  <a:pt x="211224" y="625908"/>
                  <a:pt x="294114" y="573544"/>
                  <a:pt x="228600" y="617220"/>
                </a:cubicBezTo>
                <a:cubicBezTo>
                  <a:pt x="223520" y="624840"/>
                  <a:pt x="220252" y="634049"/>
                  <a:pt x="213360" y="640080"/>
                </a:cubicBezTo>
                <a:cubicBezTo>
                  <a:pt x="199576" y="652141"/>
                  <a:pt x="167640" y="670560"/>
                  <a:pt x="167640" y="670560"/>
                </a:cubicBezTo>
                <a:cubicBezTo>
                  <a:pt x="162560" y="678180"/>
                  <a:pt x="159292" y="687389"/>
                  <a:pt x="152400" y="693420"/>
                </a:cubicBezTo>
                <a:cubicBezTo>
                  <a:pt x="138616" y="705481"/>
                  <a:pt x="121920" y="713740"/>
                  <a:pt x="106680" y="723900"/>
                </a:cubicBezTo>
                <a:cubicBezTo>
                  <a:pt x="99060" y="728980"/>
                  <a:pt x="90296" y="732664"/>
                  <a:pt x="83820" y="739140"/>
                </a:cubicBezTo>
                <a:cubicBezTo>
                  <a:pt x="66968" y="755992"/>
                  <a:pt x="56329" y="763642"/>
                  <a:pt x="45720" y="784860"/>
                </a:cubicBezTo>
                <a:cubicBezTo>
                  <a:pt x="42128" y="792044"/>
                  <a:pt x="40640" y="800100"/>
                  <a:pt x="38100" y="807720"/>
                </a:cubicBezTo>
                <a:cubicBezTo>
                  <a:pt x="35560" y="835660"/>
                  <a:pt x="34448" y="863767"/>
                  <a:pt x="30480" y="891540"/>
                </a:cubicBezTo>
                <a:cubicBezTo>
                  <a:pt x="29344" y="899491"/>
                  <a:pt x="24808" y="906608"/>
                  <a:pt x="22860" y="914400"/>
                </a:cubicBezTo>
                <a:cubicBezTo>
                  <a:pt x="19719" y="926965"/>
                  <a:pt x="18648" y="940005"/>
                  <a:pt x="15240" y="952500"/>
                </a:cubicBezTo>
                <a:cubicBezTo>
                  <a:pt x="11013" y="967998"/>
                  <a:pt x="0" y="998220"/>
                  <a:pt x="0" y="998220"/>
                </a:cubicBezTo>
                <a:cubicBezTo>
                  <a:pt x="2540" y="1046480"/>
                  <a:pt x="3245" y="1094872"/>
                  <a:pt x="7620" y="1143000"/>
                </a:cubicBezTo>
                <a:cubicBezTo>
                  <a:pt x="9738" y="1166295"/>
                  <a:pt x="36540" y="1197810"/>
                  <a:pt x="45720" y="1211580"/>
                </a:cubicBezTo>
                <a:cubicBezTo>
                  <a:pt x="50800" y="1219200"/>
                  <a:pt x="54484" y="1227964"/>
                  <a:pt x="60960" y="1234440"/>
                </a:cubicBezTo>
                <a:cubicBezTo>
                  <a:pt x="76200" y="1249680"/>
                  <a:pt x="94725" y="1262227"/>
                  <a:pt x="106680" y="1280160"/>
                </a:cubicBezTo>
                <a:cubicBezTo>
                  <a:pt x="127000" y="1310640"/>
                  <a:pt x="114300" y="1297940"/>
                  <a:pt x="144780" y="1318260"/>
                </a:cubicBezTo>
                <a:cubicBezTo>
                  <a:pt x="182618" y="1375017"/>
                  <a:pt x="133987" y="1305308"/>
                  <a:pt x="182880" y="1363980"/>
                </a:cubicBezTo>
                <a:cubicBezTo>
                  <a:pt x="214630" y="1402080"/>
                  <a:pt x="179070" y="1374140"/>
                  <a:pt x="220980" y="1402080"/>
                </a:cubicBezTo>
                <a:cubicBezTo>
                  <a:pt x="261620" y="1463040"/>
                  <a:pt x="208280" y="1389380"/>
                  <a:pt x="259080" y="1440180"/>
                </a:cubicBezTo>
                <a:cubicBezTo>
                  <a:pt x="309880" y="1490980"/>
                  <a:pt x="236220" y="1437640"/>
                  <a:pt x="297180" y="1478280"/>
                </a:cubicBezTo>
                <a:cubicBezTo>
                  <a:pt x="337820" y="1539240"/>
                  <a:pt x="284480" y="1465580"/>
                  <a:pt x="335280" y="1516380"/>
                </a:cubicBezTo>
                <a:cubicBezTo>
                  <a:pt x="386080" y="1567180"/>
                  <a:pt x="312420" y="1513840"/>
                  <a:pt x="373380" y="1554480"/>
                </a:cubicBezTo>
                <a:cubicBezTo>
                  <a:pt x="404784" y="1601585"/>
                  <a:pt x="369916" y="1555635"/>
                  <a:pt x="411480" y="1592580"/>
                </a:cubicBezTo>
                <a:cubicBezTo>
                  <a:pt x="427589" y="1606899"/>
                  <a:pt x="439267" y="1626345"/>
                  <a:pt x="457200" y="1638300"/>
                </a:cubicBezTo>
                <a:cubicBezTo>
                  <a:pt x="513957" y="1676138"/>
                  <a:pt x="444248" y="1627507"/>
                  <a:pt x="502920" y="1676400"/>
                </a:cubicBezTo>
                <a:cubicBezTo>
                  <a:pt x="509955" y="1682263"/>
                  <a:pt x="518160" y="1686560"/>
                  <a:pt x="525780" y="1691640"/>
                </a:cubicBezTo>
                <a:cubicBezTo>
                  <a:pt x="542822" y="1717203"/>
                  <a:pt x="540964" y="1719911"/>
                  <a:pt x="571500" y="1737360"/>
                </a:cubicBezTo>
                <a:cubicBezTo>
                  <a:pt x="578474" y="1741345"/>
                  <a:pt x="587176" y="1741388"/>
                  <a:pt x="594360" y="1744980"/>
                </a:cubicBezTo>
                <a:cubicBezTo>
                  <a:pt x="602551" y="1749076"/>
                  <a:pt x="609269" y="1755676"/>
                  <a:pt x="617220" y="1760220"/>
                </a:cubicBezTo>
                <a:cubicBezTo>
                  <a:pt x="643585" y="1775286"/>
                  <a:pt x="644913" y="1774531"/>
                  <a:pt x="670560" y="1783080"/>
                </a:cubicBezTo>
                <a:cubicBezTo>
                  <a:pt x="700215" y="1827563"/>
                  <a:pt x="667074" y="1788957"/>
                  <a:pt x="716280" y="1813560"/>
                </a:cubicBezTo>
                <a:cubicBezTo>
                  <a:pt x="732663" y="1821751"/>
                  <a:pt x="746760" y="1833880"/>
                  <a:pt x="762000" y="1844040"/>
                </a:cubicBezTo>
                <a:lnTo>
                  <a:pt x="807720" y="1874520"/>
                </a:lnTo>
                <a:cubicBezTo>
                  <a:pt x="815340" y="1879600"/>
                  <a:pt x="821892" y="1886864"/>
                  <a:pt x="830580" y="1889760"/>
                </a:cubicBezTo>
                <a:cubicBezTo>
                  <a:pt x="856923" y="1898541"/>
                  <a:pt x="897364" y="1910824"/>
                  <a:pt x="914400" y="1927860"/>
                </a:cubicBezTo>
                <a:cubicBezTo>
                  <a:pt x="929640" y="1943100"/>
                  <a:pt x="939673" y="1966764"/>
                  <a:pt x="960120" y="1973580"/>
                </a:cubicBezTo>
                <a:cubicBezTo>
                  <a:pt x="988429" y="1983016"/>
                  <a:pt x="979990" y="1977976"/>
                  <a:pt x="1005840" y="1996440"/>
                </a:cubicBezTo>
                <a:cubicBezTo>
                  <a:pt x="1016174" y="2003822"/>
                  <a:pt x="1025986" y="2011918"/>
                  <a:pt x="1036320" y="2019300"/>
                </a:cubicBezTo>
                <a:cubicBezTo>
                  <a:pt x="1043772" y="2024623"/>
                  <a:pt x="1052145" y="2028677"/>
                  <a:pt x="1059180" y="2034540"/>
                </a:cubicBezTo>
                <a:cubicBezTo>
                  <a:pt x="1067459" y="2041439"/>
                  <a:pt x="1072948" y="2051614"/>
                  <a:pt x="1082040" y="2057400"/>
                </a:cubicBezTo>
                <a:cubicBezTo>
                  <a:pt x="1101207" y="2069597"/>
                  <a:pt x="1122680" y="2077720"/>
                  <a:pt x="1143000" y="2087880"/>
                </a:cubicBezTo>
                <a:cubicBezTo>
                  <a:pt x="1235108" y="2133934"/>
                  <a:pt x="1120947" y="2075278"/>
                  <a:pt x="1196340" y="2118360"/>
                </a:cubicBezTo>
                <a:cubicBezTo>
                  <a:pt x="1206203" y="2123996"/>
                  <a:pt x="1217080" y="2127756"/>
                  <a:pt x="1226820" y="2133600"/>
                </a:cubicBezTo>
                <a:cubicBezTo>
                  <a:pt x="1309359" y="2183123"/>
                  <a:pt x="1243202" y="2143441"/>
                  <a:pt x="1295400" y="2186940"/>
                </a:cubicBezTo>
                <a:cubicBezTo>
                  <a:pt x="1302435" y="2192803"/>
                  <a:pt x="1311225" y="2196317"/>
                  <a:pt x="1318260" y="2202180"/>
                </a:cubicBezTo>
                <a:cubicBezTo>
                  <a:pt x="1393160" y="2264597"/>
                  <a:pt x="1296420" y="2187960"/>
                  <a:pt x="1356360" y="2247900"/>
                </a:cubicBezTo>
                <a:cubicBezTo>
                  <a:pt x="1362836" y="2254376"/>
                  <a:pt x="1371600" y="2258060"/>
                  <a:pt x="1379220" y="2263140"/>
                </a:cubicBezTo>
                <a:cubicBezTo>
                  <a:pt x="1419860" y="2324100"/>
                  <a:pt x="1366520" y="2250440"/>
                  <a:pt x="1417320" y="2301240"/>
                </a:cubicBezTo>
                <a:cubicBezTo>
                  <a:pt x="1423796" y="2307716"/>
                  <a:pt x="1425409" y="2318379"/>
                  <a:pt x="1432560" y="2324100"/>
                </a:cubicBezTo>
                <a:cubicBezTo>
                  <a:pt x="1438832" y="2329118"/>
                  <a:pt x="1448236" y="2328128"/>
                  <a:pt x="1455420" y="2331720"/>
                </a:cubicBezTo>
                <a:cubicBezTo>
                  <a:pt x="1463611" y="2335816"/>
                  <a:pt x="1471245" y="2341097"/>
                  <a:pt x="1478280" y="2346960"/>
                </a:cubicBezTo>
                <a:cubicBezTo>
                  <a:pt x="1486559" y="2353859"/>
                  <a:pt x="1492634" y="2363204"/>
                  <a:pt x="1501140" y="2369820"/>
                </a:cubicBezTo>
                <a:cubicBezTo>
                  <a:pt x="1515598" y="2381065"/>
                  <a:pt x="1546860" y="2400300"/>
                  <a:pt x="1546860" y="2400300"/>
                </a:cubicBezTo>
                <a:cubicBezTo>
                  <a:pt x="1583418" y="2455137"/>
                  <a:pt x="1531649" y="2387619"/>
                  <a:pt x="1607820" y="2438400"/>
                </a:cubicBezTo>
                <a:cubicBezTo>
                  <a:pt x="1623060" y="2448560"/>
                  <a:pt x="1636164" y="2463088"/>
                  <a:pt x="1653540" y="2468880"/>
                </a:cubicBezTo>
                <a:cubicBezTo>
                  <a:pt x="1705795" y="2486298"/>
                  <a:pt x="1640938" y="2465730"/>
                  <a:pt x="1714500" y="2484120"/>
                </a:cubicBezTo>
                <a:cubicBezTo>
                  <a:pt x="1722292" y="2486068"/>
                  <a:pt x="1729364" y="2490978"/>
                  <a:pt x="1737360" y="2491740"/>
                </a:cubicBezTo>
                <a:cubicBezTo>
                  <a:pt x="1782944" y="2496081"/>
                  <a:pt x="1828800" y="2496820"/>
                  <a:pt x="1874520" y="2499360"/>
                </a:cubicBezTo>
                <a:cubicBezTo>
                  <a:pt x="1884680" y="2501900"/>
                  <a:pt x="1894930" y="2504103"/>
                  <a:pt x="1905000" y="2506980"/>
                </a:cubicBezTo>
                <a:cubicBezTo>
                  <a:pt x="1912723" y="2509187"/>
                  <a:pt x="1920019" y="2512858"/>
                  <a:pt x="1927860" y="2514600"/>
                </a:cubicBezTo>
                <a:cubicBezTo>
                  <a:pt x="1948932" y="2519283"/>
                  <a:pt x="1975856" y="2519548"/>
                  <a:pt x="1996440" y="2529840"/>
                </a:cubicBezTo>
                <a:cubicBezTo>
                  <a:pt x="2004631" y="2533936"/>
                  <a:pt x="2011109" y="2540984"/>
                  <a:pt x="2019300" y="2545080"/>
                </a:cubicBezTo>
                <a:cubicBezTo>
                  <a:pt x="2026484" y="2548672"/>
                  <a:pt x="2034976" y="2549108"/>
                  <a:pt x="2042160" y="2552700"/>
                </a:cubicBezTo>
                <a:cubicBezTo>
                  <a:pt x="2101246" y="2582243"/>
                  <a:pt x="2030421" y="2556407"/>
                  <a:pt x="2087880" y="2575560"/>
                </a:cubicBezTo>
                <a:cubicBezTo>
                  <a:pt x="2136140" y="2573020"/>
                  <a:pt x="2184532" y="2572315"/>
                  <a:pt x="2232660" y="2567940"/>
                </a:cubicBezTo>
                <a:cubicBezTo>
                  <a:pt x="2240659" y="2567213"/>
                  <a:pt x="2247679" y="2562062"/>
                  <a:pt x="2255520" y="2560320"/>
                </a:cubicBezTo>
                <a:cubicBezTo>
                  <a:pt x="2283771" y="2554042"/>
                  <a:pt x="2335836" y="2548376"/>
                  <a:pt x="2362200" y="2545080"/>
                </a:cubicBezTo>
                <a:cubicBezTo>
                  <a:pt x="2419659" y="2525927"/>
                  <a:pt x="2348834" y="2551763"/>
                  <a:pt x="2407920" y="2522220"/>
                </a:cubicBezTo>
                <a:cubicBezTo>
                  <a:pt x="2415104" y="2518628"/>
                  <a:pt x="2423160" y="2517140"/>
                  <a:pt x="2430780" y="2514600"/>
                </a:cubicBezTo>
                <a:cubicBezTo>
                  <a:pt x="2451561" y="2493819"/>
                  <a:pt x="2460208" y="2487327"/>
                  <a:pt x="2476500" y="2461260"/>
                </a:cubicBezTo>
                <a:cubicBezTo>
                  <a:pt x="2482520" y="2451627"/>
                  <a:pt x="2485138" y="2440023"/>
                  <a:pt x="2491740" y="2430780"/>
                </a:cubicBezTo>
                <a:cubicBezTo>
                  <a:pt x="2498004" y="2422011"/>
                  <a:pt x="2508336" y="2416689"/>
                  <a:pt x="2514600" y="2407920"/>
                </a:cubicBezTo>
                <a:cubicBezTo>
                  <a:pt x="2521202" y="2398677"/>
                  <a:pt x="2523820" y="2387073"/>
                  <a:pt x="2529840" y="2377440"/>
                </a:cubicBezTo>
                <a:cubicBezTo>
                  <a:pt x="2536571" y="2366670"/>
                  <a:pt x="2545318" y="2357294"/>
                  <a:pt x="2552700" y="2346960"/>
                </a:cubicBezTo>
                <a:cubicBezTo>
                  <a:pt x="2558023" y="2339508"/>
                  <a:pt x="2562860" y="2331720"/>
                  <a:pt x="2567940" y="2324100"/>
                </a:cubicBezTo>
                <a:cubicBezTo>
                  <a:pt x="2570480" y="2313940"/>
                  <a:pt x="2571435" y="2303246"/>
                  <a:pt x="2575560" y="2293620"/>
                </a:cubicBezTo>
                <a:cubicBezTo>
                  <a:pt x="2579168" y="2285202"/>
                  <a:pt x="2586704" y="2278951"/>
                  <a:pt x="2590800" y="2270760"/>
                </a:cubicBezTo>
                <a:cubicBezTo>
                  <a:pt x="2594392" y="2263576"/>
                  <a:pt x="2595600" y="2255421"/>
                  <a:pt x="2598420" y="2247900"/>
                </a:cubicBezTo>
                <a:cubicBezTo>
                  <a:pt x="2603223" y="2235093"/>
                  <a:pt x="2609730" y="2222901"/>
                  <a:pt x="2613660" y="2209800"/>
                </a:cubicBezTo>
                <a:cubicBezTo>
                  <a:pt x="2617382" y="2197395"/>
                  <a:pt x="2616470" y="2183725"/>
                  <a:pt x="2621280" y="2171700"/>
                </a:cubicBezTo>
                <a:cubicBezTo>
                  <a:pt x="2626781" y="2157949"/>
                  <a:pt x="2636189" y="2146095"/>
                  <a:pt x="2644140" y="2133600"/>
                </a:cubicBezTo>
                <a:cubicBezTo>
                  <a:pt x="2653974" y="2118147"/>
                  <a:pt x="2667818" y="2104886"/>
                  <a:pt x="2674620" y="2087880"/>
                </a:cubicBezTo>
                <a:cubicBezTo>
                  <a:pt x="2685506" y="2060664"/>
                  <a:pt x="2690862" y="2044217"/>
                  <a:pt x="2705100" y="2019300"/>
                </a:cubicBezTo>
                <a:cubicBezTo>
                  <a:pt x="2709644" y="2011349"/>
                  <a:pt x="2715796" y="2004391"/>
                  <a:pt x="2720340" y="1996440"/>
                </a:cubicBezTo>
                <a:cubicBezTo>
                  <a:pt x="2725976" y="1986577"/>
                  <a:pt x="2728308" y="1974686"/>
                  <a:pt x="2735580" y="1965960"/>
                </a:cubicBezTo>
                <a:cubicBezTo>
                  <a:pt x="2741443" y="1958925"/>
                  <a:pt x="2751964" y="1957196"/>
                  <a:pt x="2758440" y="1950720"/>
                </a:cubicBezTo>
                <a:cubicBezTo>
                  <a:pt x="2767420" y="1941740"/>
                  <a:pt x="2772320" y="1929220"/>
                  <a:pt x="2781300" y="1920240"/>
                </a:cubicBezTo>
                <a:cubicBezTo>
                  <a:pt x="2787776" y="1913764"/>
                  <a:pt x="2796708" y="1910323"/>
                  <a:pt x="2804160" y="1905000"/>
                </a:cubicBezTo>
                <a:cubicBezTo>
                  <a:pt x="2814494" y="1897618"/>
                  <a:pt x="2825660" y="1891120"/>
                  <a:pt x="2834640" y="1882140"/>
                </a:cubicBezTo>
                <a:cubicBezTo>
                  <a:pt x="2841116" y="1875664"/>
                  <a:pt x="2842845" y="1865143"/>
                  <a:pt x="2849880" y="1859280"/>
                </a:cubicBezTo>
                <a:cubicBezTo>
                  <a:pt x="2858606" y="1852008"/>
                  <a:pt x="2871117" y="1850642"/>
                  <a:pt x="2880360" y="1844040"/>
                </a:cubicBezTo>
                <a:cubicBezTo>
                  <a:pt x="2909391" y="1823304"/>
                  <a:pt x="2900065" y="1816715"/>
                  <a:pt x="2926080" y="1790700"/>
                </a:cubicBezTo>
                <a:cubicBezTo>
                  <a:pt x="2932556" y="1784224"/>
                  <a:pt x="2941320" y="1780540"/>
                  <a:pt x="2948940" y="1775460"/>
                </a:cubicBezTo>
                <a:cubicBezTo>
                  <a:pt x="2973851" y="1700727"/>
                  <a:pt x="2933464" y="1806294"/>
                  <a:pt x="2979420" y="1737360"/>
                </a:cubicBezTo>
                <a:cubicBezTo>
                  <a:pt x="2985229" y="1728646"/>
                  <a:pt x="2982787" y="1716450"/>
                  <a:pt x="2987040" y="1706880"/>
                </a:cubicBezTo>
                <a:cubicBezTo>
                  <a:pt x="2993055" y="1693346"/>
                  <a:pt x="3002808" y="1681782"/>
                  <a:pt x="3009900" y="1668780"/>
                </a:cubicBezTo>
                <a:cubicBezTo>
                  <a:pt x="3018059" y="1653822"/>
                  <a:pt x="3025709" y="1638572"/>
                  <a:pt x="3032760" y="1623060"/>
                </a:cubicBezTo>
                <a:cubicBezTo>
                  <a:pt x="3038420" y="1610608"/>
                  <a:pt x="3042340" y="1597412"/>
                  <a:pt x="3048000" y="1584960"/>
                </a:cubicBezTo>
                <a:cubicBezTo>
                  <a:pt x="3055051" y="1569448"/>
                  <a:pt x="3063809" y="1554752"/>
                  <a:pt x="3070860" y="1539240"/>
                </a:cubicBezTo>
                <a:cubicBezTo>
                  <a:pt x="3092821" y="1490926"/>
                  <a:pt x="3080888" y="1508595"/>
                  <a:pt x="3101340" y="1455420"/>
                </a:cubicBezTo>
                <a:cubicBezTo>
                  <a:pt x="3108284" y="1437365"/>
                  <a:pt x="3116580" y="1419860"/>
                  <a:pt x="3124200" y="1402080"/>
                </a:cubicBezTo>
                <a:cubicBezTo>
                  <a:pt x="3126740" y="1389380"/>
                  <a:pt x="3126461" y="1375771"/>
                  <a:pt x="3131820" y="1363980"/>
                </a:cubicBezTo>
                <a:cubicBezTo>
                  <a:pt x="3139399" y="1347306"/>
                  <a:pt x="3162300" y="1318260"/>
                  <a:pt x="3162300" y="1318260"/>
                </a:cubicBezTo>
                <a:cubicBezTo>
                  <a:pt x="3164840" y="1308100"/>
                  <a:pt x="3165795" y="1297406"/>
                  <a:pt x="3169920" y="1287780"/>
                </a:cubicBezTo>
                <a:cubicBezTo>
                  <a:pt x="3173528" y="1279362"/>
                  <a:pt x="3180616" y="1272871"/>
                  <a:pt x="3185160" y="1264920"/>
                </a:cubicBezTo>
                <a:cubicBezTo>
                  <a:pt x="3190796" y="1255057"/>
                  <a:pt x="3195787" y="1244820"/>
                  <a:pt x="3200400" y="1234440"/>
                </a:cubicBezTo>
                <a:cubicBezTo>
                  <a:pt x="3241085" y="1142899"/>
                  <a:pt x="3198125" y="1236319"/>
                  <a:pt x="3223260" y="1173480"/>
                </a:cubicBezTo>
                <a:cubicBezTo>
                  <a:pt x="3241483" y="1127922"/>
                  <a:pt x="3242820" y="1126741"/>
                  <a:pt x="3261360" y="1089660"/>
                </a:cubicBezTo>
                <a:cubicBezTo>
                  <a:pt x="3273388" y="1029521"/>
                  <a:pt x="3261276" y="1072704"/>
                  <a:pt x="3284220" y="1021080"/>
                </a:cubicBezTo>
                <a:cubicBezTo>
                  <a:pt x="3289775" y="1008581"/>
                  <a:pt x="3292817" y="994937"/>
                  <a:pt x="3299460" y="982980"/>
                </a:cubicBezTo>
                <a:cubicBezTo>
                  <a:pt x="3305628" y="971878"/>
                  <a:pt x="3314700" y="962660"/>
                  <a:pt x="3322320" y="952500"/>
                </a:cubicBezTo>
                <a:cubicBezTo>
                  <a:pt x="3324860" y="942340"/>
                  <a:pt x="3326931" y="932051"/>
                  <a:pt x="3329940" y="922020"/>
                </a:cubicBezTo>
                <a:cubicBezTo>
                  <a:pt x="3334556" y="906633"/>
                  <a:pt x="3341284" y="891885"/>
                  <a:pt x="3345180" y="876300"/>
                </a:cubicBezTo>
                <a:lnTo>
                  <a:pt x="3360420" y="815340"/>
                </a:lnTo>
                <a:cubicBezTo>
                  <a:pt x="3357880" y="777240"/>
                  <a:pt x="3357017" y="738991"/>
                  <a:pt x="3352800" y="701040"/>
                </a:cubicBezTo>
                <a:cubicBezTo>
                  <a:pt x="3351913" y="693057"/>
                  <a:pt x="3350198" y="684452"/>
                  <a:pt x="3345180" y="678180"/>
                </a:cubicBezTo>
                <a:cubicBezTo>
                  <a:pt x="3339459" y="671029"/>
                  <a:pt x="3329940" y="668020"/>
                  <a:pt x="3322320" y="662940"/>
                </a:cubicBezTo>
                <a:cubicBezTo>
                  <a:pt x="3281680" y="601980"/>
                  <a:pt x="3335020" y="675640"/>
                  <a:pt x="3284220" y="624840"/>
                </a:cubicBezTo>
                <a:cubicBezTo>
                  <a:pt x="3277744" y="618364"/>
                  <a:pt x="3274843" y="609015"/>
                  <a:pt x="3268980" y="601980"/>
                </a:cubicBezTo>
                <a:cubicBezTo>
                  <a:pt x="3262081" y="593701"/>
                  <a:pt x="3253019" y="587399"/>
                  <a:pt x="3246120" y="579120"/>
                </a:cubicBezTo>
                <a:cubicBezTo>
                  <a:pt x="3240257" y="572085"/>
                  <a:pt x="3236743" y="563295"/>
                  <a:pt x="3230880" y="556260"/>
                </a:cubicBezTo>
                <a:cubicBezTo>
                  <a:pt x="3223981" y="547981"/>
                  <a:pt x="3214919" y="541679"/>
                  <a:pt x="3208020" y="533400"/>
                </a:cubicBezTo>
                <a:cubicBezTo>
                  <a:pt x="3202157" y="526365"/>
                  <a:pt x="3199931" y="516261"/>
                  <a:pt x="3192780" y="510540"/>
                </a:cubicBezTo>
                <a:cubicBezTo>
                  <a:pt x="3186508" y="505522"/>
                  <a:pt x="3177540" y="505460"/>
                  <a:pt x="3169920" y="502920"/>
                </a:cubicBezTo>
                <a:cubicBezTo>
                  <a:pt x="3141980" y="461010"/>
                  <a:pt x="3169920" y="496570"/>
                  <a:pt x="3131820" y="464820"/>
                </a:cubicBezTo>
                <a:cubicBezTo>
                  <a:pt x="3123541" y="457921"/>
                  <a:pt x="3118316" y="447307"/>
                  <a:pt x="3108960" y="441960"/>
                </a:cubicBezTo>
                <a:cubicBezTo>
                  <a:pt x="3099867" y="436764"/>
                  <a:pt x="3088550" y="437217"/>
                  <a:pt x="3078480" y="434340"/>
                </a:cubicBezTo>
                <a:cubicBezTo>
                  <a:pt x="3052059" y="426791"/>
                  <a:pt x="3047044" y="422216"/>
                  <a:pt x="3017520" y="411480"/>
                </a:cubicBezTo>
                <a:cubicBezTo>
                  <a:pt x="3002423" y="405990"/>
                  <a:pt x="2986715" y="402206"/>
                  <a:pt x="2971800" y="396240"/>
                </a:cubicBezTo>
                <a:cubicBezTo>
                  <a:pt x="2951670" y="388188"/>
                  <a:pt x="2931745" y="379353"/>
                  <a:pt x="2910840" y="373380"/>
                </a:cubicBezTo>
                <a:cubicBezTo>
                  <a:pt x="2900770" y="370503"/>
                  <a:pt x="2890430" y="368637"/>
                  <a:pt x="2880360" y="365760"/>
                </a:cubicBezTo>
                <a:cubicBezTo>
                  <a:pt x="2872637" y="363553"/>
                  <a:pt x="2865292" y="360088"/>
                  <a:pt x="2857500" y="358140"/>
                </a:cubicBezTo>
                <a:cubicBezTo>
                  <a:pt x="2814815" y="347469"/>
                  <a:pt x="2770645" y="345951"/>
                  <a:pt x="2727960" y="335280"/>
                </a:cubicBezTo>
                <a:cubicBezTo>
                  <a:pt x="2720168" y="333332"/>
                  <a:pt x="2712823" y="329867"/>
                  <a:pt x="2705100" y="327660"/>
                </a:cubicBezTo>
                <a:cubicBezTo>
                  <a:pt x="2695030" y="324783"/>
                  <a:pt x="2684651" y="323049"/>
                  <a:pt x="2674620" y="320040"/>
                </a:cubicBezTo>
                <a:cubicBezTo>
                  <a:pt x="2659233" y="315424"/>
                  <a:pt x="2644652" y="307950"/>
                  <a:pt x="2628900" y="304800"/>
                </a:cubicBezTo>
                <a:cubicBezTo>
                  <a:pt x="2616200" y="302260"/>
                  <a:pt x="2603365" y="300321"/>
                  <a:pt x="2590800" y="297180"/>
                </a:cubicBezTo>
                <a:cubicBezTo>
                  <a:pt x="2583008" y="295232"/>
                  <a:pt x="2575461" y="292380"/>
                  <a:pt x="2567940" y="289560"/>
                </a:cubicBezTo>
                <a:cubicBezTo>
                  <a:pt x="2555133" y="284757"/>
                  <a:pt x="2543253" y="277003"/>
                  <a:pt x="2529840" y="274320"/>
                </a:cubicBezTo>
                <a:cubicBezTo>
                  <a:pt x="2504809" y="269314"/>
                  <a:pt x="2479040" y="269240"/>
                  <a:pt x="2453640" y="266700"/>
                </a:cubicBezTo>
                <a:lnTo>
                  <a:pt x="2385060" y="243840"/>
                </a:lnTo>
                <a:lnTo>
                  <a:pt x="2362200" y="236220"/>
                </a:lnTo>
                <a:cubicBezTo>
                  <a:pt x="2354580" y="233680"/>
                  <a:pt x="2347132" y="230548"/>
                  <a:pt x="2339340" y="228600"/>
                </a:cubicBezTo>
                <a:cubicBezTo>
                  <a:pt x="2322302" y="224340"/>
                  <a:pt x="2274271" y="213161"/>
                  <a:pt x="2263140" y="205740"/>
                </a:cubicBezTo>
                <a:cubicBezTo>
                  <a:pt x="2255520" y="200660"/>
                  <a:pt x="2248698" y="194108"/>
                  <a:pt x="2240280" y="190500"/>
                </a:cubicBezTo>
                <a:cubicBezTo>
                  <a:pt x="2229329" y="185807"/>
                  <a:pt x="2180379" y="177430"/>
                  <a:pt x="2171700" y="175260"/>
                </a:cubicBezTo>
                <a:cubicBezTo>
                  <a:pt x="2163908" y="173312"/>
                  <a:pt x="2156563" y="169847"/>
                  <a:pt x="2148840" y="167640"/>
                </a:cubicBezTo>
                <a:cubicBezTo>
                  <a:pt x="2138770" y="164763"/>
                  <a:pt x="2128295" y="163332"/>
                  <a:pt x="2118360" y="160020"/>
                </a:cubicBezTo>
                <a:cubicBezTo>
                  <a:pt x="2105384" y="155695"/>
                  <a:pt x="2093530" y="148097"/>
                  <a:pt x="2080260" y="144780"/>
                </a:cubicBezTo>
                <a:cubicBezTo>
                  <a:pt x="2062836" y="140424"/>
                  <a:pt x="2044700" y="139700"/>
                  <a:pt x="2026920" y="137160"/>
                </a:cubicBezTo>
                <a:cubicBezTo>
                  <a:pt x="2011680" y="132080"/>
                  <a:pt x="1994566" y="130831"/>
                  <a:pt x="1981200" y="121920"/>
                </a:cubicBezTo>
                <a:cubicBezTo>
                  <a:pt x="1946681" y="98907"/>
                  <a:pt x="1944952" y="94858"/>
                  <a:pt x="1889760" y="83820"/>
                </a:cubicBezTo>
                <a:cubicBezTo>
                  <a:pt x="1877060" y="81280"/>
                  <a:pt x="1864225" y="79341"/>
                  <a:pt x="1851660" y="76200"/>
                </a:cubicBezTo>
                <a:cubicBezTo>
                  <a:pt x="1819796" y="68234"/>
                  <a:pt x="1835378" y="66661"/>
                  <a:pt x="1798320" y="60960"/>
                </a:cubicBezTo>
                <a:cubicBezTo>
                  <a:pt x="1710216" y="47406"/>
                  <a:pt x="1755228" y="59962"/>
                  <a:pt x="1684020" y="45720"/>
                </a:cubicBezTo>
                <a:cubicBezTo>
                  <a:pt x="1612754" y="31467"/>
                  <a:pt x="1688780" y="45005"/>
                  <a:pt x="1630680" y="30480"/>
                </a:cubicBezTo>
                <a:cubicBezTo>
                  <a:pt x="1618115" y="27339"/>
                  <a:pt x="1605075" y="26268"/>
                  <a:pt x="1592580" y="22860"/>
                </a:cubicBezTo>
                <a:cubicBezTo>
                  <a:pt x="1486234" y="-6143"/>
                  <a:pt x="1601585" y="18565"/>
                  <a:pt x="1508760" y="0"/>
                </a:cubicBezTo>
                <a:cubicBezTo>
                  <a:pt x="1417320" y="2540"/>
                  <a:pt x="1325795" y="2935"/>
                  <a:pt x="1234440" y="7620"/>
                </a:cubicBezTo>
                <a:cubicBezTo>
                  <a:pt x="1226418" y="8031"/>
                  <a:pt x="1218764" y="11648"/>
                  <a:pt x="1211580" y="15240"/>
                </a:cubicBezTo>
                <a:cubicBezTo>
                  <a:pt x="1203389" y="19336"/>
                  <a:pt x="1188720" y="30480"/>
                  <a:pt x="1188720" y="30480"/>
                </a:cubicBezTo>
                <a:lnTo>
                  <a:pt x="1165860" y="22860"/>
                </a:lnTo>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Freeform: Shape 161"/>
          <p:cNvSpPr/>
          <p:nvPr/>
        </p:nvSpPr>
        <p:spPr>
          <a:xfrm>
            <a:off x="2720880" y="1120680"/>
            <a:ext cx="3976920" cy="2346480"/>
          </a:xfrm>
          <a:custGeom>
            <a:avLst/>
            <a:gdLst/>
            <a:ahLst/>
            <a:rect l="l" t="t" r="r" b="b"/>
            <a:pathLst>
              <a:path w="3977640" h="2346960">
                <a:moveTo>
                  <a:pt x="929640" y="22860"/>
                </a:moveTo>
                <a:lnTo>
                  <a:pt x="929640" y="22860"/>
                </a:lnTo>
                <a:cubicBezTo>
                  <a:pt x="911860" y="48260"/>
                  <a:pt x="886105" y="69646"/>
                  <a:pt x="876300" y="99060"/>
                </a:cubicBezTo>
                <a:cubicBezTo>
                  <a:pt x="873760" y="106680"/>
                  <a:pt x="872581" y="114899"/>
                  <a:pt x="868680" y="121920"/>
                </a:cubicBezTo>
                <a:cubicBezTo>
                  <a:pt x="859785" y="137931"/>
                  <a:pt x="843992" y="150264"/>
                  <a:pt x="838200" y="167640"/>
                </a:cubicBezTo>
                <a:cubicBezTo>
                  <a:pt x="835660" y="175260"/>
                  <a:pt x="834172" y="183316"/>
                  <a:pt x="830580" y="190500"/>
                </a:cubicBezTo>
                <a:cubicBezTo>
                  <a:pt x="810423" y="230813"/>
                  <a:pt x="820567" y="196898"/>
                  <a:pt x="792480" y="236220"/>
                </a:cubicBezTo>
                <a:cubicBezTo>
                  <a:pt x="785878" y="245463"/>
                  <a:pt x="781228" y="256064"/>
                  <a:pt x="777240" y="266700"/>
                </a:cubicBezTo>
                <a:cubicBezTo>
                  <a:pt x="773563" y="276506"/>
                  <a:pt x="772629" y="287149"/>
                  <a:pt x="769620" y="297180"/>
                </a:cubicBezTo>
                <a:cubicBezTo>
                  <a:pt x="765004" y="312567"/>
                  <a:pt x="757530" y="327148"/>
                  <a:pt x="754380" y="342900"/>
                </a:cubicBezTo>
                <a:cubicBezTo>
                  <a:pt x="751840" y="355600"/>
                  <a:pt x="749901" y="368435"/>
                  <a:pt x="746760" y="381000"/>
                </a:cubicBezTo>
                <a:cubicBezTo>
                  <a:pt x="744812" y="388792"/>
                  <a:pt x="742023" y="396363"/>
                  <a:pt x="739140" y="403860"/>
                </a:cubicBezTo>
                <a:cubicBezTo>
                  <a:pt x="729320" y="429393"/>
                  <a:pt x="717311" y="454107"/>
                  <a:pt x="708660" y="480060"/>
                </a:cubicBezTo>
                <a:cubicBezTo>
                  <a:pt x="706120" y="487680"/>
                  <a:pt x="705495" y="496237"/>
                  <a:pt x="701040" y="502920"/>
                </a:cubicBezTo>
                <a:cubicBezTo>
                  <a:pt x="692614" y="515559"/>
                  <a:pt x="669377" y="533992"/>
                  <a:pt x="655320" y="541020"/>
                </a:cubicBezTo>
                <a:cubicBezTo>
                  <a:pt x="648136" y="544612"/>
                  <a:pt x="639644" y="545048"/>
                  <a:pt x="632460" y="548640"/>
                </a:cubicBezTo>
                <a:cubicBezTo>
                  <a:pt x="624269" y="552736"/>
                  <a:pt x="617220" y="558800"/>
                  <a:pt x="609600" y="563880"/>
                </a:cubicBezTo>
                <a:cubicBezTo>
                  <a:pt x="604520" y="571500"/>
                  <a:pt x="600836" y="580264"/>
                  <a:pt x="594360" y="586740"/>
                </a:cubicBezTo>
                <a:cubicBezTo>
                  <a:pt x="587884" y="593216"/>
                  <a:pt x="577363" y="594945"/>
                  <a:pt x="571500" y="601980"/>
                </a:cubicBezTo>
                <a:cubicBezTo>
                  <a:pt x="541618" y="637839"/>
                  <a:pt x="571064" y="625276"/>
                  <a:pt x="541020" y="655320"/>
                </a:cubicBezTo>
                <a:cubicBezTo>
                  <a:pt x="534544" y="661796"/>
                  <a:pt x="525780" y="665480"/>
                  <a:pt x="518160" y="670560"/>
                </a:cubicBezTo>
                <a:cubicBezTo>
                  <a:pt x="502855" y="693518"/>
                  <a:pt x="499281" y="696830"/>
                  <a:pt x="487680" y="723900"/>
                </a:cubicBezTo>
                <a:cubicBezTo>
                  <a:pt x="484516" y="731283"/>
                  <a:pt x="484515" y="740077"/>
                  <a:pt x="480060" y="746760"/>
                </a:cubicBezTo>
                <a:cubicBezTo>
                  <a:pt x="474082" y="755726"/>
                  <a:pt x="464820" y="762000"/>
                  <a:pt x="457200" y="769620"/>
                </a:cubicBezTo>
                <a:cubicBezTo>
                  <a:pt x="443229" y="811533"/>
                  <a:pt x="457975" y="773980"/>
                  <a:pt x="434340" y="815340"/>
                </a:cubicBezTo>
                <a:cubicBezTo>
                  <a:pt x="423048" y="835101"/>
                  <a:pt x="405827" y="880069"/>
                  <a:pt x="388620" y="891540"/>
                </a:cubicBezTo>
                <a:lnTo>
                  <a:pt x="365760" y="906780"/>
                </a:lnTo>
                <a:cubicBezTo>
                  <a:pt x="351187" y="950499"/>
                  <a:pt x="368576" y="909691"/>
                  <a:pt x="335280" y="952500"/>
                </a:cubicBezTo>
                <a:cubicBezTo>
                  <a:pt x="324035" y="966958"/>
                  <a:pt x="314960" y="982980"/>
                  <a:pt x="304800" y="998220"/>
                </a:cubicBezTo>
                <a:lnTo>
                  <a:pt x="289560" y="1021080"/>
                </a:lnTo>
                <a:lnTo>
                  <a:pt x="274320" y="1043940"/>
                </a:lnTo>
                <a:cubicBezTo>
                  <a:pt x="271780" y="1054100"/>
                  <a:pt x="271896" y="1065327"/>
                  <a:pt x="266700" y="1074420"/>
                </a:cubicBezTo>
                <a:cubicBezTo>
                  <a:pt x="261353" y="1083776"/>
                  <a:pt x="250456" y="1088774"/>
                  <a:pt x="243840" y="1097280"/>
                </a:cubicBezTo>
                <a:cubicBezTo>
                  <a:pt x="232595" y="1111738"/>
                  <a:pt x="223520" y="1127760"/>
                  <a:pt x="213360" y="1143000"/>
                </a:cubicBezTo>
                <a:lnTo>
                  <a:pt x="182880" y="1188720"/>
                </a:lnTo>
                <a:cubicBezTo>
                  <a:pt x="177800" y="1196340"/>
                  <a:pt x="174116" y="1205104"/>
                  <a:pt x="167640" y="1211580"/>
                </a:cubicBezTo>
                <a:cubicBezTo>
                  <a:pt x="160020" y="1219200"/>
                  <a:pt x="151679" y="1226161"/>
                  <a:pt x="144780" y="1234440"/>
                </a:cubicBezTo>
                <a:cubicBezTo>
                  <a:pt x="113030" y="1272540"/>
                  <a:pt x="148590" y="1244600"/>
                  <a:pt x="106680" y="1272540"/>
                </a:cubicBezTo>
                <a:cubicBezTo>
                  <a:pt x="104140" y="1280160"/>
                  <a:pt x="102961" y="1288379"/>
                  <a:pt x="99060" y="1295400"/>
                </a:cubicBezTo>
                <a:cubicBezTo>
                  <a:pt x="90165" y="1311411"/>
                  <a:pt x="68580" y="1341120"/>
                  <a:pt x="68580" y="1341120"/>
                </a:cubicBezTo>
                <a:cubicBezTo>
                  <a:pt x="66040" y="1353820"/>
                  <a:pt x="64101" y="1366655"/>
                  <a:pt x="60960" y="1379220"/>
                </a:cubicBezTo>
                <a:cubicBezTo>
                  <a:pt x="59012" y="1387012"/>
                  <a:pt x="54915" y="1394204"/>
                  <a:pt x="53340" y="1402080"/>
                </a:cubicBezTo>
                <a:cubicBezTo>
                  <a:pt x="49818" y="1419692"/>
                  <a:pt x="48933" y="1437749"/>
                  <a:pt x="45720" y="1455420"/>
                </a:cubicBezTo>
                <a:cubicBezTo>
                  <a:pt x="43847" y="1465724"/>
                  <a:pt x="40372" y="1475677"/>
                  <a:pt x="38100" y="1485900"/>
                </a:cubicBezTo>
                <a:cubicBezTo>
                  <a:pt x="35290" y="1498543"/>
                  <a:pt x="35028" y="1511873"/>
                  <a:pt x="30480" y="1524000"/>
                </a:cubicBezTo>
                <a:cubicBezTo>
                  <a:pt x="27264" y="1532575"/>
                  <a:pt x="20320" y="1539240"/>
                  <a:pt x="15240" y="1546860"/>
                </a:cubicBezTo>
                <a:cubicBezTo>
                  <a:pt x="12301" y="1558615"/>
                  <a:pt x="0" y="1605766"/>
                  <a:pt x="0" y="1615440"/>
                </a:cubicBezTo>
                <a:cubicBezTo>
                  <a:pt x="0" y="1719611"/>
                  <a:pt x="2890" y="1823796"/>
                  <a:pt x="7620" y="1927860"/>
                </a:cubicBezTo>
                <a:cubicBezTo>
                  <a:pt x="7985" y="1935884"/>
                  <a:pt x="11339" y="1943699"/>
                  <a:pt x="15240" y="1950720"/>
                </a:cubicBezTo>
                <a:cubicBezTo>
                  <a:pt x="41387" y="1997785"/>
                  <a:pt x="35186" y="1989418"/>
                  <a:pt x="68580" y="2011680"/>
                </a:cubicBezTo>
                <a:cubicBezTo>
                  <a:pt x="86360" y="2038350"/>
                  <a:pt x="91440" y="2052320"/>
                  <a:pt x="129540" y="2065020"/>
                </a:cubicBezTo>
                <a:cubicBezTo>
                  <a:pt x="144780" y="2070100"/>
                  <a:pt x="161894" y="2071349"/>
                  <a:pt x="175260" y="2080260"/>
                </a:cubicBezTo>
                <a:cubicBezTo>
                  <a:pt x="182880" y="2085340"/>
                  <a:pt x="189432" y="2092604"/>
                  <a:pt x="198120" y="2095500"/>
                </a:cubicBezTo>
                <a:cubicBezTo>
                  <a:pt x="223416" y="2103932"/>
                  <a:pt x="328598" y="2110183"/>
                  <a:pt x="335280" y="2110740"/>
                </a:cubicBezTo>
                <a:cubicBezTo>
                  <a:pt x="404643" y="2133861"/>
                  <a:pt x="295092" y="2098394"/>
                  <a:pt x="396240" y="2125980"/>
                </a:cubicBezTo>
                <a:cubicBezTo>
                  <a:pt x="411738" y="2130207"/>
                  <a:pt x="426020" y="2139227"/>
                  <a:pt x="441960" y="2141220"/>
                </a:cubicBezTo>
                <a:cubicBezTo>
                  <a:pt x="462280" y="2143760"/>
                  <a:pt x="482680" y="2145726"/>
                  <a:pt x="502920" y="2148840"/>
                </a:cubicBezTo>
                <a:cubicBezTo>
                  <a:pt x="568412" y="2158916"/>
                  <a:pt x="514636" y="2156108"/>
                  <a:pt x="594360" y="2164080"/>
                </a:cubicBezTo>
                <a:cubicBezTo>
                  <a:pt x="652709" y="2169915"/>
                  <a:pt x="769620" y="2179320"/>
                  <a:pt x="769620" y="2179320"/>
                </a:cubicBezTo>
                <a:cubicBezTo>
                  <a:pt x="779780" y="2181860"/>
                  <a:pt x="790030" y="2184063"/>
                  <a:pt x="800100" y="2186940"/>
                </a:cubicBezTo>
                <a:cubicBezTo>
                  <a:pt x="807823" y="2189147"/>
                  <a:pt x="815168" y="2192612"/>
                  <a:pt x="822960" y="2194560"/>
                </a:cubicBezTo>
                <a:cubicBezTo>
                  <a:pt x="835525" y="2197701"/>
                  <a:pt x="848495" y="2199039"/>
                  <a:pt x="861060" y="2202180"/>
                </a:cubicBezTo>
                <a:cubicBezTo>
                  <a:pt x="868852" y="2204128"/>
                  <a:pt x="876197" y="2207593"/>
                  <a:pt x="883920" y="2209800"/>
                </a:cubicBezTo>
                <a:cubicBezTo>
                  <a:pt x="893990" y="2212677"/>
                  <a:pt x="904330" y="2214543"/>
                  <a:pt x="914400" y="2217420"/>
                </a:cubicBezTo>
                <a:cubicBezTo>
                  <a:pt x="948292" y="2227103"/>
                  <a:pt x="928038" y="2224720"/>
                  <a:pt x="967740" y="2232660"/>
                </a:cubicBezTo>
                <a:cubicBezTo>
                  <a:pt x="982890" y="2235690"/>
                  <a:pt x="998310" y="2237250"/>
                  <a:pt x="1013460" y="2240280"/>
                </a:cubicBezTo>
                <a:cubicBezTo>
                  <a:pt x="1058101" y="2249208"/>
                  <a:pt x="1039169" y="2251646"/>
                  <a:pt x="1097280" y="2255520"/>
                </a:cubicBezTo>
                <a:cubicBezTo>
                  <a:pt x="1244064" y="2265306"/>
                  <a:pt x="1527534" y="2268452"/>
                  <a:pt x="1638300" y="2270760"/>
                </a:cubicBezTo>
                <a:cubicBezTo>
                  <a:pt x="1651000" y="2273300"/>
                  <a:pt x="1663835" y="2275239"/>
                  <a:pt x="1676400" y="2278380"/>
                </a:cubicBezTo>
                <a:cubicBezTo>
                  <a:pt x="1684192" y="2280328"/>
                  <a:pt x="1691537" y="2283793"/>
                  <a:pt x="1699260" y="2286000"/>
                </a:cubicBezTo>
                <a:cubicBezTo>
                  <a:pt x="1779873" y="2309032"/>
                  <a:pt x="1666810" y="2272643"/>
                  <a:pt x="1775460" y="2308860"/>
                </a:cubicBezTo>
                <a:cubicBezTo>
                  <a:pt x="1783080" y="2311400"/>
                  <a:pt x="1791637" y="2312025"/>
                  <a:pt x="1798320" y="2316480"/>
                </a:cubicBezTo>
                <a:cubicBezTo>
                  <a:pt x="1805940" y="2321560"/>
                  <a:pt x="1812762" y="2328112"/>
                  <a:pt x="1821180" y="2331720"/>
                </a:cubicBezTo>
                <a:cubicBezTo>
                  <a:pt x="1850219" y="2344165"/>
                  <a:pt x="1932090" y="2346043"/>
                  <a:pt x="1943100" y="2346960"/>
                </a:cubicBezTo>
                <a:cubicBezTo>
                  <a:pt x="1955054" y="2346163"/>
                  <a:pt x="2067384" y="2342441"/>
                  <a:pt x="2103120" y="2331720"/>
                </a:cubicBezTo>
                <a:cubicBezTo>
                  <a:pt x="2114397" y="2328337"/>
                  <a:pt x="2166170" y="2298229"/>
                  <a:pt x="2171700" y="2293620"/>
                </a:cubicBezTo>
                <a:cubicBezTo>
                  <a:pt x="2191017" y="2277523"/>
                  <a:pt x="2207260" y="2258060"/>
                  <a:pt x="2225040" y="2240280"/>
                </a:cubicBezTo>
                <a:cubicBezTo>
                  <a:pt x="2232660" y="2232660"/>
                  <a:pt x="2238934" y="2223398"/>
                  <a:pt x="2247900" y="2217420"/>
                </a:cubicBezTo>
                <a:cubicBezTo>
                  <a:pt x="2304657" y="2179582"/>
                  <a:pt x="2234948" y="2228213"/>
                  <a:pt x="2293620" y="2179320"/>
                </a:cubicBezTo>
                <a:cubicBezTo>
                  <a:pt x="2300655" y="2173457"/>
                  <a:pt x="2309445" y="2169943"/>
                  <a:pt x="2316480" y="2164080"/>
                </a:cubicBezTo>
                <a:cubicBezTo>
                  <a:pt x="2324759" y="2157181"/>
                  <a:pt x="2331061" y="2148119"/>
                  <a:pt x="2339340" y="2141220"/>
                </a:cubicBezTo>
                <a:cubicBezTo>
                  <a:pt x="2346375" y="2135357"/>
                  <a:pt x="2354748" y="2131303"/>
                  <a:pt x="2362200" y="2125980"/>
                </a:cubicBezTo>
                <a:cubicBezTo>
                  <a:pt x="2372534" y="2118598"/>
                  <a:pt x="2382346" y="2110502"/>
                  <a:pt x="2392680" y="2103120"/>
                </a:cubicBezTo>
                <a:cubicBezTo>
                  <a:pt x="2400132" y="2097797"/>
                  <a:pt x="2408587" y="2093840"/>
                  <a:pt x="2415540" y="2087880"/>
                </a:cubicBezTo>
                <a:cubicBezTo>
                  <a:pt x="2426449" y="2078529"/>
                  <a:pt x="2434328" y="2065751"/>
                  <a:pt x="2446020" y="2057400"/>
                </a:cubicBezTo>
                <a:cubicBezTo>
                  <a:pt x="2452556" y="2052731"/>
                  <a:pt x="2461260" y="2052320"/>
                  <a:pt x="2468880" y="2049780"/>
                </a:cubicBezTo>
                <a:cubicBezTo>
                  <a:pt x="2476500" y="2042160"/>
                  <a:pt x="2484841" y="2035199"/>
                  <a:pt x="2491740" y="2026920"/>
                </a:cubicBezTo>
                <a:cubicBezTo>
                  <a:pt x="2497603" y="2019885"/>
                  <a:pt x="2500854" y="2010867"/>
                  <a:pt x="2506980" y="2004060"/>
                </a:cubicBezTo>
                <a:cubicBezTo>
                  <a:pt x="2551842" y="1954214"/>
                  <a:pt x="2544845" y="1961037"/>
                  <a:pt x="2583180" y="1935480"/>
                </a:cubicBezTo>
                <a:cubicBezTo>
                  <a:pt x="2600857" y="1882450"/>
                  <a:pt x="2575259" y="1947885"/>
                  <a:pt x="2621280" y="1882140"/>
                </a:cubicBezTo>
                <a:cubicBezTo>
                  <a:pt x="2631051" y="1868181"/>
                  <a:pt x="2634689" y="1850597"/>
                  <a:pt x="2644140" y="1836420"/>
                </a:cubicBezTo>
                <a:cubicBezTo>
                  <a:pt x="2650118" y="1827454"/>
                  <a:pt x="2660176" y="1821900"/>
                  <a:pt x="2667000" y="1813560"/>
                </a:cubicBezTo>
                <a:cubicBezTo>
                  <a:pt x="2683084" y="1793901"/>
                  <a:pt x="2697480" y="1772920"/>
                  <a:pt x="2712720" y="1752600"/>
                </a:cubicBezTo>
                <a:cubicBezTo>
                  <a:pt x="2720340" y="1742440"/>
                  <a:pt x="2726600" y="1731100"/>
                  <a:pt x="2735580" y="1722120"/>
                </a:cubicBezTo>
                <a:cubicBezTo>
                  <a:pt x="2743200" y="1714500"/>
                  <a:pt x="2751616" y="1707600"/>
                  <a:pt x="2758440" y="1699260"/>
                </a:cubicBezTo>
                <a:cubicBezTo>
                  <a:pt x="2774524" y="1679601"/>
                  <a:pt x="2790071" y="1659434"/>
                  <a:pt x="2804160" y="1638300"/>
                </a:cubicBezTo>
                <a:cubicBezTo>
                  <a:pt x="2809240" y="1630680"/>
                  <a:pt x="2815304" y="1623631"/>
                  <a:pt x="2819400" y="1615440"/>
                </a:cubicBezTo>
                <a:cubicBezTo>
                  <a:pt x="2848263" y="1557713"/>
                  <a:pt x="2817388" y="1594592"/>
                  <a:pt x="2857500" y="1554480"/>
                </a:cubicBezTo>
                <a:cubicBezTo>
                  <a:pt x="2876033" y="1480347"/>
                  <a:pt x="2848715" y="1580252"/>
                  <a:pt x="2895600" y="1463040"/>
                </a:cubicBezTo>
                <a:cubicBezTo>
                  <a:pt x="2900680" y="1450340"/>
                  <a:pt x="2906166" y="1437795"/>
                  <a:pt x="2910840" y="1424940"/>
                </a:cubicBezTo>
                <a:cubicBezTo>
                  <a:pt x="2916330" y="1409843"/>
                  <a:pt x="2918896" y="1393588"/>
                  <a:pt x="2926080" y="1379220"/>
                </a:cubicBezTo>
                <a:cubicBezTo>
                  <a:pt x="2934271" y="1362837"/>
                  <a:pt x="2946400" y="1348740"/>
                  <a:pt x="2956560" y="1333500"/>
                </a:cubicBezTo>
                <a:cubicBezTo>
                  <a:pt x="2961640" y="1325880"/>
                  <a:pt x="2965324" y="1317116"/>
                  <a:pt x="2971800" y="1310640"/>
                </a:cubicBezTo>
                <a:lnTo>
                  <a:pt x="3017520" y="1264920"/>
                </a:lnTo>
                <a:cubicBezTo>
                  <a:pt x="3025140" y="1257300"/>
                  <a:pt x="3031414" y="1248038"/>
                  <a:pt x="3040380" y="1242060"/>
                </a:cubicBezTo>
                <a:cubicBezTo>
                  <a:pt x="3155934" y="1165024"/>
                  <a:pt x="3037337" y="1248406"/>
                  <a:pt x="3108960" y="1188720"/>
                </a:cubicBezTo>
                <a:cubicBezTo>
                  <a:pt x="3115995" y="1182857"/>
                  <a:pt x="3124975" y="1179564"/>
                  <a:pt x="3131820" y="1173480"/>
                </a:cubicBezTo>
                <a:cubicBezTo>
                  <a:pt x="3147929" y="1159161"/>
                  <a:pt x="3165585" y="1145693"/>
                  <a:pt x="3177540" y="1127760"/>
                </a:cubicBezTo>
                <a:cubicBezTo>
                  <a:pt x="3182620" y="1120140"/>
                  <a:pt x="3186304" y="1111376"/>
                  <a:pt x="3192780" y="1104900"/>
                </a:cubicBezTo>
                <a:cubicBezTo>
                  <a:pt x="3199256" y="1098424"/>
                  <a:pt x="3208020" y="1094740"/>
                  <a:pt x="3215640" y="1089660"/>
                </a:cubicBezTo>
                <a:cubicBezTo>
                  <a:pt x="3243580" y="1047750"/>
                  <a:pt x="3215640" y="1083310"/>
                  <a:pt x="3253740" y="1051560"/>
                </a:cubicBezTo>
                <a:cubicBezTo>
                  <a:pt x="3262019" y="1044661"/>
                  <a:pt x="3267831" y="1034964"/>
                  <a:pt x="3276600" y="1028700"/>
                </a:cubicBezTo>
                <a:cubicBezTo>
                  <a:pt x="3285843" y="1022098"/>
                  <a:pt x="3297837" y="1020062"/>
                  <a:pt x="3307080" y="1013460"/>
                </a:cubicBezTo>
                <a:cubicBezTo>
                  <a:pt x="3315849" y="1007196"/>
                  <a:pt x="3321661" y="997499"/>
                  <a:pt x="3329940" y="990600"/>
                </a:cubicBezTo>
                <a:cubicBezTo>
                  <a:pt x="3336975" y="984737"/>
                  <a:pt x="3345180" y="980440"/>
                  <a:pt x="3352800" y="975360"/>
                </a:cubicBezTo>
                <a:cubicBezTo>
                  <a:pt x="3393440" y="914400"/>
                  <a:pt x="3340100" y="988060"/>
                  <a:pt x="3390900" y="937260"/>
                </a:cubicBezTo>
                <a:cubicBezTo>
                  <a:pt x="3441700" y="886460"/>
                  <a:pt x="3368040" y="939800"/>
                  <a:pt x="3429000" y="899160"/>
                </a:cubicBezTo>
                <a:cubicBezTo>
                  <a:pt x="3443985" y="876683"/>
                  <a:pt x="3445098" y="871775"/>
                  <a:pt x="3467100" y="853440"/>
                </a:cubicBezTo>
                <a:cubicBezTo>
                  <a:pt x="3474135" y="847577"/>
                  <a:pt x="3483115" y="844284"/>
                  <a:pt x="3489960" y="838200"/>
                </a:cubicBezTo>
                <a:cubicBezTo>
                  <a:pt x="3506069" y="823881"/>
                  <a:pt x="3520440" y="807720"/>
                  <a:pt x="3535680" y="792480"/>
                </a:cubicBezTo>
                <a:cubicBezTo>
                  <a:pt x="3543300" y="784860"/>
                  <a:pt x="3549574" y="775598"/>
                  <a:pt x="3558540" y="769620"/>
                </a:cubicBezTo>
                <a:lnTo>
                  <a:pt x="3581400" y="754380"/>
                </a:lnTo>
                <a:cubicBezTo>
                  <a:pt x="3596385" y="731903"/>
                  <a:pt x="3597498" y="726995"/>
                  <a:pt x="3619500" y="708660"/>
                </a:cubicBezTo>
                <a:cubicBezTo>
                  <a:pt x="3626535" y="702797"/>
                  <a:pt x="3634740" y="698500"/>
                  <a:pt x="3642360" y="693420"/>
                </a:cubicBezTo>
                <a:cubicBezTo>
                  <a:pt x="3660684" y="665934"/>
                  <a:pt x="3672003" y="645718"/>
                  <a:pt x="3703320" y="624840"/>
                </a:cubicBezTo>
                <a:cubicBezTo>
                  <a:pt x="3710940" y="619760"/>
                  <a:pt x="3719704" y="616076"/>
                  <a:pt x="3726180" y="609600"/>
                </a:cubicBezTo>
                <a:cubicBezTo>
                  <a:pt x="3735160" y="600620"/>
                  <a:pt x="3739548" y="587557"/>
                  <a:pt x="3749040" y="579120"/>
                </a:cubicBezTo>
                <a:cubicBezTo>
                  <a:pt x="3826730" y="510062"/>
                  <a:pt x="3764412" y="576849"/>
                  <a:pt x="3825240" y="533400"/>
                </a:cubicBezTo>
                <a:cubicBezTo>
                  <a:pt x="3852740" y="513757"/>
                  <a:pt x="3843682" y="511269"/>
                  <a:pt x="3863340" y="487680"/>
                </a:cubicBezTo>
                <a:cubicBezTo>
                  <a:pt x="3921065" y="418411"/>
                  <a:pt x="3853097" y="514912"/>
                  <a:pt x="3901440" y="434340"/>
                </a:cubicBezTo>
                <a:cubicBezTo>
                  <a:pt x="3910864" y="418634"/>
                  <a:pt x="3926128" y="405996"/>
                  <a:pt x="3931920" y="388620"/>
                </a:cubicBezTo>
                <a:lnTo>
                  <a:pt x="3947160" y="342900"/>
                </a:lnTo>
                <a:cubicBezTo>
                  <a:pt x="3949700" y="335280"/>
                  <a:pt x="3950325" y="326723"/>
                  <a:pt x="3954780" y="320040"/>
                </a:cubicBezTo>
                <a:cubicBezTo>
                  <a:pt x="3974475" y="290497"/>
                  <a:pt x="3967124" y="305868"/>
                  <a:pt x="3977640" y="274320"/>
                </a:cubicBezTo>
                <a:cubicBezTo>
                  <a:pt x="3976541" y="268824"/>
                  <a:pt x="3969095" y="223402"/>
                  <a:pt x="3962400" y="213360"/>
                </a:cubicBezTo>
                <a:cubicBezTo>
                  <a:pt x="3945811" y="188476"/>
                  <a:pt x="3930187" y="188767"/>
                  <a:pt x="3909060" y="167640"/>
                </a:cubicBezTo>
                <a:cubicBezTo>
                  <a:pt x="3902584" y="161164"/>
                  <a:pt x="3899904" y="151625"/>
                  <a:pt x="3893820" y="144780"/>
                </a:cubicBezTo>
                <a:cubicBezTo>
                  <a:pt x="3879501" y="128671"/>
                  <a:pt x="3866033" y="111015"/>
                  <a:pt x="3848100" y="99060"/>
                </a:cubicBezTo>
                <a:lnTo>
                  <a:pt x="3802380" y="68580"/>
                </a:lnTo>
                <a:cubicBezTo>
                  <a:pt x="3794760" y="63500"/>
                  <a:pt x="3785996" y="59816"/>
                  <a:pt x="3779520" y="53340"/>
                </a:cubicBezTo>
                <a:cubicBezTo>
                  <a:pt x="3771900" y="45720"/>
                  <a:pt x="3766299" y="35299"/>
                  <a:pt x="3756660" y="30480"/>
                </a:cubicBezTo>
                <a:cubicBezTo>
                  <a:pt x="3745076" y="24688"/>
                  <a:pt x="3731260" y="25400"/>
                  <a:pt x="3718560" y="22860"/>
                </a:cubicBezTo>
                <a:cubicBezTo>
                  <a:pt x="3675380" y="25400"/>
                  <a:pt x="3632060" y="26176"/>
                  <a:pt x="3589020" y="30480"/>
                </a:cubicBezTo>
                <a:cubicBezTo>
                  <a:pt x="3581028" y="31279"/>
                  <a:pt x="3574130" y="37104"/>
                  <a:pt x="3566160" y="38100"/>
                </a:cubicBezTo>
                <a:cubicBezTo>
                  <a:pt x="3533298" y="42208"/>
                  <a:pt x="3500120" y="43180"/>
                  <a:pt x="3467100" y="45720"/>
                </a:cubicBezTo>
                <a:cubicBezTo>
                  <a:pt x="3454400" y="48260"/>
                  <a:pt x="3441565" y="50199"/>
                  <a:pt x="3429000" y="53340"/>
                </a:cubicBezTo>
                <a:cubicBezTo>
                  <a:pt x="3421208" y="55288"/>
                  <a:pt x="3414091" y="59824"/>
                  <a:pt x="3406140" y="60960"/>
                </a:cubicBezTo>
                <a:cubicBezTo>
                  <a:pt x="3378367" y="64928"/>
                  <a:pt x="3350260" y="66040"/>
                  <a:pt x="3322320" y="68580"/>
                </a:cubicBezTo>
                <a:lnTo>
                  <a:pt x="3078480" y="60960"/>
                </a:lnTo>
                <a:cubicBezTo>
                  <a:pt x="3058027" y="59937"/>
                  <a:pt x="3037998" y="53340"/>
                  <a:pt x="3017520" y="53340"/>
                </a:cubicBezTo>
                <a:cubicBezTo>
                  <a:pt x="2915888" y="53340"/>
                  <a:pt x="2814320" y="58420"/>
                  <a:pt x="2712720" y="60960"/>
                </a:cubicBezTo>
                <a:cubicBezTo>
                  <a:pt x="2682240" y="63500"/>
                  <a:pt x="2651698" y="65378"/>
                  <a:pt x="2621280" y="68580"/>
                </a:cubicBezTo>
                <a:cubicBezTo>
                  <a:pt x="2603418" y="70460"/>
                  <a:pt x="2585791" y="74217"/>
                  <a:pt x="2567940" y="76200"/>
                </a:cubicBezTo>
                <a:cubicBezTo>
                  <a:pt x="2540056" y="79298"/>
                  <a:pt x="2512060" y="81280"/>
                  <a:pt x="2484120" y="83820"/>
                </a:cubicBezTo>
                <a:lnTo>
                  <a:pt x="2156460" y="76200"/>
                </a:lnTo>
                <a:lnTo>
                  <a:pt x="1653540" y="68580"/>
                </a:lnTo>
                <a:cubicBezTo>
                  <a:pt x="1606362" y="67269"/>
                  <a:pt x="1619117" y="61879"/>
                  <a:pt x="1584960" y="53340"/>
                </a:cubicBezTo>
                <a:cubicBezTo>
                  <a:pt x="1572395" y="50199"/>
                  <a:pt x="1559503" y="48530"/>
                  <a:pt x="1546860" y="45720"/>
                </a:cubicBezTo>
                <a:cubicBezTo>
                  <a:pt x="1536637" y="43448"/>
                  <a:pt x="1526584" y="40455"/>
                  <a:pt x="1516380" y="38100"/>
                </a:cubicBezTo>
                <a:lnTo>
                  <a:pt x="1447800" y="22860"/>
                </a:lnTo>
                <a:cubicBezTo>
                  <a:pt x="1343640" y="-1648"/>
                  <a:pt x="1426322" y="15516"/>
                  <a:pt x="1348740" y="0"/>
                </a:cubicBezTo>
                <a:lnTo>
                  <a:pt x="1021080" y="7620"/>
                </a:lnTo>
                <a:cubicBezTo>
                  <a:pt x="824159" y="15658"/>
                  <a:pt x="944880" y="20320"/>
                  <a:pt x="929640" y="2286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Freeform: Shape 162"/>
          <p:cNvSpPr/>
          <p:nvPr/>
        </p:nvSpPr>
        <p:spPr>
          <a:xfrm>
            <a:off x="4632480" y="1249200"/>
            <a:ext cx="2743200" cy="3992760"/>
          </a:xfrm>
          <a:custGeom>
            <a:avLst/>
            <a:gdLst/>
            <a:ahLst/>
            <a:rect l="l" t="t" r="r" b="b"/>
            <a:pathLst>
              <a:path w="2743200" h="3992880">
                <a:moveTo>
                  <a:pt x="2133600" y="152400"/>
                </a:moveTo>
                <a:lnTo>
                  <a:pt x="2133600" y="152400"/>
                </a:lnTo>
                <a:cubicBezTo>
                  <a:pt x="2115820" y="137160"/>
                  <a:pt x="2098821" y="120958"/>
                  <a:pt x="2080260" y="106680"/>
                </a:cubicBezTo>
                <a:cubicBezTo>
                  <a:pt x="2065742" y="95512"/>
                  <a:pt x="2047492" y="89152"/>
                  <a:pt x="2034540" y="76200"/>
                </a:cubicBezTo>
                <a:cubicBezTo>
                  <a:pt x="1998728" y="40388"/>
                  <a:pt x="2020646" y="59318"/>
                  <a:pt x="1965960" y="22860"/>
                </a:cubicBezTo>
                <a:cubicBezTo>
                  <a:pt x="1936417" y="3165"/>
                  <a:pt x="1951788" y="10516"/>
                  <a:pt x="1920240" y="0"/>
                </a:cubicBezTo>
                <a:cubicBezTo>
                  <a:pt x="1892300" y="2540"/>
                  <a:pt x="1863396" y="-87"/>
                  <a:pt x="1836420" y="7620"/>
                </a:cubicBezTo>
                <a:cubicBezTo>
                  <a:pt x="1826058" y="10580"/>
                  <a:pt x="1820176" y="21974"/>
                  <a:pt x="1813560" y="30480"/>
                </a:cubicBezTo>
                <a:cubicBezTo>
                  <a:pt x="1721818" y="148434"/>
                  <a:pt x="1813784" y="30078"/>
                  <a:pt x="1775460" y="99060"/>
                </a:cubicBezTo>
                <a:lnTo>
                  <a:pt x="1729740" y="167640"/>
                </a:lnTo>
                <a:lnTo>
                  <a:pt x="1714500" y="190500"/>
                </a:lnTo>
                <a:cubicBezTo>
                  <a:pt x="1709420" y="198120"/>
                  <a:pt x="1705736" y="206884"/>
                  <a:pt x="1699260" y="213360"/>
                </a:cubicBezTo>
                <a:cubicBezTo>
                  <a:pt x="1684020" y="228600"/>
                  <a:pt x="1665495" y="241147"/>
                  <a:pt x="1653540" y="259080"/>
                </a:cubicBezTo>
                <a:cubicBezTo>
                  <a:pt x="1643380" y="274320"/>
                  <a:pt x="1636012" y="291848"/>
                  <a:pt x="1623060" y="304800"/>
                </a:cubicBezTo>
                <a:lnTo>
                  <a:pt x="1577340" y="350520"/>
                </a:lnTo>
                <a:cubicBezTo>
                  <a:pt x="1569720" y="358140"/>
                  <a:pt x="1560458" y="364414"/>
                  <a:pt x="1554480" y="373380"/>
                </a:cubicBezTo>
                <a:cubicBezTo>
                  <a:pt x="1544320" y="388620"/>
                  <a:pt x="1539240" y="408940"/>
                  <a:pt x="1524000" y="419100"/>
                </a:cubicBezTo>
                <a:cubicBezTo>
                  <a:pt x="1467243" y="456938"/>
                  <a:pt x="1536952" y="408307"/>
                  <a:pt x="1478280" y="457200"/>
                </a:cubicBezTo>
                <a:cubicBezTo>
                  <a:pt x="1471245" y="463063"/>
                  <a:pt x="1462455" y="466577"/>
                  <a:pt x="1455420" y="472440"/>
                </a:cubicBezTo>
                <a:cubicBezTo>
                  <a:pt x="1417367" y="504151"/>
                  <a:pt x="1449874" y="489529"/>
                  <a:pt x="1409700" y="502920"/>
                </a:cubicBezTo>
                <a:lnTo>
                  <a:pt x="1295400" y="617220"/>
                </a:lnTo>
                <a:cubicBezTo>
                  <a:pt x="1287780" y="624840"/>
                  <a:pt x="1278518" y="631114"/>
                  <a:pt x="1272540" y="640080"/>
                </a:cubicBezTo>
                <a:cubicBezTo>
                  <a:pt x="1267460" y="647700"/>
                  <a:pt x="1263776" y="656464"/>
                  <a:pt x="1257300" y="662940"/>
                </a:cubicBezTo>
                <a:cubicBezTo>
                  <a:pt x="1250824" y="669416"/>
                  <a:pt x="1242060" y="673100"/>
                  <a:pt x="1234440" y="678180"/>
                </a:cubicBezTo>
                <a:cubicBezTo>
                  <a:pt x="1229360" y="685800"/>
                  <a:pt x="1225676" y="694564"/>
                  <a:pt x="1219200" y="701040"/>
                </a:cubicBezTo>
                <a:cubicBezTo>
                  <a:pt x="1212724" y="707516"/>
                  <a:pt x="1202061" y="709129"/>
                  <a:pt x="1196340" y="716280"/>
                </a:cubicBezTo>
                <a:cubicBezTo>
                  <a:pt x="1191322" y="722552"/>
                  <a:pt x="1193651" y="732800"/>
                  <a:pt x="1188720" y="739140"/>
                </a:cubicBezTo>
                <a:cubicBezTo>
                  <a:pt x="1175488" y="756153"/>
                  <a:pt x="1158240" y="769620"/>
                  <a:pt x="1143000" y="784860"/>
                </a:cubicBezTo>
                <a:cubicBezTo>
                  <a:pt x="1135380" y="792480"/>
                  <a:pt x="1126118" y="798754"/>
                  <a:pt x="1120140" y="807720"/>
                </a:cubicBezTo>
                <a:cubicBezTo>
                  <a:pt x="1115060" y="815340"/>
                  <a:pt x="1111376" y="824104"/>
                  <a:pt x="1104900" y="830580"/>
                </a:cubicBezTo>
                <a:cubicBezTo>
                  <a:pt x="1098424" y="837056"/>
                  <a:pt x="1089660" y="840740"/>
                  <a:pt x="1082040" y="845820"/>
                </a:cubicBezTo>
                <a:cubicBezTo>
                  <a:pt x="1041400" y="906780"/>
                  <a:pt x="1094740" y="833120"/>
                  <a:pt x="1043940" y="883920"/>
                </a:cubicBezTo>
                <a:cubicBezTo>
                  <a:pt x="993140" y="934720"/>
                  <a:pt x="1066800" y="881380"/>
                  <a:pt x="1005840" y="922020"/>
                </a:cubicBezTo>
                <a:cubicBezTo>
                  <a:pt x="995680" y="937260"/>
                  <a:pt x="988312" y="954788"/>
                  <a:pt x="975360" y="967740"/>
                </a:cubicBezTo>
                <a:cubicBezTo>
                  <a:pt x="960120" y="982980"/>
                  <a:pt x="941595" y="995527"/>
                  <a:pt x="929640" y="1013460"/>
                </a:cubicBezTo>
                <a:cubicBezTo>
                  <a:pt x="909320" y="1043940"/>
                  <a:pt x="922020" y="1031240"/>
                  <a:pt x="891540" y="1051560"/>
                </a:cubicBezTo>
                <a:cubicBezTo>
                  <a:pt x="850900" y="1112520"/>
                  <a:pt x="904240" y="1038860"/>
                  <a:pt x="853440" y="1089660"/>
                </a:cubicBezTo>
                <a:cubicBezTo>
                  <a:pt x="802640" y="1140460"/>
                  <a:pt x="876300" y="1087120"/>
                  <a:pt x="815340" y="1127760"/>
                </a:cubicBezTo>
                <a:cubicBezTo>
                  <a:pt x="783936" y="1174865"/>
                  <a:pt x="818804" y="1128915"/>
                  <a:pt x="777240" y="1165860"/>
                </a:cubicBezTo>
                <a:lnTo>
                  <a:pt x="708660" y="1234440"/>
                </a:lnTo>
                <a:cubicBezTo>
                  <a:pt x="701040" y="1242060"/>
                  <a:pt x="694766" y="1251322"/>
                  <a:pt x="685800" y="1257300"/>
                </a:cubicBezTo>
                <a:lnTo>
                  <a:pt x="662940" y="1272540"/>
                </a:lnTo>
                <a:cubicBezTo>
                  <a:pt x="652780" y="1270000"/>
                  <a:pt x="642933" y="1264920"/>
                  <a:pt x="632460" y="1264920"/>
                </a:cubicBezTo>
                <a:cubicBezTo>
                  <a:pt x="602791" y="1264920"/>
                  <a:pt x="611913" y="1277847"/>
                  <a:pt x="594360" y="1295400"/>
                </a:cubicBezTo>
                <a:cubicBezTo>
                  <a:pt x="587884" y="1301876"/>
                  <a:pt x="579120" y="1305560"/>
                  <a:pt x="571500" y="1310640"/>
                </a:cubicBezTo>
                <a:cubicBezTo>
                  <a:pt x="566420" y="1318260"/>
                  <a:pt x="562736" y="1327024"/>
                  <a:pt x="556260" y="1333500"/>
                </a:cubicBezTo>
                <a:cubicBezTo>
                  <a:pt x="549784" y="1339976"/>
                  <a:pt x="539121" y="1341589"/>
                  <a:pt x="533400" y="1348740"/>
                </a:cubicBezTo>
                <a:cubicBezTo>
                  <a:pt x="528382" y="1355012"/>
                  <a:pt x="530235" y="1364917"/>
                  <a:pt x="525780" y="1371600"/>
                </a:cubicBezTo>
                <a:cubicBezTo>
                  <a:pt x="519802" y="1380566"/>
                  <a:pt x="510540" y="1386840"/>
                  <a:pt x="502920" y="1394460"/>
                </a:cubicBezTo>
                <a:cubicBezTo>
                  <a:pt x="495283" y="1417371"/>
                  <a:pt x="496473" y="1420485"/>
                  <a:pt x="480060" y="1440180"/>
                </a:cubicBezTo>
                <a:cubicBezTo>
                  <a:pt x="473161" y="1448459"/>
                  <a:pt x="464099" y="1454761"/>
                  <a:pt x="457200" y="1463040"/>
                </a:cubicBezTo>
                <a:cubicBezTo>
                  <a:pt x="425450" y="1501140"/>
                  <a:pt x="461010" y="1473200"/>
                  <a:pt x="419100" y="1501140"/>
                </a:cubicBezTo>
                <a:cubicBezTo>
                  <a:pt x="414020" y="1511300"/>
                  <a:pt x="411132" y="1522894"/>
                  <a:pt x="403860" y="1531620"/>
                </a:cubicBezTo>
                <a:cubicBezTo>
                  <a:pt x="397997" y="1538655"/>
                  <a:pt x="387476" y="1540384"/>
                  <a:pt x="381000" y="1546860"/>
                </a:cubicBezTo>
                <a:cubicBezTo>
                  <a:pt x="374524" y="1553336"/>
                  <a:pt x="371623" y="1562685"/>
                  <a:pt x="365760" y="1569720"/>
                </a:cubicBezTo>
                <a:cubicBezTo>
                  <a:pt x="358861" y="1577999"/>
                  <a:pt x="349516" y="1584074"/>
                  <a:pt x="342900" y="1592580"/>
                </a:cubicBezTo>
                <a:cubicBezTo>
                  <a:pt x="331655" y="1607038"/>
                  <a:pt x="322580" y="1623060"/>
                  <a:pt x="312420" y="1638300"/>
                </a:cubicBezTo>
                <a:lnTo>
                  <a:pt x="281940" y="1684020"/>
                </a:lnTo>
                <a:lnTo>
                  <a:pt x="266700" y="1706880"/>
                </a:lnTo>
                <a:cubicBezTo>
                  <a:pt x="261620" y="1714500"/>
                  <a:pt x="257936" y="1723264"/>
                  <a:pt x="251460" y="1729740"/>
                </a:cubicBezTo>
                <a:lnTo>
                  <a:pt x="205740" y="1775460"/>
                </a:lnTo>
                <a:cubicBezTo>
                  <a:pt x="198120" y="1783080"/>
                  <a:pt x="188858" y="1789354"/>
                  <a:pt x="182880" y="1798320"/>
                </a:cubicBezTo>
                <a:cubicBezTo>
                  <a:pt x="128422" y="1880008"/>
                  <a:pt x="213230" y="1756033"/>
                  <a:pt x="144780" y="1844040"/>
                </a:cubicBezTo>
                <a:cubicBezTo>
                  <a:pt x="133535" y="1858498"/>
                  <a:pt x="124460" y="1874520"/>
                  <a:pt x="114300" y="1889760"/>
                </a:cubicBezTo>
                <a:cubicBezTo>
                  <a:pt x="109220" y="1897380"/>
                  <a:pt x="106680" y="1907540"/>
                  <a:pt x="99060" y="1912620"/>
                </a:cubicBezTo>
                <a:lnTo>
                  <a:pt x="76200" y="1927860"/>
                </a:lnTo>
                <a:cubicBezTo>
                  <a:pt x="32524" y="1993374"/>
                  <a:pt x="84888" y="1910484"/>
                  <a:pt x="53340" y="1973580"/>
                </a:cubicBezTo>
                <a:cubicBezTo>
                  <a:pt x="49244" y="1981771"/>
                  <a:pt x="41819" y="1988071"/>
                  <a:pt x="38100" y="1996440"/>
                </a:cubicBezTo>
                <a:cubicBezTo>
                  <a:pt x="31576" y="2011120"/>
                  <a:pt x="27940" y="2026920"/>
                  <a:pt x="22860" y="2042160"/>
                </a:cubicBezTo>
                <a:lnTo>
                  <a:pt x="15240" y="2065020"/>
                </a:lnTo>
                <a:cubicBezTo>
                  <a:pt x="12700" y="2072640"/>
                  <a:pt x="9568" y="2080088"/>
                  <a:pt x="7620" y="2087880"/>
                </a:cubicBezTo>
                <a:lnTo>
                  <a:pt x="0" y="2118360"/>
                </a:lnTo>
                <a:cubicBezTo>
                  <a:pt x="2540" y="2153920"/>
                  <a:pt x="3455" y="2189634"/>
                  <a:pt x="7620" y="2225040"/>
                </a:cubicBezTo>
                <a:cubicBezTo>
                  <a:pt x="10567" y="2250086"/>
                  <a:pt x="19415" y="2248630"/>
                  <a:pt x="30480" y="2270760"/>
                </a:cubicBezTo>
                <a:cubicBezTo>
                  <a:pt x="34072" y="2277944"/>
                  <a:pt x="34199" y="2286599"/>
                  <a:pt x="38100" y="2293620"/>
                </a:cubicBezTo>
                <a:cubicBezTo>
                  <a:pt x="64247" y="2340685"/>
                  <a:pt x="58046" y="2332318"/>
                  <a:pt x="91440" y="2354580"/>
                </a:cubicBezTo>
                <a:cubicBezTo>
                  <a:pt x="132080" y="2415540"/>
                  <a:pt x="78740" y="2341880"/>
                  <a:pt x="129540" y="2392680"/>
                </a:cubicBezTo>
                <a:cubicBezTo>
                  <a:pt x="136016" y="2399156"/>
                  <a:pt x="138917" y="2408505"/>
                  <a:pt x="144780" y="2415540"/>
                </a:cubicBezTo>
                <a:cubicBezTo>
                  <a:pt x="151679" y="2423819"/>
                  <a:pt x="160741" y="2430121"/>
                  <a:pt x="167640" y="2438400"/>
                </a:cubicBezTo>
                <a:cubicBezTo>
                  <a:pt x="199390" y="2476500"/>
                  <a:pt x="163830" y="2448560"/>
                  <a:pt x="205740" y="2476500"/>
                </a:cubicBezTo>
                <a:lnTo>
                  <a:pt x="236220" y="2522220"/>
                </a:lnTo>
                <a:cubicBezTo>
                  <a:pt x="241300" y="2529840"/>
                  <a:pt x="247364" y="2536889"/>
                  <a:pt x="251460" y="2545080"/>
                </a:cubicBezTo>
                <a:cubicBezTo>
                  <a:pt x="256540" y="2555240"/>
                  <a:pt x="260098" y="2566317"/>
                  <a:pt x="266700" y="2575560"/>
                </a:cubicBezTo>
                <a:cubicBezTo>
                  <a:pt x="294787" y="2614882"/>
                  <a:pt x="284643" y="2580967"/>
                  <a:pt x="304800" y="2621280"/>
                </a:cubicBezTo>
                <a:cubicBezTo>
                  <a:pt x="308392" y="2628464"/>
                  <a:pt x="308828" y="2636956"/>
                  <a:pt x="312420" y="2644140"/>
                </a:cubicBezTo>
                <a:cubicBezTo>
                  <a:pt x="316516" y="2652331"/>
                  <a:pt x="323564" y="2658809"/>
                  <a:pt x="327660" y="2667000"/>
                </a:cubicBezTo>
                <a:cubicBezTo>
                  <a:pt x="364942" y="2741565"/>
                  <a:pt x="322832" y="2674998"/>
                  <a:pt x="358140" y="2727960"/>
                </a:cubicBezTo>
                <a:cubicBezTo>
                  <a:pt x="370202" y="2776209"/>
                  <a:pt x="359951" y="2749726"/>
                  <a:pt x="396240" y="2804160"/>
                </a:cubicBezTo>
                <a:cubicBezTo>
                  <a:pt x="401320" y="2811780"/>
                  <a:pt x="405004" y="2820544"/>
                  <a:pt x="411480" y="2827020"/>
                </a:cubicBezTo>
                <a:cubicBezTo>
                  <a:pt x="419100" y="2834640"/>
                  <a:pt x="428076" y="2841111"/>
                  <a:pt x="434340" y="2849880"/>
                </a:cubicBezTo>
                <a:cubicBezTo>
                  <a:pt x="464405" y="2891971"/>
                  <a:pt x="432583" y="2878603"/>
                  <a:pt x="480060" y="2926080"/>
                </a:cubicBezTo>
                <a:lnTo>
                  <a:pt x="548640" y="2994660"/>
                </a:lnTo>
                <a:cubicBezTo>
                  <a:pt x="556260" y="3002280"/>
                  <a:pt x="565522" y="3008554"/>
                  <a:pt x="571500" y="3017520"/>
                </a:cubicBezTo>
                <a:cubicBezTo>
                  <a:pt x="587177" y="3041036"/>
                  <a:pt x="586783" y="3043683"/>
                  <a:pt x="609600" y="3063240"/>
                </a:cubicBezTo>
                <a:cubicBezTo>
                  <a:pt x="640206" y="3089474"/>
                  <a:pt x="660147" y="3093340"/>
                  <a:pt x="685800" y="3131820"/>
                </a:cubicBezTo>
                <a:cubicBezTo>
                  <a:pt x="721716" y="3185694"/>
                  <a:pt x="676642" y="3118999"/>
                  <a:pt x="723900" y="3185160"/>
                </a:cubicBezTo>
                <a:cubicBezTo>
                  <a:pt x="729223" y="3192612"/>
                  <a:pt x="735044" y="3199829"/>
                  <a:pt x="739140" y="3208020"/>
                </a:cubicBezTo>
                <a:cubicBezTo>
                  <a:pt x="742732" y="3215204"/>
                  <a:pt x="743168" y="3223696"/>
                  <a:pt x="746760" y="3230880"/>
                </a:cubicBezTo>
                <a:cubicBezTo>
                  <a:pt x="750856" y="3239071"/>
                  <a:pt x="757456" y="3245789"/>
                  <a:pt x="762000" y="3253740"/>
                </a:cubicBezTo>
                <a:cubicBezTo>
                  <a:pt x="767636" y="3263603"/>
                  <a:pt x="770638" y="3274977"/>
                  <a:pt x="777240" y="3284220"/>
                </a:cubicBezTo>
                <a:cubicBezTo>
                  <a:pt x="783504" y="3292989"/>
                  <a:pt x="793201" y="3298801"/>
                  <a:pt x="800100" y="3307080"/>
                </a:cubicBezTo>
                <a:cubicBezTo>
                  <a:pt x="831850" y="3345180"/>
                  <a:pt x="796290" y="3317240"/>
                  <a:pt x="838200" y="3345180"/>
                </a:cubicBezTo>
                <a:cubicBezTo>
                  <a:pt x="878840" y="3406140"/>
                  <a:pt x="825500" y="3332480"/>
                  <a:pt x="876300" y="3383280"/>
                </a:cubicBezTo>
                <a:cubicBezTo>
                  <a:pt x="927100" y="3434080"/>
                  <a:pt x="853440" y="3380740"/>
                  <a:pt x="914400" y="3421380"/>
                </a:cubicBezTo>
                <a:cubicBezTo>
                  <a:pt x="941595" y="3462173"/>
                  <a:pt x="923164" y="3437764"/>
                  <a:pt x="975360" y="3489960"/>
                </a:cubicBezTo>
                <a:cubicBezTo>
                  <a:pt x="982980" y="3497580"/>
                  <a:pt x="989254" y="3506842"/>
                  <a:pt x="998220" y="3512820"/>
                </a:cubicBezTo>
                <a:cubicBezTo>
                  <a:pt x="1005840" y="3517900"/>
                  <a:pt x="1014045" y="3522197"/>
                  <a:pt x="1021080" y="3528060"/>
                </a:cubicBezTo>
                <a:cubicBezTo>
                  <a:pt x="1079752" y="3576953"/>
                  <a:pt x="1010043" y="3528322"/>
                  <a:pt x="1066800" y="3566160"/>
                </a:cubicBezTo>
                <a:cubicBezTo>
                  <a:pt x="1107440" y="3627120"/>
                  <a:pt x="1054100" y="3553460"/>
                  <a:pt x="1104900" y="3604260"/>
                </a:cubicBezTo>
                <a:cubicBezTo>
                  <a:pt x="1111376" y="3610736"/>
                  <a:pt x="1113248" y="3621089"/>
                  <a:pt x="1120140" y="3627120"/>
                </a:cubicBezTo>
                <a:lnTo>
                  <a:pt x="1188720" y="3672840"/>
                </a:lnTo>
                <a:cubicBezTo>
                  <a:pt x="1196340" y="3677920"/>
                  <a:pt x="1205104" y="3681604"/>
                  <a:pt x="1211580" y="3688080"/>
                </a:cubicBezTo>
                <a:cubicBezTo>
                  <a:pt x="1247392" y="3723892"/>
                  <a:pt x="1225474" y="3704962"/>
                  <a:pt x="1280160" y="3741420"/>
                </a:cubicBezTo>
                <a:lnTo>
                  <a:pt x="1371600" y="3802380"/>
                </a:lnTo>
                <a:lnTo>
                  <a:pt x="1440180" y="3848100"/>
                </a:lnTo>
                <a:cubicBezTo>
                  <a:pt x="1447800" y="3853180"/>
                  <a:pt x="1454155" y="3861119"/>
                  <a:pt x="1463040" y="3863340"/>
                </a:cubicBezTo>
                <a:lnTo>
                  <a:pt x="1493520" y="3870960"/>
                </a:lnTo>
                <a:cubicBezTo>
                  <a:pt x="1501140" y="3876040"/>
                  <a:pt x="1508011" y="3882481"/>
                  <a:pt x="1516380" y="3886200"/>
                </a:cubicBezTo>
                <a:cubicBezTo>
                  <a:pt x="1531060" y="3892724"/>
                  <a:pt x="1548734" y="3892529"/>
                  <a:pt x="1562100" y="3901440"/>
                </a:cubicBezTo>
                <a:cubicBezTo>
                  <a:pt x="1569720" y="3906520"/>
                  <a:pt x="1576769" y="3912584"/>
                  <a:pt x="1584960" y="3916680"/>
                </a:cubicBezTo>
                <a:cubicBezTo>
                  <a:pt x="1592144" y="3920272"/>
                  <a:pt x="1600799" y="3920399"/>
                  <a:pt x="1607820" y="3924300"/>
                </a:cubicBezTo>
                <a:cubicBezTo>
                  <a:pt x="1623831" y="3933195"/>
                  <a:pt x="1636164" y="3948988"/>
                  <a:pt x="1653540" y="3954780"/>
                </a:cubicBezTo>
                <a:lnTo>
                  <a:pt x="1722120" y="3977640"/>
                </a:lnTo>
                <a:lnTo>
                  <a:pt x="1744980" y="3985260"/>
                </a:lnTo>
                <a:lnTo>
                  <a:pt x="1767840" y="3992880"/>
                </a:lnTo>
                <a:cubicBezTo>
                  <a:pt x="1781607" y="3991350"/>
                  <a:pt x="1843803" y="3987539"/>
                  <a:pt x="1866900" y="3977640"/>
                </a:cubicBezTo>
                <a:cubicBezTo>
                  <a:pt x="1875318" y="3974032"/>
                  <a:pt x="1882140" y="3967480"/>
                  <a:pt x="1889760" y="3962400"/>
                </a:cubicBezTo>
                <a:cubicBezTo>
                  <a:pt x="1935814" y="3870292"/>
                  <a:pt x="1877158" y="3984453"/>
                  <a:pt x="1920240" y="3909060"/>
                </a:cubicBezTo>
                <a:cubicBezTo>
                  <a:pt x="1925876" y="3899197"/>
                  <a:pt x="1929460" y="3888213"/>
                  <a:pt x="1935480" y="3878580"/>
                </a:cubicBezTo>
                <a:cubicBezTo>
                  <a:pt x="1944109" y="3864774"/>
                  <a:pt x="1965520" y="3841360"/>
                  <a:pt x="1973580" y="3825240"/>
                </a:cubicBezTo>
                <a:cubicBezTo>
                  <a:pt x="1979982" y="3812436"/>
                  <a:pt x="1985158" y="3784107"/>
                  <a:pt x="1988820" y="3771900"/>
                </a:cubicBezTo>
                <a:cubicBezTo>
                  <a:pt x="1993436" y="3756513"/>
                  <a:pt x="2000164" y="3741765"/>
                  <a:pt x="2004060" y="3726180"/>
                </a:cubicBezTo>
                <a:cubicBezTo>
                  <a:pt x="2006600" y="3716020"/>
                  <a:pt x="2008803" y="3705770"/>
                  <a:pt x="2011680" y="3695700"/>
                </a:cubicBezTo>
                <a:cubicBezTo>
                  <a:pt x="2013887" y="3687977"/>
                  <a:pt x="2017352" y="3680632"/>
                  <a:pt x="2019300" y="3672840"/>
                </a:cubicBezTo>
                <a:cubicBezTo>
                  <a:pt x="2022441" y="3660275"/>
                  <a:pt x="2024110" y="3647383"/>
                  <a:pt x="2026920" y="3634740"/>
                </a:cubicBezTo>
                <a:cubicBezTo>
                  <a:pt x="2029192" y="3624517"/>
                  <a:pt x="2032268" y="3614483"/>
                  <a:pt x="2034540" y="3604260"/>
                </a:cubicBezTo>
                <a:cubicBezTo>
                  <a:pt x="2037350" y="3591617"/>
                  <a:pt x="2039019" y="3578725"/>
                  <a:pt x="2042160" y="3566160"/>
                </a:cubicBezTo>
                <a:cubicBezTo>
                  <a:pt x="2049308" y="3537568"/>
                  <a:pt x="2051935" y="3543351"/>
                  <a:pt x="2065020" y="3512820"/>
                </a:cubicBezTo>
                <a:cubicBezTo>
                  <a:pt x="2068184" y="3505437"/>
                  <a:pt x="2069820" y="3497481"/>
                  <a:pt x="2072640" y="3489960"/>
                </a:cubicBezTo>
                <a:cubicBezTo>
                  <a:pt x="2077443" y="3477153"/>
                  <a:pt x="2082800" y="3464560"/>
                  <a:pt x="2087880" y="3451860"/>
                </a:cubicBezTo>
                <a:cubicBezTo>
                  <a:pt x="2090420" y="3436620"/>
                  <a:pt x="2091435" y="3421046"/>
                  <a:pt x="2095500" y="3406140"/>
                </a:cubicBezTo>
                <a:cubicBezTo>
                  <a:pt x="2099099" y="3392944"/>
                  <a:pt x="2106066" y="3380895"/>
                  <a:pt x="2110740" y="3368040"/>
                </a:cubicBezTo>
                <a:cubicBezTo>
                  <a:pt x="2116230" y="3352943"/>
                  <a:pt x="2120014" y="3337235"/>
                  <a:pt x="2125980" y="3322320"/>
                </a:cubicBezTo>
                <a:cubicBezTo>
                  <a:pt x="2136140" y="3296920"/>
                  <a:pt x="2151095" y="3272945"/>
                  <a:pt x="2156460" y="3246120"/>
                </a:cubicBezTo>
                <a:cubicBezTo>
                  <a:pt x="2159000" y="3233420"/>
                  <a:pt x="2160672" y="3220515"/>
                  <a:pt x="2164080" y="3208020"/>
                </a:cubicBezTo>
                <a:cubicBezTo>
                  <a:pt x="2174753" y="3168887"/>
                  <a:pt x="2180926" y="3160558"/>
                  <a:pt x="2194560" y="3124200"/>
                </a:cubicBezTo>
                <a:cubicBezTo>
                  <a:pt x="2208081" y="3088145"/>
                  <a:pt x="2194299" y="3113162"/>
                  <a:pt x="2217420" y="3078480"/>
                </a:cubicBezTo>
                <a:cubicBezTo>
                  <a:pt x="2219960" y="3068320"/>
                  <a:pt x="2220915" y="3057626"/>
                  <a:pt x="2225040" y="3048000"/>
                </a:cubicBezTo>
                <a:cubicBezTo>
                  <a:pt x="2235056" y="3024629"/>
                  <a:pt x="2246985" y="3021666"/>
                  <a:pt x="2263140" y="3002280"/>
                </a:cubicBezTo>
                <a:cubicBezTo>
                  <a:pt x="2269003" y="2995245"/>
                  <a:pt x="2274284" y="2987611"/>
                  <a:pt x="2278380" y="2979420"/>
                </a:cubicBezTo>
                <a:cubicBezTo>
                  <a:pt x="2281972" y="2972236"/>
                  <a:pt x="2282099" y="2963581"/>
                  <a:pt x="2286000" y="2956560"/>
                </a:cubicBezTo>
                <a:cubicBezTo>
                  <a:pt x="2294895" y="2940549"/>
                  <a:pt x="2306320" y="2926080"/>
                  <a:pt x="2316480" y="2910840"/>
                </a:cubicBezTo>
                <a:lnTo>
                  <a:pt x="2331720" y="2887980"/>
                </a:lnTo>
                <a:cubicBezTo>
                  <a:pt x="2336800" y="2880360"/>
                  <a:pt x="2341465" y="2872446"/>
                  <a:pt x="2346960" y="2865120"/>
                </a:cubicBezTo>
                <a:cubicBezTo>
                  <a:pt x="2354580" y="2854960"/>
                  <a:pt x="2360840" y="2843620"/>
                  <a:pt x="2369820" y="2834640"/>
                </a:cubicBezTo>
                <a:cubicBezTo>
                  <a:pt x="2376296" y="2828164"/>
                  <a:pt x="2385060" y="2824480"/>
                  <a:pt x="2392680" y="2819400"/>
                </a:cubicBezTo>
                <a:cubicBezTo>
                  <a:pt x="2410151" y="2766986"/>
                  <a:pt x="2386254" y="2830645"/>
                  <a:pt x="2423160" y="2766060"/>
                </a:cubicBezTo>
                <a:cubicBezTo>
                  <a:pt x="2427145" y="2759086"/>
                  <a:pt x="2427188" y="2750384"/>
                  <a:pt x="2430780" y="2743200"/>
                </a:cubicBezTo>
                <a:cubicBezTo>
                  <a:pt x="2434876" y="2735009"/>
                  <a:pt x="2442498" y="2728794"/>
                  <a:pt x="2446020" y="2720340"/>
                </a:cubicBezTo>
                <a:cubicBezTo>
                  <a:pt x="2455288" y="2698097"/>
                  <a:pt x="2458104" y="2673313"/>
                  <a:pt x="2468880" y="2651760"/>
                </a:cubicBezTo>
                <a:lnTo>
                  <a:pt x="2506980" y="2575560"/>
                </a:lnTo>
                <a:cubicBezTo>
                  <a:pt x="2512060" y="2565400"/>
                  <a:pt x="2515919" y="2554531"/>
                  <a:pt x="2522220" y="2545080"/>
                </a:cubicBezTo>
                <a:cubicBezTo>
                  <a:pt x="2527300" y="2537460"/>
                  <a:pt x="2533364" y="2530411"/>
                  <a:pt x="2537460" y="2522220"/>
                </a:cubicBezTo>
                <a:cubicBezTo>
                  <a:pt x="2541052" y="2515036"/>
                  <a:pt x="2541179" y="2506381"/>
                  <a:pt x="2545080" y="2499360"/>
                </a:cubicBezTo>
                <a:cubicBezTo>
                  <a:pt x="2594086" y="2411149"/>
                  <a:pt x="2555226" y="2486316"/>
                  <a:pt x="2598420" y="2430780"/>
                </a:cubicBezTo>
                <a:cubicBezTo>
                  <a:pt x="2646289" y="2369234"/>
                  <a:pt x="2607505" y="2399323"/>
                  <a:pt x="2651760" y="2369820"/>
                </a:cubicBezTo>
                <a:cubicBezTo>
                  <a:pt x="2656840" y="2362200"/>
                  <a:pt x="2660524" y="2353436"/>
                  <a:pt x="2667000" y="2346960"/>
                </a:cubicBezTo>
                <a:cubicBezTo>
                  <a:pt x="2673476" y="2340484"/>
                  <a:pt x="2685006" y="2339486"/>
                  <a:pt x="2689860" y="2331720"/>
                </a:cubicBezTo>
                <a:cubicBezTo>
                  <a:pt x="2700222" y="2315141"/>
                  <a:pt x="2706543" y="2276110"/>
                  <a:pt x="2712720" y="2255520"/>
                </a:cubicBezTo>
                <a:cubicBezTo>
                  <a:pt x="2717336" y="2240133"/>
                  <a:pt x="2724064" y="2225385"/>
                  <a:pt x="2727960" y="2209800"/>
                </a:cubicBezTo>
                <a:lnTo>
                  <a:pt x="2743200" y="2148840"/>
                </a:lnTo>
                <a:cubicBezTo>
                  <a:pt x="2740660" y="2085340"/>
                  <a:pt x="2740108" y="2021729"/>
                  <a:pt x="2735580" y="1958340"/>
                </a:cubicBezTo>
                <a:cubicBezTo>
                  <a:pt x="2735008" y="1950328"/>
                  <a:pt x="2730167" y="1943203"/>
                  <a:pt x="2727960" y="1935480"/>
                </a:cubicBezTo>
                <a:cubicBezTo>
                  <a:pt x="2725083" y="1925410"/>
                  <a:pt x="2724465" y="1914626"/>
                  <a:pt x="2720340" y="1905000"/>
                </a:cubicBezTo>
                <a:cubicBezTo>
                  <a:pt x="2716732" y="1896582"/>
                  <a:pt x="2710180" y="1889760"/>
                  <a:pt x="2705100" y="1882140"/>
                </a:cubicBezTo>
                <a:cubicBezTo>
                  <a:pt x="2687639" y="1812295"/>
                  <a:pt x="2701478" y="1838608"/>
                  <a:pt x="2674620" y="1798320"/>
                </a:cubicBezTo>
                <a:cubicBezTo>
                  <a:pt x="2672080" y="1785620"/>
                  <a:pt x="2669129" y="1772995"/>
                  <a:pt x="2667000" y="1760220"/>
                </a:cubicBezTo>
                <a:cubicBezTo>
                  <a:pt x="2664047" y="1742504"/>
                  <a:pt x="2662593" y="1724551"/>
                  <a:pt x="2659380" y="1706880"/>
                </a:cubicBezTo>
                <a:cubicBezTo>
                  <a:pt x="2649878" y="1654618"/>
                  <a:pt x="2655021" y="1697065"/>
                  <a:pt x="2644140" y="1653540"/>
                </a:cubicBezTo>
                <a:cubicBezTo>
                  <a:pt x="2640999" y="1640975"/>
                  <a:pt x="2641879" y="1627231"/>
                  <a:pt x="2636520" y="1615440"/>
                </a:cubicBezTo>
                <a:cubicBezTo>
                  <a:pt x="2628941" y="1598766"/>
                  <a:pt x="2616200" y="1584960"/>
                  <a:pt x="2606040" y="1569720"/>
                </a:cubicBezTo>
                <a:cubicBezTo>
                  <a:pt x="2600960" y="1562100"/>
                  <a:pt x="2593696" y="1555548"/>
                  <a:pt x="2590800" y="1546860"/>
                </a:cubicBezTo>
                <a:cubicBezTo>
                  <a:pt x="2580284" y="1515312"/>
                  <a:pt x="2587635" y="1530683"/>
                  <a:pt x="2567940" y="1501140"/>
                </a:cubicBezTo>
                <a:cubicBezTo>
                  <a:pt x="2565499" y="1491374"/>
                  <a:pt x="2558166" y="1458732"/>
                  <a:pt x="2552700" y="1447800"/>
                </a:cubicBezTo>
                <a:cubicBezTo>
                  <a:pt x="2548604" y="1439609"/>
                  <a:pt x="2542540" y="1432560"/>
                  <a:pt x="2537460" y="1424940"/>
                </a:cubicBezTo>
                <a:cubicBezTo>
                  <a:pt x="2532380" y="1404620"/>
                  <a:pt x="2531587" y="1382714"/>
                  <a:pt x="2522220" y="1363980"/>
                </a:cubicBezTo>
                <a:cubicBezTo>
                  <a:pt x="2517140" y="1353820"/>
                  <a:pt x="2510968" y="1344136"/>
                  <a:pt x="2506980" y="1333500"/>
                </a:cubicBezTo>
                <a:cubicBezTo>
                  <a:pt x="2503303" y="1323694"/>
                  <a:pt x="2502237" y="1313090"/>
                  <a:pt x="2499360" y="1303020"/>
                </a:cubicBezTo>
                <a:cubicBezTo>
                  <a:pt x="2497153" y="1295297"/>
                  <a:pt x="2493688" y="1287952"/>
                  <a:pt x="2491740" y="1280160"/>
                </a:cubicBezTo>
                <a:cubicBezTo>
                  <a:pt x="2488599" y="1267595"/>
                  <a:pt x="2487261" y="1254625"/>
                  <a:pt x="2484120" y="1242060"/>
                </a:cubicBezTo>
                <a:cubicBezTo>
                  <a:pt x="2482172" y="1234268"/>
                  <a:pt x="2478707" y="1226923"/>
                  <a:pt x="2476500" y="1219200"/>
                </a:cubicBezTo>
                <a:cubicBezTo>
                  <a:pt x="2473623" y="1209130"/>
                  <a:pt x="2471757" y="1198790"/>
                  <a:pt x="2468880" y="1188720"/>
                </a:cubicBezTo>
                <a:cubicBezTo>
                  <a:pt x="2458179" y="1151267"/>
                  <a:pt x="2462124" y="1176071"/>
                  <a:pt x="2446020" y="1127760"/>
                </a:cubicBezTo>
                <a:cubicBezTo>
                  <a:pt x="2442708" y="1117825"/>
                  <a:pt x="2440672" y="1107503"/>
                  <a:pt x="2438400" y="1097280"/>
                </a:cubicBezTo>
                <a:cubicBezTo>
                  <a:pt x="2435590" y="1084637"/>
                  <a:pt x="2434876" y="1071467"/>
                  <a:pt x="2430780" y="1059180"/>
                </a:cubicBezTo>
                <a:cubicBezTo>
                  <a:pt x="2427188" y="1048404"/>
                  <a:pt x="2419528" y="1039336"/>
                  <a:pt x="2415540" y="1028700"/>
                </a:cubicBezTo>
                <a:cubicBezTo>
                  <a:pt x="2411863" y="1018894"/>
                  <a:pt x="2410797" y="1008290"/>
                  <a:pt x="2407920" y="998220"/>
                </a:cubicBezTo>
                <a:cubicBezTo>
                  <a:pt x="2405713" y="990497"/>
                  <a:pt x="2402840" y="982980"/>
                  <a:pt x="2400300" y="975360"/>
                </a:cubicBezTo>
                <a:cubicBezTo>
                  <a:pt x="2397760" y="957580"/>
                  <a:pt x="2394259" y="939911"/>
                  <a:pt x="2392680" y="922020"/>
                </a:cubicBezTo>
                <a:cubicBezTo>
                  <a:pt x="2378377" y="759917"/>
                  <a:pt x="2384153" y="762360"/>
                  <a:pt x="2369820" y="647700"/>
                </a:cubicBezTo>
                <a:cubicBezTo>
                  <a:pt x="2368612" y="638032"/>
                  <a:pt x="2357758" y="561351"/>
                  <a:pt x="2354580" y="548640"/>
                </a:cubicBezTo>
                <a:cubicBezTo>
                  <a:pt x="2350684" y="533055"/>
                  <a:pt x="2348251" y="516286"/>
                  <a:pt x="2339340" y="502920"/>
                </a:cubicBezTo>
                <a:lnTo>
                  <a:pt x="2308860" y="457200"/>
                </a:lnTo>
                <a:cubicBezTo>
                  <a:pt x="2303780" y="449580"/>
                  <a:pt x="2296516" y="443028"/>
                  <a:pt x="2293620" y="434340"/>
                </a:cubicBezTo>
                <a:cubicBezTo>
                  <a:pt x="2274467" y="376881"/>
                  <a:pt x="2300303" y="447706"/>
                  <a:pt x="2270760" y="388620"/>
                </a:cubicBezTo>
                <a:cubicBezTo>
                  <a:pt x="2267168" y="381436"/>
                  <a:pt x="2267041" y="372781"/>
                  <a:pt x="2263140" y="365760"/>
                </a:cubicBezTo>
                <a:cubicBezTo>
                  <a:pt x="2254245" y="349749"/>
                  <a:pt x="2242820" y="335280"/>
                  <a:pt x="2232660" y="320040"/>
                </a:cubicBezTo>
                <a:cubicBezTo>
                  <a:pt x="2227580" y="312420"/>
                  <a:pt x="2225040" y="302260"/>
                  <a:pt x="2217420" y="297180"/>
                </a:cubicBezTo>
                <a:lnTo>
                  <a:pt x="2194560" y="281940"/>
                </a:lnTo>
                <a:cubicBezTo>
                  <a:pt x="2153920" y="220980"/>
                  <a:pt x="2207260" y="294640"/>
                  <a:pt x="2156460" y="243840"/>
                </a:cubicBezTo>
                <a:cubicBezTo>
                  <a:pt x="2149984" y="237364"/>
                  <a:pt x="2145316" y="229171"/>
                  <a:pt x="2141220" y="220980"/>
                </a:cubicBezTo>
                <a:cubicBezTo>
                  <a:pt x="2137628" y="213796"/>
                  <a:pt x="2139280" y="203800"/>
                  <a:pt x="2133600" y="198120"/>
                </a:cubicBezTo>
                <a:lnTo>
                  <a:pt x="2133600" y="152400"/>
                </a:lnTo>
                <a:close/>
              </a:path>
            </a:pathLst>
          </a:custGeom>
          <a:no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Freeform: Shape 163"/>
          <p:cNvSpPr/>
          <p:nvPr/>
        </p:nvSpPr>
        <p:spPr>
          <a:xfrm>
            <a:off x="2689200" y="3200400"/>
            <a:ext cx="3940200" cy="2925720"/>
          </a:xfrm>
          <a:custGeom>
            <a:avLst/>
            <a:gdLst/>
            <a:ahLst/>
            <a:rect l="l" t="t" r="r" b="b"/>
            <a:pathLst>
              <a:path w="3939540" h="2926080">
                <a:moveTo>
                  <a:pt x="3604260" y="2164080"/>
                </a:moveTo>
                <a:lnTo>
                  <a:pt x="3604260" y="2164080"/>
                </a:lnTo>
                <a:cubicBezTo>
                  <a:pt x="3589020" y="2181860"/>
                  <a:pt x="3573169" y="2199134"/>
                  <a:pt x="3558540" y="2217420"/>
                </a:cubicBezTo>
                <a:cubicBezTo>
                  <a:pt x="3552819" y="2224571"/>
                  <a:pt x="3550192" y="2234249"/>
                  <a:pt x="3543300" y="2240280"/>
                </a:cubicBezTo>
                <a:cubicBezTo>
                  <a:pt x="3529516" y="2252341"/>
                  <a:pt x="3512820" y="2260600"/>
                  <a:pt x="3497580" y="2270760"/>
                </a:cubicBezTo>
                <a:cubicBezTo>
                  <a:pt x="3489960" y="2275840"/>
                  <a:pt x="3481196" y="2279524"/>
                  <a:pt x="3474720" y="2286000"/>
                </a:cubicBezTo>
                <a:cubicBezTo>
                  <a:pt x="3459480" y="2301240"/>
                  <a:pt x="3448277" y="2322081"/>
                  <a:pt x="3429000" y="2331720"/>
                </a:cubicBezTo>
                <a:cubicBezTo>
                  <a:pt x="3418840" y="2336800"/>
                  <a:pt x="3408961" y="2342485"/>
                  <a:pt x="3398520" y="2346960"/>
                </a:cubicBezTo>
                <a:cubicBezTo>
                  <a:pt x="3391137" y="2350124"/>
                  <a:pt x="3383181" y="2351760"/>
                  <a:pt x="3375660" y="2354580"/>
                </a:cubicBezTo>
                <a:cubicBezTo>
                  <a:pt x="3362853" y="2359383"/>
                  <a:pt x="3350415" y="2365146"/>
                  <a:pt x="3337560" y="2369820"/>
                </a:cubicBezTo>
                <a:cubicBezTo>
                  <a:pt x="3322463" y="2375310"/>
                  <a:pt x="3306208" y="2377876"/>
                  <a:pt x="3291840" y="2385060"/>
                </a:cubicBezTo>
                <a:cubicBezTo>
                  <a:pt x="3281680" y="2390140"/>
                  <a:pt x="3271100" y="2394456"/>
                  <a:pt x="3261360" y="2400300"/>
                </a:cubicBezTo>
                <a:cubicBezTo>
                  <a:pt x="3245654" y="2409724"/>
                  <a:pt x="3231093" y="2420946"/>
                  <a:pt x="3215640" y="2430780"/>
                </a:cubicBezTo>
                <a:cubicBezTo>
                  <a:pt x="3195770" y="2443425"/>
                  <a:pt x="3169335" y="2459334"/>
                  <a:pt x="3147060" y="2468880"/>
                </a:cubicBezTo>
                <a:cubicBezTo>
                  <a:pt x="3128790" y="2476710"/>
                  <a:pt x="3113054" y="2478596"/>
                  <a:pt x="3093720" y="2484120"/>
                </a:cubicBezTo>
                <a:cubicBezTo>
                  <a:pt x="3085997" y="2486327"/>
                  <a:pt x="3078044" y="2488148"/>
                  <a:pt x="3070860" y="2491740"/>
                </a:cubicBezTo>
                <a:cubicBezTo>
                  <a:pt x="3043914" y="2505213"/>
                  <a:pt x="3048733" y="2509617"/>
                  <a:pt x="3025140" y="2529840"/>
                </a:cubicBezTo>
                <a:cubicBezTo>
                  <a:pt x="3015497" y="2538105"/>
                  <a:pt x="3005762" y="2546532"/>
                  <a:pt x="2994660" y="2552700"/>
                </a:cubicBezTo>
                <a:cubicBezTo>
                  <a:pt x="2974269" y="2564028"/>
                  <a:pt x="2954758" y="2567663"/>
                  <a:pt x="2933700" y="2575560"/>
                </a:cubicBezTo>
                <a:cubicBezTo>
                  <a:pt x="2876414" y="2597042"/>
                  <a:pt x="2915793" y="2586761"/>
                  <a:pt x="2857500" y="2598420"/>
                </a:cubicBezTo>
                <a:cubicBezTo>
                  <a:pt x="2837180" y="2608580"/>
                  <a:pt x="2815443" y="2616298"/>
                  <a:pt x="2796540" y="2628900"/>
                </a:cubicBezTo>
                <a:cubicBezTo>
                  <a:pt x="2781300" y="2639060"/>
                  <a:pt x="2765473" y="2648390"/>
                  <a:pt x="2750820" y="2659380"/>
                </a:cubicBezTo>
                <a:cubicBezTo>
                  <a:pt x="2740660" y="2667000"/>
                  <a:pt x="2731367" y="2675939"/>
                  <a:pt x="2720340" y="2682240"/>
                </a:cubicBezTo>
                <a:cubicBezTo>
                  <a:pt x="2713366" y="2686225"/>
                  <a:pt x="2704863" y="2686696"/>
                  <a:pt x="2697480" y="2689860"/>
                </a:cubicBezTo>
                <a:cubicBezTo>
                  <a:pt x="2642271" y="2713521"/>
                  <a:pt x="2693126" y="2699875"/>
                  <a:pt x="2628900" y="2712720"/>
                </a:cubicBezTo>
                <a:cubicBezTo>
                  <a:pt x="2601807" y="2726267"/>
                  <a:pt x="2601722" y="2728105"/>
                  <a:pt x="2575560" y="2735580"/>
                </a:cubicBezTo>
                <a:cubicBezTo>
                  <a:pt x="2565490" y="2738457"/>
                  <a:pt x="2555303" y="2740928"/>
                  <a:pt x="2545080" y="2743200"/>
                </a:cubicBezTo>
                <a:cubicBezTo>
                  <a:pt x="2532437" y="2746010"/>
                  <a:pt x="2519475" y="2747412"/>
                  <a:pt x="2506980" y="2750820"/>
                </a:cubicBezTo>
                <a:cubicBezTo>
                  <a:pt x="2491482" y="2755047"/>
                  <a:pt x="2477106" y="2763419"/>
                  <a:pt x="2461260" y="2766060"/>
                </a:cubicBezTo>
                <a:cubicBezTo>
                  <a:pt x="2430780" y="2771140"/>
                  <a:pt x="2400120" y="2775240"/>
                  <a:pt x="2369820" y="2781300"/>
                </a:cubicBezTo>
                <a:lnTo>
                  <a:pt x="2331720" y="2788920"/>
                </a:lnTo>
                <a:cubicBezTo>
                  <a:pt x="2316519" y="2791684"/>
                  <a:pt x="2301150" y="2793510"/>
                  <a:pt x="2286000" y="2796540"/>
                </a:cubicBezTo>
                <a:cubicBezTo>
                  <a:pt x="2275731" y="2798594"/>
                  <a:pt x="2265590" y="2801283"/>
                  <a:pt x="2255520" y="2804160"/>
                </a:cubicBezTo>
                <a:cubicBezTo>
                  <a:pt x="2247797" y="2806367"/>
                  <a:pt x="2240501" y="2810038"/>
                  <a:pt x="2232660" y="2811780"/>
                </a:cubicBezTo>
                <a:cubicBezTo>
                  <a:pt x="2217578" y="2815132"/>
                  <a:pt x="2202022" y="2816048"/>
                  <a:pt x="2186940" y="2819400"/>
                </a:cubicBezTo>
                <a:cubicBezTo>
                  <a:pt x="2179099" y="2821142"/>
                  <a:pt x="2171872" y="2825072"/>
                  <a:pt x="2164080" y="2827020"/>
                </a:cubicBezTo>
                <a:cubicBezTo>
                  <a:pt x="2151515" y="2830161"/>
                  <a:pt x="2138545" y="2831499"/>
                  <a:pt x="2125980" y="2834640"/>
                </a:cubicBezTo>
                <a:cubicBezTo>
                  <a:pt x="2107962" y="2839145"/>
                  <a:pt x="2088217" y="2848154"/>
                  <a:pt x="2072640" y="2857500"/>
                </a:cubicBezTo>
                <a:cubicBezTo>
                  <a:pt x="2056934" y="2866924"/>
                  <a:pt x="2044296" y="2882188"/>
                  <a:pt x="2026920" y="2887980"/>
                </a:cubicBezTo>
                <a:cubicBezTo>
                  <a:pt x="2011680" y="2893060"/>
                  <a:pt x="1994566" y="2894309"/>
                  <a:pt x="1981200" y="2903220"/>
                </a:cubicBezTo>
                <a:cubicBezTo>
                  <a:pt x="1951657" y="2922915"/>
                  <a:pt x="1967028" y="2915564"/>
                  <a:pt x="1935480" y="2926080"/>
                </a:cubicBezTo>
                <a:cubicBezTo>
                  <a:pt x="1879600" y="2923540"/>
                  <a:pt x="1823379" y="2925125"/>
                  <a:pt x="1767840" y="2918460"/>
                </a:cubicBezTo>
                <a:cubicBezTo>
                  <a:pt x="1758747" y="2917369"/>
                  <a:pt x="1752931" y="2907764"/>
                  <a:pt x="1744980" y="2903220"/>
                </a:cubicBezTo>
                <a:cubicBezTo>
                  <a:pt x="1735117" y="2897584"/>
                  <a:pt x="1724430" y="2893497"/>
                  <a:pt x="1714500" y="2887980"/>
                </a:cubicBezTo>
                <a:cubicBezTo>
                  <a:pt x="1701553" y="2880787"/>
                  <a:pt x="1689647" y="2871744"/>
                  <a:pt x="1676400" y="2865120"/>
                </a:cubicBezTo>
                <a:cubicBezTo>
                  <a:pt x="1669216" y="2861528"/>
                  <a:pt x="1661061" y="2860320"/>
                  <a:pt x="1653540" y="2857500"/>
                </a:cubicBezTo>
                <a:cubicBezTo>
                  <a:pt x="1614623" y="2842906"/>
                  <a:pt x="1619594" y="2844337"/>
                  <a:pt x="1584960" y="2827020"/>
                </a:cubicBezTo>
                <a:cubicBezTo>
                  <a:pt x="1544320" y="2766060"/>
                  <a:pt x="1597660" y="2839720"/>
                  <a:pt x="1546860" y="2788920"/>
                </a:cubicBezTo>
                <a:cubicBezTo>
                  <a:pt x="1540384" y="2782444"/>
                  <a:pt x="1538771" y="2771781"/>
                  <a:pt x="1531620" y="2766060"/>
                </a:cubicBezTo>
                <a:cubicBezTo>
                  <a:pt x="1525348" y="2761042"/>
                  <a:pt x="1515944" y="2762032"/>
                  <a:pt x="1508760" y="2758440"/>
                </a:cubicBezTo>
                <a:cubicBezTo>
                  <a:pt x="1500569" y="2754344"/>
                  <a:pt x="1493851" y="2747744"/>
                  <a:pt x="1485900" y="2743200"/>
                </a:cubicBezTo>
                <a:cubicBezTo>
                  <a:pt x="1476037" y="2737564"/>
                  <a:pt x="1465283" y="2733596"/>
                  <a:pt x="1455420" y="2727960"/>
                </a:cubicBezTo>
                <a:cubicBezTo>
                  <a:pt x="1394950" y="2693406"/>
                  <a:pt x="1472741" y="2734889"/>
                  <a:pt x="1409700" y="2689860"/>
                </a:cubicBezTo>
                <a:cubicBezTo>
                  <a:pt x="1384428" y="2671808"/>
                  <a:pt x="1381234" y="2677660"/>
                  <a:pt x="1356360" y="2667000"/>
                </a:cubicBezTo>
                <a:cubicBezTo>
                  <a:pt x="1345919" y="2662525"/>
                  <a:pt x="1336321" y="2656235"/>
                  <a:pt x="1325880" y="2651760"/>
                </a:cubicBezTo>
                <a:cubicBezTo>
                  <a:pt x="1283136" y="2633441"/>
                  <a:pt x="1323085" y="2657783"/>
                  <a:pt x="1272540" y="2628900"/>
                </a:cubicBezTo>
                <a:cubicBezTo>
                  <a:pt x="1228554" y="2603765"/>
                  <a:pt x="1270463" y="2624745"/>
                  <a:pt x="1226820" y="2590800"/>
                </a:cubicBezTo>
                <a:cubicBezTo>
                  <a:pt x="1212362" y="2579555"/>
                  <a:pt x="1194052" y="2573272"/>
                  <a:pt x="1181100" y="2560320"/>
                </a:cubicBezTo>
                <a:cubicBezTo>
                  <a:pt x="1173480" y="2552700"/>
                  <a:pt x="1167378" y="2543171"/>
                  <a:pt x="1158240" y="2537460"/>
                </a:cubicBezTo>
                <a:cubicBezTo>
                  <a:pt x="1146641" y="2530211"/>
                  <a:pt x="1132374" y="2528337"/>
                  <a:pt x="1120140" y="2522220"/>
                </a:cubicBezTo>
                <a:cubicBezTo>
                  <a:pt x="1111949" y="2518124"/>
                  <a:pt x="1105471" y="2511076"/>
                  <a:pt x="1097280" y="2506980"/>
                </a:cubicBezTo>
                <a:cubicBezTo>
                  <a:pt x="1090096" y="2503388"/>
                  <a:pt x="1081941" y="2502180"/>
                  <a:pt x="1074420" y="2499360"/>
                </a:cubicBezTo>
                <a:cubicBezTo>
                  <a:pt x="1017032" y="2477839"/>
                  <a:pt x="1056913" y="2489268"/>
                  <a:pt x="1005840" y="2476500"/>
                </a:cubicBezTo>
                <a:cubicBezTo>
                  <a:pt x="998220" y="2471420"/>
                  <a:pt x="991171" y="2465356"/>
                  <a:pt x="982980" y="2461260"/>
                </a:cubicBezTo>
                <a:cubicBezTo>
                  <a:pt x="914541" y="2427041"/>
                  <a:pt x="1023098" y="2494554"/>
                  <a:pt x="922020" y="2438400"/>
                </a:cubicBezTo>
                <a:cubicBezTo>
                  <a:pt x="857760" y="2402700"/>
                  <a:pt x="930126" y="2421971"/>
                  <a:pt x="845820" y="2407920"/>
                </a:cubicBezTo>
                <a:cubicBezTo>
                  <a:pt x="833120" y="2400300"/>
                  <a:pt x="820967" y="2391684"/>
                  <a:pt x="807720" y="2385060"/>
                </a:cubicBezTo>
                <a:cubicBezTo>
                  <a:pt x="800536" y="2381468"/>
                  <a:pt x="792044" y="2381032"/>
                  <a:pt x="784860" y="2377440"/>
                </a:cubicBezTo>
                <a:cubicBezTo>
                  <a:pt x="776669" y="2373344"/>
                  <a:pt x="770418" y="2365808"/>
                  <a:pt x="762000" y="2362200"/>
                </a:cubicBezTo>
                <a:cubicBezTo>
                  <a:pt x="752374" y="2358075"/>
                  <a:pt x="741244" y="2358469"/>
                  <a:pt x="731520" y="2354580"/>
                </a:cubicBezTo>
                <a:cubicBezTo>
                  <a:pt x="715700" y="2348252"/>
                  <a:pt x="701370" y="2338640"/>
                  <a:pt x="685800" y="2331720"/>
                </a:cubicBezTo>
                <a:cubicBezTo>
                  <a:pt x="678460" y="2328458"/>
                  <a:pt x="670124" y="2327692"/>
                  <a:pt x="662940" y="2324100"/>
                </a:cubicBezTo>
                <a:cubicBezTo>
                  <a:pt x="654749" y="2320004"/>
                  <a:pt x="648498" y="2312468"/>
                  <a:pt x="640080" y="2308860"/>
                </a:cubicBezTo>
                <a:cubicBezTo>
                  <a:pt x="630454" y="2304735"/>
                  <a:pt x="619535" y="2304552"/>
                  <a:pt x="609600" y="2301240"/>
                </a:cubicBezTo>
                <a:cubicBezTo>
                  <a:pt x="532448" y="2275523"/>
                  <a:pt x="607407" y="2297315"/>
                  <a:pt x="541020" y="2270760"/>
                </a:cubicBezTo>
                <a:cubicBezTo>
                  <a:pt x="456542" y="2236969"/>
                  <a:pt x="532167" y="2273599"/>
                  <a:pt x="457200" y="2240280"/>
                </a:cubicBezTo>
                <a:cubicBezTo>
                  <a:pt x="446820" y="2235667"/>
                  <a:pt x="436059" y="2231506"/>
                  <a:pt x="426720" y="2225040"/>
                </a:cubicBezTo>
                <a:cubicBezTo>
                  <a:pt x="402909" y="2208555"/>
                  <a:pt x="381095" y="2189358"/>
                  <a:pt x="358140" y="2171700"/>
                </a:cubicBezTo>
                <a:cubicBezTo>
                  <a:pt x="348074" y="2163957"/>
                  <a:pt x="336640" y="2157820"/>
                  <a:pt x="327660" y="2148840"/>
                </a:cubicBezTo>
                <a:cubicBezTo>
                  <a:pt x="275464" y="2096644"/>
                  <a:pt x="299873" y="2115075"/>
                  <a:pt x="259080" y="2087880"/>
                </a:cubicBezTo>
                <a:cubicBezTo>
                  <a:pt x="218440" y="2026920"/>
                  <a:pt x="271780" y="2100580"/>
                  <a:pt x="220980" y="2049780"/>
                </a:cubicBezTo>
                <a:cubicBezTo>
                  <a:pt x="170180" y="1998980"/>
                  <a:pt x="243840" y="2052320"/>
                  <a:pt x="182880" y="2011680"/>
                </a:cubicBezTo>
                <a:cubicBezTo>
                  <a:pt x="142240" y="1950720"/>
                  <a:pt x="195580" y="2024380"/>
                  <a:pt x="144780" y="1973580"/>
                </a:cubicBezTo>
                <a:cubicBezTo>
                  <a:pt x="93980" y="1922780"/>
                  <a:pt x="167640" y="1976120"/>
                  <a:pt x="106680" y="1935480"/>
                </a:cubicBezTo>
                <a:cubicBezTo>
                  <a:pt x="81471" y="1859852"/>
                  <a:pt x="123766" y="1975379"/>
                  <a:pt x="76200" y="1889760"/>
                </a:cubicBezTo>
                <a:cubicBezTo>
                  <a:pt x="68398" y="1875717"/>
                  <a:pt x="66040" y="1859280"/>
                  <a:pt x="60960" y="1844040"/>
                </a:cubicBezTo>
                <a:cubicBezTo>
                  <a:pt x="58420" y="1836420"/>
                  <a:pt x="57795" y="1827863"/>
                  <a:pt x="53340" y="1821180"/>
                </a:cubicBezTo>
                <a:cubicBezTo>
                  <a:pt x="48260" y="1813560"/>
                  <a:pt x="41819" y="1806689"/>
                  <a:pt x="38100" y="1798320"/>
                </a:cubicBezTo>
                <a:cubicBezTo>
                  <a:pt x="31576" y="1783640"/>
                  <a:pt x="27940" y="1767840"/>
                  <a:pt x="22860" y="1752600"/>
                </a:cubicBezTo>
                <a:cubicBezTo>
                  <a:pt x="14313" y="1726958"/>
                  <a:pt x="11707" y="1722291"/>
                  <a:pt x="7620" y="1691640"/>
                </a:cubicBezTo>
                <a:cubicBezTo>
                  <a:pt x="4246" y="1666337"/>
                  <a:pt x="2540" y="1640840"/>
                  <a:pt x="0" y="1615440"/>
                </a:cubicBezTo>
                <a:cubicBezTo>
                  <a:pt x="2540" y="1569720"/>
                  <a:pt x="3279" y="1523864"/>
                  <a:pt x="7620" y="1478280"/>
                </a:cubicBezTo>
                <a:cubicBezTo>
                  <a:pt x="10684" y="1446108"/>
                  <a:pt x="34382" y="1443715"/>
                  <a:pt x="45720" y="1409700"/>
                </a:cubicBezTo>
                <a:cubicBezTo>
                  <a:pt x="59111" y="1369526"/>
                  <a:pt x="44489" y="1402033"/>
                  <a:pt x="76200" y="1363980"/>
                </a:cubicBezTo>
                <a:cubicBezTo>
                  <a:pt x="82063" y="1356945"/>
                  <a:pt x="85356" y="1347965"/>
                  <a:pt x="91440" y="1341120"/>
                </a:cubicBezTo>
                <a:cubicBezTo>
                  <a:pt x="105759" y="1325011"/>
                  <a:pt x="121920" y="1310640"/>
                  <a:pt x="137160" y="1295400"/>
                </a:cubicBezTo>
                <a:lnTo>
                  <a:pt x="182880" y="1249680"/>
                </a:lnTo>
                <a:cubicBezTo>
                  <a:pt x="190500" y="1242060"/>
                  <a:pt x="199762" y="1235786"/>
                  <a:pt x="205740" y="1226820"/>
                </a:cubicBezTo>
                <a:cubicBezTo>
                  <a:pt x="220725" y="1204343"/>
                  <a:pt x="221838" y="1199435"/>
                  <a:pt x="243840" y="1181100"/>
                </a:cubicBezTo>
                <a:cubicBezTo>
                  <a:pt x="250875" y="1175237"/>
                  <a:pt x="259080" y="1170940"/>
                  <a:pt x="266700" y="1165860"/>
                </a:cubicBezTo>
                <a:cubicBezTo>
                  <a:pt x="271780" y="1158240"/>
                  <a:pt x="275464" y="1149476"/>
                  <a:pt x="281940" y="1143000"/>
                </a:cubicBezTo>
                <a:cubicBezTo>
                  <a:pt x="287392" y="1137548"/>
                  <a:pt x="325184" y="1110669"/>
                  <a:pt x="335280" y="1104900"/>
                </a:cubicBezTo>
                <a:cubicBezTo>
                  <a:pt x="345143" y="1099264"/>
                  <a:pt x="356127" y="1095680"/>
                  <a:pt x="365760" y="1089660"/>
                </a:cubicBezTo>
                <a:cubicBezTo>
                  <a:pt x="376530" y="1082929"/>
                  <a:pt x="385213" y="1073101"/>
                  <a:pt x="396240" y="1066800"/>
                </a:cubicBezTo>
                <a:cubicBezTo>
                  <a:pt x="403214" y="1062815"/>
                  <a:pt x="411717" y="1062344"/>
                  <a:pt x="419100" y="1059180"/>
                </a:cubicBezTo>
                <a:cubicBezTo>
                  <a:pt x="429541" y="1054705"/>
                  <a:pt x="439717" y="1049576"/>
                  <a:pt x="449580" y="1043940"/>
                </a:cubicBezTo>
                <a:cubicBezTo>
                  <a:pt x="457531" y="1039396"/>
                  <a:pt x="463865" y="1031916"/>
                  <a:pt x="472440" y="1028700"/>
                </a:cubicBezTo>
                <a:cubicBezTo>
                  <a:pt x="484567" y="1024152"/>
                  <a:pt x="497840" y="1023620"/>
                  <a:pt x="510540" y="1021080"/>
                </a:cubicBezTo>
                <a:lnTo>
                  <a:pt x="579120" y="975360"/>
                </a:lnTo>
                <a:lnTo>
                  <a:pt x="601980" y="960120"/>
                </a:lnTo>
                <a:cubicBezTo>
                  <a:pt x="609600" y="955040"/>
                  <a:pt x="617514" y="950375"/>
                  <a:pt x="624840" y="944880"/>
                </a:cubicBezTo>
                <a:cubicBezTo>
                  <a:pt x="635000" y="937260"/>
                  <a:pt x="644293" y="928321"/>
                  <a:pt x="655320" y="922020"/>
                </a:cubicBezTo>
                <a:cubicBezTo>
                  <a:pt x="662294" y="918035"/>
                  <a:pt x="670868" y="917724"/>
                  <a:pt x="678180" y="914400"/>
                </a:cubicBezTo>
                <a:cubicBezTo>
                  <a:pt x="710290" y="899805"/>
                  <a:pt x="730327" y="884218"/>
                  <a:pt x="762000" y="876300"/>
                </a:cubicBezTo>
                <a:cubicBezTo>
                  <a:pt x="774565" y="873159"/>
                  <a:pt x="787400" y="871220"/>
                  <a:pt x="800100" y="868680"/>
                </a:cubicBezTo>
                <a:cubicBezTo>
                  <a:pt x="810260" y="863600"/>
                  <a:pt x="820717" y="859076"/>
                  <a:pt x="830580" y="853440"/>
                </a:cubicBezTo>
                <a:cubicBezTo>
                  <a:pt x="873485" y="828923"/>
                  <a:pt x="832109" y="845987"/>
                  <a:pt x="883920" y="822960"/>
                </a:cubicBezTo>
                <a:cubicBezTo>
                  <a:pt x="896419" y="817405"/>
                  <a:pt x="910063" y="814363"/>
                  <a:pt x="922020" y="807720"/>
                </a:cubicBezTo>
                <a:cubicBezTo>
                  <a:pt x="933122" y="801552"/>
                  <a:pt x="941730" y="791591"/>
                  <a:pt x="952500" y="784860"/>
                </a:cubicBezTo>
                <a:cubicBezTo>
                  <a:pt x="962133" y="778840"/>
                  <a:pt x="973737" y="776222"/>
                  <a:pt x="982980" y="769620"/>
                </a:cubicBezTo>
                <a:cubicBezTo>
                  <a:pt x="991749" y="763356"/>
                  <a:pt x="997071" y="753024"/>
                  <a:pt x="1005840" y="746760"/>
                </a:cubicBezTo>
                <a:cubicBezTo>
                  <a:pt x="1015083" y="740158"/>
                  <a:pt x="1026580" y="737364"/>
                  <a:pt x="1036320" y="731520"/>
                </a:cubicBezTo>
                <a:cubicBezTo>
                  <a:pt x="1052026" y="722096"/>
                  <a:pt x="1066800" y="711200"/>
                  <a:pt x="1082040" y="701040"/>
                </a:cubicBezTo>
                <a:cubicBezTo>
                  <a:pt x="1089660" y="695960"/>
                  <a:pt x="1098424" y="692276"/>
                  <a:pt x="1104900" y="685800"/>
                </a:cubicBezTo>
                <a:cubicBezTo>
                  <a:pt x="1112520" y="678180"/>
                  <a:pt x="1118991" y="669204"/>
                  <a:pt x="1127760" y="662940"/>
                </a:cubicBezTo>
                <a:cubicBezTo>
                  <a:pt x="1137003" y="656338"/>
                  <a:pt x="1149370" y="654796"/>
                  <a:pt x="1158240" y="647700"/>
                </a:cubicBezTo>
                <a:cubicBezTo>
                  <a:pt x="1175070" y="634236"/>
                  <a:pt x="1188720" y="617220"/>
                  <a:pt x="1203960" y="601980"/>
                </a:cubicBezTo>
                <a:cubicBezTo>
                  <a:pt x="1211580" y="594360"/>
                  <a:pt x="1217181" y="583939"/>
                  <a:pt x="1226820" y="579120"/>
                </a:cubicBezTo>
                <a:cubicBezTo>
                  <a:pt x="1310356" y="537352"/>
                  <a:pt x="1208078" y="592507"/>
                  <a:pt x="1280160" y="541020"/>
                </a:cubicBezTo>
                <a:cubicBezTo>
                  <a:pt x="1289403" y="534418"/>
                  <a:pt x="1300777" y="531416"/>
                  <a:pt x="1310640" y="525780"/>
                </a:cubicBezTo>
                <a:cubicBezTo>
                  <a:pt x="1351569" y="502392"/>
                  <a:pt x="1313917" y="515436"/>
                  <a:pt x="1363980" y="502920"/>
                </a:cubicBezTo>
                <a:cubicBezTo>
                  <a:pt x="1371600" y="497840"/>
                  <a:pt x="1378649" y="491776"/>
                  <a:pt x="1386840" y="487680"/>
                </a:cubicBezTo>
                <a:cubicBezTo>
                  <a:pt x="1394024" y="484088"/>
                  <a:pt x="1402726" y="484045"/>
                  <a:pt x="1409700" y="480060"/>
                </a:cubicBezTo>
                <a:cubicBezTo>
                  <a:pt x="1474285" y="443154"/>
                  <a:pt x="1410626" y="467051"/>
                  <a:pt x="1463040" y="449580"/>
                </a:cubicBezTo>
                <a:cubicBezTo>
                  <a:pt x="1470660" y="441960"/>
                  <a:pt x="1477394" y="433336"/>
                  <a:pt x="1485900" y="426720"/>
                </a:cubicBezTo>
                <a:cubicBezTo>
                  <a:pt x="1500358" y="415475"/>
                  <a:pt x="1531620" y="396240"/>
                  <a:pt x="1531620" y="396240"/>
                </a:cubicBezTo>
                <a:cubicBezTo>
                  <a:pt x="1567180" y="342900"/>
                  <a:pt x="1546860" y="360680"/>
                  <a:pt x="1584960" y="335280"/>
                </a:cubicBezTo>
                <a:cubicBezTo>
                  <a:pt x="1625600" y="274320"/>
                  <a:pt x="1572260" y="347980"/>
                  <a:pt x="1623060" y="297180"/>
                </a:cubicBezTo>
                <a:cubicBezTo>
                  <a:pt x="1629536" y="290704"/>
                  <a:pt x="1631824" y="280796"/>
                  <a:pt x="1638300" y="274320"/>
                </a:cubicBezTo>
                <a:cubicBezTo>
                  <a:pt x="1644776" y="267844"/>
                  <a:pt x="1654125" y="264943"/>
                  <a:pt x="1661160" y="259080"/>
                </a:cubicBezTo>
                <a:cubicBezTo>
                  <a:pt x="1669439" y="252181"/>
                  <a:pt x="1675514" y="242836"/>
                  <a:pt x="1684020" y="236220"/>
                </a:cubicBezTo>
                <a:cubicBezTo>
                  <a:pt x="1698478" y="224975"/>
                  <a:pt x="1716788" y="218692"/>
                  <a:pt x="1729740" y="205740"/>
                </a:cubicBezTo>
                <a:cubicBezTo>
                  <a:pt x="1770147" y="165333"/>
                  <a:pt x="1732932" y="197729"/>
                  <a:pt x="1783080" y="167640"/>
                </a:cubicBezTo>
                <a:cubicBezTo>
                  <a:pt x="1798786" y="158216"/>
                  <a:pt x="1813560" y="147320"/>
                  <a:pt x="1828800" y="137160"/>
                </a:cubicBezTo>
                <a:lnTo>
                  <a:pt x="1874520" y="106680"/>
                </a:lnTo>
                <a:cubicBezTo>
                  <a:pt x="1882140" y="101600"/>
                  <a:pt x="1888692" y="94336"/>
                  <a:pt x="1897380" y="91440"/>
                </a:cubicBezTo>
                <a:cubicBezTo>
                  <a:pt x="1905000" y="88900"/>
                  <a:pt x="1913219" y="87721"/>
                  <a:pt x="1920240" y="83820"/>
                </a:cubicBezTo>
                <a:cubicBezTo>
                  <a:pt x="1936251" y="74925"/>
                  <a:pt x="1950720" y="63500"/>
                  <a:pt x="1965960" y="53340"/>
                </a:cubicBezTo>
                <a:cubicBezTo>
                  <a:pt x="1973580" y="48260"/>
                  <a:pt x="1980132" y="40996"/>
                  <a:pt x="1988820" y="38100"/>
                </a:cubicBezTo>
                <a:cubicBezTo>
                  <a:pt x="1996440" y="35560"/>
                  <a:pt x="2004496" y="34072"/>
                  <a:pt x="2011680" y="30480"/>
                </a:cubicBezTo>
                <a:cubicBezTo>
                  <a:pt x="2019871" y="26384"/>
                  <a:pt x="2026171" y="18959"/>
                  <a:pt x="2034540" y="15240"/>
                </a:cubicBezTo>
                <a:cubicBezTo>
                  <a:pt x="2049220" y="8716"/>
                  <a:pt x="2080260" y="0"/>
                  <a:pt x="2080260" y="0"/>
                </a:cubicBezTo>
                <a:cubicBezTo>
                  <a:pt x="2120900" y="2540"/>
                  <a:pt x="2161959" y="1269"/>
                  <a:pt x="2202180" y="7620"/>
                </a:cubicBezTo>
                <a:cubicBezTo>
                  <a:pt x="2226310" y="11430"/>
                  <a:pt x="2226310" y="31750"/>
                  <a:pt x="2240280" y="45720"/>
                </a:cubicBezTo>
                <a:cubicBezTo>
                  <a:pt x="2246756" y="52196"/>
                  <a:pt x="2255520" y="55880"/>
                  <a:pt x="2263140" y="60960"/>
                </a:cubicBezTo>
                <a:cubicBezTo>
                  <a:pt x="2278125" y="83437"/>
                  <a:pt x="2279238" y="88345"/>
                  <a:pt x="2301240" y="106680"/>
                </a:cubicBezTo>
                <a:cubicBezTo>
                  <a:pt x="2308275" y="112543"/>
                  <a:pt x="2316480" y="116840"/>
                  <a:pt x="2324100" y="121920"/>
                </a:cubicBezTo>
                <a:cubicBezTo>
                  <a:pt x="2341260" y="173400"/>
                  <a:pt x="2317462" y="117599"/>
                  <a:pt x="2354580" y="160020"/>
                </a:cubicBezTo>
                <a:cubicBezTo>
                  <a:pt x="2366641" y="173804"/>
                  <a:pt x="2374900" y="190500"/>
                  <a:pt x="2385060" y="205740"/>
                </a:cubicBezTo>
                <a:cubicBezTo>
                  <a:pt x="2390140" y="213360"/>
                  <a:pt x="2396204" y="220409"/>
                  <a:pt x="2400300" y="228600"/>
                </a:cubicBezTo>
                <a:cubicBezTo>
                  <a:pt x="2405380" y="238760"/>
                  <a:pt x="2409696" y="249340"/>
                  <a:pt x="2415540" y="259080"/>
                </a:cubicBezTo>
                <a:cubicBezTo>
                  <a:pt x="2424964" y="274786"/>
                  <a:pt x="2437829" y="288417"/>
                  <a:pt x="2446020" y="304800"/>
                </a:cubicBezTo>
                <a:cubicBezTo>
                  <a:pt x="2451100" y="314960"/>
                  <a:pt x="2454658" y="326037"/>
                  <a:pt x="2461260" y="335280"/>
                </a:cubicBezTo>
                <a:cubicBezTo>
                  <a:pt x="2467524" y="344049"/>
                  <a:pt x="2477107" y="349958"/>
                  <a:pt x="2484120" y="358140"/>
                </a:cubicBezTo>
                <a:cubicBezTo>
                  <a:pt x="2492385" y="367783"/>
                  <a:pt x="2499697" y="378216"/>
                  <a:pt x="2506980" y="388620"/>
                </a:cubicBezTo>
                <a:lnTo>
                  <a:pt x="2552700" y="457200"/>
                </a:lnTo>
                <a:cubicBezTo>
                  <a:pt x="2557780" y="464820"/>
                  <a:pt x="2561464" y="473584"/>
                  <a:pt x="2567940" y="480060"/>
                </a:cubicBezTo>
                <a:cubicBezTo>
                  <a:pt x="2575560" y="487680"/>
                  <a:pt x="2583901" y="494641"/>
                  <a:pt x="2590800" y="502920"/>
                </a:cubicBezTo>
                <a:cubicBezTo>
                  <a:pt x="2622550" y="541020"/>
                  <a:pt x="2586990" y="513080"/>
                  <a:pt x="2628900" y="541020"/>
                </a:cubicBezTo>
                <a:cubicBezTo>
                  <a:pt x="2703463" y="652864"/>
                  <a:pt x="2627757" y="535211"/>
                  <a:pt x="2674620" y="617220"/>
                </a:cubicBezTo>
                <a:cubicBezTo>
                  <a:pt x="2679164" y="625171"/>
                  <a:pt x="2685764" y="631889"/>
                  <a:pt x="2689860" y="640080"/>
                </a:cubicBezTo>
                <a:cubicBezTo>
                  <a:pt x="2693452" y="647264"/>
                  <a:pt x="2692462" y="656668"/>
                  <a:pt x="2697480" y="662940"/>
                </a:cubicBezTo>
                <a:cubicBezTo>
                  <a:pt x="2703201" y="670091"/>
                  <a:pt x="2712720" y="673100"/>
                  <a:pt x="2720340" y="678180"/>
                </a:cubicBezTo>
                <a:cubicBezTo>
                  <a:pt x="2726169" y="701498"/>
                  <a:pt x="2725659" y="713979"/>
                  <a:pt x="2743200" y="731520"/>
                </a:cubicBezTo>
                <a:cubicBezTo>
                  <a:pt x="2749676" y="737996"/>
                  <a:pt x="2758440" y="741680"/>
                  <a:pt x="2766060" y="746760"/>
                </a:cubicBezTo>
                <a:cubicBezTo>
                  <a:pt x="2771140" y="756920"/>
                  <a:pt x="2776825" y="766799"/>
                  <a:pt x="2781300" y="777240"/>
                </a:cubicBezTo>
                <a:cubicBezTo>
                  <a:pt x="2795673" y="810777"/>
                  <a:pt x="2782273" y="808693"/>
                  <a:pt x="2819400" y="845820"/>
                </a:cubicBezTo>
                <a:lnTo>
                  <a:pt x="2887980" y="914400"/>
                </a:lnTo>
                <a:cubicBezTo>
                  <a:pt x="2895600" y="922020"/>
                  <a:pt x="2904862" y="928294"/>
                  <a:pt x="2910840" y="937260"/>
                </a:cubicBezTo>
                <a:cubicBezTo>
                  <a:pt x="2938780" y="979170"/>
                  <a:pt x="2910840" y="943610"/>
                  <a:pt x="2948940" y="975360"/>
                </a:cubicBezTo>
                <a:cubicBezTo>
                  <a:pt x="2995278" y="1013975"/>
                  <a:pt x="2945880" y="985260"/>
                  <a:pt x="3002280" y="1013460"/>
                </a:cubicBezTo>
                <a:cubicBezTo>
                  <a:pt x="3010933" y="1026440"/>
                  <a:pt x="3030928" y="1057348"/>
                  <a:pt x="3040380" y="1066800"/>
                </a:cubicBezTo>
                <a:cubicBezTo>
                  <a:pt x="3091564" y="1117984"/>
                  <a:pt x="3036441" y="1015172"/>
                  <a:pt x="3116580" y="1135380"/>
                </a:cubicBezTo>
                <a:cubicBezTo>
                  <a:pt x="3136900" y="1165860"/>
                  <a:pt x="3124200" y="1153160"/>
                  <a:pt x="3154680" y="1173480"/>
                </a:cubicBezTo>
                <a:cubicBezTo>
                  <a:pt x="3195320" y="1234440"/>
                  <a:pt x="3141980" y="1160780"/>
                  <a:pt x="3192780" y="1211580"/>
                </a:cubicBezTo>
                <a:cubicBezTo>
                  <a:pt x="3243580" y="1262380"/>
                  <a:pt x="3169920" y="1209040"/>
                  <a:pt x="3230880" y="1249680"/>
                </a:cubicBezTo>
                <a:cubicBezTo>
                  <a:pt x="3274556" y="1315194"/>
                  <a:pt x="3216400" y="1238096"/>
                  <a:pt x="3268980" y="1280160"/>
                </a:cubicBezTo>
                <a:cubicBezTo>
                  <a:pt x="3276131" y="1285881"/>
                  <a:pt x="3278357" y="1295985"/>
                  <a:pt x="3284220" y="1303020"/>
                </a:cubicBezTo>
                <a:cubicBezTo>
                  <a:pt x="3291119" y="1311299"/>
                  <a:pt x="3298574" y="1319264"/>
                  <a:pt x="3307080" y="1325880"/>
                </a:cubicBezTo>
                <a:cubicBezTo>
                  <a:pt x="3321538" y="1337125"/>
                  <a:pt x="3352800" y="1356360"/>
                  <a:pt x="3352800" y="1356360"/>
                </a:cubicBezTo>
                <a:cubicBezTo>
                  <a:pt x="3384204" y="1403465"/>
                  <a:pt x="3349336" y="1357515"/>
                  <a:pt x="3390900" y="1394460"/>
                </a:cubicBezTo>
                <a:cubicBezTo>
                  <a:pt x="3407009" y="1408779"/>
                  <a:pt x="3421380" y="1424940"/>
                  <a:pt x="3436620" y="1440180"/>
                </a:cubicBezTo>
                <a:cubicBezTo>
                  <a:pt x="3444240" y="1447800"/>
                  <a:pt x="3450514" y="1457062"/>
                  <a:pt x="3459480" y="1463040"/>
                </a:cubicBezTo>
                <a:cubicBezTo>
                  <a:pt x="3467100" y="1468120"/>
                  <a:pt x="3475305" y="1472417"/>
                  <a:pt x="3482340" y="1478280"/>
                </a:cubicBezTo>
                <a:cubicBezTo>
                  <a:pt x="3557240" y="1540697"/>
                  <a:pt x="3460500" y="1464060"/>
                  <a:pt x="3520440" y="1524000"/>
                </a:cubicBezTo>
                <a:cubicBezTo>
                  <a:pt x="3526916" y="1530476"/>
                  <a:pt x="3535680" y="1534160"/>
                  <a:pt x="3543300" y="1539240"/>
                </a:cubicBezTo>
                <a:cubicBezTo>
                  <a:pt x="3583940" y="1600200"/>
                  <a:pt x="3530600" y="1526540"/>
                  <a:pt x="3581400" y="1577340"/>
                </a:cubicBezTo>
                <a:cubicBezTo>
                  <a:pt x="3587876" y="1583816"/>
                  <a:pt x="3589748" y="1594169"/>
                  <a:pt x="3596640" y="1600200"/>
                </a:cubicBezTo>
                <a:cubicBezTo>
                  <a:pt x="3610424" y="1612261"/>
                  <a:pt x="3627120" y="1620520"/>
                  <a:pt x="3642360" y="1630680"/>
                </a:cubicBezTo>
                <a:lnTo>
                  <a:pt x="3665220" y="1645920"/>
                </a:lnTo>
                <a:cubicBezTo>
                  <a:pt x="3670300" y="1653540"/>
                  <a:pt x="3674597" y="1661745"/>
                  <a:pt x="3680460" y="1668780"/>
                </a:cubicBezTo>
                <a:cubicBezTo>
                  <a:pt x="3698795" y="1690782"/>
                  <a:pt x="3703703" y="1691895"/>
                  <a:pt x="3726180" y="1706880"/>
                </a:cubicBezTo>
                <a:cubicBezTo>
                  <a:pt x="3760264" y="1758005"/>
                  <a:pt x="3720113" y="1707915"/>
                  <a:pt x="3764280" y="1737360"/>
                </a:cubicBezTo>
                <a:cubicBezTo>
                  <a:pt x="3773246" y="1743338"/>
                  <a:pt x="3778634" y="1753604"/>
                  <a:pt x="3787140" y="1760220"/>
                </a:cubicBezTo>
                <a:cubicBezTo>
                  <a:pt x="3801598" y="1771465"/>
                  <a:pt x="3832860" y="1790700"/>
                  <a:pt x="3832860" y="1790700"/>
                </a:cubicBezTo>
                <a:cubicBezTo>
                  <a:pt x="3847695" y="1835204"/>
                  <a:pt x="3828873" y="1794333"/>
                  <a:pt x="3863340" y="1828800"/>
                </a:cubicBezTo>
                <a:cubicBezTo>
                  <a:pt x="3869816" y="1835276"/>
                  <a:pt x="3872717" y="1844625"/>
                  <a:pt x="3878580" y="1851660"/>
                </a:cubicBezTo>
                <a:cubicBezTo>
                  <a:pt x="3895670" y="1872168"/>
                  <a:pt x="3905869" y="1873056"/>
                  <a:pt x="3916680" y="1897380"/>
                </a:cubicBezTo>
                <a:cubicBezTo>
                  <a:pt x="3923204" y="1912060"/>
                  <a:pt x="3926840" y="1927860"/>
                  <a:pt x="3931920" y="1943100"/>
                </a:cubicBezTo>
                <a:lnTo>
                  <a:pt x="3939540" y="1965960"/>
                </a:lnTo>
                <a:cubicBezTo>
                  <a:pt x="3937774" y="1978320"/>
                  <a:pt x="3931999" y="2031816"/>
                  <a:pt x="3924300" y="2049780"/>
                </a:cubicBezTo>
                <a:cubicBezTo>
                  <a:pt x="3917640" y="2065320"/>
                  <a:pt x="3898406" y="2085328"/>
                  <a:pt x="3886200" y="2095500"/>
                </a:cubicBezTo>
                <a:cubicBezTo>
                  <a:pt x="3879165" y="2101363"/>
                  <a:pt x="3870375" y="2104877"/>
                  <a:pt x="3863340" y="2110740"/>
                </a:cubicBezTo>
                <a:cubicBezTo>
                  <a:pt x="3855061" y="2117639"/>
                  <a:pt x="3849900" y="2128367"/>
                  <a:pt x="3840480" y="2133600"/>
                </a:cubicBezTo>
                <a:cubicBezTo>
                  <a:pt x="3814604" y="2147976"/>
                  <a:pt x="3777423" y="2151729"/>
                  <a:pt x="3749040" y="2156460"/>
                </a:cubicBezTo>
                <a:cubicBezTo>
                  <a:pt x="3723640" y="2153920"/>
                  <a:pt x="3698070" y="2152722"/>
                  <a:pt x="3672840" y="2148840"/>
                </a:cubicBezTo>
                <a:cubicBezTo>
                  <a:pt x="3664901" y="2147619"/>
                  <a:pt x="3657600" y="2138680"/>
                  <a:pt x="3649980" y="2141220"/>
                </a:cubicBezTo>
                <a:cubicBezTo>
                  <a:pt x="3639757" y="2144628"/>
                  <a:pt x="3634019" y="2155801"/>
                  <a:pt x="3627120" y="2164080"/>
                </a:cubicBezTo>
                <a:cubicBezTo>
                  <a:pt x="3606309" y="2189053"/>
                  <a:pt x="3608070" y="2164080"/>
                  <a:pt x="3604260" y="2164080"/>
                </a:cubicBezTo>
                <a:close/>
              </a:path>
            </a:pathLst>
          </a:custGeom>
          <a:noFill/>
          <a:ln w="25560">
            <a:solidFill>
              <a:srgbClr val="9bbb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0" name="Freeform: Shape 164"/>
          <p:cNvSpPr/>
          <p:nvPr/>
        </p:nvSpPr>
        <p:spPr>
          <a:xfrm>
            <a:off x="343080" y="2911320"/>
            <a:ext cx="2636640" cy="2757600"/>
          </a:xfrm>
          <a:custGeom>
            <a:avLst/>
            <a:gdLst/>
            <a:ahLst/>
            <a:rect l="l" t="t" r="r" b="b"/>
            <a:pathLst>
              <a:path w="2636551" h="2758440">
                <a:moveTo>
                  <a:pt x="2034540" y="2148840"/>
                </a:moveTo>
                <a:lnTo>
                  <a:pt x="2034540" y="2148840"/>
                </a:lnTo>
                <a:cubicBezTo>
                  <a:pt x="2019300" y="2174240"/>
                  <a:pt x="2006593" y="2201343"/>
                  <a:pt x="1988820" y="2225040"/>
                </a:cubicBezTo>
                <a:cubicBezTo>
                  <a:pt x="1975888" y="2242282"/>
                  <a:pt x="1955055" y="2252827"/>
                  <a:pt x="1943100" y="2270760"/>
                </a:cubicBezTo>
                <a:cubicBezTo>
                  <a:pt x="1922780" y="2301240"/>
                  <a:pt x="1935480" y="2288540"/>
                  <a:pt x="1905000" y="2308860"/>
                </a:cubicBezTo>
                <a:cubicBezTo>
                  <a:pt x="1864360" y="2369820"/>
                  <a:pt x="1917700" y="2296160"/>
                  <a:pt x="1866900" y="2346960"/>
                </a:cubicBezTo>
                <a:cubicBezTo>
                  <a:pt x="1816100" y="2397760"/>
                  <a:pt x="1889760" y="2344420"/>
                  <a:pt x="1828800" y="2385060"/>
                </a:cubicBezTo>
                <a:cubicBezTo>
                  <a:pt x="1815253" y="2405380"/>
                  <a:pt x="1811009" y="2414984"/>
                  <a:pt x="1790700" y="2430780"/>
                </a:cubicBezTo>
                <a:cubicBezTo>
                  <a:pt x="1776242" y="2442025"/>
                  <a:pt x="1744980" y="2461260"/>
                  <a:pt x="1744980" y="2461260"/>
                </a:cubicBezTo>
                <a:cubicBezTo>
                  <a:pt x="1739900" y="2468880"/>
                  <a:pt x="1736775" y="2478257"/>
                  <a:pt x="1729740" y="2484120"/>
                </a:cubicBezTo>
                <a:cubicBezTo>
                  <a:pt x="1721014" y="2491392"/>
                  <a:pt x="1709123" y="2493724"/>
                  <a:pt x="1699260" y="2499360"/>
                </a:cubicBezTo>
                <a:cubicBezTo>
                  <a:pt x="1657900" y="2522995"/>
                  <a:pt x="1695453" y="2508249"/>
                  <a:pt x="1653540" y="2522220"/>
                </a:cubicBezTo>
                <a:cubicBezTo>
                  <a:pt x="1636688" y="2539072"/>
                  <a:pt x="1629038" y="2549711"/>
                  <a:pt x="1607820" y="2560320"/>
                </a:cubicBezTo>
                <a:cubicBezTo>
                  <a:pt x="1600636" y="2563912"/>
                  <a:pt x="1592144" y="2564348"/>
                  <a:pt x="1584960" y="2567940"/>
                </a:cubicBezTo>
                <a:cubicBezTo>
                  <a:pt x="1576769" y="2572036"/>
                  <a:pt x="1570291" y="2579084"/>
                  <a:pt x="1562100" y="2583180"/>
                </a:cubicBezTo>
                <a:cubicBezTo>
                  <a:pt x="1554916" y="2586772"/>
                  <a:pt x="1546424" y="2587208"/>
                  <a:pt x="1539240" y="2590800"/>
                </a:cubicBezTo>
                <a:cubicBezTo>
                  <a:pt x="1531049" y="2594896"/>
                  <a:pt x="1524749" y="2602321"/>
                  <a:pt x="1516380" y="2606040"/>
                </a:cubicBezTo>
                <a:cubicBezTo>
                  <a:pt x="1501700" y="2612564"/>
                  <a:pt x="1484026" y="2612369"/>
                  <a:pt x="1470660" y="2621280"/>
                </a:cubicBezTo>
                <a:cubicBezTo>
                  <a:pt x="1405146" y="2664956"/>
                  <a:pt x="1488036" y="2612592"/>
                  <a:pt x="1424940" y="2644140"/>
                </a:cubicBezTo>
                <a:cubicBezTo>
                  <a:pt x="1416749" y="2648236"/>
                  <a:pt x="1410271" y="2655284"/>
                  <a:pt x="1402080" y="2659380"/>
                </a:cubicBezTo>
                <a:cubicBezTo>
                  <a:pt x="1394896" y="2662972"/>
                  <a:pt x="1386404" y="2663408"/>
                  <a:pt x="1379220" y="2667000"/>
                </a:cubicBezTo>
                <a:cubicBezTo>
                  <a:pt x="1371029" y="2671096"/>
                  <a:pt x="1364729" y="2678521"/>
                  <a:pt x="1356360" y="2682240"/>
                </a:cubicBezTo>
                <a:cubicBezTo>
                  <a:pt x="1341680" y="2688764"/>
                  <a:pt x="1324006" y="2688569"/>
                  <a:pt x="1310640" y="2697480"/>
                </a:cubicBezTo>
                <a:cubicBezTo>
                  <a:pt x="1274414" y="2721631"/>
                  <a:pt x="1296468" y="2709824"/>
                  <a:pt x="1242060" y="2727960"/>
                </a:cubicBezTo>
                <a:cubicBezTo>
                  <a:pt x="1187250" y="2746230"/>
                  <a:pt x="1255697" y="2724064"/>
                  <a:pt x="1188720" y="2743200"/>
                </a:cubicBezTo>
                <a:cubicBezTo>
                  <a:pt x="1180997" y="2745407"/>
                  <a:pt x="1173763" y="2749383"/>
                  <a:pt x="1165860" y="2750820"/>
                </a:cubicBezTo>
                <a:cubicBezTo>
                  <a:pt x="1145712" y="2754483"/>
                  <a:pt x="1125220" y="2755900"/>
                  <a:pt x="1104900" y="2758440"/>
                </a:cubicBezTo>
                <a:cubicBezTo>
                  <a:pt x="1061720" y="2755900"/>
                  <a:pt x="1018400" y="2755124"/>
                  <a:pt x="975360" y="2750820"/>
                </a:cubicBezTo>
                <a:cubicBezTo>
                  <a:pt x="967368" y="2750021"/>
                  <a:pt x="958772" y="2748218"/>
                  <a:pt x="952500" y="2743200"/>
                </a:cubicBezTo>
                <a:cubicBezTo>
                  <a:pt x="909486" y="2708789"/>
                  <a:pt x="973244" y="2725844"/>
                  <a:pt x="922020" y="2674620"/>
                </a:cubicBezTo>
                <a:cubicBezTo>
                  <a:pt x="914400" y="2667000"/>
                  <a:pt x="905776" y="2660266"/>
                  <a:pt x="899160" y="2651760"/>
                </a:cubicBezTo>
                <a:cubicBezTo>
                  <a:pt x="887915" y="2637302"/>
                  <a:pt x="881632" y="2618992"/>
                  <a:pt x="868680" y="2606040"/>
                </a:cubicBezTo>
                <a:cubicBezTo>
                  <a:pt x="861060" y="2598420"/>
                  <a:pt x="852436" y="2591686"/>
                  <a:pt x="845820" y="2583180"/>
                </a:cubicBezTo>
                <a:cubicBezTo>
                  <a:pt x="797951" y="2521634"/>
                  <a:pt x="836735" y="2551723"/>
                  <a:pt x="792480" y="2522220"/>
                </a:cubicBezTo>
                <a:cubicBezTo>
                  <a:pt x="748804" y="2456706"/>
                  <a:pt x="801168" y="2539596"/>
                  <a:pt x="769620" y="2476500"/>
                </a:cubicBezTo>
                <a:cubicBezTo>
                  <a:pt x="765524" y="2468309"/>
                  <a:pt x="758476" y="2461831"/>
                  <a:pt x="754380" y="2453640"/>
                </a:cubicBezTo>
                <a:cubicBezTo>
                  <a:pt x="750788" y="2446456"/>
                  <a:pt x="751778" y="2437052"/>
                  <a:pt x="746760" y="2430780"/>
                </a:cubicBezTo>
                <a:cubicBezTo>
                  <a:pt x="741039" y="2423629"/>
                  <a:pt x="731520" y="2420620"/>
                  <a:pt x="723900" y="2415540"/>
                </a:cubicBezTo>
                <a:cubicBezTo>
                  <a:pt x="718820" y="2407920"/>
                  <a:pt x="714523" y="2399715"/>
                  <a:pt x="708660" y="2392680"/>
                </a:cubicBezTo>
                <a:cubicBezTo>
                  <a:pt x="701761" y="2384401"/>
                  <a:pt x="691778" y="2378786"/>
                  <a:pt x="685800" y="2369820"/>
                </a:cubicBezTo>
                <a:cubicBezTo>
                  <a:pt x="681345" y="2363137"/>
                  <a:pt x="681772" y="2354144"/>
                  <a:pt x="678180" y="2346960"/>
                </a:cubicBezTo>
                <a:cubicBezTo>
                  <a:pt x="674084" y="2338769"/>
                  <a:pt x="668020" y="2331720"/>
                  <a:pt x="662940" y="2324100"/>
                </a:cubicBezTo>
                <a:cubicBezTo>
                  <a:pt x="660499" y="2314334"/>
                  <a:pt x="653166" y="2281692"/>
                  <a:pt x="647700" y="2270760"/>
                </a:cubicBezTo>
                <a:cubicBezTo>
                  <a:pt x="628285" y="2231929"/>
                  <a:pt x="627049" y="2261157"/>
                  <a:pt x="617220" y="2202180"/>
                </a:cubicBezTo>
                <a:cubicBezTo>
                  <a:pt x="614680" y="2186940"/>
                  <a:pt x="614040" y="2171259"/>
                  <a:pt x="609600" y="2156460"/>
                </a:cubicBezTo>
                <a:cubicBezTo>
                  <a:pt x="599581" y="2123062"/>
                  <a:pt x="593150" y="2131180"/>
                  <a:pt x="579120" y="2103120"/>
                </a:cubicBezTo>
                <a:cubicBezTo>
                  <a:pt x="547588" y="2040056"/>
                  <a:pt x="603829" y="2129062"/>
                  <a:pt x="556260" y="2049780"/>
                </a:cubicBezTo>
                <a:cubicBezTo>
                  <a:pt x="506737" y="1967241"/>
                  <a:pt x="546419" y="2033398"/>
                  <a:pt x="502920" y="1981200"/>
                </a:cubicBezTo>
                <a:cubicBezTo>
                  <a:pt x="471170" y="1943100"/>
                  <a:pt x="506730" y="1971040"/>
                  <a:pt x="464820" y="1943100"/>
                </a:cubicBezTo>
                <a:cubicBezTo>
                  <a:pt x="428904" y="1889226"/>
                  <a:pt x="473978" y="1955921"/>
                  <a:pt x="426720" y="1889760"/>
                </a:cubicBezTo>
                <a:cubicBezTo>
                  <a:pt x="421397" y="1882308"/>
                  <a:pt x="415576" y="1875091"/>
                  <a:pt x="411480" y="1866900"/>
                </a:cubicBezTo>
                <a:cubicBezTo>
                  <a:pt x="407888" y="1859716"/>
                  <a:pt x="407452" y="1851224"/>
                  <a:pt x="403860" y="1844040"/>
                </a:cubicBezTo>
                <a:cubicBezTo>
                  <a:pt x="399764" y="1835849"/>
                  <a:pt x="393164" y="1829131"/>
                  <a:pt x="388620" y="1821180"/>
                </a:cubicBezTo>
                <a:cubicBezTo>
                  <a:pt x="382984" y="1811317"/>
                  <a:pt x="379224" y="1800440"/>
                  <a:pt x="373380" y="1790700"/>
                </a:cubicBezTo>
                <a:cubicBezTo>
                  <a:pt x="363956" y="1774994"/>
                  <a:pt x="348692" y="1762356"/>
                  <a:pt x="342900" y="1744980"/>
                </a:cubicBezTo>
                <a:cubicBezTo>
                  <a:pt x="331872" y="1711897"/>
                  <a:pt x="340960" y="1727800"/>
                  <a:pt x="312420" y="1699260"/>
                </a:cubicBezTo>
                <a:cubicBezTo>
                  <a:pt x="309880" y="1691640"/>
                  <a:pt x="308701" y="1683421"/>
                  <a:pt x="304800" y="1676400"/>
                </a:cubicBezTo>
                <a:cubicBezTo>
                  <a:pt x="295905" y="1660389"/>
                  <a:pt x="280112" y="1648056"/>
                  <a:pt x="274320" y="1630680"/>
                </a:cubicBezTo>
                <a:lnTo>
                  <a:pt x="259080" y="1584960"/>
                </a:lnTo>
                <a:cubicBezTo>
                  <a:pt x="256540" y="1567180"/>
                  <a:pt x="254413" y="1549336"/>
                  <a:pt x="251460" y="1531620"/>
                </a:cubicBezTo>
                <a:cubicBezTo>
                  <a:pt x="249331" y="1518845"/>
                  <a:pt x="245969" y="1506295"/>
                  <a:pt x="243840" y="1493520"/>
                </a:cubicBezTo>
                <a:cubicBezTo>
                  <a:pt x="235206" y="1441718"/>
                  <a:pt x="240304" y="1450662"/>
                  <a:pt x="228600" y="1409700"/>
                </a:cubicBezTo>
                <a:cubicBezTo>
                  <a:pt x="226393" y="1401977"/>
                  <a:pt x="225998" y="1393112"/>
                  <a:pt x="220980" y="1386840"/>
                </a:cubicBezTo>
                <a:cubicBezTo>
                  <a:pt x="215259" y="1379689"/>
                  <a:pt x="205740" y="1376680"/>
                  <a:pt x="198120" y="1371600"/>
                </a:cubicBezTo>
                <a:cubicBezTo>
                  <a:pt x="195580" y="1363980"/>
                  <a:pt x="194955" y="1355423"/>
                  <a:pt x="190500" y="1348740"/>
                </a:cubicBezTo>
                <a:cubicBezTo>
                  <a:pt x="156795" y="1298183"/>
                  <a:pt x="177331" y="1352881"/>
                  <a:pt x="152400" y="1303020"/>
                </a:cubicBezTo>
                <a:cubicBezTo>
                  <a:pt x="135817" y="1269855"/>
                  <a:pt x="155967" y="1286678"/>
                  <a:pt x="129540" y="1249680"/>
                </a:cubicBezTo>
                <a:cubicBezTo>
                  <a:pt x="123276" y="1240911"/>
                  <a:pt x="113579" y="1235099"/>
                  <a:pt x="106680" y="1226820"/>
                </a:cubicBezTo>
                <a:cubicBezTo>
                  <a:pt x="74930" y="1188720"/>
                  <a:pt x="110490" y="1216660"/>
                  <a:pt x="68580" y="1188720"/>
                </a:cubicBezTo>
                <a:cubicBezTo>
                  <a:pt x="58420" y="1173480"/>
                  <a:pt x="43892" y="1160376"/>
                  <a:pt x="38100" y="1143000"/>
                </a:cubicBezTo>
                <a:cubicBezTo>
                  <a:pt x="35560" y="1135380"/>
                  <a:pt x="34072" y="1127324"/>
                  <a:pt x="30480" y="1120140"/>
                </a:cubicBezTo>
                <a:cubicBezTo>
                  <a:pt x="26384" y="1111949"/>
                  <a:pt x="18959" y="1105649"/>
                  <a:pt x="15240" y="1097280"/>
                </a:cubicBezTo>
                <a:cubicBezTo>
                  <a:pt x="8716" y="1082600"/>
                  <a:pt x="0" y="1051560"/>
                  <a:pt x="0" y="1051560"/>
                </a:cubicBezTo>
                <a:cubicBezTo>
                  <a:pt x="540" y="1045075"/>
                  <a:pt x="-18" y="964724"/>
                  <a:pt x="15240" y="937260"/>
                </a:cubicBezTo>
                <a:cubicBezTo>
                  <a:pt x="24135" y="921249"/>
                  <a:pt x="35560" y="906780"/>
                  <a:pt x="45720" y="891540"/>
                </a:cubicBezTo>
                <a:cubicBezTo>
                  <a:pt x="50800" y="883920"/>
                  <a:pt x="54484" y="875156"/>
                  <a:pt x="60960" y="868680"/>
                </a:cubicBezTo>
                <a:cubicBezTo>
                  <a:pt x="77812" y="851828"/>
                  <a:pt x="88451" y="844178"/>
                  <a:pt x="99060" y="822960"/>
                </a:cubicBezTo>
                <a:cubicBezTo>
                  <a:pt x="102652" y="815776"/>
                  <a:pt x="102779" y="807121"/>
                  <a:pt x="106680" y="800100"/>
                </a:cubicBezTo>
                <a:cubicBezTo>
                  <a:pt x="132827" y="753035"/>
                  <a:pt x="126626" y="761402"/>
                  <a:pt x="160020" y="739140"/>
                </a:cubicBezTo>
                <a:cubicBezTo>
                  <a:pt x="200660" y="678180"/>
                  <a:pt x="147320" y="751840"/>
                  <a:pt x="198120" y="701040"/>
                </a:cubicBezTo>
                <a:cubicBezTo>
                  <a:pt x="204596" y="694564"/>
                  <a:pt x="206468" y="684211"/>
                  <a:pt x="213360" y="678180"/>
                </a:cubicBezTo>
                <a:cubicBezTo>
                  <a:pt x="277429" y="622119"/>
                  <a:pt x="236588" y="662756"/>
                  <a:pt x="281940" y="640080"/>
                </a:cubicBezTo>
                <a:cubicBezTo>
                  <a:pt x="290131" y="635984"/>
                  <a:pt x="296028" y="627472"/>
                  <a:pt x="304800" y="624840"/>
                </a:cubicBezTo>
                <a:cubicBezTo>
                  <a:pt x="322003" y="619679"/>
                  <a:pt x="340388" y="619951"/>
                  <a:pt x="358140" y="617220"/>
                </a:cubicBezTo>
                <a:cubicBezTo>
                  <a:pt x="451608" y="602840"/>
                  <a:pt x="359416" y="612775"/>
                  <a:pt x="510540" y="601980"/>
                </a:cubicBezTo>
                <a:cubicBezTo>
                  <a:pt x="579367" y="574449"/>
                  <a:pt x="516644" y="596390"/>
                  <a:pt x="594360" y="579120"/>
                </a:cubicBezTo>
                <a:cubicBezTo>
                  <a:pt x="634309" y="570242"/>
                  <a:pt x="601108" y="571791"/>
                  <a:pt x="647700" y="556260"/>
                </a:cubicBezTo>
                <a:cubicBezTo>
                  <a:pt x="673785" y="547565"/>
                  <a:pt x="685849" y="552425"/>
                  <a:pt x="708660" y="541020"/>
                </a:cubicBezTo>
                <a:cubicBezTo>
                  <a:pt x="750276" y="520212"/>
                  <a:pt x="712243" y="529652"/>
                  <a:pt x="754380" y="518160"/>
                </a:cubicBezTo>
                <a:cubicBezTo>
                  <a:pt x="774587" y="512649"/>
                  <a:pt x="795469" y="509544"/>
                  <a:pt x="815340" y="502920"/>
                </a:cubicBezTo>
                <a:cubicBezTo>
                  <a:pt x="822960" y="500380"/>
                  <a:pt x="831016" y="498892"/>
                  <a:pt x="838200" y="495300"/>
                </a:cubicBezTo>
                <a:cubicBezTo>
                  <a:pt x="846391" y="491204"/>
                  <a:pt x="852691" y="483779"/>
                  <a:pt x="861060" y="480060"/>
                </a:cubicBezTo>
                <a:cubicBezTo>
                  <a:pt x="880055" y="471618"/>
                  <a:pt x="915095" y="462126"/>
                  <a:pt x="937260" y="457200"/>
                </a:cubicBezTo>
                <a:cubicBezTo>
                  <a:pt x="949903" y="454390"/>
                  <a:pt x="962740" y="452492"/>
                  <a:pt x="975360" y="449580"/>
                </a:cubicBezTo>
                <a:cubicBezTo>
                  <a:pt x="995769" y="444870"/>
                  <a:pt x="1016000" y="439420"/>
                  <a:pt x="1036320" y="434340"/>
                </a:cubicBezTo>
                <a:cubicBezTo>
                  <a:pt x="1046480" y="431800"/>
                  <a:pt x="1056408" y="428019"/>
                  <a:pt x="1066800" y="426720"/>
                </a:cubicBezTo>
                <a:cubicBezTo>
                  <a:pt x="1087120" y="424180"/>
                  <a:pt x="1107520" y="422214"/>
                  <a:pt x="1127760" y="419100"/>
                </a:cubicBezTo>
                <a:cubicBezTo>
                  <a:pt x="1140561" y="417131"/>
                  <a:pt x="1153295" y="414621"/>
                  <a:pt x="1165860" y="411480"/>
                </a:cubicBezTo>
                <a:cubicBezTo>
                  <a:pt x="1173652" y="409532"/>
                  <a:pt x="1180844" y="405435"/>
                  <a:pt x="1188720" y="403860"/>
                </a:cubicBezTo>
                <a:cubicBezTo>
                  <a:pt x="1206332" y="400338"/>
                  <a:pt x="1224344" y="399193"/>
                  <a:pt x="1242060" y="396240"/>
                </a:cubicBezTo>
                <a:cubicBezTo>
                  <a:pt x="1288024" y="388579"/>
                  <a:pt x="1269540" y="390133"/>
                  <a:pt x="1310640" y="381000"/>
                </a:cubicBezTo>
                <a:cubicBezTo>
                  <a:pt x="1323283" y="378190"/>
                  <a:pt x="1336245" y="376788"/>
                  <a:pt x="1348740" y="373380"/>
                </a:cubicBezTo>
                <a:cubicBezTo>
                  <a:pt x="1466180" y="341351"/>
                  <a:pt x="1345160" y="374971"/>
                  <a:pt x="1417320" y="342900"/>
                </a:cubicBezTo>
                <a:cubicBezTo>
                  <a:pt x="1432000" y="336376"/>
                  <a:pt x="1463040" y="327660"/>
                  <a:pt x="1463040" y="327660"/>
                </a:cubicBezTo>
                <a:cubicBezTo>
                  <a:pt x="1470660" y="320040"/>
                  <a:pt x="1476480" y="310033"/>
                  <a:pt x="1485900" y="304800"/>
                </a:cubicBezTo>
                <a:cubicBezTo>
                  <a:pt x="1501079" y="296367"/>
                  <a:pt x="1542423" y="286859"/>
                  <a:pt x="1562100" y="281940"/>
                </a:cubicBezTo>
                <a:cubicBezTo>
                  <a:pt x="1569720" y="276860"/>
                  <a:pt x="1576591" y="270419"/>
                  <a:pt x="1584960" y="266700"/>
                </a:cubicBezTo>
                <a:cubicBezTo>
                  <a:pt x="1599640" y="260176"/>
                  <a:pt x="1617314" y="260371"/>
                  <a:pt x="1630680" y="251460"/>
                </a:cubicBezTo>
                <a:cubicBezTo>
                  <a:pt x="1645920" y="241300"/>
                  <a:pt x="1659024" y="226772"/>
                  <a:pt x="1676400" y="220980"/>
                </a:cubicBezTo>
                <a:cubicBezTo>
                  <a:pt x="1684020" y="218440"/>
                  <a:pt x="1692076" y="216952"/>
                  <a:pt x="1699260" y="213360"/>
                </a:cubicBezTo>
                <a:cubicBezTo>
                  <a:pt x="1707451" y="209264"/>
                  <a:pt x="1713751" y="201839"/>
                  <a:pt x="1722120" y="198120"/>
                </a:cubicBezTo>
                <a:cubicBezTo>
                  <a:pt x="1743862" y="188457"/>
                  <a:pt x="1809427" y="170869"/>
                  <a:pt x="1828800" y="167640"/>
                </a:cubicBezTo>
                <a:cubicBezTo>
                  <a:pt x="1844040" y="165100"/>
                  <a:pt x="1859370" y="163050"/>
                  <a:pt x="1874520" y="160020"/>
                </a:cubicBezTo>
                <a:cubicBezTo>
                  <a:pt x="1884789" y="157966"/>
                  <a:pt x="1894777" y="154672"/>
                  <a:pt x="1905000" y="152400"/>
                </a:cubicBezTo>
                <a:cubicBezTo>
                  <a:pt x="1917643" y="149590"/>
                  <a:pt x="1930400" y="147320"/>
                  <a:pt x="1943100" y="144780"/>
                </a:cubicBezTo>
                <a:cubicBezTo>
                  <a:pt x="1959622" y="136519"/>
                  <a:pt x="1977753" y="125657"/>
                  <a:pt x="1996440" y="121920"/>
                </a:cubicBezTo>
                <a:cubicBezTo>
                  <a:pt x="2014052" y="118398"/>
                  <a:pt x="2032000" y="116840"/>
                  <a:pt x="2049780" y="114300"/>
                </a:cubicBezTo>
                <a:cubicBezTo>
                  <a:pt x="2128858" y="61581"/>
                  <a:pt x="2006442" y="141827"/>
                  <a:pt x="2103120" y="83820"/>
                </a:cubicBezTo>
                <a:cubicBezTo>
                  <a:pt x="2167922" y="44939"/>
                  <a:pt x="2125142" y="59264"/>
                  <a:pt x="2179320" y="45720"/>
                </a:cubicBezTo>
                <a:cubicBezTo>
                  <a:pt x="2213539" y="11501"/>
                  <a:pt x="2191957" y="26268"/>
                  <a:pt x="2247900" y="7620"/>
                </a:cubicBezTo>
                <a:lnTo>
                  <a:pt x="2270760" y="0"/>
                </a:lnTo>
                <a:cubicBezTo>
                  <a:pt x="2367280" y="2540"/>
                  <a:pt x="2463990" y="1052"/>
                  <a:pt x="2560320" y="7620"/>
                </a:cubicBezTo>
                <a:cubicBezTo>
                  <a:pt x="2576347" y="8713"/>
                  <a:pt x="2606040" y="22860"/>
                  <a:pt x="2606040" y="22860"/>
                </a:cubicBezTo>
                <a:cubicBezTo>
                  <a:pt x="2616200" y="38100"/>
                  <a:pt x="2637483" y="50289"/>
                  <a:pt x="2636520" y="68580"/>
                </a:cubicBezTo>
                <a:cubicBezTo>
                  <a:pt x="2631229" y="169117"/>
                  <a:pt x="2639997" y="178330"/>
                  <a:pt x="2621280" y="243840"/>
                </a:cubicBezTo>
                <a:cubicBezTo>
                  <a:pt x="2619073" y="251563"/>
                  <a:pt x="2618115" y="260017"/>
                  <a:pt x="2613660" y="266700"/>
                </a:cubicBezTo>
                <a:cubicBezTo>
                  <a:pt x="2607682" y="275666"/>
                  <a:pt x="2598420" y="281940"/>
                  <a:pt x="2590800" y="289560"/>
                </a:cubicBezTo>
                <a:cubicBezTo>
                  <a:pt x="2556112" y="393625"/>
                  <a:pt x="2593956" y="287275"/>
                  <a:pt x="2560320" y="365760"/>
                </a:cubicBezTo>
                <a:cubicBezTo>
                  <a:pt x="2541898" y="408744"/>
                  <a:pt x="2564414" y="367543"/>
                  <a:pt x="2545080" y="419100"/>
                </a:cubicBezTo>
                <a:cubicBezTo>
                  <a:pt x="2541092" y="429736"/>
                  <a:pt x="2534059" y="439033"/>
                  <a:pt x="2529840" y="449580"/>
                </a:cubicBezTo>
                <a:cubicBezTo>
                  <a:pt x="2502636" y="517590"/>
                  <a:pt x="2528680" y="474179"/>
                  <a:pt x="2499360" y="518160"/>
                </a:cubicBezTo>
                <a:cubicBezTo>
                  <a:pt x="2487446" y="589646"/>
                  <a:pt x="2484451" y="586409"/>
                  <a:pt x="2499360" y="685800"/>
                </a:cubicBezTo>
                <a:cubicBezTo>
                  <a:pt x="2501045" y="697034"/>
                  <a:pt x="2510125" y="705839"/>
                  <a:pt x="2514600" y="716280"/>
                </a:cubicBezTo>
                <a:cubicBezTo>
                  <a:pt x="2517764" y="723663"/>
                  <a:pt x="2520013" y="731417"/>
                  <a:pt x="2522220" y="739140"/>
                </a:cubicBezTo>
                <a:cubicBezTo>
                  <a:pt x="2525097" y="749210"/>
                  <a:pt x="2526963" y="759550"/>
                  <a:pt x="2529840" y="769620"/>
                </a:cubicBezTo>
                <a:cubicBezTo>
                  <a:pt x="2532047" y="777343"/>
                  <a:pt x="2535253" y="784757"/>
                  <a:pt x="2537460" y="792480"/>
                </a:cubicBezTo>
                <a:cubicBezTo>
                  <a:pt x="2540337" y="802550"/>
                  <a:pt x="2540955" y="813334"/>
                  <a:pt x="2545080" y="822960"/>
                </a:cubicBezTo>
                <a:cubicBezTo>
                  <a:pt x="2548688" y="831378"/>
                  <a:pt x="2555240" y="838200"/>
                  <a:pt x="2560320" y="845820"/>
                </a:cubicBezTo>
                <a:cubicBezTo>
                  <a:pt x="2562860" y="858520"/>
                  <a:pt x="2564799" y="871355"/>
                  <a:pt x="2567940" y="883920"/>
                </a:cubicBezTo>
                <a:cubicBezTo>
                  <a:pt x="2569888" y="891712"/>
                  <a:pt x="2575560" y="898748"/>
                  <a:pt x="2575560" y="906780"/>
                </a:cubicBezTo>
                <a:cubicBezTo>
                  <a:pt x="2575560" y="947499"/>
                  <a:pt x="2571992" y="988183"/>
                  <a:pt x="2567940" y="1028700"/>
                </a:cubicBezTo>
                <a:cubicBezTo>
                  <a:pt x="2566295" y="1045152"/>
                  <a:pt x="2548490" y="1094669"/>
                  <a:pt x="2545080" y="1104900"/>
                </a:cubicBezTo>
                <a:lnTo>
                  <a:pt x="2537460" y="1127760"/>
                </a:lnTo>
                <a:cubicBezTo>
                  <a:pt x="2534920" y="1135380"/>
                  <a:pt x="2531788" y="1142828"/>
                  <a:pt x="2529840" y="1150620"/>
                </a:cubicBezTo>
                <a:cubicBezTo>
                  <a:pt x="2527300" y="1160780"/>
                  <a:pt x="2525097" y="1171030"/>
                  <a:pt x="2522220" y="1181100"/>
                </a:cubicBezTo>
                <a:cubicBezTo>
                  <a:pt x="2500356" y="1257622"/>
                  <a:pt x="2530801" y="1139155"/>
                  <a:pt x="2506980" y="1234440"/>
                </a:cubicBezTo>
                <a:cubicBezTo>
                  <a:pt x="2500161" y="1302632"/>
                  <a:pt x="2493757" y="1313107"/>
                  <a:pt x="2506980" y="1379220"/>
                </a:cubicBezTo>
                <a:lnTo>
                  <a:pt x="2529840" y="1447800"/>
                </a:lnTo>
                <a:lnTo>
                  <a:pt x="2537460" y="1470660"/>
                </a:lnTo>
                <a:cubicBezTo>
                  <a:pt x="2540000" y="1488440"/>
                  <a:pt x="2541867" y="1506329"/>
                  <a:pt x="2545080" y="1524000"/>
                </a:cubicBezTo>
                <a:cubicBezTo>
                  <a:pt x="2546953" y="1534304"/>
                  <a:pt x="2551926" y="1544036"/>
                  <a:pt x="2552700" y="1554480"/>
                </a:cubicBezTo>
                <a:cubicBezTo>
                  <a:pt x="2557020" y="1612795"/>
                  <a:pt x="2557780" y="1671320"/>
                  <a:pt x="2560320" y="1729740"/>
                </a:cubicBezTo>
                <a:cubicBezTo>
                  <a:pt x="2557780" y="1780540"/>
                  <a:pt x="2557106" y="1831468"/>
                  <a:pt x="2552700" y="1882140"/>
                </a:cubicBezTo>
                <a:cubicBezTo>
                  <a:pt x="2552004" y="1890142"/>
                  <a:pt x="2548672" y="1897816"/>
                  <a:pt x="2545080" y="1905000"/>
                </a:cubicBezTo>
                <a:cubicBezTo>
                  <a:pt x="2540984" y="1913191"/>
                  <a:pt x="2536316" y="1921384"/>
                  <a:pt x="2529840" y="1927860"/>
                </a:cubicBezTo>
                <a:cubicBezTo>
                  <a:pt x="2523364" y="1934336"/>
                  <a:pt x="2514600" y="1938020"/>
                  <a:pt x="2506980" y="1943100"/>
                </a:cubicBezTo>
                <a:cubicBezTo>
                  <a:pt x="2469142" y="1999857"/>
                  <a:pt x="2517773" y="1930148"/>
                  <a:pt x="2468880" y="1988820"/>
                </a:cubicBezTo>
                <a:cubicBezTo>
                  <a:pt x="2437130" y="2026920"/>
                  <a:pt x="2472690" y="1998980"/>
                  <a:pt x="2430780" y="2026920"/>
                </a:cubicBezTo>
                <a:cubicBezTo>
                  <a:pt x="2417368" y="2067156"/>
                  <a:pt x="2429843" y="2045325"/>
                  <a:pt x="2377440" y="2080260"/>
                </a:cubicBezTo>
                <a:cubicBezTo>
                  <a:pt x="2369820" y="2085340"/>
                  <a:pt x="2363268" y="2092604"/>
                  <a:pt x="2354580" y="2095500"/>
                </a:cubicBezTo>
                <a:lnTo>
                  <a:pt x="2308860" y="2110740"/>
                </a:lnTo>
                <a:cubicBezTo>
                  <a:pt x="2247370" y="2131237"/>
                  <a:pt x="2294017" y="2117859"/>
                  <a:pt x="2164080" y="2125980"/>
                </a:cubicBezTo>
                <a:cubicBezTo>
                  <a:pt x="2154314" y="2128421"/>
                  <a:pt x="2121672" y="2135754"/>
                  <a:pt x="2110740" y="2141220"/>
                </a:cubicBezTo>
                <a:cubicBezTo>
                  <a:pt x="2102549" y="2145316"/>
                  <a:pt x="2095500" y="2151380"/>
                  <a:pt x="2087880" y="2156460"/>
                </a:cubicBezTo>
                <a:cubicBezTo>
                  <a:pt x="2051890" y="2147462"/>
                  <a:pt x="2043430" y="2150110"/>
                  <a:pt x="2034540" y="2148840"/>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1" name="Freeform: Shape 165"/>
          <p:cNvSpPr/>
          <p:nvPr/>
        </p:nvSpPr>
        <p:spPr>
          <a:xfrm>
            <a:off x="258840" y="1494000"/>
            <a:ext cx="4781520" cy="2438280"/>
          </a:xfrm>
          <a:custGeom>
            <a:avLst/>
            <a:gdLst/>
            <a:ahLst/>
            <a:rect l="l" t="t" r="r" b="b"/>
            <a:pathLst>
              <a:path w="4780495" h="2438400">
                <a:moveTo>
                  <a:pt x="99060" y="99060"/>
                </a:moveTo>
                <a:lnTo>
                  <a:pt x="99060" y="99060"/>
                </a:lnTo>
                <a:cubicBezTo>
                  <a:pt x="104140" y="121920"/>
                  <a:pt x="109034" y="144822"/>
                  <a:pt x="114300" y="167640"/>
                </a:cubicBezTo>
                <a:cubicBezTo>
                  <a:pt x="116655" y="177844"/>
                  <a:pt x="119648" y="187897"/>
                  <a:pt x="121920" y="198120"/>
                </a:cubicBezTo>
                <a:cubicBezTo>
                  <a:pt x="124730" y="210763"/>
                  <a:pt x="127000" y="223520"/>
                  <a:pt x="129540" y="236220"/>
                </a:cubicBezTo>
                <a:cubicBezTo>
                  <a:pt x="127000" y="264160"/>
                  <a:pt x="127422" y="292530"/>
                  <a:pt x="121920" y="320040"/>
                </a:cubicBezTo>
                <a:cubicBezTo>
                  <a:pt x="119692" y="331179"/>
                  <a:pt x="110272" y="339744"/>
                  <a:pt x="106680" y="350520"/>
                </a:cubicBezTo>
                <a:cubicBezTo>
                  <a:pt x="102584" y="362807"/>
                  <a:pt x="102468" y="376125"/>
                  <a:pt x="99060" y="388620"/>
                </a:cubicBezTo>
                <a:cubicBezTo>
                  <a:pt x="94833" y="404118"/>
                  <a:pt x="88900" y="419100"/>
                  <a:pt x="83820" y="434340"/>
                </a:cubicBezTo>
                <a:lnTo>
                  <a:pt x="68580" y="480060"/>
                </a:lnTo>
                <a:cubicBezTo>
                  <a:pt x="66040" y="487680"/>
                  <a:pt x="62908" y="495128"/>
                  <a:pt x="60960" y="502920"/>
                </a:cubicBezTo>
                <a:cubicBezTo>
                  <a:pt x="55880" y="523240"/>
                  <a:pt x="49828" y="543341"/>
                  <a:pt x="45720" y="563880"/>
                </a:cubicBezTo>
                <a:cubicBezTo>
                  <a:pt x="39888" y="593039"/>
                  <a:pt x="32128" y="638121"/>
                  <a:pt x="22860" y="670560"/>
                </a:cubicBezTo>
                <a:cubicBezTo>
                  <a:pt x="20653" y="678283"/>
                  <a:pt x="17780" y="685800"/>
                  <a:pt x="15240" y="693420"/>
                </a:cubicBezTo>
                <a:cubicBezTo>
                  <a:pt x="12700" y="711200"/>
                  <a:pt x="10351" y="729008"/>
                  <a:pt x="7620" y="746760"/>
                </a:cubicBezTo>
                <a:cubicBezTo>
                  <a:pt x="5271" y="762031"/>
                  <a:pt x="0" y="777030"/>
                  <a:pt x="0" y="792480"/>
                </a:cubicBezTo>
                <a:cubicBezTo>
                  <a:pt x="0" y="889033"/>
                  <a:pt x="741" y="985732"/>
                  <a:pt x="7620" y="1082040"/>
                </a:cubicBezTo>
                <a:cubicBezTo>
                  <a:pt x="8429" y="1093370"/>
                  <a:pt x="17780" y="1102360"/>
                  <a:pt x="22860" y="1112520"/>
                </a:cubicBezTo>
                <a:cubicBezTo>
                  <a:pt x="25400" y="1127760"/>
                  <a:pt x="27716" y="1143039"/>
                  <a:pt x="30480" y="1158240"/>
                </a:cubicBezTo>
                <a:cubicBezTo>
                  <a:pt x="32797" y="1170983"/>
                  <a:pt x="36268" y="1183519"/>
                  <a:pt x="38100" y="1196340"/>
                </a:cubicBezTo>
                <a:cubicBezTo>
                  <a:pt x="41580" y="1220698"/>
                  <a:pt x="51155" y="1319269"/>
                  <a:pt x="53340" y="1341120"/>
                </a:cubicBezTo>
                <a:cubicBezTo>
                  <a:pt x="50800" y="1430020"/>
                  <a:pt x="49758" y="1518975"/>
                  <a:pt x="45720" y="1607820"/>
                </a:cubicBezTo>
                <a:cubicBezTo>
                  <a:pt x="44676" y="1630797"/>
                  <a:pt x="39121" y="1653422"/>
                  <a:pt x="38100" y="1676400"/>
                </a:cubicBezTo>
                <a:cubicBezTo>
                  <a:pt x="34038" y="1767785"/>
                  <a:pt x="33020" y="1859280"/>
                  <a:pt x="30480" y="1950720"/>
                </a:cubicBezTo>
                <a:cubicBezTo>
                  <a:pt x="33020" y="1968500"/>
                  <a:pt x="35369" y="1986308"/>
                  <a:pt x="38100" y="2004060"/>
                </a:cubicBezTo>
                <a:cubicBezTo>
                  <a:pt x="40449" y="2019331"/>
                  <a:pt x="43535" y="2034485"/>
                  <a:pt x="45720" y="2049780"/>
                </a:cubicBezTo>
                <a:cubicBezTo>
                  <a:pt x="48616" y="2070052"/>
                  <a:pt x="49973" y="2090540"/>
                  <a:pt x="53340" y="2110740"/>
                </a:cubicBezTo>
                <a:cubicBezTo>
                  <a:pt x="58104" y="2139326"/>
                  <a:pt x="61333" y="2138714"/>
                  <a:pt x="68580" y="2164080"/>
                </a:cubicBezTo>
                <a:cubicBezTo>
                  <a:pt x="71457" y="2174150"/>
                  <a:pt x="74327" y="2184256"/>
                  <a:pt x="76200" y="2194560"/>
                </a:cubicBezTo>
                <a:cubicBezTo>
                  <a:pt x="80212" y="2216624"/>
                  <a:pt x="80262" y="2248404"/>
                  <a:pt x="91440" y="2270760"/>
                </a:cubicBezTo>
                <a:cubicBezTo>
                  <a:pt x="95536" y="2278951"/>
                  <a:pt x="102584" y="2285429"/>
                  <a:pt x="106680" y="2293620"/>
                </a:cubicBezTo>
                <a:cubicBezTo>
                  <a:pt x="110272" y="2300804"/>
                  <a:pt x="109845" y="2309797"/>
                  <a:pt x="114300" y="2316480"/>
                </a:cubicBezTo>
                <a:cubicBezTo>
                  <a:pt x="126034" y="2334081"/>
                  <a:pt x="143152" y="2343335"/>
                  <a:pt x="160020" y="2354580"/>
                </a:cubicBezTo>
                <a:cubicBezTo>
                  <a:pt x="200660" y="2415540"/>
                  <a:pt x="147320" y="2341880"/>
                  <a:pt x="198120" y="2392680"/>
                </a:cubicBezTo>
                <a:cubicBezTo>
                  <a:pt x="204596" y="2399156"/>
                  <a:pt x="205594" y="2410686"/>
                  <a:pt x="213360" y="2415540"/>
                </a:cubicBezTo>
                <a:cubicBezTo>
                  <a:pt x="226983" y="2424054"/>
                  <a:pt x="243840" y="2425700"/>
                  <a:pt x="259080" y="2430780"/>
                </a:cubicBezTo>
                <a:lnTo>
                  <a:pt x="281940" y="2438400"/>
                </a:lnTo>
                <a:cubicBezTo>
                  <a:pt x="297180" y="2435860"/>
                  <a:pt x="312671" y="2434527"/>
                  <a:pt x="327660" y="2430780"/>
                </a:cubicBezTo>
                <a:cubicBezTo>
                  <a:pt x="343245" y="2426884"/>
                  <a:pt x="373380" y="2415540"/>
                  <a:pt x="373380" y="2415540"/>
                </a:cubicBezTo>
                <a:cubicBezTo>
                  <a:pt x="390232" y="2398688"/>
                  <a:pt x="397882" y="2388049"/>
                  <a:pt x="419100" y="2377440"/>
                </a:cubicBezTo>
                <a:cubicBezTo>
                  <a:pt x="426284" y="2373848"/>
                  <a:pt x="434776" y="2373412"/>
                  <a:pt x="441960" y="2369820"/>
                </a:cubicBezTo>
                <a:cubicBezTo>
                  <a:pt x="470339" y="2355631"/>
                  <a:pt x="462401" y="2352786"/>
                  <a:pt x="487680" y="2331720"/>
                </a:cubicBezTo>
                <a:cubicBezTo>
                  <a:pt x="494715" y="2325857"/>
                  <a:pt x="502920" y="2321560"/>
                  <a:pt x="510540" y="2316480"/>
                </a:cubicBezTo>
                <a:cubicBezTo>
                  <a:pt x="515620" y="2308860"/>
                  <a:pt x="518629" y="2299341"/>
                  <a:pt x="525780" y="2293620"/>
                </a:cubicBezTo>
                <a:cubicBezTo>
                  <a:pt x="532052" y="2288602"/>
                  <a:pt x="541257" y="2289164"/>
                  <a:pt x="548640" y="2286000"/>
                </a:cubicBezTo>
                <a:cubicBezTo>
                  <a:pt x="559081" y="2281525"/>
                  <a:pt x="569257" y="2276396"/>
                  <a:pt x="579120" y="2270760"/>
                </a:cubicBezTo>
                <a:cubicBezTo>
                  <a:pt x="587071" y="2266216"/>
                  <a:pt x="593611" y="2259239"/>
                  <a:pt x="601980" y="2255520"/>
                </a:cubicBezTo>
                <a:cubicBezTo>
                  <a:pt x="616660" y="2248996"/>
                  <a:pt x="634334" y="2249191"/>
                  <a:pt x="647700" y="2240280"/>
                </a:cubicBezTo>
                <a:cubicBezTo>
                  <a:pt x="655320" y="2235200"/>
                  <a:pt x="662191" y="2228759"/>
                  <a:pt x="670560" y="2225040"/>
                </a:cubicBezTo>
                <a:lnTo>
                  <a:pt x="739140" y="2202180"/>
                </a:lnTo>
                <a:lnTo>
                  <a:pt x="784860" y="2186940"/>
                </a:lnTo>
                <a:cubicBezTo>
                  <a:pt x="792480" y="2184400"/>
                  <a:pt x="799844" y="2180895"/>
                  <a:pt x="807720" y="2179320"/>
                </a:cubicBezTo>
                <a:cubicBezTo>
                  <a:pt x="833120" y="2174240"/>
                  <a:pt x="859346" y="2172271"/>
                  <a:pt x="883920" y="2164080"/>
                </a:cubicBezTo>
                <a:cubicBezTo>
                  <a:pt x="899160" y="2159000"/>
                  <a:pt x="913794" y="2151481"/>
                  <a:pt x="929640" y="2148840"/>
                </a:cubicBezTo>
                <a:cubicBezTo>
                  <a:pt x="962726" y="2143326"/>
                  <a:pt x="981510" y="2140700"/>
                  <a:pt x="1013460" y="2133600"/>
                </a:cubicBezTo>
                <a:cubicBezTo>
                  <a:pt x="1023683" y="2131328"/>
                  <a:pt x="1033483" y="2126545"/>
                  <a:pt x="1043940" y="2125980"/>
                </a:cubicBezTo>
                <a:cubicBezTo>
                  <a:pt x="1127676" y="2121454"/>
                  <a:pt x="1211580" y="2120900"/>
                  <a:pt x="1295400" y="2118360"/>
                </a:cubicBezTo>
                <a:cubicBezTo>
                  <a:pt x="1346949" y="2101177"/>
                  <a:pt x="1284380" y="2123870"/>
                  <a:pt x="1356360" y="2087880"/>
                </a:cubicBezTo>
                <a:cubicBezTo>
                  <a:pt x="1373662" y="2079229"/>
                  <a:pt x="1391739" y="2072204"/>
                  <a:pt x="1409700" y="2065020"/>
                </a:cubicBezTo>
                <a:cubicBezTo>
                  <a:pt x="1438507" y="2053497"/>
                  <a:pt x="1432206" y="2061431"/>
                  <a:pt x="1463040" y="2042160"/>
                </a:cubicBezTo>
                <a:cubicBezTo>
                  <a:pt x="1473810" y="2035429"/>
                  <a:pt x="1481629" y="2023759"/>
                  <a:pt x="1493520" y="2019300"/>
                </a:cubicBezTo>
                <a:cubicBezTo>
                  <a:pt x="1522938" y="2008268"/>
                  <a:pt x="1554152" y="2002602"/>
                  <a:pt x="1584960" y="1996440"/>
                </a:cubicBezTo>
                <a:cubicBezTo>
                  <a:pt x="1597660" y="1993900"/>
                  <a:pt x="1610259" y="1990789"/>
                  <a:pt x="1623060" y="1988820"/>
                </a:cubicBezTo>
                <a:cubicBezTo>
                  <a:pt x="1643300" y="1985706"/>
                  <a:pt x="1663722" y="1983906"/>
                  <a:pt x="1684020" y="1981200"/>
                </a:cubicBezTo>
                <a:lnTo>
                  <a:pt x="1737360" y="1973580"/>
                </a:lnTo>
                <a:cubicBezTo>
                  <a:pt x="1752631" y="1971231"/>
                  <a:pt x="1767785" y="1968145"/>
                  <a:pt x="1783080" y="1965960"/>
                </a:cubicBezTo>
                <a:cubicBezTo>
                  <a:pt x="1803352" y="1963064"/>
                  <a:pt x="1823768" y="1961236"/>
                  <a:pt x="1844040" y="1958340"/>
                </a:cubicBezTo>
                <a:cubicBezTo>
                  <a:pt x="1912847" y="1948510"/>
                  <a:pt x="1877844" y="1948974"/>
                  <a:pt x="1965960" y="1943100"/>
                </a:cubicBezTo>
                <a:cubicBezTo>
                  <a:pt x="2016711" y="1939717"/>
                  <a:pt x="2067560" y="1938020"/>
                  <a:pt x="2118360" y="1935480"/>
                </a:cubicBezTo>
                <a:cubicBezTo>
                  <a:pt x="2187801" y="1921592"/>
                  <a:pt x="2124837" y="1935823"/>
                  <a:pt x="2202180" y="1912620"/>
                </a:cubicBezTo>
                <a:cubicBezTo>
                  <a:pt x="2212211" y="1909611"/>
                  <a:pt x="2222725" y="1908312"/>
                  <a:pt x="2232660" y="1905000"/>
                </a:cubicBezTo>
                <a:cubicBezTo>
                  <a:pt x="2245636" y="1900675"/>
                  <a:pt x="2257564" y="1893359"/>
                  <a:pt x="2270760" y="1889760"/>
                </a:cubicBezTo>
                <a:cubicBezTo>
                  <a:pt x="2285666" y="1885695"/>
                  <a:pt x="2301240" y="1884680"/>
                  <a:pt x="2316480" y="1882140"/>
                </a:cubicBezTo>
                <a:cubicBezTo>
                  <a:pt x="2324100" y="1877060"/>
                  <a:pt x="2331149" y="1870996"/>
                  <a:pt x="2339340" y="1866900"/>
                </a:cubicBezTo>
                <a:cubicBezTo>
                  <a:pt x="2356758" y="1858191"/>
                  <a:pt x="2382910" y="1856007"/>
                  <a:pt x="2400300" y="1851660"/>
                </a:cubicBezTo>
                <a:cubicBezTo>
                  <a:pt x="2408092" y="1849712"/>
                  <a:pt x="2415437" y="1846247"/>
                  <a:pt x="2423160" y="1844040"/>
                </a:cubicBezTo>
                <a:cubicBezTo>
                  <a:pt x="2444564" y="1837925"/>
                  <a:pt x="2470134" y="1832728"/>
                  <a:pt x="2491740" y="1828800"/>
                </a:cubicBezTo>
                <a:cubicBezTo>
                  <a:pt x="2506941" y="1826036"/>
                  <a:pt x="2522079" y="1822645"/>
                  <a:pt x="2537460" y="1821180"/>
                </a:cubicBezTo>
                <a:cubicBezTo>
                  <a:pt x="2575473" y="1817560"/>
                  <a:pt x="2613660" y="1816100"/>
                  <a:pt x="2651760" y="1813560"/>
                </a:cubicBezTo>
                <a:cubicBezTo>
                  <a:pt x="2727960" y="1816100"/>
                  <a:pt x="2804235" y="1816951"/>
                  <a:pt x="2880360" y="1821180"/>
                </a:cubicBezTo>
                <a:cubicBezTo>
                  <a:pt x="2921628" y="1823473"/>
                  <a:pt x="2938383" y="1834570"/>
                  <a:pt x="2979420" y="1844040"/>
                </a:cubicBezTo>
                <a:cubicBezTo>
                  <a:pt x="2994475" y="1847514"/>
                  <a:pt x="3010151" y="1847913"/>
                  <a:pt x="3025140" y="1851660"/>
                </a:cubicBezTo>
                <a:cubicBezTo>
                  <a:pt x="3040725" y="1855556"/>
                  <a:pt x="3055014" y="1864259"/>
                  <a:pt x="3070860" y="1866900"/>
                </a:cubicBezTo>
                <a:cubicBezTo>
                  <a:pt x="3196669" y="1887868"/>
                  <a:pt x="3064405" y="1863381"/>
                  <a:pt x="3139440" y="1882140"/>
                </a:cubicBezTo>
                <a:cubicBezTo>
                  <a:pt x="3152005" y="1885281"/>
                  <a:pt x="3165045" y="1886352"/>
                  <a:pt x="3177540" y="1889760"/>
                </a:cubicBezTo>
                <a:cubicBezTo>
                  <a:pt x="3283886" y="1918763"/>
                  <a:pt x="3168535" y="1894055"/>
                  <a:pt x="3261360" y="1912620"/>
                </a:cubicBezTo>
                <a:cubicBezTo>
                  <a:pt x="3283875" y="1923877"/>
                  <a:pt x="3305617" y="1935803"/>
                  <a:pt x="3329940" y="1943100"/>
                </a:cubicBezTo>
                <a:cubicBezTo>
                  <a:pt x="3342345" y="1946822"/>
                  <a:pt x="3355545" y="1947312"/>
                  <a:pt x="3368040" y="1950720"/>
                </a:cubicBezTo>
                <a:cubicBezTo>
                  <a:pt x="3436530" y="1969399"/>
                  <a:pt x="3390506" y="1960749"/>
                  <a:pt x="3451860" y="1981200"/>
                </a:cubicBezTo>
                <a:cubicBezTo>
                  <a:pt x="3528228" y="2006656"/>
                  <a:pt x="3479661" y="1988150"/>
                  <a:pt x="3543300" y="2004060"/>
                </a:cubicBezTo>
                <a:cubicBezTo>
                  <a:pt x="3551092" y="2006008"/>
                  <a:pt x="3558284" y="2010105"/>
                  <a:pt x="3566160" y="2011680"/>
                </a:cubicBezTo>
                <a:cubicBezTo>
                  <a:pt x="3583772" y="2015202"/>
                  <a:pt x="3601748" y="2016569"/>
                  <a:pt x="3619500" y="2019300"/>
                </a:cubicBezTo>
                <a:cubicBezTo>
                  <a:pt x="3671247" y="2027261"/>
                  <a:pt x="3681489" y="2031753"/>
                  <a:pt x="3741420" y="2034540"/>
                </a:cubicBezTo>
                <a:cubicBezTo>
                  <a:pt x="3825188" y="2038436"/>
                  <a:pt x="3909060" y="2039620"/>
                  <a:pt x="3992880" y="2042160"/>
                </a:cubicBezTo>
                <a:cubicBezTo>
                  <a:pt x="4003040" y="2044700"/>
                  <a:pt x="4013137" y="2047508"/>
                  <a:pt x="4023360" y="2049780"/>
                </a:cubicBezTo>
                <a:cubicBezTo>
                  <a:pt x="4036003" y="2052590"/>
                  <a:pt x="4048965" y="2053992"/>
                  <a:pt x="4061460" y="2057400"/>
                </a:cubicBezTo>
                <a:cubicBezTo>
                  <a:pt x="4076958" y="2061627"/>
                  <a:pt x="4091595" y="2068744"/>
                  <a:pt x="4107180" y="2072640"/>
                </a:cubicBezTo>
                <a:lnTo>
                  <a:pt x="4168140" y="2087880"/>
                </a:lnTo>
                <a:cubicBezTo>
                  <a:pt x="4178300" y="2090420"/>
                  <a:pt x="4188685" y="2092188"/>
                  <a:pt x="4198620" y="2095500"/>
                </a:cubicBezTo>
                <a:cubicBezTo>
                  <a:pt x="4206240" y="2098040"/>
                  <a:pt x="4213577" y="2101683"/>
                  <a:pt x="4221480" y="2103120"/>
                </a:cubicBezTo>
                <a:cubicBezTo>
                  <a:pt x="4241628" y="2106783"/>
                  <a:pt x="4262120" y="2108200"/>
                  <a:pt x="4282440" y="2110740"/>
                </a:cubicBezTo>
                <a:cubicBezTo>
                  <a:pt x="4356185" y="2140238"/>
                  <a:pt x="4282918" y="2114858"/>
                  <a:pt x="4389120" y="2133600"/>
                </a:cubicBezTo>
                <a:cubicBezTo>
                  <a:pt x="4409747" y="2137240"/>
                  <a:pt x="4429760" y="2143760"/>
                  <a:pt x="4450080" y="2148840"/>
                </a:cubicBezTo>
                <a:cubicBezTo>
                  <a:pt x="4460240" y="2151380"/>
                  <a:pt x="4470193" y="2154979"/>
                  <a:pt x="4480560" y="2156460"/>
                </a:cubicBezTo>
                <a:lnTo>
                  <a:pt x="4533900" y="2164080"/>
                </a:lnTo>
                <a:cubicBezTo>
                  <a:pt x="4564380" y="2161540"/>
                  <a:pt x="4596702" y="2167199"/>
                  <a:pt x="4625340" y="2156460"/>
                </a:cubicBezTo>
                <a:cubicBezTo>
                  <a:pt x="4628791" y="2155166"/>
                  <a:pt x="4665240" y="2107140"/>
                  <a:pt x="4671060" y="2095500"/>
                </a:cubicBezTo>
                <a:cubicBezTo>
                  <a:pt x="4674652" y="2088316"/>
                  <a:pt x="4674011" y="2079176"/>
                  <a:pt x="4678680" y="2072640"/>
                </a:cubicBezTo>
                <a:cubicBezTo>
                  <a:pt x="4687031" y="2060948"/>
                  <a:pt x="4699000" y="2052320"/>
                  <a:pt x="4709160" y="2042160"/>
                </a:cubicBezTo>
                <a:cubicBezTo>
                  <a:pt x="4717101" y="2018338"/>
                  <a:pt x="4724801" y="1988552"/>
                  <a:pt x="4747260" y="1973580"/>
                </a:cubicBezTo>
                <a:lnTo>
                  <a:pt x="4770120" y="1958340"/>
                </a:lnTo>
                <a:cubicBezTo>
                  <a:pt x="4780142" y="1908231"/>
                  <a:pt x="4787309" y="1890680"/>
                  <a:pt x="4770120" y="1828800"/>
                </a:cubicBezTo>
                <a:cubicBezTo>
                  <a:pt x="4765218" y="1811152"/>
                  <a:pt x="4749800" y="1798320"/>
                  <a:pt x="4739640" y="1783080"/>
                </a:cubicBezTo>
                <a:cubicBezTo>
                  <a:pt x="4730987" y="1770100"/>
                  <a:pt x="4710992" y="1739192"/>
                  <a:pt x="4701540" y="1729740"/>
                </a:cubicBezTo>
                <a:cubicBezTo>
                  <a:pt x="4695064" y="1723264"/>
                  <a:pt x="4685156" y="1720976"/>
                  <a:pt x="4678680" y="1714500"/>
                </a:cubicBezTo>
                <a:cubicBezTo>
                  <a:pt x="4669700" y="1705520"/>
                  <a:pt x="4664316" y="1693460"/>
                  <a:pt x="4655820" y="1684020"/>
                </a:cubicBezTo>
                <a:cubicBezTo>
                  <a:pt x="4641402" y="1668000"/>
                  <a:pt x="4625340" y="1653540"/>
                  <a:pt x="4610100" y="1638300"/>
                </a:cubicBezTo>
                <a:cubicBezTo>
                  <a:pt x="4602480" y="1630680"/>
                  <a:pt x="4596206" y="1621418"/>
                  <a:pt x="4587240" y="1615440"/>
                </a:cubicBezTo>
                <a:cubicBezTo>
                  <a:pt x="4579620" y="1610360"/>
                  <a:pt x="4571415" y="1606063"/>
                  <a:pt x="4564380" y="1600200"/>
                </a:cubicBezTo>
                <a:cubicBezTo>
                  <a:pt x="4556101" y="1593301"/>
                  <a:pt x="4550289" y="1583604"/>
                  <a:pt x="4541520" y="1577340"/>
                </a:cubicBezTo>
                <a:cubicBezTo>
                  <a:pt x="4532277" y="1570738"/>
                  <a:pt x="4520283" y="1568702"/>
                  <a:pt x="4511040" y="1562100"/>
                </a:cubicBezTo>
                <a:cubicBezTo>
                  <a:pt x="4502271" y="1555836"/>
                  <a:pt x="4497146" y="1545218"/>
                  <a:pt x="4488180" y="1539240"/>
                </a:cubicBezTo>
                <a:cubicBezTo>
                  <a:pt x="4481497" y="1534785"/>
                  <a:pt x="4472504" y="1535212"/>
                  <a:pt x="4465320" y="1531620"/>
                </a:cubicBezTo>
                <a:cubicBezTo>
                  <a:pt x="4452073" y="1524996"/>
                  <a:pt x="4440167" y="1515953"/>
                  <a:pt x="4427220" y="1508760"/>
                </a:cubicBezTo>
                <a:cubicBezTo>
                  <a:pt x="4417290" y="1503243"/>
                  <a:pt x="4406670" y="1499037"/>
                  <a:pt x="4396740" y="1493520"/>
                </a:cubicBezTo>
                <a:cubicBezTo>
                  <a:pt x="4346381" y="1465543"/>
                  <a:pt x="4336515" y="1449889"/>
                  <a:pt x="4267200" y="1432560"/>
                </a:cubicBezTo>
                <a:cubicBezTo>
                  <a:pt x="4257040" y="1430020"/>
                  <a:pt x="4246526" y="1428617"/>
                  <a:pt x="4236720" y="1424940"/>
                </a:cubicBezTo>
                <a:cubicBezTo>
                  <a:pt x="4226084" y="1420952"/>
                  <a:pt x="4217016" y="1413292"/>
                  <a:pt x="4206240" y="1409700"/>
                </a:cubicBezTo>
                <a:cubicBezTo>
                  <a:pt x="4193953" y="1405604"/>
                  <a:pt x="4180635" y="1405488"/>
                  <a:pt x="4168140" y="1402080"/>
                </a:cubicBezTo>
                <a:cubicBezTo>
                  <a:pt x="4152642" y="1397853"/>
                  <a:pt x="4137100" y="1393364"/>
                  <a:pt x="4122420" y="1386840"/>
                </a:cubicBezTo>
                <a:cubicBezTo>
                  <a:pt x="4114051" y="1383121"/>
                  <a:pt x="4108248" y="1374496"/>
                  <a:pt x="4099560" y="1371600"/>
                </a:cubicBezTo>
                <a:cubicBezTo>
                  <a:pt x="4077344" y="1364195"/>
                  <a:pt x="4053840" y="1361440"/>
                  <a:pt x="4030980" y="1356360"/>
                </a:cubicBezTo>
                <a:cubicBezTo>
                  <a:pt x="4020820" y="1351280"/>
                  <a:pt x="4010363" y="1346756"/>
                  <a:pt x="4000500" y="1341120"/>
                </a:cubicBezTo>
                <a:cubicBezTo>
                  <a:pt x="3992549" y="1336576"/>
                  <a:pt x="3985831" y="1329976"/>
                  <a:pt x="3977640" y="1325880"/>
                </a:cubicBezTo>
                <a:cubicBezTo>
                  <a:pt x="3965406" y="1319763"/>
                  <a:pt x="3952039" y="1316195"/>
                  <a:pt x="3939540" y="1310640"/>
                </a:cubicBezTo>
                <a:cubicBezTo>
                  <a:pt x="3929160" y="1306027"/>
                  <a:pt x="3919501" y="1299875"/>
                  <a:pt x="3909060" y="1295400"/>
                </a:cubicBezTo>
                <a:cubicBezTo>
                  <a:pt x="3901677" y="1292236"/>
                  <a:pt x="3893384" y="1291372"/>
                  <a:pt x="3886200" y="1287780"/>
                </a:cubicBezTo>
                <a:cubicBezTo>
                  <a:pt x="3800037" y="1244699"/>
                  <a:pt x="3862426" y="1267155"/>
                  <a:pt x="3810000" y="1249680"/>
                </a:cubicBezTo>
                <a:cubicBezTo>
                  <a:pt x="3802380" y="1242060"/>
                  <a:pt x="3796106" y="1232798"/>
                  <a:pt x="3787140" y="1226820"/>
                </a:cubicBezTo>
                <a:cubicBezTo>
                  <a:pt x="3780457" y="1222365"/>
                  <a:pt x="3771464" y="1222792"/>
                  <a:pt x="3764280" y="1219200"/>
                </a:cubicBezTo>
                <a:cubicBezTo>
                  <a:pt x="3756089" y="1215104"/>
                  <a:pt x="3749838" y="1207568"/>
                  <a:pt x="3741420" y="1203960"/>
                </a:cubicBezTo>
                <a:cubicBezTo>
                  <a:pt x="3731794" y="1199835"/>
                  <a:pt x="3721010" y="1199217"/>
                  <a:pt x="3710940" y="1196340"/>
                </a:cubicBezTo>
                <a:cubicBezTo>
                  <a:pt x="3703217" y="1194133"/>
                  <a:pt x="3695700" y="1191260"/>
                  <a:pt x="3688080" y="1188720"/>
                </a:cubicBezTo>
                <a:cubicBezTo>
                  <a:pt x="3684611" y="1186118"/>
                  <a:pt x="3643406" y="1154334"/>
                  <a:pt x="3634740" y="1150620"/>
                </a:cubicBezTo>
                <a:cubicBezTo>
                  <a:pt x="3625114" y="1146495"/>
                  <a:pt x="3614066" y="1146677"/>
                  <a:pt x="3604260" y="1143000"/>
                </a:cubicBezTo>
                <a:cubicBezTo>
                  <a:pt x="3559614" y="1126258"/>
                  <a:pt x="3586653" y="1126422"/>
                  <a:pt x="3535680" y="1112520"/>
                </a:cubicBezTo>
                <a:cubicBezTo>
                  <a:pt x="3520774" y="1108455"/>
                  <a:pt x="3505110" y="1107930"/>
                  <a:pt x="3489960" y="1104900"/>
                </a:cubicBezTo>
                <a:cubicBezTo>
                  <a:pt x="3479691" y="1102846"/>
                  <a:pt x="3469831" y="1098872"/>
                  <a:pt x="3459480" y="1097280"/>
                </a:cubicBezTo>
                <a:cubicBezTo>
                  <a:pt x="3392013" y="1086900"/>
                  <a:pt x="3288071" y="1083470"/>
                  <a:pt x="3230880" y="1082040"/>
                </a:cubicBezTo>
                <a:lnTo>
                  <a:pt x="2781300" y="1074420"/>
                </a:lnTo>
                <a:lnTo>
                  <a:pt x="2651760" y="1059180"/>
                </a:lnTo>
                <a:cubicBezTo>
                  <a:pt x="2631173" y="1055320"/>
                  <a:pt x="2611209" y="1048650"/>
                  <a:pt x="2590800" y="1043940"/>
                </a:cubicBezTo>
                <a:cubicBezTo>
                  <a:pt x="2578180" y="1041028"/>
                  <a:pt x="2565079" y="1040129"/>
                  <a:pt x="2552700" y="1036320"/>
                </a:cubicBezTo>
                <a:cubicBezTo>
                  <a:pt x="2531958" y="1029938"/>
                  <a:pt x="2512223" y="1020629"/>
                  <a:pt x="2491740" y="1013460"/>
                </a:cubicBezTo>
                <a:cubicBezTo>
                  <a:pt x="2461415" y="1002846"/>
                  <a:pt x="2430780" y="993140"/>
                  <a:pt x="2400300" y="982980"/>
                </a:cubicBezTo>
                <a:cubicBezTo>
                  <a:pt x="2385060" y="977900"/>
                  <a:pt x="2370165" y="971636"/>
                  <a:pt x="2354580" y="967740"/>
                </a:cubicBezTo>
                <a:cubicBezTo>
                  <a:pt x="2277926" y="948577"/>
                  <a:pt x="2353883" y="968191"/>
                  <a:pt x="2202180" y="922020"/>
                </a:cubicBezTo>
                <a:cubicBezTo>
                  <a:pt x="2184490" y="916636"/>
                  <a:pt x="2166383" y="912628"/>
                  <a:pt x="2148840" y="906780"/>
                </a:cubicBezTo>
                <a:cubicBezTo>
                  <a:pt x="2118360" y="896620"/>
                  <a:pt x="2088905" y="882601"/>
                  <a:pt x="2057400" y="876300"/>
                </a:cubicBezTo>
                <a:cubicBezTo>
                  <a:pt x="2013291" y="867478"/>
                  <a:pt x="2019502" y="870359"/>
                  <a:pt x="1973580" y="853440"/>
                </a:cubicBezTo>
                <a:cubicBezTo>
                  <a:pt x="1940383" y="841210"/>
                  <a:pt x="1907493" y="828163"/>
                  <a:pt x="1874520" y="815340"/>
                </a:cubicBezTo>
                <a:cubicBezTo>
                  <a:pt x="1842509" y="802891"/>
                  <a:pt x="1824728" y="794140"/>
                  <a:pt x="1790700" y="784860"/>
                </a:cubicBezTo>
                <a:cubicBezTo>
                  <a:pt x="1778205" y="781452"/>
                  <a:pt x="1765005" y="780962"/>
                  <a:pt x="1752600" y="777240"/>
                </a:cubicBezTo>
                <a:cubicBezTo>
                  <a:pt x="1739499" y="773310"/>
                  <a:pt x="1726734" y="768117"/>
                  <a:pt x="1714500" y="762000"/>
                </a:cubicBezTo>
                <a:cubicBezTo>
                  <a:pt x="1637973" y="723736"/>
                  <a:pt x="1754674" y="771597"/>
                  <a:pt x="1661160" y="731520"/>
                </a:cubicBezTo>
                <a:cubicBezTo>
                  <a:pt x="1636015" y="720744"/>
                  <a:pt x="1610913" y="709691"/>
                  <a:pt x="1584960" y="701040"/>
                </a:cubicBezTo>
                <a:cubicBezTo>
                  <a:pt x="1577340" y="698500"/>
                  <a:pt x="1569597" y="696303"/>
                  <a:pt x="1562100" y="693420"/>
                </a:cubicBezTo>
                <a:cubicBezTo>
                  <a:pt x="1536567" y="683600"/>
                  <a:pt x="1511300" y="673100"/>
                  <a:pt x="1485900" y="662940"/>
                </a:cubicBezTo>
                <a:cubicBezTo>
                  <a:pt x="1473200" y="657860"/>
                  <a:pt x="1460952" y="651458"/>
                  <a:pt x="1447800" y="647700"/>
                </a:cubicBezTo>
                <a:lnTo>
                  <a:pt x="1394460" y="632460"/>
                </a:lnTo>
                <a:cubicBezTo>
                  <a:pt x="1320788" y="588257"/>
                  <a:pt x="1389373" y="631185"/>
                  <a:pt x="1325880" y="586740"/>
                </a:cubicBezTo>
                <a:cubicBezTo>
                  <a:pt x="1310875" y="576236"/>
                  <a:pt x="1294618" y="567505"/>
                  <a:pt x="1280160" y="556260"/>
                </a:cubicBezTo>
                <a:cubicBezTo>
                  <a:pt x="1271654" y="549644"/>
                  <a:pt x="1265579" y="540299"/>
                  <a:pt x="1257300" y="533400"/>
                </a:cubicBezTo>
                <a:cubicBezTo>
                  <a:pt x="1250265" y="527537"/>
                  <a:pt x="1241475" y="524023"/>
                  <a:pt x="1234440" y="518160"/>
                </a:cubicBezTo>
                <a:cubicBezTo>
                  <a:pt x="1226161" y="511261"/>
                  <a:pt x="1219920" y="502124"/>
                  <a:pt x="1211580" y="495300"/>
                </a:cubicBezTo>
                <a:cubicBezTo>
                  <a:pt x="1191921" y="479216"/>
                  <a:pt x="1168581" y="467541"/>
                  <a:pt x="1150620" y="449580"/>
                </a:cubicBezTo>
                <a:lnTo>
                  <a:pt x="1082040" y="381000"/>
                </a:lnTo>
                <a:cubicBezTo>
                  <a:pt x="1074420" y="373380"/>
                  <a:pt x="1067801" y="364606"/>
                  <a:pt x="1059180" y="358140"/>
                </a:cubicBezTo>
                <a:cubicBezTo>
                  <a:pt x="930997" y="262003"/>
                  <a:pt x="1053554" y="358411"/>
                  <a:pt x="960120" y="274320"/>
                </a:cubicBezTo>
                <a:cubicBezTo>
                  <a:pt x="933920" y="250740"/>
                  <a:pt x="914598" y="237499"/>
                  <a:pt x="883920" y="220980"/>
                </a:cubicBezTo>
                <a:cubicBezTo>
                  <a:pt x="863917" y="210209"/>
                  <a:pt x="841135" y="204131"/>
                  <a:pt x="822960" y="190500"/>
                </a:cubicBezTo>
                <a:cubicBezTo>
                  <a:pt x="812800" y="182880"/>
                  <a:pt x="802123" y="175905"/>
                  <a:pt x="792480" y="167640"/>
                </a:cubicBezTo>
                <a:cubicBezTo>
                  <a:pt x="784298" y="160627"/>
                  <a:pt x="778712" y="150566"/>
                  <a:pt x="769620" y="144780"/>
                </a:cubicBezTo>
                <a:cubicBezTo>
                  <a:pt x="732141" y="120930"/>
                  <a:pt x="719371" y="117870"/>
                  <a:pt x="685800" y="106680"/>
                </a:cubicBezTo>
                <a:cubicBezTo>
                  <a:pt x="675640" y="99060"/>
                  <a:pt x="664963" y="92085"/>
                  <a:pt x="655320" y="83820"/>
                </a:cubicBezTo>
                <a:cubicBezTo>
                  <a:pt x="623432" y="56488"/>
                  <a:pt x="639715" y="58258"/>
                  <a:pt x="594360" y="38100"/>
                </a:cubicBezTo>
                <a:cubicBezTo>
                  <a:pt x="584790" y="33847"/>
                  <a:pt x="574040" y="33020"/>
                  <a:pt x="563880" y="30480"/>
                </a:cubicBezTo>
                <a:cubicBezTo>
                  <a:pt x="556260" y="25400"/>
                  <a:pt x="549211" y="19336"/>
                  <a:pt x="541020" y="15240"/>
                </a:cubicBezTo>
                <a:cubicBezTo>
                  <a:pt x="522261" y="5861"/>
                  <a:pt x="490000" y="2927"/>
                  <a:pt x="472440" y="0"/>
                </a:cubicBezTo>
                <a:cubicBezTo>
                  <a:pt x="398780" y="2540"/>
                  <a:pt x="324842" y="740"/>
                  <a:pt x="251460" y="7620"/>
                </a:cubicBezTo>
                <a:cubicBezTo>
                  <a:pt x="242342" y="8475"/>
                  <a:pt x="236551" y="18316"/>
                  <a:pt x="228600" y="22860"/>
                </a:cubicBezTo>
                <a:cubicBezTo>
                  <a:pt x="200539" y="38895"/>
                  <a:pt x="177254" y="43726"/>
                  <a:pt x="152400" y="68580"/>
                </a:cubicBezTo>
                <a:cubicBezTo>
                  <a:pt x="144780" y="76200"/>
                  <a:pt x="137819" y="84541"/>
                  <a:pt x="129540" y="91440"/>
                </a:cubicBezTo>
                <a:cubicBezTo>
                  <a:pt x="97606" y="118051"/>
                  <a:pt x="110104" y="93353"/>
                  <a:pt x="83820" y="137160"/>
                </a:cubicBezTo>
                <a:cubicBezTo>
                  <a:pt x="82513" y="139338"/>
                  <a:pt x="96520" y="105410"/>
                  <a:pt x="99060" y="9906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436"/>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4">
                                  <p:stCondLst>
                                    <p:cond delay="0"/>
                                  </p:stCondLst>
                                  <p:childTnLst>
                                    <p:set>
                                      <p:cBhvr>
                                        <p:cTn id="286" dur="1" fill="hold">
                                          <p:stCondLst>
                                            <p:cond delay="0"/>
                                          </p:stCondLst>
                                        </p:cTn>
                                        <p:tgtEl>
                                          <p:spTgt spid="361"/>
                                        </p:tgtEl>
                                        <p:attrNameLst>
                                          <p:attrName>style.visibility</p:attrName>
                                        </p:attrNameLst>
                                      </p:cBhvr>
                                      <p:to>
                                        <p:strVal val="visible"/>
                                      </p:to>
                                    </p:set>
                                    <p:animEffect filter="wipe(down)" transition="in">
                                      <p:cBhvr additive="repl">
                                        <p:cTn id="287" dur="500"/>
                                        <p:tgtEl>
                                          <p:spTgt spid="361"/>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366"/>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43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381"/>
                                        </p:tgtEl>
                                        <p:attrNameLst>
                                          <p:attrName>style.visibility</p:attrName>
                                        </p:attrNameLst>
                                      </p:cBhvr>
                                      <p:to>
                                        <p:strVal val="visible"/>
                                      </p:to>
                                    </p:set>
                                    <p:animEffect filter="wipe(down)" transition="in">
                                      <p:cBhvr additive="repl">
                                        <p:cTn id="300" dur="500"/>
                                        <p:tgtEl>
                                          <p:spTgt spid="38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373"/>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438"/>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86"/>
                                        </p:tgtEl>
                                        <p:attrNameLst>
                                          <p:attrName>style.visibility</p:attrName>
                                        </p:attrNameLst>
                                      </p:cBhvr>
                                      <p:to>
                                        <p:strVal val="visible"/>
                                      </p:to>
                                    </p:set>
                                    <p:animEffect filter="wipe(left)" transition="in">
                                      <p:cBhvr additive="repl">
                                        <p:cTn id="313" dur="500"/>
                                        <p:tgtEl>
                                          <p:spTgt spid="38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391"/>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43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405"/>
                                        </p:tgtEl>
                                        <p:attrNameLst>
                                          <p:attrName>style.visibility</p:attrName>
                                        </p:attrNameLst>
                                      </p:cBhvr>
                                      <p:to>
                                        <p:strVal val="visible"/>
                                      </p:to>
                                    </p:set>
                                    <p:animEffect filter="wipe(up)" transition="in">
                                      <p:cBhvr additive="repl">
                                        <p:cTn id="326" dur="500"/>
                                        <p:tgtEl>
                                          <p:spTgt spid="405"/>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98"/>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440"/>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2">
                                  <p:stCondLst>
                                    <p:cond delay="0"/>
                                  </p:stCondLst>
                                  <p:childTnLst>
                                    <p:set>
                                      <p:cBhvr>
                                        <p:cTn id="338" dur="1" fill="hold">
                                          <p:stCondLst>
                                            <p:cond delay="0"/>
                                          </p:stCondLst>
                                        </p:cTn>
                                        <p:tgtEl>
                                          <p:spTgt spid="417"/>
                                        </p:tgtEl>
                                        <p:attrNameLst>
                                          <p:attrName>style.visibility</p:attrName>
                                        </p:attrNameLst>
                                      </p:cBhvr>
                                      <p:to>
                                        <p:strVal val="visible"/>
                                      </p:to>
                                    </p:set>
                                    <p:animEffect filter="wipe(right)" transition="in">
                                      <p:cBhvr additive="repl">
                                        <p:cTn id="339" dur="500"/>
                                        <p:tgtEl>
                                          <p:spTgt spid="417"/>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410"/>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44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431"/>
                                        </p:tgtEl>
                                        <p:attrNameLst>
                                          <p:attrName>style.visibility</p:attrName>
                                        </p:attrNameLst>
                                      </p:cBhvr>
                                      <p:to>
                                        <p:strVal val="visible"/>
                                      </p:to>
                                    </p:set>
                                    <p:animEffect filter="wipe(right)" transition="in">
                                      <p:cBhvr additive="repl">
                                        <p:cTn id="352" dur="500"/>
                                        <p:tgtEl>
                                          <p:spTgt spid="431"/>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7953-633E-4058-A25B-4BAF393C2B6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43" name="Isosceles Triangle 5"/>
          <p:cNvSpPr/>
          <p:nvPr/>
        </p:nvSpPr>
        <p:spPr>
          <a:xfrm>
            <a:off x="4114800" y="68580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Isosceles Triangle 6"/>
          <p:cNvSpPr/>
          <p:nvPr/>
        </p:nvSpPr>
        <p:spPr>
          <a:xfrm>
            <a:off x="609480" y="571500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Isosceles Triangle 7"/>
          <p:cNvSpPr/>
          <p:nvPr/>
        </p:nvSpPr>
        <p:spPr>
          <a:xfrm>
            <a:off x="8001000" y="571500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Oval 8"/>
          <p:cNvSpPr/>
          <p:nvPr/>
        </p:nvSpPr>
        <p:spPr>
          <a:xfrm>
            <a:off x="4145040" y="41338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9"/>
          <p:cNvSpPr/>
          <p:nvPr/>
        </p:nvSpPr>
        <p:spPr>
          <a:xfrm>
            <a:off x="3352680" y="413388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10"/>
          <p:cNvSpPr/>
          <p:nvPr/>
        </p:nvSpPr>
        <p:spPr>
          <a:xfrm>
            <a:off x="3130560" y="3371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1"/>
          <p:cNvSpPr/>
          <p:nvPr/>
        </p:nvSpPr>
        <p:spPr>
          <a:xfrm>
            <a:off x="4724280" y="3654360"/>
            <a:ext cx="152640" cy="152640"/>
          </a:xfrm>
          <a:prstGeom prst="ellipse">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2"/>
          <p:cNvSpPr/>
          <p:nvPr/>
        </p:nvSpPr>
        <p:spPr>
          <a:xfrm>
            <a:off x="5257800" y="3959280"/>
            <a:ext cx="152280" cy="152280"/>
          </a:xfrm>
          <a:prstGeom prst="ellipse">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3"/>
          <p:cNvSpPr/>
          <p:nvPr/>
        </p:nvSpPr>
        <p:spPr>
          <a:xfrm>
            <a:off x="5562720" y="3219480"/>
            <a:ext cx="152280" cy="152280"/>
          </a:xfrm>
          <a:prstGeom prst="ellipse">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Straight Connector 15"/>
          <p:cNvSpPr/>
          <p:nvPr/>
        </p:nvSpPr>
        <p:spPr>
          <a:xfrm flipH="1">
            <a:off x="3260880" y="882720"/>
            <a:ext cx="968400" cy="2511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Straight Connector 17"/>
          <p:cNvSpPr/>
          <p:nvPr/>
        </p:nvSpPr>
        <p:spPr>
          <a:xfrm flipH="1">
            <a:off x="3482640" y="882720"/>
            <a:ext cx="746280" cy="32734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Straight Connector 21"/>
          <p:cNvSpPr/>
          <p:nvPr/>
        </p:nvSpPr>
        <p:spPr>
          <a:xfrm flipH="1">
            <a:off x="4220640" y="882720"/>
            <a:ext cx="8280" cy="32511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Straight Connector 23"/>
          <p:cNvSpPr/>
          <p:nvPr/>
        </p:nvSpPr>
        <p:spPr>
          <a:xfrm flipH="1">
            <a:off x="781200" y="882720"/>
            <a:ext cx="3333600" cy="49305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Straight Connector 25"/>
          <p:cNvSpPr/>
          <p:nvPr/>
        </p:nvSpPr>
        <p:spPr>
          <a:xfrm>
            <a:off x="4229280" y="882720"/>
            <a:ext cx="3828960" cy="49305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Straight Connector 27"/>
          <p:cNvSpPr/>
          <p:nvPr/>
        </p:nvSpPr>
        <p:spPr>
          <a:xfrm>
            <a:off x="3130560" y="3448080"/>
            <a:ext cx="298440" cy="6858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Straight Connector 29"/>
          <p:cNvSpPr/>
          <p:nvPr/>
        </p:nvSpPr>
        <p:spPr>
          <a:xfrm>
            <a:off x="3505320" y="4210200"/>
            <a:ext cx="639720" cy="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Straight Connector 31"/>
          <p:cNvSpPr/>
          <p:nvPr/>
        </p:nvSpPr>
        <p:spPr>
          <a:xfrm>
            <a:off x="3282840" y="3448080"/>
            <a:ext cx="884520" cy="70812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Straight Connector 33"/>
          <p:cNvSpPr/>
          <p:nvPr/>
        </p:nvSpPr>
        <p:spPr>
          <a:xfrm>
            <a:off x="781200" y="5813280"/>
            <a:ext cx="7277040" cy="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Straight Connector 35"/>
          <p:cNvSpPr/>
          <p:nvPr/>
        </p:nvSpPr>
        <p:spPr>
          <a:xfrm flipV="1">
            <a:off x="781200" y="3502080"/>
            <a:ext cx="2371680" cy="23112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Straight Connector 37"/>
          <p:cNvSpPr/>
          <p:nvPr/>
        </p:nvSpPr>
        <p:spPr>
          <a:xfrm flipV="1">
            <a:off x="781200" y="4209840"/>
            <a:ext cx="2571480" cy="16030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Straight Connector 39"/>
          <p:cNvSpPr/>
          <p:nvPr/>
        </p:nvSpPr>
        <p:spPr>
          <a:xfrm flipV="1">
            <a:off x="781200" y="4263840"/>
            <a:ext cx="3386160" cy="15490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Straight Connector 41"/>
          <p:cNvSpPr/>
          <p:nvPr/>
        </p:nvSpPr>
        <p:spPr>
          <a:xfrm flipH="1" flipV="1">
            <a:off x="3282480" y="3448080"/>
            <a:ext cx="4775400" cy="23652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Straight Connector 43"/>
          <p:cNvSpPr/>
          <p:nvPr/>
        </p:nvSpPr>
        <p:spPr>
          <a:xfrm flipH="1" flipV="1">
            <a:off x="4296960" y="4209840"/>
            <a:ext cx="3760920" cy="16030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6" name="Straight Connector 45"/>
          <p:cNvSpPr/>
          <p:nvPr/>
        </p:nvSpPr>
        <p:spPr>
          <a:xfrm flipH="1" flipV="1">
            <a:off x="3482640" y="4263840"/>
            <a:ext cx="4575240" cy="15490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468" name=""/>
          <p:cNvSpPr txBox="1"/>
          <p:nvPr/>
        </p:nvSpPr>
        <p:spPr>
          <a:xfrm>
            <a:off x="457200" y="1279080"/>
            <a:ext cx="82296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s are given for use in OPUS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 project specifications dictate that you do a, b, and c, then that is what you have to do, regardless of what we recommend.</a:t>
            </a:r>
            <a:endParaRPr b="0" lang="en-US" sz="3200" spc="-1" strike="noStrike">
              <a:solidFill>
                <a:srgbClr val="000000"/>
              </a:solidFill>
              <a:latin typeface="Calibri"/>
            </a:endParaRPr>
          </a:p>
        </p:txBody>
      </p:sp>
      <p:sp>
        <p:nvSpPr>
          <p:cNvPr id="4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3-08-07</a:t>
            </a:r>
            <a:endParaRPr b="0" lang="en-US" sz="1200" spc="-1" strike="noStrike">
              <a:solidFill>
                <a:srgbClr val="000000"/>
              </a:solidFill>
              <a:latin typeface="Calibri"/>
            </a:endParaRPr>
          </a:p>
        </p:txBody>
      </p:sp>
      <p:sp>
        <p:nvSpPr>
          <p:cNvPr id="47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p 4 : Network Adjustment</a:t>
            </a:r>
            <a:endParaRPr b="0" lang="en-US" sz="1200" spc="-1" strike="noStrike">
              <a:solidFill>
                <a:srgbClr val="000000"/>
              </a:solidFill>
              <a:latin typeface="Calibri"/>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92F5-EE13-4A85-8FDC-A3BE1C61E82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Googe (DMA)</a:t>
            </a:r>
            <a:endParaRPr b="0" lang="en-US" sz="4400" spc="-1" strike="noStrike">
              <a:solidFill>
                <a:srgbClr val="000000"/>
              </a:solidFill>
              <a:latin typeface="Calibri"/>
            </a:endParaRPr>
          </a:p>
        </p:txBody>
      </p:sp>
      <p:sp>
        <p:nvSpPr>
          <p:cNvPr id="47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3-08-07</a:t>
            </a:r>
            <a:endParaRPr b="0" lang="en-US" sz="1200" spc="-1" strike="noStrike">
              <a:solidFill>
                <a:srgbClr val="000000"/>
              </a:solidFill>
              <a:latin typeface="Calibri"/>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p 4 : Network Adjustment</a:t>
            </a:r>
            <a:endParaRPr b="0" lang="en-US" sz="1200" spc="-1" strike="noStrike">
              <a:solidFill>
                <a:srgbClr val="000000"/>
              </a:solidFill>
              <a:latin typeface="Calibri"/>
            </a:endParaRPr>
          </a:p>
        </p:txBody>
      </p:sp>
      <p:sp>
        <p:nvSpPr>
          <p:cNvPr id="4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6C00-5DF3-4825-9FE2-34667C13ACC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76" name="Rectangle 6"/>
          <p:cNvSpPr/>
          <p:nvPr/>
        </p:nvSpPr>
        <p:spPr>
          <a:xfrm>
            <a:off x="457200" y="116676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use of the Googe numbers represents an improvement on the classical method described above. The Googe number is defined as follows. In the triangularization of the normal equations when the, as above, i-1 rows have been reduced the terms of the subsequent rows will have been modified by that process. The Googe number for row i is then computed as the diagonal term of row i divided by the original diagonal term of row i in the unreduced normal equations. Similar to the classic test above the Googe number is then tested against a tolerance to determine if the row should be considered to be non-singular, or sufficiently independent of the i-1 rows of the matrix previously reduc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ttps://www.ngs.noaa.gov/GRD/GPS/DOC/gpscom/neqfile.ht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ge Number</a:t>
            </a:r>
            <a:endParaRPr b="0" lang="en-US" sz="4400" spc="-1" strike="noStrike">
              <a:solidFill>
                <a:srgbClr val="000000"/>
              </a:solidFill>
              <a:latin typeface="Calibri"/>
            </a:endParaRPr>
          </a:p>
        </p:txBody>
      </p:sp>
      <p:sp>
        <p:nvSpPr>
          <p:cNvPr id="47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3-08-07</a:t>
            </a:r>
            <a:endParaRPr b="0" lang="en-US" sz="12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p 4 : Network Adjustment</a:t>
            </a:r>
            <a:endParaRPr b="0" lang="en-US" sz="1200" spc="-1" strike="noStrike">
              <a:solidFill>
                <a:srgbClr val="000000"/>
              </a:solidFill>
              <a:latin typeface="Calibri"/>
            </a:endParaRPr>
          </a:p>
        </p:txBody>
      </p:sp>
      <p:sp>
        <p:nvSpPr>
          <p:cNvPr id="4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011C-45A9-4F20-9E34-718845DEF3F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81" name="Rectangle 1"/>
          <p:cNvSpPr/>
          <p:nvPr/>
        </p:nvSpPr>
        <p:spPr>
          <a:xfrm>
            <a:off x="463680" y="1400040"/>
            <a:ext cx="78483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In the adjustment program they deter- mine at which parameters the solution breaks down. A Googe number may be considered a measure of the independence of a parameter. A Googe number of zero indicates that that parameter is completely dependent on the earlier parameters, while a Googe number of one indicates that that parameter is independent of the previous parameters.</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earch on Googe in NGS we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EX File Naming Convention</a:t>
            </a:r>
            <a:br>
              <a:rPr sz="4400"/>
            </a:br>
            <a:r>
              <a:rPr b="0" lang="en-US" sz="4400" spc="-1" strike="noStrike">
                <a:solidFill>
                  <a:srgbClr val="00b050"/>
                </a:solidFill>
                <a:latin typeface="Calibri"/>
              </a:rPr>
              <a:t>aaaa</a:t>
            </a:r>
            <a:r>
              <a:rPr b="0" lang="en-US" sz="4400" spc="-1" strike="noStrike">
                <a:solidFill>
                  <a:srgbClr val="4f81bd"/>
                </a:solidFill>
                <a:latin typeface="Calibri"/>
              </a:rPr>
              <a:t>ddd</a:t>
            </a:r>
            <a:r>
              <a:rPr b="0" lang="en-US" sz="4400" spc="-1" strike="noStrike">
                <a:solidFill>
                  <a:srgbClr val="7f7f7f"/>
                </a:solidFill>
                <a:latin typeface="Calibri"/>
              </a:rPr>
              <a:t>b</a:t>
            </a:r>
            <a:r>
              <a:rPr b="0" lang="en-US" sz="4400" spc="-1" strike="noStrike">
                <a:solidFill>
                  <a:srgbClr val="000000"/>
                </a:solidFill>
                <a:latin typeface="Calibri"/>
              </a:rPr>
              <a:t>.</a:t>
            </a:r>
            <a:r>
              <a:rPr b="0" lang="en-US" sz="4400" spc="-1" strike="noStrike">
                <a:solidFill>
                  <a:srgbClr val="ff0000"/>
                </a:solidFill>
                <a:latin typeface="Calibri"/>
              </a:rPr>
              <a:t>yy</a:t>
            </a:r>
            <a:r>
              <a:rPr b="0" lang="en-US" sz="4400" spc="-1" strike="noStrike">
                <a:solidFill>
                  <a:srgbClr val="000000"/>
                </a:solidFill>
                <a:latin typeface="Calibri"/>
              </a:rPr>
              <a:t>o</a:t>
            </a:r>
            <a:endParaRPr b="0" lang="en-US" sz="4400" spc="-1" strike="noStrike">
              <a:solidFill>
                <a:srgbClr val="000000"/>
              </a:solidFill>
              <a:latin typeface="Calibri"/>
            </a:endParaRPr>
          </a:p>
        </p:txBody>
      </p:sp>
      <p:pic>
        <p:nvPicPr>
          <p:cNvPr id="93" name="Content Placeholder 3" descr=""/>
          <p:cNvPicPr/>
          <p:nvPr/>
        </p:nvPicPr>
        <p:blipFill>
          <a:blip r:embed="rId1"/>
          <a:stretch/>
        </p:blipFill>
        <p:spPr>
          <a:xfrm>
            <a:off x="641520" y="2617920"/>
            <a:ext cx="6750000" cy="4240080"/>
          </a:xfrm>
          <a:prstGeom prst="rect">
            <a:avLst/>
          </a:prstGeom>
          <a:ln w="0">
            <a:noFill/>
          </a:ln>
        </p:spPr>
      </p:pic>
      <p:pic>
        <p:nvPicPr>
          <p:cNvPr id="94" name="Picture 5" descr=""/>
          <p:cNvPicPr/>
          <p:nvPr/>
        </p:nvPicPr>
        <p:blipFill>
          <a:blip r:embed="rId2"/>
          <a:stretch/>
        </p:blipFill>
        <p:spPr>
          <a:xfrm>
            <a:off x="1219320" y="1589040"/>
            <a:ext cx="6172200" cy="102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Isosceles Triangle 6"/>
          <p:cNvSpPr/>
          <p:nvPr/>
        </p:nvSpPr>
        <p:spPr>
          <a:xfrm>
            <a:off x="380880" y="397044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Isosceles Triangle 7"/>
          <p:cNvSpPr/>
          <p:nvPr/>
        </p:nvSpPr>
        <p:spPr>
          <a:xfrm>
            <a:off x="384120" y="1447920"/>
            <a:ext cx="228600" cy="196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Isosceles Triangle 8"/>
          <p:cNvSpPr/>
          <p:nvPr/>
        </p:nvSpPr>
        <p:spPr>
          <a:xfrm>
            <a:off x="2971800" y="1447920"/>
            <a:ext cx="228600" cy="196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Isosceles Triangle 9"/>
          <p:cNvSpPr/>
          <p:nvPr/>
        </p:nvSpPr>
        <p:spPr>
          <a:xfrm>
            <a:off x="2971800" y="397044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Straight Connector 11"/>
          <p:cNvSpPr/>
          <p:nvPr/>
        </p:nvSpPr>
        <p:spPr>
          <a:xfrm flipH="1">
            <a:off x="495000" y="1644480"/>
            <a:ext cx="3240" cy="2325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Straight Connector 14"/>
          <p:cNvSpPr/>
          <p:nvPr/>
        </p:nvSpPr>
        <p:spPr>
          <a:xfrm flipV="1">
            <a:off x="552600" y="1644480"/>
            <a:ext cx="2533680" cy="2424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Straight Connector 17"/>
          <p:cNvSpPr/>
          <p:nvPr/>
        </p:nvSpPr>
        <p:spPr>
          <a:xfrm>
            <a:off x="552600" y="4068720"/>
            <a:ext cx="2476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Isosceles Triangle 25"/>
          <p:cNvSpPr/>
          <p:nvPr/>
        </p:nvSpPr>
        <p:spPr>
          <a:xfrm>
            <a:off x="5638680" y="397044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Isosceles Triangle 26"/>
          <p:cNvSpPr/>
          <p:nvPr/>
        </p:nvSpPr>
        <p:spPr>
          <a:xfrm>
            <a:off x="5641920" y="1447920"/>
            <a:ext cx="228600" cy="196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Isosceles Triangle 27"/>
          <p:cNvSpPr/>
          <p:nvPr/>
        </p:nvSpPr>
        <p:spPr>
          <a:xfrm>
            <a:off x="8229600" y="1447920"/>
            <a:ext cx="228600" cy="196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Isosceles Triangle 28"/>
          <p:cNvSpPr/>
          <p:nvPr/>
        </p:nvSpPr>
        <p:spPr>
          <a:xfrm>
            <a:off x="8229600" y="3970440"/>
            <a:ext cx="228600" cy="1969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Straight Connector 30"/>
          <p:cNvSpPr/>
          <p:nvPr/>
        </p:nvSpPr>
        <p:spPr>
          <a:xfrm>
            <a:off x="5756400" y="1644480"/>
            <a:ext cx="2587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traight Connector 33"/>
          <p:cNvSpPr/>
          <p:nvPr/>
        </p:nvSpPr>
        <p:spPr>
          <a:xfrm>
            <a:off x="8344080" y="1644480"/>
            <a:ext cx="0" cy="2522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Straight Connector 36"/>
          <p:cNvSpPr/>
          <p:nvPr/>
        </p:nvSpPr>
        <p:spPr>
          <a:xfrm flipH="1">
            <a:off x="5867280" y="4167360"/>
            <a:ext cx="2476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Straight Connector 39"/>
          <p:cNvSpPr/>
          <p:nvPr/>
        </p:nvSpPr>
        <p:spPr>
          <a:xfrm>
            <a:off x="441360" y="1546200"/>
            <a:ext cx="2701800" cy="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Straight Connector 42"/>
          <p:cNvSpPr/>
          <p:nvPr/>
        </p:nvSpPr>
        <p:spPr>
          <a:xfrm>
            <a:off x="3086280" y="1644480"/>
            <a:ext cx="0" cy="232596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Straight Connector 47"/>
          <p:cNvSpPr/>
          <p:nvPr/>
        </p:nvSpPr>
        <p:spPr>
          <a:xfrm flipH="1" flipV="1">
            <a:off x="612720" y="1644480"/>
            <a:ext cx="2416320" cy="242424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Straight Connector 50"/>
          <p:cNvSpPr/>
          <p:nvPr/>
        </p:nvSpPr>
        <p:spPr>
          <a:xfrm flipV="1">
            <a:off x="5810400" y="1644480"/>
            <a:ext cx="2419200" cy="242424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Straight Connector 53"/>
          <p:cNvSpPr/>
          <p:nvPr/>
        </p:nvSpPr>
        <p:spPr>
          <a:xfrm>
            <a:off x="5756400" y="1644480"/>
            <a:ext cx="2530440" cy="242424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Straight Connector 56"/>
          <p:cNvSpPr/>
          <p:nvPr/>
        </p:nvSpPr>
        <p:spPr>
          <a:xfrm>
            <a:off x="5756400" y="1644480"/>
            <a:ext cx="54000" cy="242424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TextBox 59"/>
          <p:cNvSpPr/>
          <p:nvPr/>
        </p:nvSpPr>
        <p:spPr>
          <a:xfrm>
            <a:off x="914400" y="457200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umber of independent (non-trivial) baselines = n-1</a:t>
            </a:r>
            <a:endParaRPr b="0" lang="en-US" sz="1800" spc="-1" strike="noStrike">
              <a:solidFill>
                <a:srgbClr val="000000"/>
              </a:solidFill>
              <a:latin typeface="Calibri"/>
            </a:endParaRPr>
          </a:p>
        </p:txBody>
      </p:sp>
      <p:sp>
        <p:nvSpPr>
          <p:cNvPr id="117" name="TextBox 60"/>
          <p:cNvSpPr/>
          <p:nvPr/>
        </p:nvSpPr>
        <p:spPr>
          <a:xfrm>
            <a:off x="914400" y="505152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otal number of baselines = n(n-1)/2</a:t>
            </a:r>
            <a:endParaRPr b="0" lang="en-US" sz="1800" spc="-1" strike="noStrike">
              <a:solidFill>
                <a:srgbClr val="000000"/>
              </a:solidFill>
              <a:latin typeface="Calibri"/>
            </a:endParaRPr>
          </a:p>
        </p:txBody>
      </p:sp>
      <p:sp>
        <p:nvSpPr>
          <p:cNvPr id="118" name="Straight Connector 62"/>
          <p:cNvSpPr/>
          <p:nvPr/>
        </p:nvSpPr>
        <p:spPr>
          <a:xfrm>
            <a:off x="552600" y="5791320"/>
            <a:ext cx="12380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Straight Connector 64"/>
          <p:cNvSpPr/>
          <p:nvPr/>
        </p:nvSpPr>
        <p:spPr>
          <a:xfrm>
            <a:off x="552600" y="6172200"/>
            <a:ext cx="1266840" cy="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Box 65"/>
          <p:cNvSpPr/>
          <p:nvPr/>
        </p:nvSpPr>
        <p:spPr>
          <a:xfrm>
            <a:off x="2209680" y="553068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dependent (non-trivial)</a:t>
            </a:r>
            <a:endParaRPr b="0" lang="en-US" sz="1800" spc="-1" strike="noStrike">
              <a:solidFill>
                <a:srgbClr val="000000"/>
              </a:solidFill>
              <a:latin typeface="Calibri"/>
            </a:endParaRPr>
          </a:p>
        </p:txBody>
      </p:sp>
      <p:sp>
        <p:nvSpPr>
          <p:cNvPr id="121" name="TextBox 66"/>
          <p:cNvSpPr/>
          <p:nvPr/>
        </p:nvSpPr>
        <p:spPr>
          <a:xfrm>
            <a:off x="2216160" y="588816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pendent (trivi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repeatCount="1000">
                                  <p:stCondLst>
                                    <p:cond delay="0"/>
                                  </p:stCondLst>
                                  <p:childTnLst>
                                    <p:set>
                                      <p:cBhvr>
                                        <p:cTn id="6" dur="1" fill="hold">
                                          <p:stCondLst>
                                            <p:cond delay="0"/>
                                          </p:stCondLst>
                                        </p:cTn>
                                        <p:tgtEl>
                                          <p:spTgt spid="102"/>
                                        </p:tgtEl>
                                        <p:attrNameLst>
                                          <p:attrName>style.visibility</p:attrName>
                                        </p:attrNameLst>
                                      </p:cBhvr>
                                      <p:to>
                                        <p:strVal val="visible"/>
                                      </p:to>
                                    </p:set>
                                    <p:animEffect filter="wipe(left)" transition="in">
                                      <p:cBhvr additive="repl">
                                        <p:cTn id="7" dur="1000"/>
                                        <p:tgtEl>
                                          <p:spTgt spid="102"/>
                                        </p:tgtEl>
                                      </p:cBhvr>
                                    </p:animEffect>
                                  </p:childTnLst>
                                </p:cTn>
                              </p:par>
                            </p:childTnLst>
                          </p:cTn>
                        </p:par>
                        <p:par>
                          <p:cTn id="8" nodeType="afterEffect" fill="hold">
                            <p:stCondLst>
                              <p:cond delay="1000"/>
                            </p:stCondLst>
                            <p:childTnLst>
                              <p:par>
                                <p:cTn id="9" nodeType="afterEffect" fill="hold" presetClass="entr" presetID="22" presetSubtype="4" repeatCount="1000">
                                  <p:stCondLst>
                                    <p:cond delay="0"/>
                                  </p:stCondLst>
                                  <p:childTnLst>
                                    <p:set>
                                      <p:cBhvr>
                                        <p:cTn id="10" dur="1" fill="hold">
                                          <p:stCondLst>
                                            <p:cond delay="0"/>
                                          </p:stCondLst>
                                        </p:cTn>
                                        <p:tgtEl>
                                          <p:spTgt spid="101"/>
                                        </p:tgtEl>
                                        <p:attrNameLst>
                                          <p:attrName>style.visibility</p:attrName>
                                        </p:attrNameLst>
                                      </p:cBhvr>
                                      <p:to>
                                        <p:strVal val="visible"/>
                                      </p:to>
                                    </p:set>
                                    <p:animEffect filter="wipe(down)" transition="in">
                                      <p:cBhvr additive="repl">
                                        <p:cTn id="11" dur="1000"/>
                                        <p:tgtEl>
                                          <p:spTgt spid="101"/>
                                        </p:tgtEl>
                                      </p:cBhvr>
                                    </p:animEffect>
                                  </p:childTnLst>
                                </p:cTn>
                              </p:par>
                            </p:childTnLst>
                          </p:cTn>
                        </p:par>
                        <p:par>
                          <p:cTn id="12" nodeType="afterEffect" fill="hold">
                            <p:stCondLst>
                              <p:cond delay="2000"/>
                            </p:stCondLst>
                            <p:childTnLst>
                              <p:par>
                                <p:cTn id="13" nodeType="afterEffect" fill="hold" presetClass="entr" presetID="22" presetSubtype="4" repeatCount="1000">
                                  <p:stCondLst>
                                    <p:cond delay="0"/>
                                  </p:stCondLst>
                                  <p:childTnLst>
                                    <p:set>
                                      <p:cBhvr>
                                        <p:cTn id="14" dur="1" fill="hold">
                                          <p:stCondLst>
                                            <p:cond delay="0"/>
                                          </p:stCondLst>
                                        </p:cTn>
                                        <p:tgtEl>
                                          <p:spTgt spid="100"/>
                                        </p:tgtEl>
                                        <p:attrNameLst>
                                          <p:attrName>style.visibility</p:attrName>
                                        </p:attrNameLst>
                                      </p:cBhvr>
                                      <p:to>
                                        <p:strVal val="visible"/>
                                      </p:to>
                                    </p:set>
                                    <p:animEffect filter="wipe(down)" transition="in">
                                      <p:cBhvr additive="repl">
                                        <p:cTn id="15" dur="1000"/>
                                        <p:tgtEl>
                                          <p:spTgt spid="10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repeatCount="1000">
                                  <p:stCondLst>
                                    <p:cond delay="0"/>
                                  </p:stCondLst>
                                  <p:childTnLst>
                                    <p:set>
                                      <p:cBhvr>
                                        <p:cTn id="19" dur="1" fill="hold">
                                          <p:stCondLst>
                                            <p:cond delay="0"/>
                                          </p:stCondLst>
                                        </p:cTn>
                                        <p:tgtEl>
                                          <p:spTgt spid="112"/>
                                        </p:tgtEl>
                                        <p:attrNameLst>
                                          <p:attrName>style.visibility</p:attrName>
                                        </p:attrNameLst>
                                      </p:cBhvr>
                                      <p:to>
                                        <p:strVal val="visible"/>
                                      </p:to>
                                    </p:set>
                                    <p:animEffect filter="fade" transition="in">
                                      <p:cBhvr additive="repl">
                                        <p:cTn id="20" dur="1500"/>
                                        <p:tgtEl>
                                          <p:spTgt spid="112"/>
                                        </p:tgtEl>
                                      </p:cBhvr>
                                    </p:animEffect>
                                  </p:childTnLst>
                                </p:cTn>
                              </p:par>
                            </p:childTnLst>
                          </p:cTn>
                        </p:par>
                        <p:par>
                          <p:cTn id="21" nodeType="afterEffect" fill="hold">
                            <p:stCondLst>
                              <p:cond delay="1500"/>
                            </p:stCondLst>
                            <p:childTnLst>
                              <p:par>
                                <p:cTn id="22" nodeType="afterEffect" fill="hold" presetClass="entr" presetID="10" repeatCount="1000">
                                  <p:stCondLst>
                                    <p:cond delay="0"/>
                                  </p:stCondLst>
                                  <p:childTnLst>
                                    <p:set>
                                      <p:cBhvr>
                                        <p:cTn id="23" dur="1" fill="hold">
                                          <p:stCondLst>
                                            <p:cond delay="0"/>
                                          </p:stCondLst>
                                        </p:cTn>
                                        <p:tgtEl>
                                          <p:spTgt spid="110"/>
                                        </p:tgtEl>
                                        <p:attrNameLst>
                                          <p:attrName>style.visibility</p:attrName>
                                        </p:attrNameLst>
                                      </p:cBhvr>
                                      <p:to>
                                        <p:strVal val="visible"/>
                                      </p:to>
                                    </p:set>
                                    <p:animEffect filter="fade" transition="in">
                                      <p:cBhvr additive="repl">
                                        <p:cTn id="24" dur="1500"/>
                                        <p:tgtEl>
                                          <p:spTgt spid="110"/>
                                        </p:tgtEl>
                                      </p:cBhvr>
                                    </p:animEffect>
                                  </p:childTnLst>
                                </p:cTn>
                              </p:par>
                            </p:childTnLst>
                          </p:cTn>
                        </p:par>
                        <p:par>
                          <p:cTn id="25" nodeType="afterEffect" fill="hold">
                            <p:stCondLst>
                              <p:cond delay="3000"/>
                            </p:stCondLst>
                            <p:childTnLst>
                              <p:par>
                                <p:cTn id="26" nodeType="afterEffect" fill="hold" presetClass="entr" presetID="10" repeatCount="1000">
                                  <p:stCondLst>
                                    <p:cond delay="0"/>
                                  </p:stCondLst>
                                  <p:childTnLst>
                                    <p:set>
                                      <p:cBhvr>
                                        <p:cTn id="27" dur="1" fill="hold">
                                          <p:stCondLst>
                                            <p:cond delay="0"/>
                                          </p:stCondLst>
                                        </p:cTn>
                                        <p:tgtEl>
                                          <p:spTgt spid="111"/>
                                        </p:tgtEl>
                                        <p:attrNameLst>
                                          <p:attrName>style.visibility</p:attrName>
                                        </p:attrNameLst>
                                      </p:cBhvr>
                                      <p:to>
                                        <p:strVal val="visible"/>
                                      </p:to>
                                    </p:set>
                                    <p:animEffect filter="fade" transition="in">
                                      <p:cBhvr additive="repl">
                                        <p:cTn id="28" dur="1500"/>
                                        <p:tgtEl>
                                          <p:spTgt spid="111"/>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repeatCount="1000">
                                  <p:stCondLst>
                                    <p:cond delay="0"/>
                                  </p:stCondLst>
                                  <p:childTnLst>
                                    <p:set>
                                      <p:cBhvr>
                                        <p:cTn id="32" dur="1" fill="hold">
                                          <p:stCondLst>
                                            <p:cond delay="0"/>
                                          </p:stCondLst>
                                        </p:cTn>
                                        <p:tgtEl>
                                          <p:spTgt spid="109"/>
                                        </p:tgtEl>
                                        <p:attrNameLst>
                                          <p:attrName>style.visibility</p:attrName>
                                        </p:attrNameLst>
                                      </p:cBhvr>
                                      <p:to>
                                        <p:strVal val="visible"/>
                                      </p:to>
                                    </p:set>
                                    <p:animEffect filter="wipe(left)" transition="in">
                                      <p:cBhvr additive="repl">
                                        <p:cTn id="33" dur="1000"/>
                                        <p:tgtEl>
                                          <p:spTgt spid="109"/>
                                        </p:tgtEl>
                                      </p:cBhvr>
                                    </p:animEffect>
                                  </p:childTnLst>
                                </p:cTn>
                              </p:par>
                            </p:childTnLst>
                          </p:cTn>
                        </p:par>
                        <p:par>
                          <p:cTn id="34" nodeType="afterEffect" fill="hold">
                            <p:stCondLst>
                              <p:cond delay="1000"/>
                            </p:stCondLst>
                            <p:childTnLst>
                              <p:par>
                                <p:cTn id="35" nodeType="afterEffect" fill="hold" presetClass="entr" presetID="22" presetSubtype="4" repeatCount="1000">
                                  <p:stCondLst>
                                    <p:cond delay="0"/>
                                  </p:stCondLst>
                                  <p:childTnLst>
                                    <p:set>
                                      <p:cBhvr>
                                        <p:cTn id="36" dur="1" fill="hold">
                                          <p:stCondLst>
                                            <p:cond delay="0"/>
                                          </p:stCondLst>
                                        </p:cTn>
                                        <p:tgtEl>
                                          <p:spTgt spid="108"/>
                                        </p:tgtEl>
                                        <p:attrNameLst>
                                          <p:attrName>style.visibility</p:attrName>
                                        </p:attrNameLst>
                                      </p:cBhvr>
                                      <p:to>
                                        <p:strVal val="visible"/>
                                      </p:to>
                                    </p:set>
                                    <p:animEffect filter="wipe(down)" transition="in">
                                      <p:cBhvr additive="repl">
                                        <p:cTn id="37" dur="1000"/>
                                        <p:tgtEl>
                                          <p:spTgt spid="108"/>
                                        </p:tgtEl>
                                      </p:cBhvr>
                                    </p:animEffect>
                                  </p:childTnLst>
                                </p:cTn>
                              </p:par>
                            </p:childTnLst>
                          </p:cTn>
                        </p:par>
                        <p:par>
                          <p:cTn id="38" nodeType="afterEffect" fill="hold">
                            <p:stCondLst>
                              <p:cond delay="2000"/>
                            </p:stCondLst>
                            <p:childTnLst>
                              <p:par>
                                <p:cTn id="39" nodeType="afterEffect" fill="hold" presetClass="entr" presetID="22" presetSubtype="2" repeatCount="1000">
                                  <p:stCondLst>
                                    <p:cond delay="0"/>
                                  </p:stCondLst>
                                  <p:childTnLst>
                                    <p:set>
                                      <p:cBhvr>
                                        <p:cTn id="40" dur="1" fill="hold">
                                          <p:stCondLst>
                                            <p:cond delay="0"/>
                                          </p:stCondLst>
                                        </p:cTn>
                                        <p:tgtEl>
                                          <p:spTgt spid="107"/>
                                        </p:tgtEl>
                                        <p:attrNameLst>
                                          <p:attrName>style.visibility</p:attrName>
                                        </p:attrNameLst>
                                      </p:cBhvr>
                                      <p:to>
                                        <p:strVal val="visible"/>
                                      </p:to>
                                    </p:set>
                                    <p:animEffect filter="wipe(right)" transition="in">
                                      <p:cBhvr additive="repl">
                                        <p:cTn id="41" dur="1000"/>
                                        <p:tgtEl>
                                          <p:spTgt spid="10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repeatCount="1000">
                                  <p:stCondLst>
                                    <p:cond delay="0"/>
                                  </p:stCondLst>
                                  <p:childTnLst>
                                    <p:set>
                                      <p:cBhvr>
                                        <p:cTn id="45" dur="1" fill="hold">
                                          <p:stCondLst>
                                            <p:cond delay="0"/>
                                          </p:stCondLst>
                                        </p:cTn>
                                        <p:tgtEl>
                                          <p:spTgt spid="115"/>
                                        </p:tgtEl>
                                        <p:attrNameLst>
                                          <p:attrName>style.visibility</p:attrName>
                                        </p:attrNameLst>
                                      </p:cBhvr>
                                      <p:to>
                                        <p:strVal val="visible"/>
                                      </p:to>
                                    </p:set>
                                    <p:animEffect filter="fade" transition="in">
                                      <p:cBhvr additive="repl">
                                        <p:cTn id="46" dur="1250"/>
                                        <p:tgtEl>
                                          <p:spTgt spid="115"/>
                                        </p:tgtEl>
                                      </p:cBhvr>
                                    </p:animEffect>
                                  </p:childTnLst>
                                </p:cTn>
                              </p:par>
                            </p:childTnLst>
                          </p:cTn>
                        </p:par>
                        <p:par>
                          <p:cTn id="47" nodeType="afterEffect" fill="hold">
                            <p:stCondLst>
                              <p:cond delay="1250"/>
                            </p:stCondLst>
                            <p:childTnLst>
                              <p:par>
                                <p:cTn id="48" nodeType="afterEffect" fill="hold" presetClass="entr" presetID="10" repeatCount="1000">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500"/>
                                        <p:tgtEl>
                                          <p:spTgt spid="113"/>
                                        </p:tgtEl>
                                      </p:cBhvr>
                                    </p:animEffect>
                                  </p:childTnLst>
                                </p:cTn>
                              </p:par>
                            </p:childTnLst>
                          </p:cTn>
                        </p:par>
                        <p:par>
                          <p:cTn id="51" nodeType="afterEffect" fill="hold">
                            <p:stCondLst>
                              <p:cond delay="2750"/>
                            </p:stCondLst>
                            <p:childTnLst>
                              <p:par>
                                <p:cTn id="52" nodeType="afterEffect" fill="hold" presetClass="entr" presetID="10" repeatCount="1000">
                                  <p:stCondLst>
                                    <p:cond delay="0"/>
                                  </p:stCondLst>
                                  <p:childTnLst>
                                    <p:set>
                                      <p:cBhvr>
                                        <p:cTn id="53" dur="1" fill="hold">
                                          <p:stCondLst>
                                            <p:cond delay="0"/>
                                          </p:stCondLst>
                                        </p:cTn>
                                        <p:tgtEl>
                                          <p:spTgt spid="114"/>
                                        </p:tgtEl>
                                        <p:attrNameLst>
                                          <p:attrName>style.visibility</p:attrName>
                                        </p:attrNameLst>
                                      </p:cBhvr>
                                      <p:to>
                                        <p:strVal val="visible"/>
                                      </p:to>
                                    </p:set>
                                    <p:animEffect filter="fade" transition="in">
                                      <p:cBhvr additive="repl">
                                        <p:cTn id="54" dur="1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AABD-1916-46BF-B529-3C774A99971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3" name="Oval 7"/>
          <p:cNvSpPr/>
          <p:nvPr/>
        </p:nvSpPr>
        <p:spPr>
          <a:xfrm>
            <a:off x="7143840" y="4032360"/>
            <a:ext cx="152280" cy="152280"/>
          </a:xfrm>
          <a:prstGeom prst="ellipse">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Oval 10"/>
          <p:cNvSpPr/>
          <p:nvPr/>
        </p:nvSpPr>
        <p:spPr>
          <a:xfrm>
            <a:off x="1371600" y="419112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Oval 14"/>
          <p:cNvSpPr/>
          <p:nvPr/>
        </p:nvSpPr>
        <p:spPr>
          <a:xfrm>
            <a:off x="5562720" y="5029200"/>
            <a:ext cx="152280" cy="152280"/>
          </a:xfrm>
          <a:prstGeom prst="ellipse">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Oval 15"/>
          <p:cNvSpPr/>
          <p:nvPr/>
        </p:nvSpPr>
        <p:spPr>
          <a:xfrm>
            <a:off x="7437600" y="5562720"/>
            <a:ext cx="152280" cy="152280"/>
          </a:xfrm>
          <a:prstGeom prst="ellipse">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Oval 16"/>
          <p:cNvSpPr/>
          <p:nvPr/>
        </p:nvSpPr>
        <p:spPr>
          <a:xfrm>
            <a:off x="539640" y="296064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Oval 18"/>
          <p:cNvSpPr/>
          <p:nvPr/>
        </p:nvSpPr>
        <p:spPr>
          <a:xfrm>
            <a:off x="1558800" y="1981080"/>
            <a:ext cx="15264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Isosceles Triangle 1"/>
          <p:cNvSpPr/>
          <p:nvPr/>
        </p:nvSpPr>
        <p:spPr>
          <a:xfrm>
            <a:off x="4307040" y="792000"/>
            <a:ext cx="264960" cy="228600"/>
          </a:xfrm>
          <a:prstGeom prst="triangle">
            <a:avLst>
              <a:gd name="adj" fmla="val 50000"/>
            </a:avLst>
          </a:prstGeom>
          <a:solidFill>
            <a:srgbClr val="ff0000"/>
          </a:solidFill>
          <a:ln w="25560">
            <a:solidFill>
              <a:srgbClr val="385d8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0" name="Group 63"/>
          <p:cNvGrpSpPr/>
          <p:nvPr/>
        </p:nvGrpSpPr>
        <p:grpSpPr>
          <a:xfrm>
            <a:off x="3639960" y="4054320"/>
            <a:ext cx="3873600" cy="1584360"/>
            <a:chOff x="3639960" y="4054320"/>
            <a:chExt cx="3873600" cy="1584360"/>
          </a:xfrm>
        </p:grpSpPr>
        <p:sp>
          <p:nvSpPr>
            <p:cNvPr id="131" name="Straight Connector 10267"/>
            <p:cNvSpPr/>
            <p:nvPr/>
          </p:nvSpPr>
          <p:spPr>
            <a:xfrm flipV="1">
              <a:off x="3639960" y="5105160"/>
              <a:ext cx="1922400" cy="4176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Straight Connector 10269"/>
            <p:cNvSpPr/>
            <p:nvPr/>
          </p:nvSpPr>
          <p:spPr>
            <a:xfrm>
              <a:off x="3773160" y="5523120"/>
              <a:ext cx="3664080" cy="11556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Straight Connector 31"/>
            <p:cNvSpPr/>
            <p:nvPr/>
          </p:nvSpPr>
          <p:spPr>
            <a:xfrm flipV="1">
              <a:off x="3773160" y="4054320"/>
              <a:ext cx="3392640" cy="14688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Straight Connector 35"/>
            <p:cNvSpPr/>
            <p:nvPr/>
          </p:nvSpPr>
          <p:spPr>
            <a:xfrm flipV="1">
              <a:off x="5638680" y="4161960"/>
              <a:ext cx="1527120" cy="86688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Straight Connector 37"/>
            <p:cNvSpPr/>
            <p:nvPr/>
          </p:nvSpPr>
          <p:spPr>
            <a:xfrm>
              <a:off x="7296120" y="4107960"/>
              <a:ext cx="217440" cy="14544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Straight Connector 39"/>
            <p:cNvSpPr/>
            <p:nvPr/>
          </p:nvSpPr>
          <p:spPr>
            <a:xfrm>
              <a:off x="5692680" y="5159160"/>
              <a:ext cx="1766880" cy="42552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7" name="Group 66"/>
          <p:cNvGrpSpPr/>
          <p:nvPr/>
        </p:nvGrpSpPr>
        <p:grpSpPr>
          <a:xfrm>
            <a:off x="3773520" y="914400"/>
            <a:ext cx="3686040" cy="4678200"/>
            <a:chOff x="3773520" y="914400"/>
            <a:chExt cx="3686040" cy="4678200"/>
          </a:xfrm>
        </p:grpSpPr>
        <p:sp>
          <p:nvSpPr>
            <p:cNvPr id="138" name="Straight Connector 41"/>
            <p:cNvSpPr/>
            <p:nvPr/>
          </p:nvSpPr>
          <p:spPr>
            <a:xfrm flipH="1">
              <a:off x="3773520" y="990360"/>
              <a:ext cx="666720" cy="450216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9" name="Group 10265"/>
            <p:cNvGrpSpPr/>
            <p:nvPr/>
          </p:nvGrpSpPr>
          <p:grpSpPr>
            <a:xfrm>
              <a:off x="4373640" y="914400"/>
              <a:ext cx="3085920" cy="4678200"/>
              <a:chOff x="4373640" y="914400"/>
              <a:chExt cx="3085920" cy="4678200"/>
            </a:xfrm>
          </p:grpSpPr>
          <p:sp>
            <p:nvSpPr>
              <p:cNvPr id="140" name="Straight Connector 10257"/>
              <p:cNvSpPr/>
              <p:nvPr/>
            </p:nvSpPr>
            <p:spPr>
              <a:xfrm>
                <a:off x="4440240" y="1028520"/>
                <a:ext cx="1144440" cy="403056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Straight Connector 10259"/>
              <p:cNvSpPr/>
              <p:nvPr/>
            </p:nvSpPr>
            <p:spPr>
              <a:xfrm>
                <a:off x="4440240" y="1028520"/>
                <a:ext cx="3019320" cy="456408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Straight Connector 10261"/>
              <p:cNvSpPr/>
              <p:nvPr/>
            </p:nvSpPr>
            <p:spPr>
              <a:xfrm>
                <a:off x="4373640" y="914400"/>
                <a:ext cx="2846520" cy="312588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43" name="Group 65"/>
          <p:cNvGrpSpPr/>
          <p:nvPr/>
        </p:nvGrpSpPr>
        <p:grpSpPr>
          <a:xfrm>
            <a:off x="691920" y="990720"/>
            <a:ext cx="3746880" cy="4502160"/>
            <a:chOff x="691920" y="990720"/>
            <a:chExt cx="3746880" cy="4502160"/>
          </a:xfrm>
        </p:grpSpPr>
        <p:grpSp>
          <p:nvGrpSpPr>
            <p:cNvPr id="144" name="Group 10264"/>
            <p:cNvGrpSpPr/>
            <p:nvPr/>
          </p:nvGrpSpPr>
          <p:grpSpPr>
            <a:xfrm>
              <a:off x="691920" y="990720"/>
              <a:ext cx="3746880" cy="3192120"/>
              <a:chOff x="691920" y="990720"/>
              <a:chExt cx="3746880" cy="3192120"/>
            </a:xfrm>
          </p:grpSpPr>
          <p:sp>
            <p:nvSpPr>
              <p:cNvPr id="145" name="Straight Connector 10251"/>
              <p:cNvSpPr/>
              <p:nvPr/>
            </p:nvSpPr>
            <p:spPr>
              <a:xfrm flipH="1">
                <a:off x="1711440" y="1020600"/>
                <a:ext cx="2727360" cy="1036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Straight Connector 10253"/>
              <p:cNvSpPr/>
              <p:nvPr/>
            </p:nvSpPr>
            <p:spPr>
              <a:xfrm flipH="1">
                <a:off x="691920" y="1020600"/>
                <a:ext cx="3746520" cy="20160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10255"/>
              <p:cNvSpPr/>
              <p:nvPr/>
            </p:nvSpPr>
            <p:spPr>
              <a:xfrm flipH="1">
                <a:off x="1501920" y="990720"/>
                <a:ext cx="2936880" cy="3192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8" name="Straight Connector 76"/>
            <p:cNvSpPr/>
            <p:nvPr/>
          </p:nvSpPr>
          <p:spPr>
            <a:xfrm flipH="1">
              <a:off x="3714480" y="990720"/>
              <a:ext cx="664920" cy="45021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9" name="Group 64"/>
          <p:cNvGrpSpPr/>
          <p:nvPr/>
        </p:nvGrpSpPr>
        <p:grpSpPr>
          <a:xfrm>
            <a:off x="615960" y="1981080"/>
            <a:ext cx="3024000" cy="3541680"/>
            <a:chOff x="615960" y="1981080"/>
            <a:chExt cx="3024000" cy="3541680"/>
          </a:xfrm>
        </p:grpSpPr>
        <p:sp>
          <p:nvSpPr>
            <p:cNvPr id="150" name="Straight Connector 45"/>
            <p:cNvSpPr/>
            <p:nvPr/>
          </p:nvSpPr>
          <p:spPr>
            <a:xfrm>
              <a:off x="1371600" y="4267080"/>
              <a:ext cx="2268360" cy="1255680"/>
            </a:xfrm>
            <a:prstGeom prst="line">
              <a:avLst/>
            </a:prstGeom>
            <a:ln w="255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Straight Connector 48"/>
            <p:cNvSpPr/>
            <p:nvPr/>
          </p:nvSpPr>
          <p:spPr>
            <a:xfrm flipH="1" flipV="1">
              <a:off x="1634760" y="2133000"/>
              <a:ext cx="2004840" cy="3389400"/>
            </a:xfrm>
            <a:prstGeom prst="line">
              <a:avLst/>
            </a:prstGeom>
            <a:ln w="255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Straight Connector 50"/>
            <p:cNvSpPr/>
            <p:nvPr/>
          </p:nvSpPr>
          <p:spPr>
            <a:xfrm flipH="1" flipV="1">
              <a:off x="669240" y="3089160"/>
              <a:ext cx="2970360" cy="2433600"/>
            </a:xfrm>
            <a:prstGeom prst="line">
              <a:avLst/>
            </a:prstGeom>
            <a:ln w="255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Straight Connector 54"/>
            <p:cNvSpPr/>
            <p:nvPr/>
          </p:nvSpPr>
          <p:spPr>
            <a:xfrm flipH="1">
              <a:off x="669240" y="1981080"/>
              <a:ext cx="965160" cy="1001520"/>
            </a:xfrm>
            <a:prstGeom prst="line">
              <a:avLst/>
            </a:prstGeom>
            <a:ln w="255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Straight Connector 56"/>
            <p:cNvSpPr/>
            <p:nvPr/>
          </p:nvSpPr>
          <p:spPr>
            <a:xfrm>
              <a:off x="615960" y="3112920"/>
              <a:ext cx="831600" cy="1077840"/>
            </a:xfrm>
            <a:prstGeom prst="line">
              <a:avLst/>
            </a:prstGeom>
            <a:ln w="255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59"/>
            <p:cNvSpPr/>
            <p:nvPr/>
          </p:nvSpPr>
          <p:spPr>
            <a:xfrm flipH="1">
              <a:off x="1447560" y="2133360"/>
              <a:ext cx="187200" cy="2057400"/>
            </a:xfrm>
            <a:prstGeom prst="line">
              <a:avLst/>
            </a:prstGeom>
            <a:ln w="255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Freeform: Shape 67"/>
          <p:cNvSpPr/>
          <p:nvPr/>
        </p:nvSpPr>
        <p:spPr>
          <a:xfrm>
            <a:off x="330120" y="592200"/>
            <a:ext cx="4641840" cy="5416560"/>
          </a:xfrm>
          <a:custGeom>
            <a:avLst/>
            <a:gdLst/>
            <a:ahLst/>
            <a:rect l="l" t="t" r="r" b="b"/>
            <a:pathLst>
              <a:path w="4641668" h="5417210">
                <a:moveTo>
                  <a:pt x="4223657" y="479"/>
                </a:moveTo>
                <a:lnTo>
                  <a:pt x="4223657" y="479"/>
                </a:lnTo>
                <a:cubicBezTo>
                  <a:pt x="4018198" y="16282"/>
                  <a:pt x="4190410" y="-3320"/>
                  <a:pt x="4040777" y="26605"/>
                </a:cubicBezTo>
                <a:cubicBezTo>
                  <a:pt x="4028945" y="28971"/>
                  <a:pt x="3976462" y="38749"/>
                  <a:pt x="3962400" y="44022"/>
                </a:cubicBezTo>
                <a:cubicBezTo>
                  <a:pt x="3950244" y="48580"/>
                  <a:pt x="3939619" y="56618"/>
                  <a:pt x="3927565" y="61439"/>
                </a:cubicBezTo>
                <a:cubicBezTo>
                  <a:pt x="3910519" y="68257"/>
                  <a:pt x="3891735" y="70646"/>
                  <a:pt x="3875314" y="78856"/>
                </a:cubicBezTo>
                <a:cubicBezTo>
                  <a:pt x="3863703" y="84662"/>
                  <a:pt x="3852635" y="91715"/>
                  <a:pt x="3840480" y="96273"/>
                </a:cubicBezTo>
                <a:cubicBezTo>
                  <a:pt x="3829273" y="100476"/>
                  <a:pt x="3816852" y="100779"/>
                  <a:pt x="3805645" y="104982"/>
                </a:cubicBezTo>
                <a:cubicBezTo>
                  <a:pt x="3793490" y="109540"/>
                  <a:pt x="3782674" y="117127"/>
                  <a:pt x="3770811" y="122399"/>
                </a:cubicBezTo>
                <a:cubicBezTo>
                  <a:pt x="3756526" y="128748"/>
                  <a:pt x="3741905" y="134327"/>
                  <a:pt x="3727268" y="139816"/>
                </a:cubicBezTo>
                <a:cubicBezTo>
                  <a:pt x="3718673" y="143039"/>
                  <a:pt x="3709580" y="144909"/>
                  <a:pt x="3701143" y="148525"/>
                </a:cubicBezTo>
                <a:cubicBezTo>
                  <a:pt x="3689211" y="153639"/>
                  <a:pt x="3678624" y="161837"/>
                  <a:pt x="3666308" y="165942"/>
                </a:cubicBezTo>
                <a:cubicBezTo>
                  <a:pt x="3622905" y="180410"/>
                  <a:pt x="3588241" y="184759"/>
                  <a:pt x="3544388" y="192067"/>
                </a:cubicBezTo>
                <a:lnTo>
                  <a:pt x="3492137" y="209485"/>
                </a:lnTo>
                <a:cubicBezTo>
                  <a:pt x="3483428" y="212388"/>
                  <a:pt x="3475012" y="216393"/>
                  <a:pt x="3466011" y="218193"/>
                </a:cubicBezTo>
                <a:cubicBezTo>
                  <a:pt x="3436982" y="223999"/>
                  <a:pt x="3408300" y="231938"/>
                  <a:pt x="3378925" y="235610"/>
                </a:cubicBezTo>
                <a:cubicBezTo>
                  <a:pt x="3338496" y="240664"/>
                  <a:pt x="3297645" y="241416"/>
                  <a:pt x="3257005" y="244319"/>
                </a:cubicBezTo>
                <a:cubicBezTo>
                  <a:pt x="3230879" y="250125"/>
                  <a:pt x="3204871" y="256487"/>
                  <a:pt x="3178628" y="261736"/>
                </a:cubicBezTo>
                <a:cubicBezTo>
                  <a:pt x="3161314" y="265199"/>
                  <a:pt x="3143507" y="266162"/>
                  <a:pt x="3126377" y="270445"/>
                </a:cubicBezTo>
                <a:cubicBezTo>
                  <a:pt x="2988388" y="304943"/>
                  <a:pt x="3158582" y="273787"/>
                  <a:pt x="3021874" y="296570"/>
                </a:cubicBezTo>
                <a:cubicBezTo>
                  <a:pt x="2902939" y="336215"/>
                  <a:pt x="3024489" y="292961"/>
                  <a:pt x="2934788" y="331405"/>
                </a:cubicBezTo>
                <a:cubicBezTo>
                  <a:pt x="2926351" y="335021"/>
                  <a:pt x="2917100" y="336497"/>
                  <a:pt x="2908663" y="340113"/>
                </a:cubicBezTo>
                <a:cubicBezTo>
                  <a:pt x="2896730" y="345227"/>
                  <a:pt x="2885691" y="352258"/>
                  <a:pt x="2873828" y="357530"/>
                </a:cubicBezTo>
                <a:cubicBezTo>
                  <a:pt x="2859543" y="363879"/>
                  <a:pt x="2844570" y="368598"/>
                  <a:pt x="2830285" y="374947"/>
                </a:cubicBezTo>
                <a:cubicBezTo>
                  <a:pt x="2818422" y="380220"/>
                  <a:pt x="2807606" y="387807"/>
                  <a:pt x="2795451" y="392365"/>
                </a:cubicBezTo>
                <a:cubicBezTo>
                  <a:pt x="2784244" y="396568"/>
                  <a:pt x="2772228" y="398170"/>
                  <a:pt x="2760617" y="401073"/>
                </a:cubicBezTo>
                <a:lnTo>
                  <a:pt x="2656114" y="462033"/>
                </a:lnTo>
                <a:cubicBezTo>
                  <a:pt x="2635860" y="473759"/>
                  <a:pt x="2616883" y="488175"/>
                  <a:pt x="2595154" y="496867"/>
                </a:cubicBezTo>
                <a:cubicBezTo>
                  <a:pt x="2580640" y="502673"/>
                  <a:pt x="2566302" y="508943"/>
                  <a:pt x="2551611" y="514285"/>
                </a:cubicBezTo>
                <a:cubicBezTo>
                  <a:pt x="2498507" y="533596"/>
                  <a:pt x="2504504" y="527480"/>
                  <a:pt x="2455817" y="549119"/>
                </a:cubicBezTo>
                <a:cubicBezTo>
                  <a:pt x="2404090" y="572109"/>
                  <a:pt x="2433966" y="566162"/>
                  <a:pt x="2368731" y="583953"/>
                </a:cubicBezTo>
                <a:cubicBezTo>
                  <a:pt x="2354451" y="587848"/>
                  <a:pt x="2339366" y="588409"/>
                  <a:pt x="2325188" y="592662"/>
                </a:cubicBezTo>
                <a:cubicBezTo>
                  <a:pt x="2161265" y="641839"/>
                  <a:pt x="2380469" y="585374"/>
                  <a:pt x="2246811" y="618787"/>
                </a:cubicBezTo>
                <a:cubicBezTo>
                  <a:pt x="2149922" y="667234"/>
                  <a:pt x="2288830" y="599829"/>
                  <a:pt x="2159725" y="653622"/>
                </a:cubicBezTo>
                <a:cubicBezTo>
                  <a:pt x="2141750" y="661111"/>
                  <a:pt x="2124172" y="669728"/>
                  <a:pt x="2107474" y="679747"/>
                </a:cubicBezTo>
                <a:cubicBezTo>
                  <a:pt x="2095028" y="687215"/>
                  <a:pt x="2085903" y="699978"/>
                  <a:pt x="2072640" y="705873"/>
                </a:cubicBezTo>
                <a:cubicBezTo>
                  <a:pt x="2059114" y="711885"/>
                  <a:pt x="2043611" y="711679"/>
                  <a:pt x="2029097" y="714582"/>
                </a:cubicBezTo>
                <a:cubicBezTo>
                  <a:pt x="1946189" y="756035"/>
                  <a:pt x="1984888" y="744324"/>
                  <a:pt x="1915885" y="758125"/>
                </a:cubicBezTo>
                <a:cubicBezTo>
                  <a:pt x="1907177" y="763931"/>
                  <a:pt x="1899121" y="770861"/>
                  <a:pt x="1889760" y="775542"/>
                </a:cubicBezTo>
                <a:cubicBezTo>
                  <a:pt x="1856966" y="791939"/>
                  <a:pt x="1844644" y="793352"/>
                  <a:pt x="1811383" y="801667"/>
                </a:cubicBezTo>
                <a:cubicBezTo>
                  <a:pt x="1751493" y="841594"/>
                  <a:pt x="1778990" y="829883"/>
                  <a:pt x="1733005" y="845210"/>
                </a:cubicBezTo>
                <a:cubicBezTo>
                  <a:pt x="1724297" y="853919"/>
                  <a:pt x="1717646" y="865355"/>
                  <a:pt x="1706880" y="871336"/>
                </a:cubicBezTo>
                <a:cubicBezTo>
                  <a:pt x="1690831" y="880252"/>
                  <a:pt x="1654628" y="888753"/>
                  <a:pt x="1654628" y="888753"/>
                </a:cubicBezTo>
                <a:cubicBezTo>
                  <a:pt x="1648822" y="897462"/>
                  <a:pt x="1645785" y="908877"/>
                  <a:pt x="1637211" y="914879"/>
                </a:cubicBezTo>
                <a:cubicBezTo>
                  <a:pt x="1615941" y="929768"/>
                  <a:pt x="1585903" y="931354"/>
                  <a:pt x="1567543" y="949713"/>
                </a:cubicBezTo>
                <a:cubicBezTo>
                  <a:pt x="1561737" y="955519"/>
                  <a:pt x="1556957" y="962576"/>
                  <a:pt x="1550125" y="967130"/>
                </a:cubicBezTo>
                <a:cubicBezTo>
                  <a:pt x="1504475" y="997563"/>
                  <a:pt x="1519680" y="973646"/>
                  <a:pt x="1463040" y="1001965"/>
                </a:cubicBezTo>
                <a:cubicBezTo>
                  <a:pt x="1417500" y="1024734"/>
                  <a:pt x="1440800" y="1016234"/>
                  <a:pt x="1393371" y="1028090"/>
                </a:cubicBezTo>
                <a:cubicBezTo>
                  <a:pt x="1381760" y="1033896"/>
                  <a:pt x="1370692" y="1040949"/>
                  <a:pt x="1358537" y="1045507"/>
                </a:cubicBezTo>
                <a:cubicBezTo>
                  <a:pt x="1347330" y="1049710"/>
                  <a:pt x="1334408" y="1048863"/>
                  <a:pt x="1323703" y="1054216"/>
                </a:cubicBezTo>
                <a:cubicBezTo>
                  <a:pt x="1316359" y="1057888"/>
                  <a:pt x="1313326" y="1067409"/>
                  <a:pt x="1306285" y="1071633"/>
                </a:cubicBezTo>
                <a:cubicBezTo>
                  <a:pt x="1298414" y="1076356"/>
                  <a:pt x="1288370" y="1076237"/>
                  <a:pt x="1280160" y="1080342"/>
                </a:cubicBezTo>
                <a:cubicBezTo>
                  <a:pt x="1270799" y="1085023"/>
                  <a:pt x="1263654" y="1093636"/>
                  <a:pt x="1254034" y="1097759"/>
                </a:cubicBezTo>
                <a:cubicBezTo>
                  <a:pt x="1243277" y="1102369"/>
                  <a:pt x="1183401" y="1113627"/>
                  <a:pt x="1175657" y="1115176"/>
                </a:cubicBezTo>
                <a:cubicBezTo>
                  <a:pt x="1108681" y="1159826"/>
                  <a:pt x="1200147" y="1103639"/>
                  <a:pt x="1105988" y="1141302"/>
                </a:cubicBezTo>
                <a:cubicBezTo>
                  <a:pt x="1088097" y="1148458"/>
                  <a:pt x="1022606" y="1194815"/>
                  <a:pt x="1010194" y="1202262"/>
                </a:cubicBezTo>
                <a:cubicBezTo>
                  <a:pt x="889083" y="1274926"/>
                  <a:pt x="1041625" y="1186546"/>
                  <a:pt x="923108" y="1245805"/>
                </a:cubicBezTo>
                <a:cubicBezTo>
                  <a:pt x="809221" y="1302749"/>
                  <a:pt x="947867" y="1244609"/>
                  <a:pt x="836023" y="1289347"/>
                </a:cubicBezTo>
                <a:cubicBezTo>
                  <a:pt x="784587" y="1340783"/>
                  <a:pt x="838217" y="1296114"/>
                  <a:pt x="775063" y="1324182"/>
                </a:cubicBezTo>
                <a:cubicBezTo>
                  <a:pt x="678213" y="1367226"/>
                  <a:pt x="778378" y="1338592"/>
                  <a:pt x="696685" y="1359016"/>
                </a:cubicBezTo>
                <a:cubicBezTo>
                  <a:pt x="643049" y="1399244"/>
                  <a:pt x="668298" y="1381845"/>
                  <a:pt x="592183" y="1428685"/>
                </a:cubicBezTo>
                <a:cubicBezTo>
                  <a:pt x="577768" y="1437556"/>
                  <a:pt x="565061" y="1450705"/>
                  <a:pt x="548640" y="1454810"/>
                </a:cubicBezTo>
                <a:lnTo>
                  <a:pt x="513805" y="1463519"/>
                </a:lnTo>
                <a:cubicBezTo>
                  <a:pt x="505097" y="1472228"/>
                  <a:pt x="497442" y="1482136"/>
                  <a:pt x="487680" y="1489645"/>
                </a:cubicBezTo>
                <a:cubicBezTo>
                  <a:pt x="459594" y="1511250"/>
                  <a:pt x="425650" y="1525549"/>
                  <a:pt x="400594" y="1550605"/>
                </a:cubicBezTo>
                <a:lnTo>
                  <a:pt x="339634" y="1611565"/>
                </a:lnTo>
                <a:cubicBezTo>
                  <a:pt x="330925" y="1620273"/>
                  <a:pt x="323125" y="1629996"/>
                  <a:pt x="313508" y="1637690"/>
                </a:cubicBezTo>
                <a:cubicBezTo>
                  <a:pt x="298994" y="1649302"/>
                  <a:pt x="283108" y="1659382"/>
                  <a:pt x="269965" y="1672525"/>
                </a:cubicBezTo>
                <a:cubicBezTo>
                  <a:pt x="262564" y="1679926"/>
                  <a:pt x="259501" y="1690827"/>
                  <a:pt x="252548" y="1698650"/>
                </a:cubicBezTo>
                <a:cubicBezTo>
                  <a:pt x="209163" y="1747459"/>
                  <a:pt x="213880" y="1741847"/>
                  <a:pt x="174171" y="1768319"/>
                </a:cubicBezTo>
                <a:cubicBezTo>
                  <a:pt x="171268" y="1777028"/>
                  <a:pt x="169921" y="1786421"/>
                  <a:pt x="165463" y="1794445"/>
                </a:cubicBezTo>
                <a:cubicBezTo>
                  <a:pt x="126771" y="1864091"/>
                  <a:pt x="137916" y="1823884"/>
                  <a:pt x="113211" y="1881530"/>
                </a:cubicBezTo>
                <a:cubicBezTo>
                  <a:pt x="109595" y="1889967"/>
                  <a:pt x="108119" y="1899219"/>
                  <a:pt x="104503" y="1907656"/>
                </a:cubicBezTo>
                <a:cubicBezTo>
                  <a:pt x="99389" y="1919588"/>
                  <a:pt x="92199" y="1930558"/>
                  <a:pt x="87085" y="1942490"/>
                </a:cubicBezTo>
                <a:cubicBezTo>
                  <a:pt x="74769" y="1971227"/>
                  <a:pt x="62137" y="1999915"/>
                  <a:pt x="52251" y="2029576"/>
                </a:cubicBezTo>
                <a:cubicBezTo>
                  <a:pt x="49348" y="2038285"/>
                  <a:pt x="46838" y="2047134"/>
                  <a:pt x="43543" y="2055702"/>
                </a:cubicBezTo>
                <a:cubicBezTo>
                  <a:pt x="-4262" y="2179993"/>
                  <a:pt x="21401" y="2104705"/>
                  <a:pt x="0" y="2168913"/>
                </a:cubicBezTo>
                <a:cubicBezTo>
                  <a:pt x="2903" y="2218262"/>
                  <a:pt x="4021" y="2267748"/>
                  <a:pt x="8708" y="2316959"/>
                </a:cubicBezTo>
                <a:cubicBezTo>
                  <a:pt x="11868" y="2350136"/>
                  <a:pt x="19596" y="2348539"/>
                  <a:pt x="26125" y="2377919"/>
                </a:cubicBezTo>
                <a:cubicBezTo>
                  <a:pt x="38114" y="2431869"/>
                  <a:pt x="29662" y="2419891"/>
                  <a:pt x="43543" y="2465005"/>
                </a:cubicBezTo>
                <a:cubicBezTo>
                  <a:pt x="43600" y="2465190"/>
                  <a:pt x="70616" y="2546223"/>
                  <a:pt x="78377" y="2569507"/>
                </a:cubicBezTo>
                <a:cubicBezTo>
                  <a:pt x="81280" y="2578216"/>
                  <a:pt x="84858" y="2586727"/>
                  <a:pt x="87085" y="2595633"/>
                </a:cubicBezTo>
                <a:cubicBezTo>
                  <a:pt x="89988" y="2607244"/>
                  <a:pt x="92355" y="2619003"/>
                  <a:pt x="95794" y="2630467"/>
                </a:cubicBezTo>
                <a:cubicBezTo>
                  <a:pt x="101070" y="2648052"/>
                  <a:pt x="110193" y="2664609"/>
                  <a:pt x="113211" y="2682719"/>
                </a:cubicBezTo>
                <a:cubicBezTo>
                  <a:pt x="116114" y="2700136"/>
                  <a:pt x="119586" y="2717468"/>
                  <a:pt x="121920" y="2734970"/>
                </a:cubicBezTo>
                <a:cubicBezTo>
                  <a:pt x="125394" y="2761026"/>
                  <a:pt x="124717" y="2787734"/>
                  <a:pt x="130628" y="2813347"/>
                </a:cubicBezTo>
                <a:cubicBezTo>
                  <a:pt x="133547" y="2825997"/>
                  <a:pt x="143223" y="2836128"/>
                  <a:pt x="148045" y="2848182"/>
                </a:cubicBezTo>
                <a:cubicBezTo>
                  <a:pt x="156935" y="2870408"/>
                  <a:pt x="169037" y="2909598"/>
                  <a:pt x="174171" y="2935267"/>
                </a:cubicBezTo>
                <a:cubicBezTo>
                  <a:pt x="177634" y="2952582"/>
                  <a:pt x="179050" y="2970282"/>
                  <a:pt x="182880" y="2987519"/>
                </a:cubicBezTo>
                <a:cubicBezTo>
                  <a:pt x="184871" y="2996480"/>
                  <a:pt x="189173" y="3004789"/>
                  <a:pt x="191588" y="3013645"/>
                </a:cubicBezTo>
                <a:cubicBezTo>
                  <a:pt x="197886" y="3036739"/>
                  <a:pt x="201435" y="3060604"/>
                  <a:pt x="209005" y="3083313"/>
                </a:cubicBezTo>
                <a:cubicBezTo>
                  <a:pt x="211908" y="3092022"/>
                  <a:pt x="215192" y="3100612"/>
                  <a:pt x="217714" y="3109439"/>
                </a:cubicBezTo>
                <a:cubicBezTo>
                  <a:pt x="221002" y="3120947"/>
                  <a:pt x="223135" y="3132765"/>
                  <a:pt x="226423" y="3144273"/>
                </a:cubicBezTo>
                <a:cubicBezTo>
                  <a:pt x="228945" y="3153099"/>
                  <a:pt x="232609" y="3161573"/>
                  <a:pt x="235131" y="3170399"/>
                </a:cubicBezTo>
                <a:cubicBezTo>
                  <a:pt x="238419" y="3181907"/>
                  <a:pt x="239125" y="3194232"/>
                  <a:pt x="243840" y="3205233"/>
                </a:cubicBezTo>
                <a:cubicBezTo>
                  <a:pt x="247963" y="3214853"/>
                  <a:pt x="256064" y="3222272"/>
                  <a:pt x="261257" y="3231359"/>
                </a:cubicBezTo>
                <a:cubicBezTo>
                  <a:pt x="267698" y="3242630"/>
                  <a:pt x="271995" y="3255061"/>
                  <a:pt x="278674" y="3266193"/>
                </a:cubicBezTo>
                <a:cubicBezTo>
                  <a:pt x="289444" y="3284143"/>
                  <a:pt x="304147" y="3299722"/>
                  <a:pt x="313508" y="3318445"/>
                </a:cubicBezTo>
                <a:cubicBezTo>
                  <a:pt x="334597" y="3360623"/>
                  <a:pt x="321745" y="3344100"/>
                  <a:pt x="348343" y="3370696"/>
                </a:cubicBezTo>
                <a:cubicBezTo>
                  <a:pt x="357051" y="3388113"/>
                  <a:pt x="365011" y="3405925"/>
                  <a:pt x="374468" y="3422947"/>
                </a:cubicBezTo>
                <a:cubicBezTo>
                  <a:pt x="379551" y="3432096"/>
                  <a:pt x="387634" y="3439509"/>
                  <a:pt x="391885" y="3449073"/>
                </a:cubicBezTo>
                <a:cubicBezTo>
                  <a:pt x="399342" y="3465850"/>
                  <a:pt x="401092" y="3484904"/>
                  <a:pt x="409303" y="3501325"/>
                </a:cubicBezTo>
                <a:lnTo>
                  <a:pt x="444137" y="3570993"/>
                </a:lnTo>
                <a:cubicBezTo>
                  <a:pt x="449943" y="3582604"/>
                  <a:pt x="452375" y="3596647"/>
                  <a:pt x="461554" y="3605827"/>
                </a:cubicBezTo>
                <a:lnTo>
                  <a:pt x="478971" y="3623245"/>
                </a:lnTo>
                <a:cubicBezTo>
                  <a:pt x="498939" y="3683145"/>
                  <a:pt x="471628" y="3610394"/>
                  <a:pt x="513805" y="3684205"/>
                </a:cubicBezTo>
                <a:cubicBezTo>
                  <a:pt x="518359" y="3692175"/>
                  <a:pt x="517422" y="3702692"/>
                  <a:pt x="522514" y="3710330"/>
                </a:cubicBezTo>
                <a:cubicBezTo>
                  <a:pt x="529346" y="3720577"/>
                  <a:pt x="541079" y="3726734"/>
                  <a:pt x="548640" y="3736456"/>
                </a:cubicBezTo>
                <a:cubicBezTo>
                  <a:pt x="561491" y="3752979"/>
                  <a:pt x="571863" y="3771290"/>
                  <a:pt x="583474" y="3788707"/>
                </a:cubicBezTo>
                <a:cubicBezTo>
                  <a:pt x="589280" y="3797416"/>
                  <a:pt x="593490" y="3807432"/>
                  <a:pt x="600891" y="3814833"/>
                </a:cubicBezTo>
                <a:cubicBezTo>
                  <a:pt x="609600" y="3823542"/>
                  <a:pt x="619456" y="3831237"/>
                  <a:pt x="627017" y="3840959"/>
                </a:cubicBezTo>
                <a:cubicBezTo>
                  <a:pt x="639868" y="3857482"/>
                  <a:pt x="645105" y="3880650"/>
                  <a:pt x="661851" y="3893210"/>
                </a:cubicBezTo>
                <a:cubicBezTo>
                  <a:pt x="775692" y="3978592"/>
                  <a:pt x="637698" y="3869057"/>
                  <a:pt x="714103" y="3945462"/>
                </a:cubicBezTo>
                <a:cubicBezTo>
                  <a:pt x="721504" y="3952863"/>
                  <a:pt x="732188" y="3956179"/>
                  <a:pt x="740228" y="3962879"/>
                </a:cubicBezTo>
                <a:cubicBezTo>
                  <a:pt x="749689" y="3970764"/>
                  <a:pt x="757003" y="3980990"/>
                  <a:pt x="766354" y="3989005"/>
                </a:cubicBezTo>
                <a:cubicBezTo>
                  <a:pt x="778999" y="3999843"/>
                  <a:pt x="845267" y="4047241"/>
                  <a:pt x="853440" y="4049965"/>
                </a:cubicBezTo>
                <a:lnTo>
                  <a:pt x="879565" y="4058673"/>
                </a:lnTo>
                <a:cubicBezTo>
                  <a:pt x="891177" y="4067382"/>
                  <a:pt x="904137" y="4074536"/>
                  <a:pt x="914400" y="4084799"/>
                </a:cubicBezTo>
                <a:cubicBezTo>
                  <a:pt x="924663" y="4095062"/>
                  <a:pt x="929505" y="4110187"/>
                  <a:pt x="940525" y="4119633"/>
                </a:cubicBezTo>
                <a:cubicBezTo>
                  <a:pt x="950382" y="4128082"/>
                  <a:pt x="963748" y="4131244"/>
                  <a:pt x="975360" y="4137050"/>
                </a:cubicBezTo>
                <a:cubicBezTo>
                  <a:pt x="986971" y="4148662"/>
                  <a:pt x="997726" y="4161198"/>
                  <a:pt x="1010194" y="4171885"/>
                </a:cubicBezTo>
                <a:cubicBezTo>
                  <a:pt x="1018141" y="4178697"/>
                  <a:pt x="1028919" y="4181901"/>
                  <a:pt x="1036320" y="4189302"/>
                </a:cubicBezTo>
                <a:cubicBezTo>
                  <a:pt x="1049463" y="4202445"/>
                  <a:pt x="1058805" y="4218953"/>
                  <a:pt x="1071154" y="4232845"/>
                </a:cubicBezTo>
                <a:cubicBezTo>
                  <a:pt x="1130131" y="4299195"/>
                  <a:pt x="1080583" y="4239041"/>
                  <a:pt x="1140823" y="4293805"/>
                </a:cubicBezTo>
                <a:cubicBezTo>
                  <a:pt x="1162087" y="4313135"/>
                  <a:pt x="1181463" y="4334445"/>
                  <a:pt x="1201783" y="4354765"/>
                </a:cubicBezTo>
                <a:cubicBezTo>
                  <a:pt x="1210491" y="4363473"/>
                  <a:pt x="1217661" y="4374059"/>
                  <a:pt x="1227908" y="4380890"/>
                </a:cubicBezTo>
                <a:cubicBezTo>
                  <a:pt x="1236617" y="4386696"/>
                  <a:pt x="1245861" y="4391769"/>
                  <a:pt x="1254034" y="4398307"/>
                </a:cubicBezTo>
                <a:cubicBezTo>
                  <a:pt x="1316079" y="4447944"/>
                  <a:pt x="1217164" y="4379535"/>
                  <a:pt x="1297577" y="4433142"/>
                </a:cubicBezTo>
                <a:cubicBezTo>
                  <a:pt x="1351179" y="4513543"/>
                  <a:pt x="1282780" y="4414646"/>
                  <a:pt x="1332411" y="4476685"/>
                </a:cubicBezTo>
                <a:cubicBezTo>
                  <a:pt x="1350545" y="4499352"/>
                  <a:pt x="1368561" y="4522200"/>
                  <a:pt x="1384663" y="4546353"/>
                </a:cubicBezTo>
                <a:cubicBezTo>
                  <a:pt x="1390469" y="4555062"/>
                  <a:pt x="1395188" y="4564602"/>
                  <a:pt x="1402080" y="4572479"/>
                </a:cubicBezTo>
                <a:cubicBezTo>
                  <a:pt x="1415597" y="4587927"/>
                  <a:pt x="1434237" y="4598943"/>
                  <a:pt x="1445623" y="4616022"/>
                </a:cubicBezTo>
                <a:cubicBezTo>
                  <a:pt x="1463717" y="4643163"/>
                  <a:pt x="1485087" y="4677312"/>
                  <a:pt x="1506583" y="4703107"/>
                </a:cubicBezTo>
                <a:cubicBezTo>
                  <a:pt x="1511839" y="4709415"/>
                  <a:pt x="1518194" y="4714719"/>
                  <a:pt x="1524000" y="4720525"/>
                </a:cubicBezTo>
                <a:cubicBezTo>
                  <a:pt x="1547793" y="4791907"/>
                  <a:pt x="1506639" y="4681423"/>
                  <a:pt x="1584960" y="4798902"/>
                </a:cubicBezTo>
                <a:cubicBezTo>
                  <a:pt x="1628206" y="4863770"/>
                  <a:pt x="1572621" y="4784094"/>
                  <a:pt x="1628503" y="4851153"/>
                </a:cubicBezTo>
                <a:cubicBezTo>
                  <a:pt x="1653226" y="4880820"/>
                  <a:pt x="1640674" y="4880742"/>
                  <a:pt x="1672045" y="4912113"/>
                </a:cubicBezTo>
                <a:cubicBezTo>
                  <a:pt x="1694655" y="4934723"/>
                  <a:pt x="1714121" y="4941860"/>
                  <a:pt x="1741714" y="4955656"/>
                </a:cubicBezTo>
                <a:cubicBezTo>
                  <a:pt x="1747520" y="4964365"/>
                  <a:pt x="1752430" y="4973741"/>
                  <a:pt x="1759131" y="4981782"/>
                </a:cubicBezTo>
                <a:cubicBezTo>
                  <a:pt x="1784708" y="5012474"/>
                  <a:pt x="1801102" y="5018471"/>
                  <a:pt x="1837508" y="5042742"/>
                </a:cubicBezTo>
                <a:lnTo>
                  <a:pt x="1863634" y="5060159"/>
                </a:lnTo>
                <a:cubicBezTo>
                  <a:pt x="1872343" y="5065965"/>
                  <a:pt x="1879606" y="5075038"/>
                  <a:pt x="1889760" y="5077576"/>
                </a:cubicBezTo>
                <a:lnTo>
                  <a:pt x="1959428" y="5094993"/>
                </a:lnTo>
                <a:cubicBezTo>
                  <a:pt x="2056419" y="5143487"/>
                  <a:pt x="1934235" y="5085545"/>
                  <a:pt x="2029097" y="5121119"/>
                </a:cubicBezTo>
                <a:cubicBezTo>
                  <a:pt x="2041252" y="5125677"/>
                  <a:pt x="2051999" y="5133422"/>
                  <a:pt x="2063931" y="5138536"/>
                </a:cubicBezTo>
                <a:cubicBezTo>
                  <a:pt x="2072369" y="5142152"/>
                  <a:pt x="2081462" y="5144022"/>
                  <a:pt x="2090057" y="5147245"/>
                </a:cubicBezTo>
                <a:cubicBezTo>
                  <a:pt x="2124681" y="5160229"/>
                  <a:pt x="2149264" y="5172933"/>
                  <a:pt x="2185851" y="5182079"/>
                </a:cubicBezTo>
                <a:cubicBezTo>
                  <a:pt x="2202981" y="5186361"/>
                  <a:pt x="2220686" y="5187884"/>
                  <a:pt x="2238103" y="5190787"/>
                </a:cubicBezTo>
                <a:cubicBezTo>
                  <a:pt x="2246811" y="5193690"/>
                  <a:pt x="2255402" y="5196974"/>
                  <a:pt x="2264228" y="5199496"/>
                </a:cubicBezTo>
                <a:cubicBezTo>
                  <a:pt x="2275736" y="5202784"/>
                  <a:pt x="2287791" y="5204179"/>
                  <a:pt x="2299063" y="5208205"/>
                </a:cubicBezTo>
                <a:cubicBezTo>
                  <a:pt x="2469789" y="5269179"/>
                  <a:pt x="2312813" y="5222086"/>
                  <a:pt x="2447108" y="5260456"/>
                </a:cubicBezTo>
                <a:cubicBezTo>
                  <a:pt x="2455817" y="5266262"/>
                  <a:pt x="2463873" y="5273192"/>
                  <a:pt x="2473234" y="5277873"/>
                </a:cubicBezTo>
                <a:cubicBezTo>
                  <a:pt x="2570934" y="5326723"/>
                  <a:pt x="2407347" y="5231516"/>
                  <a:pt x="2534194" y="5303999"/>
                </a:cubicBezTo>
                <a:cubicBezTo>
                  <a:pt x="2577924" y="5328987"/>
                  <a:pt x="2542522" y="5316276"/>
                  <a:pt x="2595154" y="5338833"/>
                </a:cubicBezTo>
                <a:cubicBezTo>
                  <a:pt x="2603592" y="5342449"/>
                  <a:pt x="2613069" y="5343437"/>
                  <a:pt x="2621280" y="5347542"/>
                </a:cubicBezTo>
                <a:cubicBezTo>
                  <a:pt x="2630641" y="5352223"/>
                  <a:pt x="2637785" y="5360836"/>
                  <a:pt x="2647405" y="5364959"/>
                </a:cubicBezTo>
                <a:cubicBezTo>
                  <a:pt x="2658406" y="5369674"/>
                  <a:pt x="2670732" y="5370379"/>
                  <a:pt x="2682240" y="5373667"/>
                </a:cubicBezTo>
                <a:cubicBezTo>
                  <a:pt x="2691066" y="5376189"/>
                  <a:pt x="2699404" y="5380385"/>
                  <a:pt x="2708365" y="5382376"/>
                </a:cubicBezTo>
                <a:cubicBezTo>
                  <a:pt x="2725602" y="5386207"/>
                  <a:pt x="2743380" y="5387255"/>
                  <a:pt x="2760617" y="5391085"/>
                </a:cubicBezTo>
                <a:cubicBezTo>
                  <a:pt x="2793633" y="5398422"/>
                  <a:pt x="2783659" y="5404289"/>
                  <a:pt x="2821577" y="5408502"/>
                </a:cubicBezTo>
                <a:cubicBezTo>
                  <a:pt x="2862071" y="5413001"/>
                  <a:pt x="2902857" y="5414307"/>
                  <a:pt x="2943497" y="5417210"/>
                </a:cubicBezTo>
                <a:cubicBezTo>
                  <a:pt x="2972526" y="5414307"/>
                  <a:pt x="3001749" y="5412938"/>
                  <a:pt x="3030583" y="5408502"/>
                </a:cubicBezTo>
                <a:cubicBezTo>
                  <a:pt x="3078559" y="5401121"/>
                  <a:pt x="3035477" y="5399596"/>
                  <a:pt x="3082834" y="5382376"/>
                </a:cubicBezTo>
                <a:cubicBezTo>
                  <a:pt x="3105331" y="5374196"/>
                  <a:pt x="3129794" y="5372529"/>
                  <a:pt x="3152503" y="5364959"/>
                </a:cubicBezTo>
                <a:cubicBezTo>
                  <a:pt x="3169920" y="5359153"/>
                  <a:pt x="3186943" y="5351995"/>
                  <a:pt x="3204754" y="5347542"/>
                </a:cubicBezTo>
                <a:cubicBezTo>
                  <a:pt x="3214050" y="5345218"/>
                  <a:pt x="3311678" y="5322704"/>
                  <a:pt x="3326674" y="5312707"/>
                </a:cubicBezTo>
                <a:cubicBezTo>
                  <a:pt x="3344091" y="5301096"/>
                  <a:pt x="3364123" y="5292674"/>
                  <a:pt x="3378925" y="5277873"/>
                </a:cubicBezTo>
                <a:cubicBezTo>
                  <a:pt x="3384731" y="5272067"/>
                  <a:pt x="3389932" y="5265585"/>
                  <a:pt x="3396343" y="5260456"/>
                </a:cubicBezTo>
                <a:cubicBezTo>
                  <a:pt x="3404516" y="5253918"/>
                  <a:pt x="3414646" y="5249992"/>
                  <a:pt x="3422468" y="5243039"/>
                </a:cubicBezTo>
                <a:cubicBezTo>
                  <a:pt x="3440878" y="5226674"/>
                  <a:pt x="3457303" y="5208204"/>
                  <a:pt x="3474720" y="5190787"/>
                </a:cubicBezTo>
                <a:lnTo>
                  <a:pt x="3500845" y="5164662"/>
                </a:lnTo>
                <a:cubicBezTo>
                  <a:pt x="3508915" y="5140453"/>
                  <a:pt x="3508965" y="5132667"/>
                  <a:pt x="3526971" y="5112410"/>
                </a:cubicBezTo>
                <a:cubicBezTo>
                  <a:pt x="3543335" y="5094000"/>
                  <a:pt x="3565560" y="5080654"/>
                  <a:pt x="3579223" y="5060159"/>
                </a:cubicBezTo>
                <a:lnTo>
                  <a:pt x="3614057" y="5007907"/>
                </a:lnTo>
                <a:cubicBezTo>
                  <a:pt x="3619863" y="4999199"/>
                  <a:pt x="3628164" y="4991711"/>
                  <a:pt x="3631474" y="4981782"/>
                </a:cubicBezTo>
                <a:lnTo>
                  <a:pt x="3657600" y="4903405"/>
                </a:lnTo>
                <a:cubicBezTo>
                  <a:pt x="3665896" y="4878516"/>
                  <a:pt x="3669553" y="4869768"/>
                  <a:pt x="3675017" y="4842445"/>
                </a:cubicBezTo>
                <a:cubicBezTo>
                  <a:pt x="3687128" y="4781889"/>
                  <a:pt x="3683142" y="4781505"/>
                  <a:pt x="3692434" y="4711816"/>
                </a:cubicBezTo>
                <a:cubicBezTo>
                  <a:pt x="3694768" y="4694314"/>
                  <a:pt x="3699193" y="4677114"/>
                  <a:pt x="3701143" y="4659565"/>
                </a:cubicBezTo>
                <a:cubicBezTo>
                  <a:pt x="3707905" y="4598704"/>
                  <a:pt x="3703709" y="4536093"/>
                  <a:pt x="3718560" y="4476685"/>
                </a:cubicBezTo>
                <a:cubicBezTo>
                  <a:pt x="3721463" y="4465073"/>
                  <a:pt x="3724921" y="4453587"/>
                  <a:pt x="3727268" y="4441850"/>
                </a:cubicBezTo>
                <a:cubicBezTo>
                  <a:pt x="3730731" y="4424536"/>
                  <a:pt x="3732147" y="4406836"/>
                  <a:pt x="3735977" y="4389599"/>
                </a:cubicBezTo>
                <a:cubicBezTo>
                  <a:pt x="3737968" y="4380638"/>
                  <a:pt x="3742459" y="4372379"/>
                  <a:pt x="3744685" y="4363473"/>
                </a:cubicBezTo>
                <a:cubicBezTo>
                  <a:pt x="3748275" y="4349113"/>
                  <a:pt x="3748197" y="4333789"/>
                  <a:pt x="3753394" y="4319930"/>
                </a:cubicBezTo>
                <a:cubicBezTo>
                  <a:pt x="3757069" y="4310130"/>
                  <a:pt x="3765005" y="4302513"/>
                  <a:pt x="3770811" y="4293805"/>
                </a:cubicBezTo>
                <a:cubicBezTo>
                  <a:pt x="3773714" y="4279291"/>
                  <a:pt x="3775930" y="4264622"/>
                  <a:pt x="3779520" y="4250262"/>
                </a:cubicBezTo>
                <a:cubicBezTo>
                  <a:pt x="3781746" y="4241356"/>
                  <a:pt x="3785706" y="4232962"/>
                  <a:pt x="3788228" y="4224136"/>
                </a:cubicBezTo>
                <a:cubicBezTo>
                  <a:pt x="3791516" y="4212628"/>
                  <a:pt x="3794341" y="4200986"/>
                  <a:pt x="3796937" y="4189302"/>
                </a:cubicBezTo>
                <a:cubicBezTo>
                  <a:pt x="3800148" y="4174853"/>
                  <a:pt x="3802055" y="4160119"/>
                  <a:pt x="3805645" y="4145759"/>
                </a:cubicBezTo>
                <a:cubicBezTo>
                  <a:pt x="3807871" y="4136853"/>
                  <a:pt x="3811832" y="4128460"/>
                  <a:pt x="3814354" y="4119633"/>
                </a:cubicBezTo>
                <a:cubicBezTo>
                  <a:pt x="3836233" y="4043062"/>
                  <a:pt x="3810885" y="4121335"/>
                  <a:pt x="3831771" y="4058673"/>
                </a:cubicBezTo>
                <a:cubicBezTo>
                  <a:pt x="3834674" y="4035450"/>
                  <a:pt x="3836633" y="4012090"/>
                  <a:pt x="3840480" y="3989005"/>
                </a:cubicBezTo>
                <a:cubicBezTo>
                  <a:pt x="3842448" y="3977199"/>
                  <a:pt x="3847368" y="3966000"/>
                  <a:pt x="3849188" y="3954170"/>
                </a:cubicBezTo>
                <a:cubicBezTo>
                  <a:pt x="3853185" y="3928189"/>
                  <a:pt x="3854994" y="3901919"/>
                  <a:pt x="3857897" y="3875793"/>
                </a:cubicBezTo>
                <a:cubicBezTo>
                  <a:pt x="3860800" y="3800319"/>
                  <a:pt x="3862635" y="3724796"/>
                  <a:pt x="3866605" y="3649370"/>
                </a:cubicBezTo>
                <a:cubicBezTo>
                  <a:pt x="3868442" y="3614463"/>
                  <a:pt x="3873063" y="3579750"/>
                  <a:pt x="3875314" y="3544867"/>
                </a:cubicBezTo>
                <a:cubicBezTo>
                  <a:pt x="3878870" y="3489751"/>
                  <a:pt x="3881218" y="3434564"/>
                  <a:pt x="3884023" y="3379405"/>
                </a:cubicBezTo>
                <a:cubicBezTo>
                  <a:pt x="3889927" y="3263296"/>
                  <a:pt x="3888602" y="3146610"/>
                  <a:pt x="3901440" y="3031062"/>
                </a:cubicBezTo>
                <a:cubicBezTo>
                  <a:pt x="3904343" y="3004936"/>
                  <a:pt x="3905827" y="2978614"/>
                  <a:pt x="3910148" y="2952685"/>
                </a:cubicBezTo>
                <a:cubicBezTo>
                  <a:pt x="3911657" y="2943630"/>
                  <a:pt x="3916631" y="2935465"/>
                  <a:pt x="3918857" y="2926559"/>
                </a:cubicBezTo>
                <a:cubicBezTo>
                  <a:pt x="3922447" y="2912199"/>
                  <a:pt x="3923670" y="2897296"/>
                  <a:pt x="3927565" y="2883016"/>
                </a:cubicBezTo>
                <a:cubicBezTo>
                  <a:pt x="3932396" y="2865304"/>
                  <a:pt x="3939177" y="2848182"/>
                  <a:pt x="3944983" y="2830765"/>
                </a:cubicBezTo>
                <a:cubicBezTo>
                  <a:pt x="3947886" y="2822056"/>
                  <a:pt x="3946053" y="2809731"/>
                  <a:pt x="3953691" y="2804639"/>
                </a:cubicBezTo>
                <a:lnTo>
                  <a:pt x="3979817" y="2787222"/>
                </a:lnTo>
                <a:cubicBezTo>
                  <a:pt x="3998901" y="2691793"/>
                  <a:pt x="3975037" y="2791260"/>
                  <a:pt x="4005943" y="2708845"/>
                </a:cubicBezTo>
                <a:cubicBezTo>
                  <a:pt x="4010146" y="2697638"/>
                  <a:pt x="4010449" y="2685217"/>
                  <a:pt x="4014651" y="2674010"/>
                </a:cubicBezTo>
                <a:cubicBezTo>
                  <a:pt x="4019209" y="2661855"/>
                  <a:pt x="4026954" y="2651108"/>
                  <a:pt x="4032068" y="2639176"/>
                </a:cubicBezTo>
                <a:cubicBezTo>
                  <a:pt x="4053701" y="2588701"/>
                  <a:pt x="4024724" y="2637129"/>
                  <a:pt x="4058194" y="2586925"/>
                </a:cubicBezTo>
                <a:cubicBezTo>
                  <a:pt x="4062612" y="2569252"/>
                  <a:pt x="4068116" y="2543453"/>
                  <a:pt x="4075611" y="2525965"/>
                </a:cubicBezTo>
                <a:cubicBezTo>
                  <a:pt x="4080725" y="2514032"/>
                  <a:pt x="4087756" y="2502993"/>
                  <a:pt x="4093028" y="2491130"/>
                </a:cubicBezTo>
                <a:cubicBezTo>
                  <a:pt x="4119951" y="2430553"/>
                  <a:pt x="4101921" y="2467415"/>
                  <a:pt x="4119154" y="2421462"/>
                </a:cubicBezTo>
                <a:cubicBezTo>
                  <a:pt x="4124643" y="2406825"/>
                  <a:pt x="4131628" y="2392749"/>
                  <a:pt x="4136571" y="2377919"/>
                </a:cubicBezTo>
                <a:cubicBezTo>
                  <a:pt x="4149714" y="2338489"/>
                  <a:pt x="4149554" y="2295429"/>
                  <a:pt x="4162697" y="2255999"/>
                </a:cubicBezTo>
                <a:cubicBezTo>
                  <a:pt x="4168503" y="2238582"/>
                  <a:pt x="4175283" y="2221460"/>
                  <a:pt x="4180114" y="2203747"/>
                </a:cubicBezTo>
                <a:cubicBezTo>
                  <a:pt x="4185627" y="2183532"/>
                  <a:pt x="4189716" y="2146211"/>
                  <a:pt x="4197531" y="2125370"/>
                </a:cubicBezTo>
                <a:cubicBezTo>
                  <a:pt x="4202089" y="2113215"/>
                  <a:pt x="4209142" y="2102147"/>
                  <a:pt x="4214948" y="2090536"/>
                </a:cubicBezTo>
                <a:cubicBezTo>
                  <a:pt x="4231783" y="1989533"/>
                  <a:pt x="4213239" y="2088663"/>
                  <a:pt x="4241074" y="1977325"/>
                </a:cubicBezTo>
                <a:cubicBezTo>
                  <a:pt x="4244664" y="1962965"/>
                  <a:pt x="4245530" y="1947960"/>
                  <a:pt x="4249783" y="1933782"/>
                </a:cubicBezTo>
                <a:cubicBezTo>
                  <a:pt x="4254275" y="1918809"/>
                  <a:pt x="4262257" y="1905069"/>
                  <a:pt x="4267200" y="1890239"/>
                </a:cubicBezTo>
                <a:cubicBezTo>
                  <a:pt x="4270985" y="1878885"/>
                  <a:pt x="4272123" y="1866759"/>
                  <a:pt x="4275908" y="1855405"/>
                </a:cubicBezTo>
                <a:cubicBezTo>
                  <a:pt x="4280851" y="1840575"/>
                  <a:pt x="4288833" y="1826835"/>
                  <a:pt x="4293325" y="1811862"/>
                </a:cubicBezTo>
                <a:cubicBezTo>
                  <a:pt x="4297578" y="1797684"/>
                  <a:pt x="4298139" y="1782599"/>
                  <a:pt x="4302034" y="1768319"/>
                </a:cubicBezTo>
                <a:cubicBezTo>
                  <a:pt x="4323384" y="1690036"/>
                  <a:pt x="4313493" y="1742650"/>
                  <a:pt x="4336868" y="1672525"/>
                </a:cubicBezTo>
                <a:cubicBezTo>
                  <a:pt x="4345812" y="1645694"/>
                  <a:pt x="4347379" y="1621770"/>
                  <a:pt x="4354285" y="1594147"/>
                </a:cubicBezTo>
                <a:cubicBezTo>
                  <a:pt x="4356511" y="1585242"/>
                  <a:pt x="4360472" y="1576848"/>
                  <a:pt x="4362994" y="1568022"/>
                </a:cubicBezTo>
                <a:cubicBezTo>
                  <a:pt x="4366282" y="1556514"/>
                  <a:pt x="4368415" y="1544696"/>
                  <a:pt x="4371703" y="1533187"/>
                </a:cubicBezTo>
                <a:cubicBezTo>
                  <a:pt x="4374225" y="1524361"/>
                  <a:pt x="4377996" y="1515918"/>
                  <a:pt x="4380411" y="1507062"/>
                </a:cubicBezTo>
                <a:cubicBezTo>
                  <a:pt x="4386709" y="1483968"/>
                  <a:pt x="4390258" y="1460102"/>
                  <a:pt x="4397828" y="1437393"/>
                </a:cubicBezTo>
                <a:cubicBezTo>
                  <a:pt x="4400731" y="1428684"/>
                  <a:pt x="4404311" y="1420173"/>
                  <a:pt x="4406537" y="1411267"/>
                </a:cubicBezTo>
                <a:cubicBezTo>
                  <a:pt x="4410127" y="1396908"/>
                  <a:pt x="4411350" y="1382005"/>
                  <a:pt x="4415245" y="1367725"/>
                </a:cubicBezTo>
                <a:cubicBezTo>
                  <a:pt x="4431912" y="1306612"/>
                  <a:pt x="4431167" y="1331659"/>
                  <a:pt x="4441371" y="1280639"/>
                </a:cubicBezTo>
                <a:cubicBezTo>
                  <a:pt x="4447558" y="1249704"/>
                  <a:pt x="4454552" y="1184610"/>
                  <a:pt x="4467497" y="1158719"/>
                </a:cubicBezTo>
                <a:lnTo>
                  <a:pt x="4484914" y="1123885"/>
                </a:lnTo>
                <a:cubicBezTo>
                  <a:pt x="4504538" y="1006146"/>
                  <a:pt x="4477220" y="1138463"/>
                  <a:pt x="4519748" y="1019382"/>
                </a:cubicBezTo>
                <a:cubicBezTo>
                  <a:pt x="4571155" y="875438"/>
                  <a:pt x="4509733" y="1004574"/>
                  <a:pt x="4554583" y="914879"/>
                </a:cubicBezTo>
                <a:cubicBezTo>
                  <a:pt x="4557486" y="900365"/>
                  <a:pt x="4560858" y="885936"/>
                  <a:pt x="4563291" y="871336"/>
                </a:cubicBezTo>
                <a:cubicBezTo>
                  <a:pt x="4566665" y="851089"/>
                  <a:pt x="4567975" y="830504"/>
                  <a:pt x="4572000" y="810376"/>
                </a:cubicBezTo>
                <a:cubicBezTo>
                  <a:pt x="4573800" y="801375"/>
                  <a:pt x="4578293" y="793106"/>
                  <a:pt x="4580708" y="784250"/>
                </a:cubicBezTo>
                <a:cubicBezTo>
                  <a:pt x="4610167" y="676229"/>
                  <a:pt x="4586791" y="748584"/>
                  <a:pt x="4606834" y="688456"/>
                </a:cubicBezTo>
                <a:cubicBezTo>
                  <a:pt x="4609737" y="665233"/>
                  <a:pt x="4611984" y="641919"/>
                  <a:pt x="4615543" y="618787"/>
                </a:cubicBezTo>
                <a:cubicBezTo>
                  <a:pt x="4622112" y="576091"/>
                  <a:pt x="4624289" y="579430"/>
                  <a:pt x="4632960" y="540410"/>
                </a:cubicBezTo>
                <a:cubicBezTo>
                  <a:pt x="4636171" y="525961"/>
                  <a:pt x="4638765" y="511381"/>
                  <a:pt x="4641668" y="496867"/>
                </a:cubicBezTo>
                <a:cubicBezTo>
                  <a:pt x="4638765" y="459130"/>
                  <a:pt x="4637654" y="421212"/>
                  <a:pt x="4632960" y="383656"/>
                </a:cubicBezTo>
                <a:cubicBezTo>
                  <a:pt x="4630575" y="364579"/>
                  <a:pt x="4618359" y="345811"/>
                  <a:pt x="4606834" y="331405"/>
                </a:cubicBezTo>
                <a:cubicBezTo>
                  <a:pt x="4601705" y="324994"/>
                  <a:pt x="4594546" y="320398"/>
                  <a:pt x="4589417" y="313987"/>
                </a:cubicBezTo>
                <a:cubicBezTo>
                  <a:pt x="4534308" y="245100"/>
                  <a:pt x="4619385" y="338789"/>
                  <a:pt x="4545874" y="253027"/>
                </a:cubicBezTo>
                <a:cubicBezTo>
                  <a:pt x="4537859" y="243676"/>
                  <a:pt x="4527309" y="236623"/>
                  <a:pt x="4519748" y="226902"/>
                </a:cubicBezTo>
                <a:cubicBezTo>
                  <a:pt x="4506896" y="210379"/>
                  <a:pt x="4496525" y="192067"/>
                  <a:pt x="4484914" y="174650"/>
                </a:cubicBezTo>
                <a:cubicBezTo>
                  <a:pt x="4479108" y="165942"/>
                  <a:pt x="4476205" y="154331"/>
                  <a:pt x="4467497" y="148525"/>
                </a:cubicBezTo>
                <a:lnTo>
                  <a:pt x="4441371" y="131107"/>
                </a:lnTo>
                <a:cubicBezTo>
                  <a:pt x="4429760" y="113690"/>
                  <a:pt x="4423954" y="90467"/>
                  <a:pt x="4406537" y="78856"/>
                </a:cubicBezTo>
                <a:lnTo>
                  <a:pt x="4354285" y="44022"/>
                </a:lnTo>
                <a:cubicBezTo>
                  <a:pt x="4348479" y="35313"/>
                  <a:pt x="4345041" y="24435"/>
                  <a:pt x="4336868" y="17896"/>
                </a:cubicBezTo>
                <a:cubicBezTo>
                  <a:pt x="4327267" y="10215"/>
                  <a:pt x="4270457" y="1782"/>
                  <a:pt x="4267200" y="479"/>
                </a:cubicBezTo>
                <a:cubicBezTo>
                  <a:pt x="4264505" y="-599"/>
                  <a:pt x="4230914" y="479"/>
                  <a:pt x="4223657" y="479"/>
                </a:cubicBezTo>
                <a:close/>
              </a:path>
            </a:pathLst>
          </a:custGeom>
          <a:noFill/>
          <a:ln w="25560">
            <a:solidFill>
              <a:srgbClr val="4f81b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Freeform: Shape 69"/>
          <p:cNvSpPr/>
          <p:nvPr/>
        </p:nvSpPr>
        <p:spPr>
          <a:xfrm>
            <a:off x="3475080" y="627120"/>
            <a:ext cx="4389480" cy="5573520"/>
          </a:xfrm>
          <a:custGeom>
            <a:avLst/>
            <a:gdLst/>
            <a:ahLst/>
            <a:rect l="l" t="t" r="r" b="b"/>
            <a:pathLst>
              <a:path w="4389120" h="5573486">
                <a:moveTo>
                  <a:pt x="3918857" y="3309257"/>
                </a:moveTo>
                <a:lnTo>
                  <a:pt x="3918857" y="3309257"/>
                </a:lnTo>
                <a:cubicBezTo>
                  <a:pt x="3936274" y="3329577"/>
                  <a:pt x="3954791" y="3349004"/>
                  <a:pt x="3971109" y="3370217"/>
                </a:cubicBezTo>
                <a:cubicBezTo>
                  <a:pt x="4040551" y="3460492"/>
                  <a:pt x="3974799" y="3391326"/>
                  <a:pt x="4032069" y="3448594"/>
                </a:cubicBezTo>
                <a:cubicBezTo>
                  <a:pt x="4043680" y="3471817"/>
                  <a:pt x="4061811" y="3492803"/>
                  <a:pt x="4066903" y="3518263"/>
                </a:cubicBezTo>
                <a:cubicBezTo>
                  <a:pt x="4078157" y="3574536"/>
                  <a:pt x="4068991" y="3548567"/>
                  <a:pt x="4093029" y="3596640"/>
                </a:cubicBezTo>
                <a:cubicBezTo>
                  <a:pt x="4097449" y="3614322"/>
                  <a:pt x="4102948" y="3640105"/>
                  <a:pt x="4110446" y="3657600"/>
                </a:cubicBezTo>
                <a:cubicBezTo>
                  <a:pt x="4115560" y="3669532"/>
                  <a:pt x="4122057" y="3680823"/>
                  <a:pt x="4127863" y="3692434"/>
                </a:cubicBezTo>
                <a:cubicBezTo>
                  <a:pt x="4155073" y="3801284"/>
                  <a:pt x="4120303" y="3665979"/>
                  <a:pt x="4145280" y="3753394"/>
                </a:cubicBezTo>
                <a:cubicBezTo>
                  <a:pt x="4148568" y="3764902"/>
                  <a:pt x="4149786" y="3777022"/>
                  <a:pt x="4153989" y="3788229"/>
                </a:cubicBezTo>
                <a:cubicBezTo>
                  <a:pt x="4158547" y="3800384"/>
                  <a:pt x="4165600" y="3811452"/>
                  <a:pt x="4171406" y="3823063"/>
                </a:cubicBezTo>
                <a:cubicBezTo>
                  <a:pt x="4201521" y="3973648"/>
                  <a:pt x="4153347" y="3742125"/>
                  <a:pt x="4197531" y="3918857"/>
                </a:cubicBezTo>
                <a:cubicBezTo>
                  <a:pt x="4202696" y="3939515"/>
                  <a:pt x="4219457" y="4026691"/>
                  <a:pt x="4223657" y="4058194"/>
                </a:cubicBezTo>
                <a:cubicBezTo>
                  <a:pt x="4227131" y="4084250"/>
                  <a:pt x="4228044" y="4110643"/>
                  <a:pt x="4232366" y="4136572"/>
                </a:cubicBezTo>
                <a:cubicBezTo>
                  <a:pt x="4236766" y="4162971"/>
                  <a:pt x="4243292" y="4188985"/>
                  <a:pt x="4249783" y="4214949"/>
                </a:cubicBezTo>
                <a:cubicBezTo>
                  <a:pt x="4252009" y="4223854"/>
                  <a:pt x="4255853" y="4232282"/>
                  <a:pt x="4258491" y="4241074"/>
                </a:cubicBezTo>
                <a:cubicBezTo>
                  <a:pt x="4264564" y="4261316"/>
                  <a:pt x="4271157" y="4281442"/>
                  <a:pt x="4275909" y="4302034"/>
                </a:cubicBezTo>
                <a:cubicBezTo>
                  <a:pt x="4279879" y="4319239"/>
                  <a:pt x="4280787" y="4337049"/>
                  <a:pt x="4284617" y="4354286"/>
                </a:cubicBezTo>
                <a:cubicBezTo>
                  <a:pt x="4286608" y="4363247"/>
                  <a:pt x="4291100" y="4371506"/>
                  <a:pt x="4293326" y="4380412"/>
                </a:cubicBezTo>
                <a:cubicBezTo>
                  <a:pt x="4338382" y="4560635"/>
                  <a:pt x="4290635" y="4376568"/>
                  <a:pt x="4319451" y="4511040"/>
                </a:cubicBezTo>
                <a:cubicBezTo>
                  <a:pt x="4324467" y="4534446"/>
                  <a:pt x="4331486" y="4557384"/>
                  <a:pt x="4336869" y="4580709"/>
                </a:cubicBezTo>
                <a:cubicBezTo>
                  <a:pt x="4351340" y="4643416"/>
                  <a:pt x="4336136" y="4605370"/>
                  <a:pt x="4362994" y="4659086"/>
                </a:cubicBezTo>
                <a:cubicBezTo>
                  <a:pt x="4368800" y="4685212"/>
                  <a:pt x="4374393" y="4711385"/>
                  <a:pt x="4380411" y="4737463"/>
                </a:cubicBezTo>
                <a:cubicBezTo>
                  <a:pt x="4383102" y="4749125"/>
                  <a:pt x="4389120" y="4760328"/>
                  <a:pt x="4389120" y="4772297"/>
                </a:cubicBezTo>
                <a:cubicBezTo>
                  <a:pt x="4389120" y="4923274"/>
                  <a:pt x="4388634" y="5074391"/>
                  <a:pt x="4380411" y="5225143"/>
                </a:cubicBezTo>
                <a:cubicBezTo>
                  <a:pt x="4379841" y="5235594"/>
                  <a:pt x="4368800" y="5242560"/>
                  <a:pt x="4362994" y="5251269"/>
                </a:cubicBezTo>
                <a:cubicBezTo>
                  <a:pt x="4353797" y="5278862"/>
                  <a:pt x="4356162" y="5279404"/>
                  <a:pt x="4336869" y="5303520"/>
                </a:cubicBezTo>
                <a:cubicBezTo>
                  <a:pt x="4331740" y="5309931"/>
                  <a:pt x="4324707" y="5314629"/>
                  <a:pt x="4319451" y="5320937"/>
                </a:cubicBezTo>
                <a:cubicBezTo>
                  <a:pt x="4310159" y="5332087"/>
                  <a:pt x="4304476" y="5346480"/>
                  <a:pt x="4293326" y="5355772"/>
                </a:cubicBezTo>
                <a:cubicBezTo>
                  <a:pt x="4286274" y="5361649"/>
                  <a:pt x="4275637" y="5360864"/>
                  <a:pt x="4267200" y="5364480"/>
                </a:cubicBezTo>
                <a:cubicBezTo>
                  <a:pt x="4192749" y="5396387"/>
                  <a:pt x="4272531" y="5365165"/>
                  <a:pt x="4197531" y="5408023"/>
                </a:cubicBezTo>
                <a:cubicBezTo>
                  <a:pt x="4189561" y="5412577"/>
                  <a:pt x="4179616" y="5412627"/>
                  <a:pt x="4171406" y="5416732"/>
                </a:cubicBezTo>
                <a:cubicBezTo>
                  <a:pt x="4162045" y="5421413"/>
                  <a:pt x="4154783" y="5429763"/>
                  <a:pt x="4145280" y="5434149"/>
                </a:cubicBezTo>
                <a:cubicBezTo>
                  <a:pt x="4107680" y="5451503"/>
                  <a:pt x="4029944" y="5479179"/>
                  <a:pt x="3988526" y="5495109"/>
                </a:cubicBezTo>
                <a:cubicBezTo>
                  <a:pt x="3973936" y="5500721"/>
                  <a:pt x="3960312" y="5509460"/>
                  <a:pt x="3944983" y="5512526"/>
                </a:cubicBezTo>
                <a:cubicBezTo>
                  <a:pt x="3930469" y="5515429"/>
                  <a:pt x="3915720" y="5517339"/>
                  <a:pt x="3901440" y="5521234"/>
                </a:cubicBezTo>
                <a:cubicBezTo>
                  <a:pt x="3883728" y="5526065"/>
                  <a:pt x="3866901" y="5533821"/>
                  <a:pt x="3849189" y="5538652"/>
                </a:cubicBezTo>
                <a:cubicBezTo>
                  <a:pt x="3834909" y="5542547"/>
                  <a:pt x="3820006" y="5543770"/>
                  <a:pt x="3805646" y="5547360"/>
                </a:cubicBezTo>
                <a:cubicBezTo>
                  <a:pt x="3763679" y="5557851"/>
                  <a:pt x="3786824" y="5561872"/>
                  <a:pt x="3727269" y="5564777"/>
                </a:cubicBezTo>
                <a:cubicBezTo>
                  <a:pt x="3625748" y="5569729"/>
                  <a:pt x="3524069" y="5570583"/>
                  <a:pt x="3422469" y="5573486"/>
                </a:cubicBezTo>
                <a:cubicBezTo>
                  <a:pt x="3344092" y="5570583"/>
                  <a:pt x="3265426" y="5572098"/>
                  <a:pt x="3187337" y="5564777"/>
                </a:cubicBezTo>
                <a:cubicBezTo>
                  <a:pt x="3171773" y="5563318"/>
                  <a:pt x="3158624" y="5552303"/>
                  <a:pt x="3143794" y="5547360"/>
                </a:cubicBezTo>
                <a:cubicBezTo>
                  <a:pt x="3123745" y="5540677"/>
                  <a:pt x="3103426" y="5534695"/>
                  <a:pt x="3082834" y="5529943"/>
                </a:cubicBezTo>
                <a:cubicBezTo>
                  <a:pt x="3065629" y="5525973"/>
                  <a:pt x="3047713" y="5525517"/>
                  <a:pt x="3030583" y="5521234"/>
                </a:cubicBezTo>
                <a:cubicBezTo>
                  <a:pt x="3012772" y="5516781"/>
                  <a:pt x="2996220" y="5507945"/>
                  <a:pt x="2978331" y="5503817"/>
                </a:cubicBezTo>
                <a:cubicBezTo>
                  <a:pt x="2958330" y="5499202"/>
                  <a:pt x="2937566" y="5498781"/>
                  <a:pt x="2917371" y="5495109"/>
                </a:cubicBezTo>
                <a:cubicBezTo>
                  <a:pt x="2905595" y="5492968"/>
                  <a:pt x="2893744" y="5490603"/>
                  <a:pt x="2882537" y="5486400"/>
                </a:cubicBezTo>
                <a:cubicBezTo>
                  <a:pt x="2870382" y="5481842"/>
                  <a:pt x="2860554" y="5470819"/>
                  <a:pt x="2847703" y="5468983"/>
                </a:cubicBezTo>
                <a:cubicBezTo>
                  <a:pt x="2807331" y="5463216"/>
                  <a:pt x="2484330" y="5451661"/>
                  <a:pt x="2481943" y="5451566"/>
                </a:cubicBezTo>
                <a:cubicBezTo>
                  <a:pt x="2447109" y="5448663"/>
                  <a:pt x="2412088" y="5447477"/>
                  <a:pt x="2377440" y="5442857"/>
                </a:cubicBezTo>
                <a:cubicBezTo>
                  <a:pt x="2368341" y="5441644"/>
                  <a:pt x="2360452" y="5435019"/>
                  <a:pt x="2351314" y="5434149"/>
                </a:cubicBezTo>
                <a:cubicBezTo>
                  <a:pt x="2299218" y="5429187"/>
                  <a:pt x="2246811" y="5428343"/>
                  <a:pt x="2194560" y="5425440"/>
                </a:cubicBezTo>
                <a:cubicBezTo>
                  <a:pt x="2185851" y="5422537"/>
                  <a:pt x="2176957" y="5420141"/>
                  <a:pt x="2168434" y="5416732"/>
                </a:cubicBezTo>
                <a:cubicBezTo>
                  <a:pt x="2147908" y="5408522"/>
                  <a:pt x="2128731" y="5396679"/>
                  <a:pt x="2107474" y="5390606"/>
                </a:cubicBezTo>
                <a:cubicBezTo>
                  <a:pt x="2067511" y="5379188"/>
                  <a:pt x="2024144" y="5379916"/>
                  <a:pt x="1985554" y="5364480"/>
                </a:cubicBezTo>
                <a:cubicBezTo>
                  <a:pt x="1971040" y="5358674"/>
                  <a:pt x="1956841" y="5352006"/>
                  <a:pt x="1942011" y="5347063"/>
                </a:cubicBezTo>
                <a:cubicBezTo>
                  <a:pt x="1930656" y="5343278"/>
                  <a:pt x="1918384" y="5342557"/>
                  <a:pt x="1907177" y="5338354"/>
                </a:cubicBezTo>
                <a:cubicBezTo>
                  <a:pt x="1895022" y="5333796"/>
                  <a:pt x="1884734" y="5324809"/>
                  <a:pt x="1872343" y="5320937"/>
                </a:cubicBezTo>
                <a:cubicBezTo>
                  <a:pt x="1848099" y="5313361"/>
                  <a:pt x="1764044" y="5292728"/>
                  <a:pt x="1724297" y="5286103"/>
                </a:cubicBezTo>
                <a:cubicBezTo>
                  <a:pt x="1704050" y="5282728"/>
                  <a:pt x="1683842" y="5278326"/>
                  <a:pt x="1663337" y="5277394"/>
                </a:cubicBezTo>
                <a:cubicBezTo>
                  <a:pt x="1556003" y="5272515"/>
                  <a:pt x="1448509" y="5272150"/>
                  <a:pt x="1341120" y="5268686"/>
                </a:cubicBezTo>
                <a:lnTo>
                  <a:pt x="1123406" y="5259977"/>
                </a:lnTo>
                <a:cubicBezTo>
                  <a:pt x="1103086" y="5257074"/>
                  <a:pt x="1082693" y="5254643"/>
                  <a:pt x="1062446" y="5251269"/>
                </a:cubicBezTo>
                <a:cubicBezTo>
                  <a:pt x="1047846" y="5248836"/>
                  <a:pt x="1033705" y="5242560"/>
                  <a:pt x="1018903" y="5242560"/>
                </a:cubicBezTo>
                <a:cubicBezTo>
                  <a:pt x="954974" y="5242560"/>
                  <a:pt x="891177" y="5248366"/>
                  <a:pt x="827314" y="5251269"/>
                </a:cubicBezTo>
                <a:cubicBezTo>
                  <a:pt x="777242" y="5267959"/>
                  <a:pt x="820280" y="5255344"/>
                  <a:pt x="740229" y="5268686"/>
                </a:cubicBezTo>
                <a:cubicBezTo>
                  <a:pt x="698189" y="5275693"/>
                  <a:pt x="704214" y="5274885"/>
                  <a:pt x="670560" y="5286103"/>
                </a:cubicBezTo>
                <a:cubicBezTo>
                  <a:pt x="586377" y="5283200"/>
                  <a:pt x="502099" y="5282340"/>
                  <a:pt x="418011" y="5277394"/>
                </a:cubicBezTo>
                <a:cubicBezTo>
                  <a:pt x="357402" y="5273829"/>
                  <a:pt x="391512" y="5268562"/>
                  <a:pt x="339634" y="5251269"/>
                </a:cubicBezTo>
                <a:cubicBezTo>
                  <a:pt x="325592" y="5246588"/>
                  <a:pt x="310605" y="5245463"/>
                  <a:pt x="296091" y="5242560"/>
                </a:cubicBezTo>
                <a:cubicBezTo>
                  <a:pt x="178919" y="5183974"/>
                  <a:pt x="352772" y="5267082"/>
                  <a:pt x="217714" y="5216434"/>
                </a:cubicBezTo>
                <a:cubicBezTo>
                  <a:pt x="207914" y="5212759"/>
                  <a:pt x="200950" y="5203698"/>
                  <a:pt x="191589" y="5199017"/>
                </a:cubicBezTo>
                <a:cubicBezTo>
                  <a:pt x="183378" y="5194912"/>
                  <a:pt x="173674" y="5194414"/>
                  <a:pt x="165463" y="5190309"/>
                </a:cubicBezTo>
                <a:cubicBezTo>
                  <a:pt x="150323" y="5182739"/>
                  <a:pt x="137060" y="5171753"/>
                  <a:pt x="121920" y="5164183"/>
                </a:cubicBezTo>
                <a:cubicBezTo>
                  <a:pt x="102146" y="5154296"/>
                  <a:pt x="81280" y="5146766"/>
                  <a:pt x="60960" y="5138057"/>
                </a:cubicBezTo>
                <a:cubicBezTo>
                  <a:pt x="46446" y="5123543"/>
                  <a:pt x="23908" y="5113987"/>
                  <a:pt x="17417" y="5094514"/>
                </a:cubicBezTo>
                <a:lnTo>
                  <a:pt x="0" y="5042263"/>
                </a:lnTo>
                <a:cubicBezTo>
                  <a:pt x="2903" y="4978400"/>
                  <a:pt x="4311" y="4914451"/>
                  <a:pt x="8709" y="4850674"/>
                </a:cubicBezTo>
                <a:cubicBezTo>
                  <a:pt x="9993" y="4832054"/>
                  <a:pt x="14826" y="4786188"/>
                  <a:pt x="26126" y="4763589"/>
                </a:cubicBezTo>
                <a:cubicBezTo>
                  <a:pt x="30807" y="4754228"/>
                  <a:pt x="37737" y="4746172"/>
                  <a:pt x="43543" y="4737463"/>
                </a:cubicBezTo>
                <a:cubicBezTo>
                  <a:pt x="46446" y="4708434"/>
                  <a:pt x="48125" y="4679257"/>
                  <a:pt x="52251" y="4650377"/>
                </a:cubicBezTo>
                <a:cubicBezTo>
                  <a:pt x="53944" y="4638529"/>
                  <a:pt x="58992" y="4627349"/>
                  <a:pt x="60960" y="4615543"/>
                </a:cubicBezTo>
                <a:cubicBezTo>
                  <a:pt x="67709" y="4575049"/>
                  <a:pt x="78377" y="4493623"/>
                  <a:pt x="78377" y="4493623"/>
                </a:cubicBezTo>
                <a:cubicBezTo>
                  <a:pt x="81280" y="4435566"/>
                  <a:pt x="83087" y="4377444"/>
                  <a:pt x="87086" y="4319452"/>
                </a:cubicBezTo>
                <a:cubicBezTo>
                  <a:pt x="88895" y="4293228"/>
                  <a:pt x="93042" y="4267216"/>
                  <a:pt x="95794" y="4241074"/>
                </a:cubicBezTo>
                <a:cubicBezTo>
                  <a:pt x="98848" y="4212061"/>
                  <a:pt x="102348" y="4183082"/>
                  <a:pt x="104503" y="4153989"/>
                </a:cubicBezTo>
                <a:cubicBezTo>
                  <a:pt x="108155" y="4104690"/>
                  <a:pt x="108736" y="4055174"/>
                  <a:pt x="113211" y="4005943"/>
                </a:cubicBezTo>
                <a:cubicBezTo>
                  <a:pt x="114551" y="3991202"/>
                  <a:pt x="119669" y="3977030"/>
                  <a:pt x="121920" y="3962400"/>
                </a:cubicBezTo>
                <a:cubicBezTo>
                  <a:pt x="125479" y="3939269"/>
                  <a:pt x="127319" y="3915900"/>
                  <a:pt x="130629" y="3892732"/>
                </a:cubicBezTo>
                <a:cubicBezTo>
                  <a:pt x="135519" y="3858502"/>
                  <a:pt x="138976" y="3837392"/>
                  <a:pt x="148046" y="3805646"/>
                </a:cubicBezTo>
                <a:cubicBezTo>
                  <a:pt x="162064" y="3756584"/>
                  <a:pt x="150945" y="3802750"/>
                  <a:pt x="174171" y="3744686"/>
                </a:cubicBezTo>
                <a:cubicBezTo>
                  <a:pt x="235239" y="3592019"/>
                  <a:pt x="156572" y="3780071"/>
                  <a:pt x="200297" y="3648892"/>
                </a:cubicBezTo>
                <a:cubicBezTo>
                  <a:pt x="204402" y="3636576"/>
                  <a:pt x="212893" y="3626111"/>
                  <a:pt x="217714" y="3614057"/>
                </a:cubicBezTo>
                <a:cubicBezTo>
                  <a:pt x="248803" y="3536334"/>
                  <a:pt x="219040" y="3585942"/>
                  <a:pt x="252549" y="3535680"/>
                </a:cubicBezTo>
                <a:cubicBezTo>
                  <a:pt x="255452" y="3521166"/>
                  <a:pt x="258609" y="3506700"/>
                  <a:pt x="261257" y="3492137"/>
                </a:cubicBezTo>
                <a:cubicBezTo>
                  <a:pt x="264416" y="3474765"/>
                  <a:pt x="266503" y="3457200"/>
                  <a:pt x="269966" y="3439886"/>
                </a:cubicBezTo>
                <a:cubicBezTo>
                  <a:pt x="272313" y="3428150"/>
                  <a:pt x="276706" y="3416858"/>
                  <a:pt x="278674" y="3405052"/>
                </a:cubicBezTo>
                <a:cubicBezTo>
                  <a:pt x="282522" y="3381967"/>
                  <a:pt x="283196" y="3358409"/>
                  <a:pt x="287383" y="3335383"/>
                </a:cubicBezTo>
                <a:cubicBezTo>
                  <a:pt x="289025" y="3326351"/>
                  <a:pt x="293569" y="3318083"/>
                  <a:pt x="296091" y="3309257"/>
                </a:cubicBezTo>
                <a:cubicBezTo>
                  <a:pt x="299379" y="3297749"/>
                  <a:pt x="301897" y="3286034"/>
                  <a:pt x="304800" y="3274423"/>
                </a:cubicBezTo>
                <a:cubicBezTo>
                  <a:pt x="307703" y="3242492"/>
                  <a:pt x="309271" y="3210411"/>
                  <a:pt x="313509" y="3178629"/>
                </a:cubicBezTo>
                <a:cubicBezTo>
                  <a:pt x="315091" y="3166765"/>
                  <a:pt x="320524" y="3155643"/>
                  <a:pt x="322217" y="3143794"/>
                </a:cubicBezTo>
                <a:cubicBezTo>
                  <a:pt x="331712" y="3077330"/>
                  <a:pt x="334306" y="2990014"/>
                  <a:pt x="339634" y="2926080"/>
                </a:cubicBezTo>
                <a:cubicBezTo>
                  <a:pt x="341817" y="2899884"/>
                  <a:pt x="346247" y="2873906"/>
                  <a:pt x="348343" y="2847703"/>
                </a:cubicBezTo>
                <a:cubicBezTo>
                  <a:pt x="352054" y="2801315"/>
                  <a:pt x="353020" y="2754727"/>
                  <a:pt x="357051" y="2708366"/>
                </a:cubicBezTo>
                <a:cubicBezTo>
                  <a:pt x="358829" y="2687917"/>
                  <a:pt x="363214" y="2667774"/>
                  <a:pt x="365760" y="2647406"/>
                </a:cubicBezTo>
                <a:cubicBezTo>
                  <a:pt x="369021" y="2621323"/>
                  <a:pt x="372192" y="2595217"/>
                  <a:pt x="374469" y="2569029"/>
                </a:cubicBezTo>
                <a:cubicBezTo>
                  <a:pt x="377999" y="2528439"/>
                  <a:pt x="378912" y="2487629"/>
                  <a:pt x="383177" y="2447109"/>
                </a:cubicBezTo>
                <a:cubicBezTo>
                  <a:pt x="384727" y="2432389"/>
                  <a:pt x="388675" y="2418015"/>
                  <a:pt x="391886" y="2403566"/>
                </a:cubicBezTo>
                <a:cubicBezTo>
                  <a:pt x="398805" y="2372428"/>
                  <a:pt x="409514" y="2337512"/>
                  <a:pt x="418011" y="2307772"/>
                </a:cubicBezTo>
                <a:cubicBezTo>
                  <a:pt x="439183" y="2138405"/>
                  <a:pt x="410999" y="2316065"/>
                  <a:pt x="444137" y="2194560"/>
                </a:cubicBezTo>
                <a:cubicBezTo>
                  <a:pt x="448783" y="2177525"/>
                  <a:pt x="449687" y="2159681"/>
                  <a:pt x="452846" y="2142309"/>
                </a:cubicBezTo>
                <a:cubicBezTo>
                  <a:pt x="455494" y="2127746"/>
                  <a:pt x="458651" y="2113280"/>
                  <a:pt x="461554" y="2098766"/>
                </a:cubicBezTo>
                <a:cubicBezTo>
                  <a:pt x="464457" y="2066835"/>
                  <a:pt x="466286" y="2034787"/>
                  <a:pt x="470263" y="2002972"/>
                </a:cubicBezTo>
                <a:cubicBezTo>
                  <a:pt x="472099" y="1988285"/>
                  <a:pt x="477015" y="1974101"/>
                  <a:pt x="478971" y="1959429"/>
                </a:cubicBezTo>
                <a:cubicBezTo>
                  <a:pt x="493938" y="1847176"/>
                  <a:pt x="476773" y="1905064"/>
                  <a:pt x="496389" y="1846217"/>
                </a:cubicBezTo>
                <a:cubicBezTo>
                  <a:pt x="499292" y="1808480"/>
                  <a:pt x="501135" y="1770647"/>
                  <a:pt x="505097" y="1733006"/>
                </a:cubicBezTo>
                <a:cubicBezTo>
                  <a:pt x="506945" y="1715445"/>
                  <a:pt x="511616" y="1698275"/>
                  <a:pt x="513806" y="1680754"/>
                </a:cubicBezTo>
                <a:cubicBezTo>
                  <a:pt x="517424" y="1651806"/>
                  <a:pt x="520188" y="1622749"/>
                  <a:pt x="522514" y="1593669"/>
                </a:cubicBezTo>
                <a:cubicBezTo>
                  <a:pt x="525994" y="1550168"/>
                  <a:pt x="528501" y="1506595"/>
                  <a:pt x="531223" y="1463040"/>
                </a:cubicBezTo>
                <a:cubicBezTo>
                  <a:pt x="534307" y="1413702"/>
                  <a:pt x="534041" y="1364076"/>
                  <a:pt x="539931" y="1314994"/>
                </a:cubicBezTo>
                <a:cubicBezTo>
                  <a:pt x="542783" y="1291227"/>
                  <a:pt x="552156" y="1268693"/>
                  <a:pt x="557349" y="1245326"/>
                </a:cubicBezTo>
                <a:cubicBezTo>
                  <a:pt x="557366" y="1245251"/>
                  <a:pt x="579112" y="1136506"/>
                  <a:pt x="583474" y="1114697"/>
                </a:cubicBezTo>
                <a:cubicBezTo>
                  <a:pt x="586377" y="1100183"/>
                  <a:pt x="588593" y="1085514"/>
                  <a:pt x="592183" y="1071154"/>
                </a:cubicBezTo>
                <a:lnTo>
                  <a:pt x="609600" y="1001486"/>
                </a:lnTo>
                <a:cubicBezTo>
                  <a:pt x="612824" y="972473"/>
                  <a:pt x="622234" y="884532"/>
                  <a:pt x="627017" y="853440"/>
                </a:cubicBezTo>
                <a:cubicBezTo>
                  <a:pt x="629268" y="838810"/>
                  <a:pt x="632823" y="824411"/>
                  <a:pt x="635726" y="809897"/>
                </a:cubicBezTo>
                <a:cubicBezTo>
                  <a:pt x="638629" y="772160"/>
                  <a:pt x="640012" y="734275"/>
                  <a:pt x="644434" y="696686"/>
                </a:cubicBezTo>
                <a:cubicBezTo>
                  <a:pt x="648052" y="665930"/>
                  <a:pt x="654971" y="663248"/>
                  <a:pt x="661851" y="635726"/>
                </a:cubicBezTo>
                <a:lnTo>
                  <a:pt x="679269" y="566057"/>
                </a:lnTo>
                <a:cubicBezTo>
                  <a:pt x="682172" y="548640"/>
                  <a:pt x="685643" y="531308"/>
                  <a:pt x="687977" y="513806"/>
                </a:cubicBezTo>
                <a:cubicBezTo>
                  <a:pt x="691451" y="487750"/>
                  <a:pt x="692689" y="461410"/>
                  <a:pt x="696686" y="435429"/>
                </a:cubicBezTo>
                <a:cubicBezTo>
                  <a:pt x="698455" y="423931"/>
                  <a:pt x="708638" y="387220"/>
                  <a:pt x="714103" y="374469"/>
                </a:cubicBezTo>
                <a:cubicBezTo>
                  <a:pt x="719217" y="362537"/>
                  <a:pt x="726406" y="351566"/>
                  <a:pt x="731520" y="339634"/>
                </a:cubicBezTo>
                <a:cubicBezTo>
                  <a:pt x="745452" y="307127"/>
                  <a:pt x="734544" y="313327"/>
                  <a:pt x="757646" y="278674"/>
                </a:cubicBezTo>
                <a:cubicBezTo>
                  <a:pt x="773748" y="254521"/>
                  <a:pt x="796915" y="234970"/>
                  <a:pt x="809897" y="209006"/>
                </a:cubicBezTo>
                <a:cubicBezTo>
                  <a:pt x="815703" y="197395"/>
                  <a:pt x="819525" y="184557"/>
                  <a:pt x="827314" y="174172"/>
                </a:cubicBezTo>
                <a:cubicBezTo>
                  <a:pt x="837167" y="161035"/>
                  <a:pt x="853040" y="153000"/>
                  <a:pt x="862149" y="139337"/>
                </a:cubicBezTo>
                <a:cubicBezTo>
                  <a:pt x="867955" y="130629"/>
                  <a:pt x="873028" y="121385"/>
                  <a:pt x="879566" y="113212"/>
                </a:cubicBezTo>
                <a:cubicBezTo>
                  <a:pt x="884695" y="106801"/>
                  <a:pt x="892057" y="102363"/>
                  <a:pt x="896983" y="95794"/>
                </a:cubicBezTo>
                <a:cubicBezTo>
                  <a:pt x="909542" y="79048"/>
                  <a:pt x="914400" y="55154"/>
                  <a:pt x="931817" y="43543"/>
                </a:cubicBezTo>
                <a:cubicBezTo>
                  <a:pt x="1006695" y="-6375"/>
                  <a:pt x="911954" y="53475"/>
                  <a:pt x="984069" y="17417"/>
                </a:cubicBezTo>
                <a:cubicBezTo>
                  <a:pt x="993430" y="12736"/>
                  <a:pt x="1001486" y="5806"/>
                  <a:pt x="1010194" y="0"/>
                </a:cubicBezTo>
                <a:cubicBezTo>
                  <a:pt x="1039223" y="2903"/>
                  <a:pt x="1068362" y="4853"/>
                  <a:pt x="1097280" y="8709"/>
                </a:cubicBezTo>
                <a:cubicBezTo>
                  <a:pt x="1111952" y="10665"/>
                  <a:pt x="1126151" y="15461"/>
                  <a:pt x="1140823" y="17417"/>
                </a:cubicBezTo>
                <a:cubicBezTo>
                  <a:pt x="1169741" y="21273"/>
                  <a:pt x="1198880" y="23223"/>
                  <a:pt x="1227909" y="26126"/>
                </a:cubicBezTo>
                <a:cubicBezTo>
                  <a:pt x="1239520" y="31932"/>
                  <a:pt x="1250588" y="38985"/>
                  <a:pt x="1262743" y="43543"/>
                </a:cubicBezTo>
                <a:cubicBezTo>
                  <a:pt x="1273950" y="47746"/>
                  <a:pt x="1286872" y="46899"/>
                  <a:pt x="1297577" y="52252"/>
                </a:cubicBezTo>
                <a:cubicBezTo>
                  <a:pt x="1316300" y="61613"/>
                  <a:pt x="1332412" y="75475"/>
                  <a:pt x="1349829" y="87086"/>
                </a:cubicBezTo>
                <a:cubicBezTo>
                  <a:pt x="1391377" y="114784"/>
                  <a:pt x="1432321" y="143506"/>
                  <a:pt x="1471749" y="174172"/>
                </a:cubicBezTo>
                <a:cubicBezTo>
                  <a:pt x="1486421" y="185583"/>
                  <a:pt x="1500777" y="197395"/>
                  <a:pt x="1515291" y="209006"/>
                </a:cubicBezTo>
                <a:cubicBezTo>
                  <a:pt x="1529805" y="220617"/>
                  <a:pt x="1546737" y="229728"/>
                  <a:pt x="1558834" y="243840"/>
                </a:cubicBezTo>
                <a:cubicBezTo>
                  <a:pt x="1576251" y="264160"/>
                  <a:pt x="1594139" y="284086"/>
                  <a:pt x="1611086" y="304800"/>
                </a:cubicBezTo>
                <a:cubicBezTo>
                  <a:pt x="1620277" y="316033"/>
                  <a:pt x="1628775" y="327823"/>
                  <a:pt x="1637211" y="339634"/>
                </a:cubicBezTo>
                <a:cubicBezTo>
                  <a:pt x="1643295" y="348151"/>
                  <a:pt x="1647817" y="357813"/>
                  <a:pt x="1654629" y="365760"/>
                </a:cubicBezTo>
                <a:cubicBezTo>
                  <a:pt x="1665316" y="378228"/>
                  <a:pt x="1679065" y="387885"/>
                  <a:pt x="1689463" y="400594"/>
                </a:cubicBezTo>
                <a:cubicBezTo>
                  <a:pt x="1705276" y="419921"/>
                  <a:pt x="1717675" y="441843"/>
                  <a:pt x="1733006" y="461554"/>
                </a:cubicBezTo>
                <a:cubicBezTo>
                  <a:pt x="1738047" y="468035"/>
                  <a:pt x="1745294" y="472561"/>
                  <a:pt x="1750423" y="478972"/>
                </a:cubicBezTo>
                <a:cubicBezTo>
                  <a:pt x="1768557" y="501639"/>
                  <a:pt x="1782148" y="528114"/>
                  <a:pt x="1802674" y="548640"/>
                </a:cubicBezTo>
                <a:cubicBezTo>
                  <a:pt x="1811383" y="557349"/>
                  <a:pt x="1821239" y="565044"/>
                  <a:pt x="1828800" y="574766"/>
                </a:cubicBezTo>
                <a:cubicBezTo>
                  <a:pt x="1841651" y="591289"/>
                  <a:pt x="1852540" y="609266"/>
                  <a:pt x="1863634" y="627017"/>
                </a:cubicBezTo>
                <a:cubicBezTo>
                  <a:pt x="1878148" y="650240"/>
                  <a:pt x="1893087" y="673203"/>
                  <a:pt x="1907177" y="696686"/>
                </a:cubicBezTo>
                <a:cubicBezTo>
                  <a:pt x="1915886" y="711200"/>
                  <a:pt x="1923914" y="726145"/>
                  <a:pt x="1933303" y="740229"/>
                </a:cubicBezTo>
                <a:cubicBezTo>
                  <a:pt x="1952000" y="768274"/>
                  <a:pt x="1961264" y="773920"/>
                  <a:pt x="1976846" y="801189"/>
                </a:cubicBezTo>
                <a:cubicBezTo>
                  <a:pt x="1983287" y="812460"/>
                  <a:pt x="1987383" y="825014"/>
                  <a:pt x="1994263" y="836023"/>
                </a:cubicBezTo>
                <a:cubicBezTo>
                  <a:pt x="2001956" y="848331"/>
                  <a:pt x="2012696" y="858549"/>
                  <a:pt x="2020389" y="870857"/>
                </a:cubicBezTo>
                <a:cubicBezTo>
                  <a:pt x="2027270" y="881866"/>
                  <a:pt x="2030260" y="895128"/>
                  <a:pt x="2037806" y="905692"/>
                </a:cubicBezTo>
                <a:cubicBezTo>
                  <a:pt x="2044964" y="915714"/>
                  <a:pt x="2056047" y="922356"/>
                  <a:pt x="2063931" y="931817"/>
                </a:cubicBezTo>
                <a:cubicBezTo>
                  <a:pt x="2070632" y="939858"/>
                  <a:pt x="2074648" y="949902"/>
                  <a:pt x="2081349" y="957943"/>
                </a:cubicBezTo>
                <a:cubicBezTo>
                  <a:pt x="2089233" y="967404"/>
                  <a:pt x="2099913" y="974348"/>
                  <a:pt x="2107474" y="984069"/>
                </a:cubicBezTo>
                <a:cubicBezTo>
                  <a:pt x="2120326" y="1000592"/>
                  <a:pt x="2128686" y="1020427"/>
                  <a:pt x="2142309" y="1036320"/>
                </a:cubicBezTo>
                <a:cubicBezTo>
                  <a:pt x="2159726" y="1056640"/>
                  <a:pt x="2176557" y="1077477"/>
                  <a:pt x="2194560" y="1097280"/>
                </a:cubicBezTo>
                <a:cubicBezTo>
                  <a:pt x="2205606" y="1109431"/>
                  <a:pt x="2218707" y="1119646"/>
                  <a:pt x="2229394" y="1132114"/>
                </a:cubicBezTo>
                <a:cubicBezTo>
                  <a:pt x="2253587" y="1160339"/>
                  <a:pt x="2272776" y="1192913"/>
                  <a:pt x="2299063" y="1219200"/>
                </a:cubicBezTo>
                <a:cubicBezTo>
                  <a:pt x="2310674" y="1230811"/>
                  <a:pt x="2322988" y="1241761"/>
                  <a:pt x="2333897" y="1254034"/>
                </a:cubicBezTo>
                <a:cubicBezTo>
                  <a:pt x="2346246" y="1267926"/>
                  <a:pt x="2356171" y="1283875"/>
                  <a:pt x="2368731" y="1297577"/>
                </a:cubicBezTo>
                <a:cubicBezTo>
                  <a:pt x="2388149" y="1318761"/>
                  <a:pt x="2409371" y="1338217"/>
                  <a:pt x="2429691" y="1358537"/>
                </a:cubicBezTo>
                <a:cubicBezTo>
                  <a:pt x="2435497" y="1364343"/>
                  <a:pt x="2442555" y="1369122"/>
                  <a:pt x="2447109" y="1375954"/>
                </a:cubicBezTo>
                <a:lnTo>
                  <a:pt x="2464526" y="1402080"/>
                </a:lnTo>
                <a:cubicBezTo>
                  <a:pt x="2481479" y="1452942"/>
                  <a:pt x="2459969" y="1406232"/>
                  <a:pt x="2499360" y="1445623"/>
                </a:cubicBezTo>
                <a:cubicBezTo>
                  <a:pt x="2506761" y="1453024"/>
                  <a:pt x="2509823" y="1463926"/>
                  <a:pt x="2516777" y="1471749"/>
                </a:cubicBezTo>
                <a:cubicBezTo>
                  <a:pt x="2533141" y="1490159"/>
                  <a:pt x="2551612" y="1506583"/>
                  <a:pt x="2569029" y="1524000"/>
                </a:cubicBezTo>
                <a:lnTo>
                  <a:pt x="2647406" y="1602377"/>
                </a:lnTo>
                <a:cubicBezTo>
                  <a:pt x="2656115" y="1611086"/>
                  <a:pt x="2666142" y="1618651"/>
                  <a:pt x="2673531" y="1628503"/>
                </a:cubicBezTo>
                <a:cubicBezTo>
                  <a:pt x="2683237" y="1641443"/>
                  <a:pt x="2707976" y="1673086"/>
                  <a:pt x="2717074" y="1689463"/>
                </a:cubicBezTo>
                <a:cubicBezTo>
                  <a:pt x="2726531" y="1706485"/>
                  <a:pt x="2733743" y="1724692"/>
                  <a:pt x="2743200" y="1741714"/>
                </a:cubicBezTo>
                <a:cubicBezTo>
                  <a:pt x="2748283" y="1750863"/>
                  <a:pt x="2755936" y="1758478"/>
                  <a:pt x="2760617" y="1767840"/>
                </a:cubicBezTo>
                <a:cubicBezTo>
                  <a:pt x="2767608" y="1781822"/>
                  <a:pt x="2771043" y="1797401"/>
                  <a:pt x="2778034" y="1811383"/>
                </a:cubicBezTo>
                <a:cubicBezTo>
                  <a:pt x="2782715" y="1820745"/>
                  <a:pt x="2790770" y="1828148"/>
                  <a:pt x="2795451" y="1837509"/>
                </a:cubicBezTo>
                <a:cubicBezTo>
                  <a:pt x="2799556" y="1845719"/>
                  <a:pt x="2800937" y="1855039"/>
                  <a:pt x="2804160" y="1863634"/>
                </a:cubicBezTo>
                <a:cubicBezTo>
                  <a:pt x="2809649" y="1878271"/>
                  <a:pt x="2816634" y="1892347"/>
                  <a:pt x="2821577" y="1907177"/>
                </a:cubicBezTo>
                <a:cubicBezTo>
                  <a:pt x="2855564" y="2009139"/>
                  <a:pt x="2791415" y="1848180"/>
                  <a:pt x="2847703" y="2002972"/>
                </a:cubicBezTo>
                <a:cubicBezTo>
                  <a:pt x="2852139" y="2015172"/>
                  <a:pt x="2860562" y="2025651"/>
                  <a:pt x="2865120" y="2037806"/>
                </a:cubicBezTo>
                <a:cubicBezTo>
                  <a:pt x="2869323" y="2049013"/>
                  <a:pt x="2869626" y="2061433"/>
                  <a:pt x="2873829" y="2072640"/>
                </a:cubicBezTo>
                <a:cubicBezTo>
                  <a:pt x="2878387" y="2084795"/>
                  <a:pt x="2886425" y="2095421"/>
                  <a:pt x="2891246" y="2107474"/>
                </a:cubicBezTo>
                <a:cubicBezTo>
                  <a:pt x="2898064" y="2124520"/>
                  <a:pt x="2903388" y="2142141"/>
                  <a:pt x="2908663" y="2159726"/>
                </a:cubicBezTo>
                <a:cubicBezTo>
                  <a:pt x="2912102" y="2171190"/>
                  <a:pt x="2913168" y="2183353"/>
                  <a:pt x="2917371" y="2194560"/>
                </a:cubicBezTo>
                <a:cubicBezTo>
                  <a:pt x="2921929" y="2206715"/>
                  <a:pt x="2928983" y="2217783"/>
                  <a:pt x="2934789" y="2229394"/>
                </a:cubicBezTo>
                <a:cubicBezTo>
                  <a:pt x="2950843" y="2293614"/>
                  <a:pt x="2933592" y="2235312"/>
                  <a:pt x="2960914" y="2299063"/>
                </a:cubicBezTo>
                <a:cubicBezTo>
                  <a:pt x="2982547" y="2349538"/>
                  <a:pt x="2953570" y="2301110"/>
                  <a:pt x="2987040" y="2351314"/>
                </a:cubicBezTo>
                <a:cubicBezTo>
                  <a:pt x="3031969" y="2486103"/>
                  <a:pt x="2980476" y="2346897"/>
                  <a:pt x="3021874" y="2429692"/>
                </a:cubicBezTo>
                <a:cubicBezTo>
                  <a:pt x="3035485" y="2456914"/>
                  <a:pt x="3025352" y="2463474"/>
                  <a:pt x="3048000" y="2490652"/>
                </a:cubicBezTo>
                <a:cubicBezTo>
                  <a:pt x="3054700" y="2498693"/>
                  <a:pt x="3065417" y="2502263"/>
                  <a:pt x="3074126" y="2508069"/>
                </a:cubicBezTo>
                <a:cubicBezTo>
                  <a:pt x="3087056" y="2527464"/>
                  <a:pt x="3091235" y="2537432"/>
                  <a:pt x="3108960" y="2551612"/>
                </a:cubicBezTo>
                <a:cubicBezTo>
                  <a:pt x="3117133" y="2558150"/>
                  <a:pt x="3126377" y="2563223"/>
                  <a:pt x="3135086" y="2569029"/>
                </a:cubicBezTo>
                <a:cubicBezTo>
                  <a:pt x="3140892" y="2577737"/>
                  <a:pt x="3145550" y="2587331"/>
                  <a:pt x="3152503" y="2595154"/>
                </a:cubicBezTo>
                <a:cubicBezTo>
                  <a:pt x="3152508" y="2595160"/>
                  <a:pt x="3217814" y="2660467"/>
                  <a:pt x="3230880" y="2673532"/>
                </a:cubicBezTo>
                <a:cubicBezTo>
                  <a:pt x="3239589" y="2682240"/>
                  <a:pt x="3250175" y="2689410"/>
                  <a:pt x="3257006" y="2699657"/>
                </a:cubicBezTo>
                <a:cubicBezTo>
                  <a:pt x="3274132" y="2725347"/>
                  <a:pt x="3275403" y="2730954"/>
                  <a:pt x="3300549" y="2751909"/>
                </a:cubicBezTo>
                <a:cubicBezTo>
                  <a:pt x="3337914" y="2783047"/>
                  <a:pt x="3318105" y="2753818"/>
                  <a:pt x="3352800" y="2795452"/>
                </a:cubicBezTo>
                <a:cubicBezTo>
                  <a:pt x="3359500" y="2803492"/>
                  <a:pt x="3363264" y="2813755"/>
                  <a:pt x="3370217" y="2821577"/>
                </a:cubicBezTo>
                <a:cubicBezTo>
                  <a:pt x="3386582" y="2839987"/>
                  <a:pt x="3408806" y="2853334"/>
                  <a:pt x="3422469" y="2873829"/>
                </a:cubicBezTo>
                <a:cubicBezTo>
                  <a:pt x="3428275" y="2882537"/>
                  <a:pt x="3432485" y="2892553"/>
                  <a:pt x="3439886" y="2899954"/>
                </a:cubicBezTo>
                <a:cubicBezTo>
                  <a:pt x="3447287" y="2907355"/>
                  <a:pt x="3457838" y="2910834"/>
                  <a:pt x="3466011" y="2917372"/>
                </a:cubicBezTo>
                <a:cubicBezTo>
                  <a:pt x="3528045" y="2967000"/>
                  <a:pt x="3429160" y="2898609"/>
                  <a:pt x="3509554" y="2952206"/>
                </a:cubicBezTo>
                <a:cubicBezTo>
                  <a:pt x="3515360" y="2960915"/>
                  <a:pt x="3520433" y="2970159"/>
                  <a:pt x="3526971" y="2978332"/>
                </a:cubicBezTo>
                <a:cubicBezTo>
                  <a:pt x="3541151" y="2996057"/>
                  <a:pt x="3551119" y="3000236"/>
                  <a:pt x="3570514" y="3013166"/>
                </a:cubicBezTo>
                <a:cubicBezTo>
                  <a:pt x="3576320" y="3021875"/>
                  <a:pt x="3581039" y="3031415"/>
                  <a:pt x="3587931" y="3039292"/>
                </a:cubicBezTo>
                <a:cubicBezTo>
                  <a:pt x="3605583" y="3059465"/>
                  <a:pt x="3631372" y="3087138"/>
                  <a:pt x="3657600" y="3100252"/>
                </a:cubicBezTo>
                <a:cubicBezTo>
                  <a:pt x="3665811" y="3104357"/>
                  <a:pt x="3675017" y="3106057"/>
                  <a:pt x="3683726" y="3108960"/>
                </a:cubicBezTo>
                <a:cubicBezTo>
                  <a:pt x="3758590" y="3158870"/>
                  <a:pt x="3663872" y="3099034"/>
                  <a:pt x="3735977" y="3135086"/>
                </a:cubicBezTo>
                <a:cubicBezTo>
                  <a:pt x="3745338" y="3139767"/>
                  <a:pt x="3752742" y="3147822"/>
                  <a:pt x="3762103" y="3152503"/>
                </a:cubicBezTo>
                <a:cubicBezTo>
                  <a:pt x="3770314" y="3156608"/>
                  <a:pt x="3780018" y="3157107"/>
                  <a:pt x="3788229" y="3161212"/>
                </a:cubicBezTo>
                <a:cubicBezTo>
                  <a:pt x="3855748" y="3194972"/>
                  <a:pt x="3774818" y="3165451"/>
                  <a:pt x="3840480" y="3187337"/>
                </a:cubicBezTo>
                <a:cubicBezTo>
                  <a:pt x="3862371" y="3253006"/>
                  <a:pt x="3830296" y="3174607"/>
                  <a:pt x="3875314" y="3230880"/>
                </a:cubicBezTo>
                <a:cubicBezTo>
                  <a:pt x="3889052" y="3248052"/>
                  <a:pt x="3876971" y="3270898"/>
                  <a:pt x="3901440" y="3283132"/>
                </a:cubicBezTo>
                <a:lnTo>
                  <a:pt x="3918857" y="3309257"/>
                </a:lnTo>
                <a:close/>
              </a:path>
            </a:pathLst>
          </a:custGeom>
          <a:noFill/>
          <a:ln w="2556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8" name="Oval 62"/>
          <p:cNvSpPr/>
          <p:nvPr/>
        </p:nvSpPr>
        <p:spPr>
          <a:xfrm>
            <a:off x="3652920" y="5427720"/>
            <a:ext cx="152280" cy="152280"/>
          </a:xfrm>
          <a:prstGeom prst="ellipse">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43"/>
                                        </p:tgtEl>
                                        <p:attrNameLst>
                                          <p:attrName>style.visibility</p:attrName>
                                        </p:attrNameLst>
                                      </p:cBhvr>
                                      <p:to>
                                        <p:strVal val="visible"/>
                                      </p:to>
                                    </p:set>
                                    <p:animEffect filter="wipe(up)" transition="in">
                                      <p:cBhvr additive="repl">
                                        <p:cTn id="65" dur="500"/>
                                        <p:tgtEl>
                                          <p:spTgt spid="1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4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5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7"/>
                                        </p:tgtEl>
                                        <p:attrNameLst>
                                          <p:attrName>style.visibility</p:attrName>
                                        </p:attrNameLst>
                                      </p:cBhvr>
                                      <p:to>
                                        <p:strVal val="visible"/>
                                      </p:to>
                                    </p:set>
                                    <p:animEffect filter="wipe(up)" transition="in">
                                      <p:cBhvr additive="repl">
                                        <p:cTn id="78" dur="500"/>
                                        <p:tgtEl>
                                          <p:spTgt spid="13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3-08-07</a:t>
            </a:r>
            <a:endParaRPr b="0" lang="en-US" sz="1200" spc="-1" strike="noStrike">
              <a:solidFill>
                <a:srgbClr val="000000"/>
              </a:solidFill>
              <a:latin typeface="Calibri"/>
            </a:endParaRPr>
          </a:p>
        </p:txBody>
      </p:sp>
      <p:sp>
        <p:nvSpPr>
          <p:cNvPr id="16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p 4 : Network Adjustment</a:t>
            </a:r>
            <a:endParaRPr b="0" lang="en-US" sz="12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6217-AF40-4ABD-BA9B-F0D26AFC6C6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62" name="Picture 2" descr="CORS"/>
          <p:cNvPicPr/>
          <p:nvPr/>
        </p:nvPicPr>
        <p:blipFill>
          <a:blip r:embed="rId1"/>
          <a:stretch/>
        </p:blipFill>
        <p:spPr>
          <a:xfrm>
            <a:off x="1447920" y="723960"/>
            <a:ext cx="304560" cy="304920"/>
          </a:xfrm>
          <a:prstGeom prst="rect">
            <a:avLst/>
          </a:prstGeom>
          <a:ln w="0">
            <a:noFill/>
          </a:ln>
        </p:spPr>
      </p:pic>
      <p:sp>
        <p:nvSpPr>
          <p:cNvPr id="163" name="Rectangle 8"/>
          <p:cNvSpPr/>
          <p:nvPr/>
        </p:nvSpPr>
        <p:spPr>
          <a:xfrm rot="2813400">
            <a:off x="4992480" y="515880"/>
            <a:ext cx="190440" cy="19044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10"/>
          <p:cNvSpPr/>
          <p:nvPr/>
        </p:nvSpPr>
        <p:spPr>
          <a:xfrm rot="2813400">
            <a:off x="6856200" y="2782800"/>
            <a:ext cx="190440" cy="19044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Rectangle 11"/>
          <p:cNvSpPr/>
          <p:nvPr/>
        </p:nvSpPr>
        <p:spPr>
          <a:xfrm rot="2813400">
            <a:off x="3333600" y="5175000"/>
            <a:ext cx="190440" cy="19080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12"/>
          <p:cNvSpPr/>
          <p:nvPr/>
        </p:nvSpPr>
        <p:spPr>
          <a:xfrm rot="2813400">
            <a:off x="953640" y="2784600"/>
            <a:ext cx="190440" cy="19044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7" name="Picture 2" descr="CORS"/>
          <p:cNvPicPr/>
          <p:nvPr/>
        </p:nvPicPr>
        <p:blipFill>
          <a:blip r:embed="rId2"/>
          <a:stretch/>
        </p:blipFill>
        <p:spPr>
          <a:xfrm>
            <a:off x="6781680" y="5105520"/>
            <a:ext cx="304920" cy="304560"/>
          </a:xfrm>
          <a:prstGeom prst="rect">
            <a:avLst/>
          </a:prstGeom>
          <a:ln w="0">
            <a:noFill/>
          </a:ln>
        </p:spPr>
      </p:pic>
      <p:sp>
        <p:nvSpPr>
          <p:cNvPr id="168" name="Straight Connector 14"/>
          <p:cNvSpPr/>
          <p:nvPr/>
        </p:nvSpPr>
        <p:spPr>
          <a:xfrm flipH="1">
            <a:off x="1049400" y="876240"/>
            <a:ext cx="550800" cy="186696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Straight Connector 16"/>
          <p:cNvSpPr/>
          <p:nvPr/>
        </p:nvSpPr>
        <p:spPr>
          <a:xfrm>
            <a:off x="1735200" y="1020600"/>
            <a:ext cx="5046480" cy="185760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Straight Connector 17"/>
          <p:cNvSpPr/>
          <p:nvPr/>
        </p:nvSpPr>
        <p:spPr>
          <a:xfrm flipH="1" flipV="1">
            <a:off x="3564000" y="5235120"/>
            <a:ext cx="3170160" cy="34920"/>
          </a:xfrm>
          <a:prstGeom prst="line">
            <a:avLst/>
          </a:prstGeom>
          <a:ln w="25560">
            <a:solidFill>
              <a:srgbClr val="8064a2"/>
            </a:solidFill>
            <a:prstDash val="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71" name="Straight Connector 18"/>
          <p:cNvSpPr/>
          <p:nvPr/>
        </p:nvSpPr>
        <p:spPr>
          <a:xfrm>
            <a:off x="6934320" y="3013200"/>
            <a:ext cx="0" cy="209232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Straight Connector 19"/>
          <p:cNvSpPr/>
          <p:nvPr/>
        </p:nvSpPr>
        <p:spPr>
          <a:xfrm flipH="1">
            <a:off x="1752480" y="620640"/>
            <a:ext cx="3200400" cy="25560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Straight Connector 23"/>
          <p:cNvSpPr/>
          <p:nvPr/>
        </p:nvSpPr>
        <p:spPr>
          <a:xfrm>
            <a:off x="1662120" y="988920"/>
            <a:ext cx="1766880" cy="411660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68"/>
                                        </p:tgtEl>
                                        <p:attrNameLst>
                                          <p:attrName>style.visibility</p:attrName>
                                        </p:attrNameLst>
                                      </p:cBhvr>
                                      <p:to>
                                        <p:strVal val="visible"/>
                                      </p:to>
                                    </p:set>
                                    <p:animEffect filter="fade" transition="in">
                                      <p:cBhvr additive="repl">
                                        <p:cTn id="89" dur="500"/>
                                        <p:tgtEl>
                                          <p:spTgt spid="168"/>
                                        </p:tgtEl>
                                      </p:cBhvr>
                                    </p:animEffect>
                                  </p:childTnLst>
                                </p:cTn>
                              </p:par>
                              <p:par>
                                <p:cTn id="90" nodeType="withEffect" fill="hold" presetClass="entr" presetID="10">
                                  <p:stCondLst>
                                    <p:cond delay="0"/>
                                  </p:stCondLst>
                                  <p:childTnLst>
                                    <p:set>
                                      <p:cBhvr>
                                        <p:cTn id="91" dur="1" fill="hold">
                                          <p:stCondLst>
                                            <p:cond delay="0"/>
                                          </p:stCondLst>
                                        </p:cTn>
                                        <p:tgtEl>
                                          <p:spTgt spid="166"/>
                                        </p:tgtEl>
                                        <p:attrNameLst>
                                          <p:attrName>style.visibility</p:attrName>
                                        </p:attrNameLst>
                                      </p:cBhvr>
                                      <p:to>
                                        <p:strVal val="visible"/>
                                      </p:to>
                                    </p:set>
                                    <p:animEffect filter="fade" transition="in">
                                      <p:cBhvr additive="repl">
                                        <p:cTn id="92" dur="500"/>
                                        <p:tgtEl>
                                          <p:spTgt spid="166"/>
                                        </p:tgtEl>
                                      </p:cBhvr>
                                    </p:animEffect>
                                  </p:childTnLst>
                                </p:cTn>
                              </p:par>
                              <p:par>
                                <p:cTn id="93" nodeType="withEffect" fill="hold" presetClass="entr" presetID="10">
                                  <p:stCondLst>
                                    <p:cond delay="0"/>
                                  </p:stCondLst>
                                  <p:childTnLst>
                                    <p:set>
                                      <p:cBhvr>
                                        <p:cTn id="94" dur="1" fill="hold">
                                          <p:stCondLst>
                                            <p:cond delay="0"/>
                                          </p:stCondLst>
                                        </p:cTn>
                                        <p:tgtEl>
                                          <p:spTgt spid="172"/>
                                        </p:tgtEl>
                                        <p:attrNameLst>
                                          <p:attrName>style.visibility</p:attrName>
                                        </p:attrNameLst>
                                      </p:cBhvr>
                                      <p:to>
                                        <p:strVal val="visible"/>
                                      </p:to>
                                    </p:set>
                                    <p:animEffect filter="fade" transition="in">
                                      <p:cBhvr additive="repl">
                                        <p:cTn id="95" dur="500"/>
                                        <p:tgtEl>
                                          <p:spTgt spid="172"/>
                                        </p:tgtEl>
                                      </p:cBhvr>
                                    </p:animEffect>
                                  </p:childTnLst>
                                </p:cTn>
                              </p:par>
                              <p:par>
                                <p:cTn id="96" nodeType="withEffect" fill="hold" presetClass="entr" presetID="10">
                                  <p:stCondLst>
                                    <p:cond delay="0"/>
                                  </p:stCondLst>
                                  <p:childTnLst>
                                    <p:set>
                                      <p:cBhvr>
                                        <p:cTn id="97" dur="1" fill="hold">
                                          <p:stCondLst>
                                            <p:cond delay="0"/>
                                          </p:stCondLst>
                                        </p:cTn>
                                        <p:tgtEl>
                                          <p:spTgt spid="163"/>
                                        </p:tgtEl>
                                        <p:attrNameLst>
                                          <p:attrName>style.visibility</p:attrName>
                                        </p:attrNameLst>
                                      </p:cBhvr>
                                      <p:to>
                                        <p:strVal val="visible"/>
                                      </p:to>
                                    </p:set>
                                    <p:animEffect filter="fade" transition="in">
                                      <p:cBhvr additive="repl">
                                        <p:cTn id="98" dur="500"/>
                                        <p:tgtEl>
                                          <p:spTgt spid="163"/>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65"/>
                                        </p:tgtEl>
                                        <p:attrNameLst>
                                          <p:attrName>style.visibility</p:attrName>
                                        </p:attrNameLst>
                                      </p:cBhvr>
                                      <p:to>
                                        <p:strVal val="visible"/>
                                      </p:to>
                                    </p:set>
                                    <p:animEffect filter="fade" transition="in">
                                      <p:cBhvr additive="repl">
                                        <p:cTn id="103" dur="500"/>
                                        <p:tgtEl>
                                          <p:spTgt spid="165"/>
                                        </p:tgtEl>
                                      </p:cBhvr>
                                    </p:animEffect>
                                  </p:childTnLst>
                                </p:cTn>
                              </p:par>
                              <p:par>
                                <p:cTn id="104" nodeType="withEffect" fill="hold" presetClass="entr" presetID="10">
                                  <p:stCondLst>
                                    <p:cond delay="0"/>
                                  </p:stCondLst>
                                  <p:childTnLst>
                                    <p:set>
                                      <p:cBhvr>
                                        <p:cTn id="105" dur="1" fill="hold">
                                          <p:stCondLst>
                                            <p:cond delay="0"/>
                                          </p:stCondLst>
                                        </p:cTn>
                                        <p:tgtEl>
                                          <p:spTgt spid="170"/>
                                        </p:tgtEl>
                                        <p:attrNameLst>
                                          <p:attrName>style.visibility</p:attrName>
                                        </p:attrNameLst>
                                      </p:cBhvr>
                                      <p:to>
                                        <p:strVal val="visible"/>
                                      </p:to>
                                    </p:set>
                                    <p:animEffect filter="fade" transition="in">
                                      <p:cBhvr additive="repl">
                                        <p:cTn id="106" dur="500"/>
                                        <p:tgtEl>
                                          <p:spTgt spid="170"/>
                                        </p:tgtEl>
                                      </p:cBhvr>
                                    </p:animEffect>
                                  </p:childTnLst>
                                </p:cTn>
                              </p:par>
                              <p:par>
                                <p:cTn id="107" nodeType="withEffect" fill="hold" presetClass="entr" presetID="10">
                                  <p:stCondLst>
                                    <p:cond delay="0"/>
                                  </p:stCondLst>
                                  <p:childTnLst>
                                    <p:set>
                                      <p:cBhvr>
                                        <p:cTn id="108" dur="1" fill="hold">
                                          <p:stCondLst>
                                            <p:cond delay="0"/>
                                          </p:stCondLst>
                                        </p:cTn>
                                        <p:tgtEl>
                                          <p:spTgt spid="171"/>
                                        </p:tgtEl>
                                        <p:attrNameLst>
                                          <p:attrName>style.visibility</p:attrName>
                                        </p:attrNameLst>
                                      </p:cBhvr>
                                      <p:to>
                                        <p:strVal val="visible"/>
                                      </p:to>
                                    </p:set>
                                    <p:animEffect filter="fade" transition="in">
                                      <p:cBhvr additive="repl">
                                        <p:cTn id="109" dur="500"/>
                                        <p:tgtEl>
                                          <p:spTgt spid="171"/>
                                        </p:tgtEl>
                                      </p:cBhvr>
                                    </p:animEffect>
                                  </p:childTnLst>
                                </p:cTn>
                              </p:par>
                              <p:par>
                                <p:cTn id="110" nodeType="withEffect" fill="hold" presetClass="entr" presetID="10">
                                  <p:stCondLst>
                                    <p:cond delay="0"/>
                                  </p:stCondLst>
                                  <p:childTnLst>
                                    <p:set>
                                      <p:cBhvr>
                                        <p:cTn id="111" dur="1" fill="hold">
                                          <p:stCondLst>
                                            <p:cond delay="0"/>
                                          </p:stCondLst>
                                        </p:cTn>
                                        <p:tgtEl>
                                          <p:spTgt spid="164"/>
                                        </p:tgtEl>
                                        <p:attrNameLst>
                                          <p:attrName>style.visibility</p:attrName>
                                        </p:attrNameLst>
                                      </p:cBhvr>
                                      <p:to>
                                        <p:strVal val="visible"/>
                                      </p:to>
                                    </p:set>
                                    <p:animEffect filter="fade" transition="in">
                                      <p:cBhvr additive="repl">
                                        <p:cTn id="112" dur="500"/>
                                        <p:tgtEl>
                                          <p:spTgt spid="1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73"/>
                                        </p:tgtEl>
                                        <p:attrNameLst>
                                          <p:attrName>style.visibility</p:attrName>
                                        </p:attrNameLst>
                                      </p:cBhvr>
                                      <p:to>
                                        <p:strVal val="visible"/>
                                      </p:to>
                                    </p:set>
                                    <p:animEffect filter="fade" transition="in">
                                      <p:cBhvr additive="repl">
                                        <p:cTn id="117" dur="500"/>
                                        <p:tgtEl>
                                          <p:spTgt spid="173"/>
                                        </p:tgtEl>
                                      </p:cBhvr>
                                    </p:animEffect>
                                  </p:childTnLst>
                                </p:cTn>
                              </p:par>
                              <p:par>
                                <p:cTn id="118" nodeType="withEffect" fill="hold" presetClass="entr" presetID="10">
                                  <p:stCondLst>
                                    <p:cond delay="0"/>
                                  </p:stCondLst>
                                  <p:childTnLst>
                                    <p:set>
                                      <p:cBhvr>
                                        <p:cTn id="119" dur="1" fill="hold">
                                          <p:stCondLst>
                                            <p:cond delay="0"/>
                                          </p:stCondLst>
                                        </p:cTn>
                                        <p:tgtEl>
                                          <p:spTgt spid="169"/>
                                        </p:tgtEl>
                                        <p:attrNameLst>
                                          <p:attrName>style.visibility</p:attrName>
                                        </p:attrNameLst>
                                      </p:cBhvr>
                                      <p:to>
                                        <p:strVal val="visible"/>
                                      </p:to>
                                    </p:set>
                                    <p:animEffect filter="fade" transition="in">
                                      <p:cBhvr additive="repl">
                                        <p:cTn id="12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7555-8628-4010-BFFD-21F1652E471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75" name="Oval 6"/>
          <p:cNvSpPr/>
          <p:nvPr/>
        </p:nvSpPr>
        <p:spPr>
          <a:xfrm>
            <a:off x="1676520" y="8380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7"/>
          <p:cNvSpPr/>
          <p:nvPr/>
        </p:nvSpPr>
        <p:spPr>
          <a:xfrm>
            <a:off x="4486320" y="5867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9"/>
          <p:cNvSpPr/>
          <p:nvPr/>
        </p:nvSpPr>
        <p:spPr>
          <a:xfrm>
            <a:off x="609480" y="1627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0"/>
          <p:cNvSpPr/>
          <p:nvPr/>
        </p:nvSpPr>
        <p:spPr>
          <a:xfrm>
            <a:off x="7086600" y="29718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11"/>
          <p:cNvSpPr/>
          <p:nvPr/>
        </p:nvSpPr>
        <p:spPr>
          <a:xfrm>
            <a:off x="2765520" y="28954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12"/>
          <p:cNvSpPr/>
          <p:nvPr/>
        </p:nvSpPr>
        <p:spPr>
          <a:xfrm>
            <a:off x="1295280" y="5494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3"/>
          <p:cNvSpPr/>
          <p:nvPr/>
        </p:nvSpPr>
        <p:spPr>
          <a:xfrm>
            <a:off x="6324480" y="5029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4"/>
          <p:cNvSpPr/>
          <p:nvPr/>
        </p:nvSpPr>
        <p:spPr>
          <a:xfrm>
            <a:off x="6477120" y="12891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5"/>
          <p:cNvSpPr/>
          <p:nvPr/>
        </p:nvSpPr>
        <p:spPr>
          <a:xfrm>
            <a:off x="4648320" y="327672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16"/>
          <p:cNvSpPr/>
          <p:nvPr/>
        </p:nvSpPr>
        <p:spPr>
          <a:xfrm>
            <a:off x="2666880" y="4648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17"/>
          <p:cNvSpPr/>
          <p:nvPr/>
        </p:nvSpPr>
        <p:spPr>
          <a:xfrm>
            <a:off x="460440" y="3635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18"/>
          <p:cNvSpPr/>
          <p:nvPr/>
        </p:nvSpPr>
        <p:spPr>
          <a:xfrm>
            <a:off x="3657600" y="12175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traight Connector 20"/>
          <p:cNvSpPr/>
          <p:nvPr/>
        </p:nvSpPr>
        <p:spPr>
          <a:xfrm flipH="1">
            <a:off x="739440" y="838080"/>
            <a:ext cx="1012680" cy="811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Straight Connector 23"/>
          <p:cNvSpPr/>
          <p:nvPr/>
        </p:nvSpPr>
        <p:spPr>
          <a:xfrm>
            <a:off x="631800" y="1757520"/>
            <a:ext cx="2155680" cy="11602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Straight Connector 26"/>
          <p:cNvSpPr/>
          <p:nvPr/>
        </p:nvSpPr>
        <p:spPr>
          <a:xfrm>
            <a:off x="1752480" y="838080"/>
            <a:ext cx="2057400" cy="4557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Straight Connector 28"/>
          <p:cNvSpPr/>
          <p:nvPr/>
        </p:nvSpPr>
        <p:spPr>
          <a:xfrm flipV="1">
            <a:off x="2841480" y="1369800"/>
            <a:ext cx="892440" cy="152532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Straight Connector 31"/>
          <p:cNvSpPr/>
          <p:nvPr/>
        </p:nvSpPr>
        <p:spPr>
          <a:xfrm>
            <a:off x="3733920" y="1217520"/>
            <a:ext cx="2873160" cy="20160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Straight Connector 33"/>
          <p:cNvSpPr/>
          <p:nvPr/>
        </p:nvSpPr>
        <p:spPr>
          <a:xfrm flipH="1">
            <a:off x="4724280" y="1441440"/>
            <a:ext cx="1828800" cy="198756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Straight Connector 35"/>
          <p:cNvSpPr/>
          <p:nvPr/>
        </p:nvSpPr>
        <p:spPr>
          <a:xfrm>
            <a:off x="6553080" y="1289160"/>
            <a:ext cx="555840" cy="17049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Straight Connector 37"/>
          <p:cNvSpPr/>
          <p:nvPr/>
        </p:nvSpPr>
        <p:spPr>
          <a:xfrm flipH="1">
            <a:off x="6400440" y="3124080"/>
            <a:ext cx="762120" cy="190512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39"/>
          <p:cNvSpPr/>
          <p:nvPr/>
        </p:nvSpPr>
        <p:spPr>
          <a:xfrm flipH="1">
            <a:off x="4486320" y="5029200"/>
            <a:ext cx="1914480" cy="914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Straight Connector 45"/>
          <p:cNvSpPr/>
          <p:nvPr/>
        </p:nvSpPr>
        <p:spPr>
          <a:xfrm flipH="1" flipV="1">
            <a:off x="2797200" y="4777920"/>
            <a:ext cx="1765440" cy="10890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Straight Connector 47"/>
          <p:cNvSpPr/>
          <p:nvPr/>
        </p:nvSpPr>
        <p:spPr>
          <a:xfrm flipV="1">
            <a:off x="2743200" y="3352320"/>
            <a:ext cx="2057400" cy="129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50"/>
          <p:cNvSpPr/>
          <p:nvPr/>
        </p:nvSpPr>
        <p:spPr>
          <a:xfrm flipH="1">
            <a:off x="1425600" y="4648320"/>
            <a:ext cx="1317600" cy="86832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Straight Connector 53"/>
          <p:cNvSpPr/>
          <p:nvPr/>
        </p:nvSpPr>
        <p:spPr>
          <a:xfrm flipH="1" flipV="1">
            <a:off x="536400" y="3787920"/>
            <a:ext cx="835200" cy="170640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traight Connector 55"/>
          <p:cNvSpPr/>
          <p:nvPr/>
        </p:nvSpPr>
        <p:spPr>
          <a:xfrm flipV="1">
            <a:off x="2743200" y="3047760"/>
            <a:ext cx="98280" cy="160020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57"/>
          <p:cNvSpPr/>
          <p:nvPr/>
        </p:nvSpPr>
        <p:spPr>
          <a:xfrm flipH="1" flipV="1">
            <a:off x="4777920" y="3406320"/>
            <a:ext cx="1622520" cy="162252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59"/>
          <p:cNvSpPr/>
          <p:nvPr/>
        </p:nvSpPr>
        <p:spPr>
          <a:xfrm flipH="1" flipV="1">
            <a:off x="2917440" y="2971800"/>
            <a:ext cx="17305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Straight Connector 61"/>
          <p:cNvSpPr/>
          <p:nvPr/>
        </p:nvSpPr>
        <p:spPr>
          <a:xfrm flipH="1">
            <a:off x="590040" y="3048120"/>
            <a:ext cx="2251080" cy="71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Straight Connector 63"/>
          <p:cNvSpPr/>
          <p:nvPr/>
        </p:nvSpPr>
        <p:spPr>
          <a:xfrm flipV="1">
            <a:off x="536400" y="1757520"/>
            <a:ext cx="95400" cy="187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8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8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92"/>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9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9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0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9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9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0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02"/>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0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D4D6-0DAA-4841-ADF2-7930B4E3DF9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06" name="Oval 6"/>
          <p:cNvSpPr/>
          <p:nvPr/>
        </p:nvSpPr>
        <p:spPr>
          <a:xfrm>
            <a:off x="1676520" y="8380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Oval 7"/>
          <p:cNvSpPr/>
          <p:nvPr/>
        </p:nvSpPr>
        <p:spPr>
          <a:xfrm>
            <a:off x="4486320" y="5867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Oval 9"/>
          <p:cNvSpPr/>
          <p:nvPr/>
        </p:nvSpPr>
        <p:spPr>
          <a:xfrm>
            <a:off x="609480" y="1627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Oval 10"/>
          <p:cNvSpPr/>
          <p:nvPr/>
        </p:nvSpPr>
        <p:spPr>
          <a:xfrm>
            <a:off x="7086600" y="29718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1"/>
          <p:cNvSpPr/>
          <p:nvPr/>
        </p:nvSpPr>
        <p:spPr>
          <a:xfrm>
            <a:off x="2765520" y="28954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val 12"/>
          <p:cNvSpPr/>
          <p:nvPr/>
        </p:nvSpPr>
        <p:spPr>
          <a:xfrm>
            <a:off x="1295280" y="5494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Oval 13"/>
          <p:cNvSpPr/>
          <p:nvPr/>
        </p:nvSpPr>
        <p:spPr>
          <a:xfrm>
            <a:off x="6324480" y="5029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Oval 14"/>
          <p:cNvSpPr/>
          <p:nvPr/>
        </p:nvSpPr>
        <p:spPr>
          <a:xfrm>
            <a:off x="6477120" y="12891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15"/>
          <p:cNvSpPr/>
          <p:nvPr/>
        </p:nvSpPr>
        <p:spPr>
          <a:xfrm>
            <a:off x="4648320" y="327672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16"/>
          <p:cNvSpPr/>
          <p:nvPr/>
        </p:nvSpPr>
        <p:spPr>
          <a:xfrm>
            <a:off x="2666880" y="4648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17"/>
          <p:cNvSpPr/>
          <p:nvPr/>
        </p:nvSpPr>
        <p:spPr>
          <a:xfrm>
            <a:off x="460440" y="3635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18"/>
          <p:cNvSpPr/>
          <p:nvPr/>
        </p:nvSpPr>
        <p:spPr>
          <a:xfrm>
            <a:off x="3657600" y="12175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Straight Connector 20"/>
          <p:cNvSpPr/>
          <p:nvPr/>
        </p:nvSpPr>
        <p:spPr>
          <a:xfrm flipH="1">
            <a:off x="739440" y="838080"/>
            <a:ext cx="1012680" cy="811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Straight Connector 23"/>
          <p:cNvSpPr/>
          <p:nvPr/>
        </p:nvSpPr>
        <p:spPr>
          <a:xfrm>
            <a:off x="631800" y="1757520"/>
            <a:ext cx="2155680" cy="11602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Straight Connector 26"/>
          <p:cNvSpPr/>
          <p:nvPr/>
        </p:nvSpPr>
        <p:spPr>
          <a:xfrm>
            <a:off x="1752480" y="838080"/>
            <a:ext cx="2057400" cy="4557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Straight Connector 28"/>
          <p:cNvSpPr/>
          <p:nvPr/>
        </p:nvSpPr>
        <p:spPr>
          <a:xfrm>
            <a:off x="2841480" y="2895480"/>
            <a:ext cx="1806840" cy="45720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Straight Connector 31"/>
          <p:cNvSpPr/>
          <p:nvPr/>
        </p:nvSpPr>
        <p:spPr>
          <a:xfrm>
            <a:off x="3733920" y="1217520"/>
            <a:ext cx="2873160" cy="20160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Straight Connector 33"/>
          <p:cNvSpPr/>
          <p:nvPr/>
        </p:nvSpPr>
        <p:spPr>
          <a:xfrm>
            <a:off x="3733920" y="1370160"/>
            <a:ext cx="990360" cy="20588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Straight Connector 35"/>
          <p:cNvSpPr/>
          <p:nvPr/>
        </p:nvSpPr>
        <p:spPr>
          <a:xfrm>
            <a:off x="6553080" y="1289160"/>
            <a:ext cx="555840" cy="17049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Straight Connector 37"/>
          <p:cNvSpPr/>
          <p:nvPr/>
        </p:nvSpPr>
        <p:spPr>
          <a:xfrm flipH="1">
            <a:off x="6400440" y="3124080"/>
            <a:ext cx="762120" cy="190512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Straight Connector 39"/>
          <p:cNvSpPr/>
          <p:nvPr/>
        </p:nvSpPr>
        <p:spPr>
          <a:xfrm flipH="1">
            <a:off x="4486320" y="5029200"/>
            <a:ext cx="1914480" cy="914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Straight Connector 45"/>
          <p:cNvSpPr/>
          <p:nvPr/>
        </p:nvSpPr>
        <p:spPr>
          <a:xfrm flipH="1" flipV="1">
            <a:off x="2797200" y="4777920"/>
            <a:ext cx="1765440" cy="10890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Straight Connector 47"/>
          <p:cNvSpPr/>
          <p:nvPr/>
        </p:nvSpPr>
        <p:spPr>
          <a:xfrm flipV="1">
            <a:off x="2743200" y="3025440"/>
            <a:ext cx="152280" cy="162252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Straight Connector 50"/>
          <p:cNvSpPr/>
          <p:nvPr/>
        </p:nvSpPr>
        <p:spPr>
          <a:xfrm flipH="1">
            <a:off x="1425600" y="4648320"/>
            <a:ext cx="1317600" cy="86832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Straight Connector 53"/>
          <p:cNvSpPr/>
          <p:nvPr/>
        </p:nvSpPr>
        <p:spPr>
          <a:xfrm flipH="1" flipV="1">
            <a:off x="536400" y="3787920"/>
            <a:ext cx="835200" cy="170640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Straight Connector 57"/>
          <p:cNvSpPr/>
          <p:nvPr/>
        </p:nvSpPr>
        <p:spPr>
          <a:xfrm flipH="1" flipV="1">
            <a:off x="4777920" y="3406320"/>
            <a:ext cx="1622520" cy="162252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Straight Connector 36"/>
          <p:cNvSpPr/>
          <p:nvPr/>
        </p:nvSpPr>
        <p:spPr>
          <a:xfrm flipV="1">
            <a:off x="536400" y="1723680"/>
            <a:ext cx="138240" cy="191124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4E7C-9057-4B25-9E5B-3D5C62D673C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34" name="Oval 6"/>
          <p:cNvSpPr/>
          <p:nvPr/>
        </p:nvSpPr>
        <p:spPr>
          <a:xfrm>
            <a:off x="1676520" y="8380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7"/>
          <p:cNvSpPr/>
          <p:nvPr/>
        </p:nvSpPr>
        <p:spPr>
          <a:xfrm>
            <a:off x="4486320" y="5867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9"/>
          <p:cNvSpPr/>
          <p:nvPr/>
        </p:nvSpPr>
        <p:spPr>
          <a:xfrm>
            <a:off x="609480" y="1627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Oval 10"/>
          <p:cNvSpPr/>
          <p:nvPr/>
        </p:nvSpPr>
        <p:spPr>
          <a:xfrm>
            <a:off x="7086600" y="29718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Oval 11"/>
          <p:cNvSpPr/>
          <p:nvPr/>
        </p:nvSpPr>
        <p:spPr>
          <a:xfrm>
            <a:off x="2765520" y="28954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Oval 12"/>
          <p:cNvSpPr/>
          <p:nvPr/>
        </p:nvSpPr>
        <p:spPr>
          <a:xfrm>
            <a:off x="1295280" y="5494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val 13"/>
          <p:cNvSpPr/>
          <p:nvPr/>
        </p:nvSpPr>
        <p:spPr>
          <a:xfrm>
            <a:off x="6324480" y="5029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14"/>
          <p:cNvSpPr/>
          <p:nvPr/>
        </p:nvSpPr>
        <p:spPr>
          <a:xfrm>
            <a:off x="6477120" y="12891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Oval 15"/>
          <p:cNvSpPr/>
          <p:nvPr/>
        </p:nvSpPr>
        <p:spPr>
          <a:xfrm>
            <a:off x="4648320" y="327672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Oval 16"/>
          <p:cNvSpPr/>
          <p:nvPr/>
        </p:nvSpPr>
        <p:spPr>
          <a:xfrm>
            <a:off x="2666880" y="4648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Oval 17"/>
          <p:cNvSpPr/>
          <p:nvPr/>
        </p:nvSpPr>
        <p:spPr>
          <a:xfrm>
            <a:off x="460440" y="3635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val 18"/>
          <p:cNvSpPr/>
          <p:nvPr/>
        </p:nvSpPr>
        <p:spPr>
          <a:xfrm>
            <a:off x="3657600" y="12175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Freeform: Shape 19"/>
          <p:cNvSpPr/>
          <p:nvPr/>
        </p:nvSpPr>
        <p:spPr>
          <a:xfrm>
            <a:off x="579600" y="617400"/>
            <a:ext cx="3360600" cy="2575080"/>
          </a:xfrm>
          <a:custGeom>
            <a:avLst/>
            <a:gdLst/>
            <a:ahLst/>
            <a:rect l="l" t="t" r="r" b="b"/>
            <a:pathLst>
              <a:path w="3360420" h="2575560">
                <a:moveTo>
                  <a:pt x="1242060" y="22860"/>
                </a:moveTo>
                <a:lnTo>
                  <a:pt x="1242060" y="22860"/>
                </a:lnTo>
                <a:cubicBezTo>
                  <a:pt x="1235575" y="23400"/>
                  <a:pt x="1155224" y="22842"/>
                  <a:pt x="1127760" y="38100"/>
                </a:cubicBezTo>
                <a:cubicBezTo>
                  <a:pt x="1111749" y="46995"/>
                  <a:pt x="1099416" y="62788"/>
                  <a:pt x="1082040" y="68580"/>
                </a:cubicBezTo>
                <a:cubicBezTo>
                  <a:pt x="1059129" y="76217"/>
                  <a:pt x="1056015" y="75027"/>
                  <a:pt x="1036320" y="91440"/>
                </a:cubicBezTo>
                <a:cubicBezTo>
                  <a:pt x="1028041" y="98339"/>
                  <a:pt x="1022426" y="108322"/>
                  <a:pt x="1013460" y="114300"/>
                </a:cubicBezTo>
                <a:cubicBezTo>
                  <a:pt x="1006777" y="118755"/>
                  <a:pt x="997912" y="118596"/>
                  <a:pt x="990600" y="121920"/>
                </a:cubicBezTo>
                <a:cubicBezTo>
                  <a:pt x="969918" y="131321"/>
                  <a:pt x="951680" y="146890"/>
                  <a:pt x="929640" y="152400"/>
                </a:cubicBezTo>
                <a:cubicBezTo>
                  <a:pt x="914173" y="156267"/>
                  <a:pt x="891604" y="161081"/>
                  <a:pt x="876300" y="167640"/>
                </a:cubicBezTo>
                <a:cubicBezTo>
                  <a:pt x="865859" y="172115"/>
                  <a:pt x="856367" y="178661"/>
                  <a:pt x="845820" y="182880"/>
                </a:cubicBezTo>
                <a:cubicBezTo>
                  <a:pt x="830905" y="188846"/>
                  <a:pt x="813466" y="189209"/>
                  <a:pt x="800100" y="198120"/>
                </a:cubicBezTo>
                <a:lnTo>
                  <a:pt x="754380" y="228600"/>
                </a:lnTo>
                <a:lnTo>
                  <a:pt x="731520" y="243840"/>
                </a:lnTo>
                <a:cubicBezTo>
                  <a:pt x="723900" y="248920"/>
                  <a:pt x="715136" y="252604"/>
                  <a:pt x="708660" y="259080"/>
                </a:cubicBezTo>
                <a:cubicBezTo>
                  <a:pt x="701040" y="266700"/>
                  <a:pt x="692699" y="273661"/>
                  <a:pt x="685800" y="281940"/>
                </a:cubicBezTo>
                <a:cubicBezTo>
                  <a:pt x="679937" y="288975"/>
                  <a:pt x="677452" y="298769"/>
                  <a:pt x="670560" y="304800"/>
                </a:cubicBezTo>
                <a:cubicBezTo>
                  <a:pt x="656776" y="316861"/>
                  <a:pt x="640080" y="325120"/>
                  <a:pt x="624840" y="335280"/>
                </a:cubicBezTo>
                <a:lnTo>
                  <a:pt x="601980" y="350520"/>
                </a:lnTo>
                <a:cubicBezTo>
                  <a:pt x="594360" y="355600"/>
                  <a:pt x="585596" y="359284"/>
                  <a:pt x="579120" y="365760"/>
                </a:cubicBezTo>
                <a:cubicBezTo>
                  <a:pt x="527720" y="417160"/>
                  <a:pt x="553847" y="404664"/>
                  <a:pt x="510540" y="419100"/>
                </a:cubicBezTo>
                <a:cubicBezTo>
                  <a:pt x="502920" y="426720"/>
                  <a:pt x="496186" y="435344"/>
                  <a:pt x="487680" y="441960"/>
                </a:cubicBezTo>
                <a:cubicBezTo>
                  <a:pt x="473222" y="453205"/>
                  <a:pt x="457200" y="462280"/>
                  <a:pt x="441960" y="472440"/>
                </a:cubicBezTo>
                <a:lnTo>
                  <a:pt x="419100" y="487680"/>
                </a:lnTo>
                <a:cubicBezTo>
                  <a:pt x="411480" y="492760"/>
                  <a:pt x="403566" y="497425"/>
                  <a:pt x="396240" y="502920"/>
                </a:cubicBezTo>
                <a:cubicBezTo>
                  <a:pt x="386080" y="510540"/>
                  <a:pt x="376164" y="518497"/>
                  <a:pt x="365760" y="525780"/>
                </a:cubicBezTo>
                <a:cubicBezTo>
                  <a:pt x="350755" y="536284"/>
                  <a:pt x="332992" y="543308"/>
                  <a:pt x="320040" y="556260"/>
                </a:cubicBezTo>
                <a:cubicBezTo>
                  <a:pt x="303188" y="573112"/>
                  <a:pt x="295538" y="583751"/>
                  <a:pt x="274320" y="594360"/>
                </a:cubicBezTo>
                <a:cubicBezTo>
                  <a:pt x="211224" y="625908"/>
                  <a:pt x="294114" y="573544"/>
                  <a:pt x="228600" y="617220"/>
                </a:cubicBezTo>
                <a:cubicBezTo>
                  <a:pt x="223520" y="624840"/>
                  <a:pt x="220252" y="634049"/>
                  <a:pt x="213360" y="640080"/>
                </a:cubicBezTo>
                <a:cubicBezTo>
                  <a:pt x="199576" y="652141"/>
                  <a:pt x="167640" y="670560"/>
                  <a:pt x="167640" y="670560"/>
                </a:cubicBezTo>
                <a:cubicBezTo>
                  <a:pt x="162560" y="678180"/>
                  <a:pt x="159292" y="687389"/>
                  <a:pt x="152400" y="693420"/>
                </a:cubicBezTo>
                <a:cubicBezTo>
                  <a:pt x="138616" y="705481"/>
                  <a:pt x="121920" y="713740"/>
                  <a:pt x="106680" y="723900"/>
                </a:cubicBezTo>
                <a:cubicBezTo>
                  <a:pt x="99060" y="728980"/>
                  <a:pt x="90296" y="732664"/>
                  <a:pt x="83820" y="739140"/>
                </a:cubicBezTo>
                <a:cubicBezTo>
                  <a:pt x="66968" y="755992"/>
                  <a:pt x="56329" y="763642"/>
                  <a:pt x="45720" y="784860"/>
                </a:cubicBezTo>
                <a:cubicBezTo>
                  <a:pt x="42128" y="792044"/>
                  <a:pt x="40640" y="800100"/>
                  <a:pt x="38100" y="807720"/>
                </a:cubicBezTo>
                <a:cubicBezTo>
                  <a:pt x="35560" y="835660"/>
                  <a:pt x="34448" y="863767"/>
                  <a:pt x="30480" y="891540"/>
                </a:cubicBezTo>
                <a:cubicBezTo>
                  <a:pt x="29344" y="899491"/>
                  <a:pt x="24808" y="906608"/>
                  <a:pt x="22860" y="914400"/>
                </a:cubicBezTo>
                <a:cubicBezTo>
                  <a:pt x="19719" y="926965"/>
                  <a:pt x="18648" y="940005"/>
                  <a:pt x="15240" y="952500"/>
                </a:cubicBezTo>
                <a:cubicBezTo>
                  <a:pt x="11013" y="967998"/>
                  <a:pt x="0" y="998220"/>
                  <a:pt x="0" y="998220"/>
                </a:cubicBezTo>
                <a:cubicBezTo>
                  <a:pt x="2540" y="1046480"/>
                  <a:pt x="3245" y="1094872"/>
                  <a:pt x="7620" y="1143000"/>
                </a:cubicBezTo>
                <a:cubicBezTo>
                  <a:pt x="9738" y="1166295"/>
                  <a:pt x="36540" y="1197810"/>
                  <a:pt x="45720" y="1211580"/>
                </a:cubicBezTo>
                <a:cubicBezTo>
                  <a:pt x="50800" y="1219200"/>
                  <a:pt x="54484" y="1227964"/>
                  <a:pt x="60960" y="1234440"/>
                </a:cubicBezTo>
                <a:cubicBezTo>
                  <a:pt x="76200" y="1249680"/>
                  <a:pt x="94725" y="1262227"/>
                  <a:pt x="106680" y="1280160"/>
                </a:cubicBezTo>
                <a:cubicBezTo>
                  <a:pt x="127000" y="1310640"/>
                  <a:pt x="114300" y="1297940"/>
                  <a:pt x="144780" y="1318260"/>
                </a:cubicBezTo>
                <a:cubicBezTo>
                  <a:pt x="182618" y="1375017"/>
                  <a:pt x="133987" y="1305308"/>
                  <a:pt x="182880" y="1363980"/>
                </a:cubicBezTo>
                <a:cubicBezTo>
                  <a:pt x="214630" y="1402080"/>
                  <a:pt x="179070" y="1374140"/>
                  <a:pt x="220980" y="1402080"/>
                </a:cubicBezTo>
                <a:cubicBezTo>
                  <a:pt x="261620" y="1463040"/>
                  <a:pt x="208280" y="1389380"/>
                  <a:pt x="259080" y="1440180"/>
                </a:cubicBezTo>
                <a:cubicBezTo>
                  <a:pt x="309880" y="1490980"/>
                  <a:pt x="236220" y="1437640"/>
                  <a:pt x="297180" y="1478280"/>
                </a:cubicBezTo>
                <a:cubicBezTo>
                  <a:pt x="337820" y="1539240"/>
                  <a:pt x="284480" y="1465580"/>
                  <a:pt x="335280" y="1516380"/>
                </a:cubicBezTo>
                <a:cubicBezTo>
                  <a:pt x="386080" y="1567180"/>
                  <a:pt x="312420" y="1513840"/>
                  <a:pt x="373380" y="1554480"/>
                </a:cubicBezTo>
                <a:cubicBezTo>
                  <a:pt x="404784" y="1601585"/>
                  <a:pt x="369916" y="1555635"/>
                  <a:pt x="411480" y="1592580"/>
                </a:cubicBezTo>
                <a:cubicBezTo>
                  <a:pt x="427589" y="1606899"/>
                  <a:pt x="439267" y="1626345"/>
                  <a:pt x="457200" y="1638300"/>
                </a:cubicBezTo>
                <a:cubicBezTo>
                  <a:pt x="513957" y="1676138"/>
                  <a:pt x="444248" y="1627507"/>
                  <a:pt x="502920" y="1676400"/>
                </a:cubicBezTo>
                <a:cubicBezTo>
                  <a:pt x="509955" y="1682263"/>
                  <a:pt x="518160" y="1686560"/>
                  <a:pt x="525780" y="1691640"/>
                </a:cubicBezTo>
                <a:cubicBezTo>
                  <a:pt x="542822" y="1717203"/>
                  <a:pt x="540964" y="1719911"/>
                  <a:pt x="571500" y="1737360"/>
                </a:cubicBezTo>
                <a:cubicBezTo>
                  <a:pt x="578474" y="1741345"/>
                  <a:pt x="587176" y="1741388"/>
                  <a:pt x="594360" y="1744980"/>
                </a:cubicBezTo>
                <a:cubicBezTo>
                  <a:pt x="602551" y="1749076"/>
                  <a:pt x="609269" y="1755676"/>
                  <a:pt x="617220" y="1760220"/>
                </a:cubicBezTo>
                <a:cubicBezTo>
                  <a:pt x="643585" y="1775286"/>
                  <a:pt x="644913" y="1774531"/>
                  <a:pt x="670560" y="1783080"/>
                </a:cubicBezTo>
                <a:cubicBezTo>
                  <a:pt x="700215" y="1827563"/>
                  <a:pt x="667074" y="1788957"/>
                  <a:pt x="716280" y="1813560"/>
                </a:cubicBezTo>
                <a:cubicBezTo>
                  <a:pt x="732663" y="1821751"/>
                  <a:pt x="746760" y="1833880"/>
                  <a:pt x="762000" y="1844040"/>
                </a:cubicBezTo>
                <a:lnTo>
                  <a:pt x="807720" y="1874520"/>
                </a:lnTo>
                <a:cubicBezTo>
                  <a:pt x="815340" y="1879600"/>
                  <a:pt x="821892" y="1886864"/>
                  <a:pt x="830580" y="1889760"/>
                </a:cubicBezTo>
                <a:cubicBezTo>
                  <a:pt x="856923" y="1898541"/>
                  <a:pt x="897364" y="1910824"/>
                  <a:pt x="914400" y="1927860"/>
                </a:cubicBezTo>
                <a:cubicBezTo>
                  <a:pt x="929640" y="1943100"/>
                  <a:pt x="939673" y="1966764"/>
                  <a:pt x="960120" y="1973580"/>
                </a:cubicBezTo>
                <a:cubicBezTo>
                  <a:pt x="988429" y="1983016"/>
                  <a:pt x="979990" y="1977976"/>
                  <a:pt x="1005840" y="1996440"/>
                </a:cubicBezTo>
                <a:cubicBezTo>
                  <a:pt x="1016174" y="2003822"/>
                  <a:pt x="1025986" y="2011918"/>
                  <a:pt x="1036320" y="2019300"/>
                </a:cubicBezTo>
                <a:cubicBezTo>
                  <a:pt x="1043772" y="2024623"/>
                  <a:pt x="1052145" y="2028677"/>
                  <a:pt x="1059180" y="2034540"/>
                </a:cubicBezTo>
                <a:cubicBezTo>
                  <a:pt x="1067459" y="2041439"/>
                  <a:pt x="1072948" y="2051614"/>
                  <a:pt x="1082040" y="2057400"/>
                </a:cubicBezTo>
                <a:cubicBezTo>
                  <a:pt x="1101207" y="2069597"/>
                  <a:pt x="1122680" y="2077720"/>
                  <a:pt x="1143000" y="2087880"/>
                </a:cubicBezTo>
                <a:cubicBezTo>
                  <a:pt x="1235108" y="2133934"/>
                  <a:pt x="1120947" y="2075278"/>
                  <a:pt x="1196340" y="2118360"/>
                </a:cubicBezTo>
                <a:cubicBezTo>
                  <a:pt x="1206203" y="2123996"/>
                  <a:pt x="1217080" y="2127756"/>
                  <a:pt x="1226820" y="2133600"/>
                </a:cubicBezTo>
                <a:cubicBezTo>
                  <a:pt x="1309359" y="2183123"/>
                  <a:pt x="1243202" y="2143441"/>
                  <a:pt x="1295400" y="2186940"/>
                </a:cubicBezTo>
                <a:cubicBezTo>
                  <a:pt x="1302435" y="2192803"/>
                  <a:pt x="1311225" y="2196317"/>
                  <a:pt x="1318260" y="2202180"/>
                </a:cubicBezTo>
                <a:cubicBezTo>
                  <a:pt x="1393160" y="2264597"/>
                  <a:pt x="1296420" y="2187960"/>
                  <a:pt x="1356360" y="2247900"/>
                </a:cubicBezTo>
                <a:cubicBezTo>
                  <a:pt x="1362836" y="2254376"/>
                  <a:pt x="1371600" y="2258060"/>
                  <a:pt x="1379220" y="2263140"/>
                </a:cubicBezTo>
                <a:cubicBezTo>
                  <a:pt x="1419860" y="2324100"/>
                  <a:pt x="1366520" y="2250440"/>
                  <a:pt x="1417320" y="2301240"/>
                </a:cubicBezTo>
                <a:cubicBezTo>
                  <a:pt x="1423796" y="2307716"/>
                  <a:pt x="1425409" y="2318379"/>
                  <a:pt x="1432560" y="2324100"/>
                </a:cubicBezTo>
                <a:cubicBezTo>
                  <a:pt x="1438832" y="2329118"/>
                  <a:pt x="1448236" y="2328128"/>
                  <a:pt x="1455420" y="2331720"/>
                </a:cubicBezTo>
                <a:cubicBezTo>
                  <a:pt x="1463611" y="2335816"/>
                  <a:pt x="1471245" y="2341097"/>
                  <a:pt x="1478280" y="2346960"/>
                </a:cubicBezTo>
                <a:cubicBezTo>
                  <a:pt x="1486559" y="2353859"/>
                  <a:pt x="1492634" y="2363204"/>
                  <a:pt x="1501140" y="2369820"/>
                </a:cubicBezTo>
                <a:cubicBezTo>
                  <a:pt x="1515598" y="2381065"/>
                  <a:pt x="1546860" y="2400300"/>
                  <a:pt x="1546860" y="2400300"/>
                </a:cubicBezTo>
                <a:cubicBezTo>
                  <a:pt x="1583418" y="2455137"/>
                  <a:pt x="1531649" y="2387619"/>
                  <a:pt x="1607820" y="2438400"/>
                </a:cubicBezTo>
                <a:cubicBezTo>
                  <a:pt x="1623060" y="2448560"/>
                  <a:pt x="1636164" y="2463088"/>
                  <a:pt x="1653540" y="2468880"/>
                </a:cubicBezTo>
                <a:cubicBezTo>
                  <a:pt x="1705795" y="2486298"/>
                  <a:pt x="1640938" y="2465730"/>
                  <a:pt x="1714500" y="2484120"/>
                </a:cubicBezTo>
                <a:cubicBezTo>
                  <a:pt x="1722292" y="2486068"/>
                  <a:pt x="1729364" y="2490978"/>
                  <a:pt x="1737360" y="2491740"/>
                </a:cubicBezTo>
                <a:cubicBezTo>
                  <a:pt x="1782944" y="2496081"/>
                  <a:pt x="1828800" y="2496820"/>
                  <a:pt x="1874520" y="2499360"/>
                </a:cubicBezTo>
                <a:cubicBezTo>
                  <a:pt x="1884680" y="2501900"/>
                  <a:pt x="1894930" y="2504103"/>
                  <a:pt x="1905000" y="2506980"/>
                </a:cubicBezTo>
                <a:cubicBezTo>
                  <a:pt x="1912723" y="2509187"/>
                  <a:pt x="1920019" y="2512858"/>
                  <a:pt x="1927860" y="2514600"/>
                </a:cubicBezTo>
                <a:cubicBezTo>
                  <a:pt x="1948932" y="2519283"/>
                  <a:pt x="1975856" y="2519548"/>
                  <a:pt x="1996440" y="2529840"/>
                </a:cubicBezTo>
                <a:cubicBezTo>
                  <a:pt x="2004631" y="2533936"/>
                  <a:pt x="2011109" y="2540984"/>
                  <a:pt x="2019300" y="2545080"/>
                </a:cubicBezTo>
                <a:cubicBezTo>
                  <a:pt x="2026484" y="2548672"/>
                  <a:pt x="2034976" y="2549108"/>
                  <a:pt x="2042160" y="2552700"/>
                </a:cubicBezTo>
                <a:cubicBezTo>
                  <a:pt x="2101246" y="2582243"/>
                  <a:pt x="2030421" y="2556407"/>
                  <a:pt x="2087880" y="2575560"/>
                </a:cubicBezTo>
                <a:cubicBezTo>
                  <a:pt x="2136140" y="2573020"/>
                  <a:pt x="2184532" y="2572315"/>
                  <a:pt x="2232660" y="2567940"/>
                </a:cubicBezTo>
                <a:cubicBezTo>
                  <a:pt x="2240659" y="2567213"/>
                  <a:pt x="2247679" y="2562062"/>
                  <a:pt x="2255520" y="2560320"/>
                </a:cubicBezTo>
                <a:cubicBezTo>
                  <a:pt x="2283771" y="2554042"/>
                  <a:pt x="2335836" y="2548376"/>
                  <a:pt x="2362200" y="2545080"/>
                </a:cubicBezTo>
                <a:cubicBezTo>
                  <a:pt x="2419659" y="2525927"/>
                  <a:pt x="2348834" y="2551763"/>
                  <a:pt x="2407920" y="2522220"/>
                </a:cubicBezTo>
                <a:cubicBezTo>
                  <a:pt x="2415104" y="2518628"/>
                  <a:pt x="2423160" y="2517140"/>
                  <a:pt x="2430780" y="2514600"/>
                </a:cubicBezTo>
                <a:cubicBezTo>
                  <a:pt x="2451561" y="2493819"/>
                  <a:pt x="2460208" y="2487327"/>
                  <a:pt x="2476500" y="2461260"/>
                </a:cubicBezTo>
                <a:cubicBezTo>
                  <a:pt x="2482520" y="2451627"/>
                  <a:pt x="2485138" y="2440023"/>
                  <a:pt x="2491740" y="2430780"/>
                </a:cubicBezTo>
                <a:cubicBezTo>
                  <a:pt x="2498004" y="2422011"/>
                  <a:pt x="2508336" y="2416689"/>
                  <a:pt x="2514600" y="2407920"/>
                </a:cubicBezTo>
                <a:cubicBezTo>
                  <a:pt x="2521202" y="2398677"/>
                  <a:pt x="2523820" y="2387073"/>
                  <a:pt x="2529840" y="2377440"/>
                </a:cubicBezTo>
                <a:cubicBezTo>
                  <a:pt x="2536571" y="2366670"/>
                  <a:pt x="2545318" y="2357294"/>
                  <a:pt x="2552700" y="2346960"/>
                </a:cubicBezTo>
                <a:cubicBezTo>
                  <a:pt x="2558023" y="2339508"/>
                  <a:pt x="2562860" y="2331720"/>
                  <a:pt x="2567940" y="2324100"/>
                </a:cubicBezTo>
                <a:cubicBezTo>
                  <a:pt x="2570480" y="2313940"/>
                  <a:pt x="2571435" y="2303246"/>
                  <a:pt x="2575560" y="2293620"/>
                </a:cubicBezTo>
                <a:cubicBezTo>
                  <a:pt x="2579168" y="2285202"/>
                  <a:pt x="2586704" y="2278951"/>
                  <a:pt x="2590800" y="2270760"/>
                </a:cubicBezTo>
                <a:cubicBezTo>
                  <a:pt x="2594392" y="2263576"/>
                  <a:pt x="2595600" y="2255421"/>
                  <a:pt x="2598420" y="2247900"/>
                </a:cubicBezTo>
                <a:cubicBezTo>
                  <a:pt x="2603223" y="2235093"/>
                  <a:pt x="2609730" y="2222901"/>
                  <a:pt x="2613660" y="2209800"/>
                </a:cubicBezTo>
                <a:cubicBezTo>
                  <a:pt x="2617382" y="2197395"/>
                  <a:pt x="2616470" y="2183725"/>
                  <a:pt x="2621280" y="2171700"/>
                </a:cubicBezTo>
                <a:cubicBezTo>
                  <a:pt x="2626781" y="2157949"/>
                  <a:pt x="2636189" y="2146095"/>
                  <a:pt x="2644140" y="2133600"/>
                </a:cubicBezTo>
                <a:cubicBezTo>
                  <a:pt x="2653974" y="2118147"/>
                  <a:pt x="2667818" y="2104886"/>
                  <a:pt x="2674620" y="2087880"/>
                </a:cubicBezTo>
                <a:cubicBezTo>
                  <a:pt x="2685506" y="2060664"/>
                  <a:pt x="2690862" y="2044217"/>
                  <a:pt x="2705100" y="2019300"/>
                </a:cubicBezTo>
                <a:cubicBezTo>
                  <a:pt x="2709644" y="2011349"/>
                  <a:pt x="2715796" y="2004391"/>
                  <a:pt x="2720340" y="1996440"/>
                </a:cubicBezTo>
                <a:cubicBezTo>
                  <a:pt x="2725976" y="1986577"/>
                  <a:pt x="2728308" y="1974686"/>
                  <a:pt x="2735580" y="1965960"/>
                </a:cubicBezTo>
                <a:cubicBezTo>
                  <a:pt x="2741443" y="1958925"/>
                  <a:pt x="2751964" y="1957196"/>
                  <a:pt x="2758440" y="1950720"/>
                </a:cubicBezTo>
                <a:cubicBezTo>
                  <a:pt x="2767420" y="1941740"/>
                  <a:pt x="2772320" y="1929220"/>
                  <a:pt x="2781300" y="1920240"/>
                </a:cubicBezTo>
                <a:cubicBezTo>
                  <a:pt x="2787776" y="1913764"/>
                  <a:pt x="2796708" y="1910323"/>
                  <a:pt x="2804160" y="1905000"/>
                </a:cubicBezTo>
                <a:cubicBezTo>
                  <a:pt x="2814494" y="1897618"/>
                  <a:pt x="2825660" y="1891120"/>
                  <a:pt x="2834640" y="1882140"/>
                </a:cubicBezTo>
                <a:cubicBezTo>
                  <a:pt x="2841116" y="1875664"/>
                  <a:pt x="2842845" y="1865143"/>
                  <a:pt x="2849880" y="1859280"/>
                </a:cubicBezTo>
                <a:cubicBezTo>
                  <a:pt x="2858606" y="1852008"/>
                  <a:pt x="2871117" y="1850642"/>
                  <a:pt x="2880360" y="1844040"/>
                </a:cubicBezTo>
                <a:cubicBezTo>
                  <a:pt x="2909391" y="1823304"/>
                  <a:pt x="2900065" y="1816715"/>
                  <a:pt x="2926080" y="1790700"/>
                </a:cubicBezTo>
                <a:cubicBezTo>
                  <a:pt x="2932556" y="1784224"/>
                  <a:pt x="2941320" y="1780540"/>
                  <a:pt x="2948940" y="1775460"/>
                </a:cubicBezTo>
                <a:cubicBezTo>
                  <a:pt x="2973851" y="1700727"/>
                  <a:pt x="2933464" y="1806294"/>
                  <a:pt x="2979420" y="1737360"/>
                </a:cubicBezTo>
                <a:cubicBezTo>
                  <a:pt x="2985229" y="1728646"/>
                  <a:pt x="2982787" y="1716450"/>
                  <a:pt x="2987040" y="1706880"/>
                </a:cubicBezTo>
                <a:cubicBezTo>
                  <a:pt x="2993055" y="1693346"/>
                  <a:pt x="3002808" y="1681782"/>
                  <a:pt x="3009900" y="1668780"/>
                </a:cubicBezTo>
                <a:cubicBezTo>
                  <a:pt x="3018059" y="1653822"/>
                  <a:pt x="3025709" y="1638572"/>
                  <a:pt x="3032760" y="1623060"/>
                </a:cubicBezTo>
                <a:cubicBezTo>
                  <a:pt x="3038420" y="1610608"/>
                  <a:pt x="3042340" y="1597412"/>
                  <a:pt x="3048000" y="1584960"/>
                </a:cubicBezTo>
                <a:cubicBezTo>
                  <a:pt x="3055051" y="1569448"/>
                  <a:pt x="3063809" y="1554752"/>
                  <a:pt x="3070860" y="1539240"/>
                </a:cubicBezTo>
                <a:cubicBezTo>
                  <a:pt x="3092821" y="1490926"/>
                  <a:pt x="3080888" y="1508595"/>
                  <a:pt x="3101340" y="1455420"/>
                </a:cubicBezTo>
                <a:cubicBezTo>
                  <a:pt x="3108284" y="1437365"/>
                  <a:pt x="3116580" y="1419860"/>
                  <a:pt x="3124200" y="1402080"/>
                </a:cubicBezTo>
                <a:cubicBezTo>
                  <a:pt x="3126740" y="1389380"/>
                  <a:pt x="3126461" y="1375771"/>
                  <a:pt x="3131820" y="1363980"/>
                </a:cubicBezTo>
                <a:cubicBezTo>
                  <a:pt x="3139399" y="1347306"/>
                  <a:pt x="3162300" y="1318260"/>
                  <a:pt x="3162300" y="1318260"/>
                </a:cubicBezTo>
                <a:cubicBezTo>
                  <a:pt x="3164840" y="1308100"/>
                  <a:pt x="3165795" y="1297406"/>
                  <a:pt x="3169920" y="1287780"/>
                </a:cubicBezTo>
                <a:cubicBezTo>
                  <a:pt x="3173528" y="1279362"/>
                  <a:pt x="3180616" y="1272871"/>
                  <a:pt x="3185160" y="1264920"/>
                </a:cubicBezTo>
                <a:cubicBezTo>
                  <a:pt x="3190796" y="1255057"/>
                  <a:pt x="3195787" y="1244820"/>
                  <a:pt x="3200400" y="1234440"/>
                </a:cubicBezTo>
                <a:cubicBezTo>
                  <a:pt x="3241085" y="1142899"/>
                  <a:pt x="3198125" y="1236319"/>
                  <a:pt x="3223260" y="1173480"/>
                </a:cubicBezTo>
                <a:cubicBezTo>
                  <a:pt x="3241483" y="1127922"/>
                  <a:pt x="3242820" y="1126741"/>
                  <a:pt x="3261360" y="1089660"/>
                </a:cubicBezTo>
                <a:cubicBezTo>
                  <a:pt x="3273388" y="1029521"/>
                  <a:pt x="3261276" y="1072704"/>
                  <a:pt x="3284220" y="1021080"/>
                </a:cubicBezTo>
                <a:cubicBezTo>
                  <a:pt x="3289775" y="1008581"/>
                  <a:pt x="3292817" y="994937"/>
                  <a:pt x="3299460" y="982980"/>
                </a:cubicBezTo>
                <a:cubicBezTo>
                  <a:pt x="3305628" y="971878"/>
                  <a:pt x="3314700" y="962660"/>
                  <a:pt x="3322320" y="952500"/>
                </a:cubicBezTo>
                <a:cubicBezTo>
                  <a:pt x="3324860" y="942340"/>
                  <a:pt x="3326931" y="932051"/>
                  <a:pt x="3329940" y="922020"/>
                </a:cubicBezTo>
                <a:cubicBezTo>
                  <a:pt x="3334556" y="906633"/>
                  <a:pt x="3341284" y="891885"/>
                  <a:pt x="3345180" y="876300"/>
                </a:cubicBezTo>
                <a:lnTo>
                  <a:pt x="3360420" y="815340"/>
                </a:lnTo>
                <a:cubicBezTo>
                  <a:pt x="3357880" y="777240"/>
                  <a:pt x="3357017" y="738991"/>
                  <a:pt x="3352800" y="701040"/>
                </a:cubicBezTo>
                <a:cubicBezTo>
                  <a:pt x="3351913" y="693057"/>
                  <a:pt x="3350198" y="684452"/>
                  <a:pt x="3345180" y="678180"/>
                </a:cubicBezTo>
                <a:cubicBezTo>
                  <a:pt x="3339459" y="671029"/>
                  <a:pt x="3329940" y="668020"/>
                  <a:pt x="3322320" y="662940"/>
                </a:cubicBezTo>
                <a:cubicBezTo>
                  <a:pt x="3281680" y="601980"/>
                  <a:pt x="3335020" y="675640"/>
                  <a:pt x="3284220" y="624840"/>
                </a:cubicBezTo>
                <a:cubicBezTo>
                  <a:pt x="3277744" y="618364"/>
                  <a:pt x="3274843" y="609015"/>
                  <a:pt x="3268980" y="601980"/>
                </a:cubicBezTo>
                <a:cubicBezTo>
                  <a:pt x="3262081" y="593701"/>
                  <a:pt x="3253019" y="587399"/>
                  <a:pt x="3246120" y="579120"/>
                </a:cubicBezTo>
                <a:cubicBezTo>
                  <a:pt x="3240257" y="572085"/>
                  <a:pt x="3236743" y="563295"/>
                  <a:pt x="3230880" y="556260"/>
                </a:cubicBezTo>
                <a:cubicBezTo>
                  <a:pt x="3223981" y="547981"/>
                  <a:pt x="3214919" y="541679"/>
                  <a:pt x="3208020" y="533400"/>
                </a:cubicBezTo>
                <a:cubicBezTo>
                  <a:pt x="3202157" y="526365"/>
                  <a:pt x="3199931" y="516261"/>
                  <a:pt x="3192780" y="510540"/>
                </a:cubicBezTo>
                <a:cubicBezTo>
                  <a:pt x="3186508" y="505522"/>
                  <a:pt x="3177540" y="505460"/>
                  <a:pt x="3169920" y="502920"/>
                </a:cubicBezTo>
                <a:cubicBezTo>
                  <a:pt x="3141980" y="461010"/>
                  <a:pt x="3169920" y="496570"/>
                  <a:pt x="3131820" y="464820"/>
                </a:cubicBezTo>
                <a:cubicBezTo>
                  <a:pt x="3123541" y="457921"/>
                  <a:pt x="3118316" y="447307"/>
                  <a:pt x="3108960" y="441960"/>
                </a:cubicBezTo>
                <a:cubicBezTo>
                  <a:pt x="3099867" y="436764"/>
                  <a:pt x="3088550" y="437217"/>
                  <a:pt x="3078480" y="434340"/>
                </a:cubicBezTo>
                <a:cubicBezTo>
                  <a:pt x="3052059" y="426791"/>
                  <a:pt x="3047044" y="422216"/>
                  <a:pt x="3017520" y="411480"/>
                </a:cubicBezTo>
                <a:cubicBezTo>
                  <a:pt x="3002423" y="405990"/>
                  <a:pt x="2986715" y="402206"/>
                  <a:pt x="2971800" y="396240"/>
                </a:cubicBezTo>
                <a:cubicBezTo>
                  <a:pt x="2951670" y="388188"/>
                  <a:pt x="2931745" y="379353"/>
                  <a:pt x="2910840" y="373380"/>
                </a:cubicBezTo>
                <a:cubicBezTo>
                  <a:pt x="2900770" y="370503"/>
                  <a:pt x="2890430" y="368637"/>
                  <a:pt x="2880360" y="365760"/>
                </a:cubicBezTo>
                <a:cubicBezTo>
                  <a:pt x="2872637" y="363553"/>
                  <a:pt x="2865292" y="360088"/>
                  <a:pt x="2857500" y="358140"/>
                </a:cubicBezTo>
                <a:cubicBezTo>
                  <a:pt x="2814815" y="347469"/>
                  <a:pt x="2770645" y="345951"/>
                  <a:pt x="2727960" y="335280"/>
                </a:cubicBezTo>
                <a:cubicBezTo>
                  <a:pt x="2720168" y="333332"/>
                  <a:pt x="2712823" y="329867"/>
                  <a:pt x="2705100" y="327660"/>
                </a:cubicBezTo>
                <a:cubicBezTo>
                  <a:pt x="2695030" y="324783"/>
                  <a:pt x="2684651" y="323049"/>
                  <a:pt x="2674620" y="320040"/>
                </a:cubicBezTo>
                <a:cubicBezTo>
                  <a:pt x="2659233" y="315424"/>
                  <a:pt x="2644652" y="307950"/>
                  <a:pt x="2628900" y="304800"/>
                </a:cubicBezTo>
                <a:cubicBezTo>
                  <a:pt x="2616200" y="302260"/>
                  <a:pt x="2603365" y="300321"/>
                  <a:pt x="2590800" y="297180"/>
                </a:cubicBezTo>
                <a:cubicBezTo>
                  <a:pt x="2583008" y="295232"/>
                  <a:pt x="2575461" y="292380"/>
                  <a:pt x="2567940" y="289560"/>
                </a:cubicBezTo>
                <a:cubicBezTo>
                  <a:pt x="2555133" y="284757"/>
                  <a:pt x="2543253" y="277003"/>
                  <a:pt x="2529840" y="274320"/>
                </a:cubicBezTo>
                <a:cubicBezTo>
                  <a:pt x="2504809" y="269314"/>
                  <a:pt x="2479040" y="269240"/>
                  <a:pt x="2453640" y="266700"/>
                </a:cubicBezTo>
                <a:lnTo>
                  <a:pt x="2385060" y="243840"/>
                </a:lnTo>
                <a:lnTo>
                  <a:pt x="2362200" y="236220"/>
                </a:lnTo>
                <a:cubicBezTo>
                  <a:pt x="2354580" y="233680"/>
                  <a:pt x="2347132" y="230548"/>
                  <a:pt x="2339340" y="228600"/>
                </a:cubicBezTo>
                <a:cubicBezTo>
                  <a:pt x="2322302" y="224340"/>
                  <a:pt x="2274271" y="213161"/>
                  <a:pt x="2263140" y="205740"/>
                </a:cubicBezTo>
                <a:cubicBezTo>
                  <a:pt x="2255520" y="200660"/>
                  <a:pt x="2248698" y="194108"/>
                  <a:pt x="2240280" y="190500"/>
                </a:cubicBezTo>
                <a:cubicBezTo>
                  <a:pt x="2229329" y="185807"/>
                  <a:pt x="2180379" y="177430"/>
                  <a:pt x="2171700" y="175260"/>
                </a:cubicBezTo>
                <a:cubicBezTo>
                  <a:pt x="2163908" y="173312"/>
                  <a:pt x="2156563" y="169847"/>
                  <a:pt x="2148840" y="167640"/>
                </a:cubicBezTo>
                <a:cubicBezTo>
                  <a:pt x="2138770" y="164763"/>
                  <a:pt x="2128295" y="163332"/>
                  <a:pt x="2118360" y="160020"/>
                </a:cubicBezTo>
                <a:cubicBezTo>
                  <a:pt x="2105384" y="155695"/>
                  <a:pt x="2093530" y="148097"/>
                  <a:pt x="2080260" y="144780"/>
                </a:cubicBezTo>
                <a:cubicBezTo>
                  <a:pt x="2062836" y="140424"/>
                  <a:pt x="2044700" y="139700"/>
                  <a:pt x="2026920" y="137160"/>
                </a:cubicBezTo>
                <a:cubicBezTo>
                  <a:pt x="2011680" y="132080"/>
                  <a:pt x="1994566" y="130831"/>
                  <a:pt x="1981200" y="121920"/>
                </a:cubicBezTo>
                <a:cubicBezTo>
                  <a:pt x="1946681" y="98907"/>
                  <a:pt x="1944952" y="94858"/>
                  <a:pt x="1889760" y="83820"/>
                </a:cubicBezTo>
                <a:cubicBezTo>
                  <a:pt x="1877060" y="81280"/>
                  <a:pt x="1864225" y="79341"/>
                  <a:pt x="1851660" y="76200"/>
                </a:cubicBezTo>
                <a:cubicBezTo>
                  <a:pt x="1819796" y="68234"/>
                  <a:pt x="1835378" y="66661"/>
                  <a:pt x="1798320" y="60960"/>
                </a:cubicBezTo>
                <a:cubicBezTo>
                  <a:pt x="1710216" y="47406"/>
                  <a:pt x="1755228" y="59962"/>
                  <a:pt x="1684020" y="45720"/>
                </a:cubicBezTo>
                <a:cubicBezTo>
                  <a:pt x="1612754" y="31467"/>
                  <a:pt x="1688780" y="45005"/>
                  <a:pt x="1630680" y="30480"/>
                </a:cubicBezTo>
                <a:cubicBezTo>
                  <a:pt x="1618115" y="27339"/>
                  <a:pt x="1605075" y="26268"/>
                  <a:pt x="1592580" y="22860"/>
                </a:cubicBezTo>
                <a:cubicBezTo>
                  <a:pt x="1486234" y="-6143"/>
                  <a:pt x="1601585" y="18565"/>
                  <a:pt x="1508760" y="0"/>
                </a:cubicBezTo>
                <a:cubicBezTo>
                  <a:pt x="1417320" y="2540"/>
                  <a:pt x="1325795" y="2935"/>
                  <a:pt x="1234440" y="7620"/>
                </a:cubicBezTo>
                <a:cubicBezTo>
                  <a:pt x="1226418" y="8031"/>
                  <a:pt x="1218764" y="11648"/>
                  <a:pt x="1211580" y="15240"/>
                </a:cubicBezTo>
                <a:cubicBezTo>
                  <a:pt x="1203389" y="19336"/>
                  <a:pt x="1188720" y="30480"/>
                  <a:pt x="1188720" y="30480"/>
                </a:cubicBezTo>
                <a:lnTo>
                  <a:pt x="1165860" y="22860"/>
                </a:lnTo>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7" name="Freeform: Shape 20"/>
          <p:cNvSpPr/>
          <p:nvPr/>
        </p:nvSpPr>
        <p:spPr>
          <a:xfrm>
            <a:off x="2720880" y="1120680"/>
            <a:ext cx="3976920" cy="2346480"/>
          </a:xfrm>
          <a:custGeom>
            <a:avLst/>
            <a:gdLst/>
            <a:ahLst/>
            <a:rect l="l" t="t" r="r" b="b"/>
            <a:pathLst>
              <a:path w="3977640" h="2346960">
                <a:moveTo>
                  <a:pt x="929640" y="22860"/>
                </a:moveTo>
                <a:lnTo>
                  <a:pt x="929640" y="22860"/>
                </a:lnTo>
                <a:cubicBezTo>
                  <a:pt x="911860" y="48260"/>
                  <a:pt x="886105" y="69646"/>
                  <a:pt x="876300" y="99060"/>
                </a:cubicBezTo>
                <a:cubicBezTo>
                  <a:pt x="873760" y="106680"/>
                  <a:pt x="872581" y="114899"/>
                  <a:pt x="868680" y="121920"/>
                </a:cubicBezTo>
                <a:cubicBezTo>
                  <a:pt x="859785" y="137931"/>
                  <a:pt x="843992" y="150264"/>
                  <a:pt x="838200" y="167640"/>
                </a:cubicBezTo>
                <a:cubicBezTo>
                  <a:pt x="835660" y="175260"/>
                  <a:pt x="834172" y="183316"/>
                  <a:pt x="830580" y="190500"/>
                </a:cubicBezTo>
                <a:cubicBezTo>
                  <a:pt x="810423" y="230813"/>
                  <a:pt x="820567" y="196898"/>
                  <a:pt x="792480" y="236220"/>
                </a:cubicBezTo>
                <a:cubicBezTo>
                  <a:pt x="785878" y="245463"/>
                  <a:pt x="781228" y="256064"/>
                  <a:pt x="777240" y="266700"/>
                </a:cubicBezTo>
                <a:cubicBezTo>
                  <a:pt x="773563" y="276506"/>
                  <a:pt x="772629" y="287149"/>
                  <a:pt x="769620" y="297180"/>
                </a:cubicBezTo>
                <a:cubicBezTo>
                  <a:pt x="765004" y="312567"/>
                  <a:pt x="757530" y="327148"/>
                  <a:pt x="754380" y="342900"/>
                </a:cubicBezTo>
                <a:cubicBezTo>
                  <a:pt x="751840" y="355600"/>
                  <a:pt x="749901" y="368435"/>
                  <a:pt x="746760" y="381000"/>
                </a:cubicBezTo>
                <a:cubicBezTo>
                  <a:pt x="744812" y="388792"/>
                  <a:pt x="742023" y="396363"/>
                  <a:pt x="739140" y="403860"/>
                </a:cubicBezTo>
                <a:cubicBezTo>
                  <a:pt x="729320" y="429393"/>
                  <a:pt x="717311" y="454107"/>
                  <a:pt x="708660" y="480060"/>
                </a:cubicBezTo>
                <a:cubicBezTo>
                  <a:pt x="706120" y="487680"/>
                  <a:pt x="705495" y="496237"/>
                  <a:pt x="701040" y="502920"/>
                </a:cubicBezTo>
                <a:cubicBezTo>
                  <a:pt x="692614" y="515559"/>
                  <a:pt x="669377" y="533992"/>
                  <a:pt x="655320" y="541020"/>
                </a:cubicBezTo>
                <a:cubicBezTo>
                  <a:pt x="648136" y="544612"/>
                  <a:pt x="639644" y="545048"/>
                  <a:pt x="632460" y="548640"/>
                </a:cubicBezTo>
                <a:cubicBezTo>
                  <a:pt x="624269" y="552736"/>
                  <a:pt x="617220" y="558800"/>
                  <a:pt x="609600" y="563880"/>
                </a:cubicBezTo>
                <a:cubicBezTo>
                  <a:pt x="604520" y="571500"/>
                  <a:pt x="600836" y="580264"/>
                  <a:pt x="594360" y="586740"/>
                </a:cubicBezTo>
                <a:cubicBezTo>
                  <a:pt x="587884" y="593216"/>
                  <a:pt x="577363" y="594945"/>
                  <a:pt x="571500" y="601980"/>
                </a:cubicBezTo>
                <a:cubicBezTo>
                  <a:pt x="541618" y="637839"/>
                  <a:pt x="571064" y="625276"/>
                  <a:pt x="541020" y="655320"/>
                </a:cubicBezTo>
                <a:cubicBezTo>
                  <a:pt x="534544" y="661796"/>
                  <a:pt x="525780" y="665480"/>
                  <a:pt x="518160" y="670560"/>
                </a:cubicBezTo>
                <a:cubicBezTo>
                  <a:pt x="502855" y="693518"/>
                  <a:pt x="499281" y="696830"/>
                  <a:pt x="487680" y="723900"/>
                </a:cubicBezTo>
                <a:cubicBezTo>
                  <a:pt x="484516" y="731283"/>
                  <a:pt x="484515" y="740077"/>
                  <a:pt x="480060" y="746760"/>
                </a:cubicBezTo>
                <a:cubicBezTo>
                  <a:pt x="474082" y="755726"/>
                  <a:pt x="464820" y="762000"/>
                  <a:pt x="457200" y="769620"/>
                </a:cubicBezTo>
                <a:cubicBezTo>
                  <a:pt x="443229" y="811533"/>
                  <a:pt x="457975" y="773980"/>
                  <a:pt x="434340" y="815340"/>
                </a:cubicBezTo>
                <a:cubicBezTo>
                  <a:pt x="423048" y="835101"/>
                  <a:pt x="405827" y="880069"/>
                  <a:pt x="388620" y="891540"/>
                </a:cubicBezTo>
                <a:lnTo>
                  <a:pt x="365760" y="906780"/>
                </a:lnTo>
                <a:cubicBezTo>
                  <a:pt x="351187" y="950499"/>
                  <a:pt x="368576" y="909691"/>
                  <a:pt x="335280" y="952500"/>
                </a:cubicBezTo>
                <a:cubicBezTo>
                  <a:pt x="324035" y="966958"/>
                  <a:pt x="314960" y="982980"/>
                  <a:pt x="304800" y="998220"/>
                </a:cubicBezTo>
                <a:lnTo>
                  <a:pt x="289560" y="1021080"/>
                </a:lnTo>
                <a:lnTo>
                  <a:pt x="274320" y="1043940"/>
                </a:lnTo>
                <a:cubicBezTo>
                  <a:pt x="271780" y="1054100"/>
                  <a:pt x="271896" y="1065327"/>
                  <a:pt x="266700" y="1074420"/>
                </a:cubicBezTo>
                <a:cubicBezTo>
                  <a:pt x="261353" y="1083776"/>
                  <a:pt x="250456" y="1088774"/>
                  <a:pt x="243840" y="1097280"/>
                </a:cubicBezTo>
                <a:cubicBezTo>
                  <a:pt x="232595" y="1111738"/>
                  <a:pt x="223520" y="1127760"/>
                  <a:pt x="213360" y="1143000"/>
                </a:cubicBezTo>
                <a:lnTo>
                  <a:pt x="182880" y="1188720"/>
                </a:lnTo>
                <a:cubicBezTo>
                  <a:pt x="177800" y="1196340"/>
                  <a:pt x="174116" y="1205104"/>
                  <a:pt x="167640" y="1211580"/>
                </a:cubicBezTo>
                <a:cubicBezTo>
                  <a:pt x="160020" y="1219200"/>
                  <a:pt x="151679" y="1226161"/>
                  <a:pt x="144780" y="1234440"/>
                </a:cubicBezTo>
                <a:cubicBezTo>
                  <a:pt x="113030" y="1272540"/>
                  <a:pt x="148590" y="1244600"/>
                  <a:pt x="106680" y="1272540"/>
                </a:cubicBezTo>
                <a:cubicBezTo>
                  <a:pt x="104140" y="1280160"/>
                  <a:pt x="102961" y="1288379"/>
                  <a:pt x="99060" y="1295400"/>
                </a:cubicBezTo>
                <a:cubicBezTo>
                  <a:pt x="90165" y="1311411"/>
                  <a:pt x="68580" y="1341120"/>
                  <a:pt x="68580" y="1341120"/>
                </a:cubicBezTo>
                <a:cubicBezTo>
                  <a:pt x="66040" y="1353820"/>
                  <a:pt x="64101" y="1366655"/>
                  <a:pt x="60960" y="1379220"/>
                </a:cubicBezTo>
                <a:cubicBezTo>
                  <a:pt x="59012" y="1387012"/>
                  <a:pt x="54915" y="1394204"/>
                  <a:pt x="53340" y="1402080"/>
                </a:cubicBezTo>
                <a:cubicBezTo>
                  <a:pt x="49818" y="1419692"/>
                  <a:pt x="48933" y="1437749"/>
                  <a:pt x="45720" y="1455420"/>
                </a:cubicBezTo>
                <a:cubicBezTo>
                  <a:pt x="43847" y="1465724"/>
                  <a:pt x="40372" y="1475677"/>
                  <a:pt x="38100" y="1485900"/>
                </a:cubicBezTo>
                <a:cubicBezTo>
                  <a:pt x="35290" y="1498543"/>
                  <a:pt x="35028" y="1511873"/>
                  <a:pt x="30480" y="1524000"/>
                </a:cubicBezTo>
                <a:cubicBezTo>
                  <a:pt x="27264" y="1532575"/>
                  <a:pt x="20320" y="1539240"/>
                  <a:pt x="15240" y="1546860"/>
                </a:cubicBezTo>
                <a:cubicBezTo>
                  <a:pt x="12301" y="1558615"/>
                  <a:pt x="0" y="1605766"/>
                  <a:pt x="0" y="1615440"/>
                </a:cubicBezTo>
                <a:cubicBezTo>
                  <a:pt x="0" y="1719611"/>
                  <a:pt x="2890" y="1823796"/>
                  <a:pt x="7620" y="1927860"/>
                </a:cubicBezTo>
                <a:cubicBezTo>
                  <a:pt x="7985" y="1935884"/>
                  <a:pt x="11339" y="1943699"/>
                  <a:pt x="15240" y="1950720"/>
                </a:cubicBezTo>
                <a:cubicBezTo>
                  <a:pt x="41387" y="1997785"/>
                  <a:pt x="35186" y="1989418"/>
                  <a:pt x="68580" y="2011680"/>
                </a:cubicBezTo>
                <a:cubicBezTo>
                  <a:pt x="86360" y="2038350"/>
                  <a:pt x="91440" y="2052320"/>
                  <a:pt x="129540" y="2065020"/>
                </a:cubicBezTo>
                <a:cubicBezTo>
                  <a:pt x="144780" y="2070100"/>
                  <a:pt x="161894" y="2071349"/>
                  <a:pt x="175260" y="2080260"/>
                </a:cubicBezTo>
                <a:cubicBezTo>
                  <a:pt x="182880" y="2085340"/>
                  <a:pt x="189432" y="2092604"/>
                  <a:pt x="198120" y="2095500"/>
                </a:cubicBezTo>
                <a:cubicBezTo>
                  <a:pt x="223416" y="2103932"/>
                  <a:pt x="328598" y="2110183"/>
                  <a:pt x="335280" y="2110740"/>
                </a:cubicBezTo>
                <a:cubicBezTo>
                  <a:pt x="404643" y="2133861"/>
                  <a:pt x="295092" y="2098394"/>
                  <a:pt x="396240" y="2125980"/>
                </a:cubicBezTo>
                <a:cubicBezTo>
                  <a:pt x="411738" y="2130207"/>
                  <a:pt x="426020" y="2139227"/>
                  <a:pt x="441960" y="2141220"/>
                </a:cubicBezTo>
                <a:cubicBezTo>
                  <a:pt x="462280" y="2143760"/>
                  <a:pt x="482680" y="2145726"/>
                  <a:pt x="502920" y="2148840"/>
                </a:cubicBezTo>
                <a:cubicBezTo>
                  <a:pt x="568412" y="2158916"/>
                  <a:pt x="514636" y="2156108"/>
                  <a:pt x="594360" y="2164080"/>
                </a:cubicBezTo>
                <a:cubicBezTo>
                  <a:pt x="652709" y="2169915"/>
                  <a:pt x="769620" y="2179320"/>
                  <a:pt x="769620" y="2179320"/>
                </a:cubicBezTo>
                <a:cubicBezTo>
                  <a:pt x="779780" y="2181860"/>
                  <a:pt x="790030" y="2184063"/>
                  <a:pt x="800100" y="2186940"/>
                </a:cubicBezTo>
                <a:cubicBezTo>
                  <a:pt x="807823" y="2189147"/>
                  <a:pt x="815168" y="2192612"/>
                  <a:pt x="822960" y="2194560"/>
                </a:cubicBezTo>
                <a:cubicBezTo>
                  <a:pt x="835525" y="2197701"/>
                  <a:pt x="848495" y="2199039"/>
                  <a:pt x="861060" y="2202180"/>
                </a:cubicBezTo>
                <a:cubicBezTo>
                  <a:pt x="868852" y="2204128"/>
                  <a:pt x="876197" y="2207593"/>
                  <a:pt x="883920" y="2209800"/>
                </a:cubicBezTo>
                <a:cubicBezTo>
                  <a:pt x="893990" y="2212677"/>
                  <a:pt x="904330" y="2214543"/>
                  <a:pt x="914400" y="2217420"/>
                </a:cubicBezTo>
                <a:cubicBezTo>
                  <a:pt x="948292" y="2227103"/>
                  <a:pt x="928038" y="2224720"/>
                  <a:pt x="967740" y="2232660"/>
                </a:cubicBezTo>
                <a:cubicBezTo>
                  <a:pt x="982890" y="2235690"/>
                  <a:pt x="998310" y="2237250"/>
                  <a:pt x="1013460" y="2240280"/>
                </a:cubicBezTo>
                <a:cubicBezTo>
                  <a:pt x="1058101" y="2249208"/>
                  <a:pt x="1039169" y="2251646"/>
                  <a:pt x="1097280" y="2255520"/>
                </a:cubicBezTo>
                <a:cubicBezTo>
                  <a:pt x="1244064" y="2265306"/>
                  <a:pt x="1527534" y="2268452"/>
                  <a:pt x="1638300" y="2270760"/>
                </a:cubicBezTo>
                <a:cubicBezTo>
                  <a:pt x="1651000" y="2273300"/>
                  <a:pt x="1663835" y="2275239"/>
                  <a:pt x="1676400" y="2278380"/>
                </a:cubicBezTo>
                <a:cubicBezTo>
                  <a:pt x="1684192" y="2280328"/>
                  <a:pt x="1691537" y="2283793"/>
                  <a:pt x="1699260" y="2286000"/>
                </a:cubicBezTo>
                <a:cubicBezTo>
                  <a:pt x="1779873" y="2309032"/>
                  <a:pt x="1666810" y="2272643"/>
                  <a:pt x="1775460" y="2308860"/>
                </a:cubicBezTo>
                <a:cubicBezTo>
                  <a:pt x="1783080" y="2311400"/>
                  <a:pt x="1791637" y="2312025"/>
                  <a:pt x="1798320" y="2316480"/>
                </a:cubicBezTo>
                <a:cubicBezTo>
                  <a:pt x="1805940" y="2321560"/>
                  <a:pt x="1812762" y="2328112"/>
                  <a:pt x="1821180" y="2331720"/>
                </a:cubicBezTo>
                <a:cubicBezTo>
                  <a:pt x="1850219" y="2344165"/>
                  <a:pt x="1932090" y="2346043"/>
                  <a:pt x="1943100" y="2346960"/>
                </a:cubicBezTo>
                <a:cubicBezTo>
                  <a:pt x="1955054" y="2346163"/>
                  <a:pt x="2067384" y="2342441"/>
                  <a:pt x="2103120" y="2331720"/>
                </a:cubicBezTo>
                <a:cubicBezTo>
                  <a:pt x="2114397" y="2328337"/>
                  <a:pt x="2166170" y="2298229"/>
                  <a:pt x="2171700" y="2293620"/>
                </a:cubicBezTo>
                <a:cubicBezTo>
                  <a:pt x="2191017" y="2277523"/>
                  <a:pt x="2207260" y="2258060"/>
                  <a:pt x="2225040" y="2240280"/>
                </a:cubicBezTo>
                <a:cubicBezTo>
                  <a:pt x="2232660" y="2232660"/>
                  <a:pt x="2238934" y="2223398"/>
                  <a:pt x="2247900" y="2217420"/>
                </a:cubicBezTo>
                <a:cubicBezTo>
                  <a:pt x="2304657" y="2179582"/>
                  <a:pt x="2234948" y="2228213"/>
                  <a:pt x="2293620" y="2179320"/>
                </a:cubicBezTo>
                <a:cubicBezTo>
                  <a:pt x="2300655" y="2173457"/>
                  <a:pt x="2309445" y="2169943"/>
                  <a:pt x="2316480" y="2164080"/>
                </a:cubicBezTo>
                <a:cubicBezTo>
                  <a:pt x="2324759" y="2157181"/>
                  <a:pt x="2331061" y="2148119"/>
                  <a:pt x="2339340" y="2141220"/>
                </a:cubicBezTo>
                <a:cubicBezTo>
                  <a:pt x="2346375" y="2135357"/>
                  <a:pt x="2354748" y="2131303"/>
                  <a:pt x="2362200" y="2125980"/>
                </a:cubicBezTo>
                <a:cubicBezTo>
                  <a:pt x="2372534" y="2118598"/>
                  <a:pt x="2382346" y="2110502"/>
                  <a:pt x="2392680" y="2103120"/>
                </a:cubicBezTo>
                <a:cubicBezTo>
                  <a:pt x="2400132" y="2097797"/>
                  <a:pt x="2408587" y="2093840"/>
                  <a:pt x="2415540" y="2087880"/>
                </a:cubicBezTo>
                <a:cubicBezTo>
                  <a:pt x="2426449" y="2078529"/>
                  <a:pt x="2434328" y="2065751"/>
                  <a:pt x="2446020" y="2057400"/>
                </a:cubicBezTo>
                <a:cubicBezTo>
                  <a:pt x="2452556" y="2052731"/>
                  <a:pt x="2461260" y="2052320"/>
                  <a:pt x="2468880" y="2049780"/>
                </a:cubicBezTo>
                <a:cubicBezTo>
                  <a:pt x="2476500" y="2042160"/>
                  <a:pt x="2484841" y="2035199"/>
                  <a:pt x="2491740" y="2026920"/>
                </a:cubicBezTo>
                <a:cubicBezTo>
                  <a:pt x="2497603" y="2019885"/>
                  <a:pt x="2500854" y="2010867"/>
                  <a:pt x="2506980" y="2004060"/>
                </a:cubicBezTo>
                <a:cubicBezTo>
                  <a:pt x="2551842" y="1954214"/>
                  <a:pt x="2544845" y="1961037"/>
                  <a:pt x="2583180" y="1935480"/>
                </a:cubicBezTo>
                <a:cubicBezTo>
                  <a:pt x="2600857" y="1882450"/>
                  <a:pt x="2575259" y="1947885"/>
                  <a:pt x="2621280" y="1882140"/>
                </a:cubicBezTo>
                <a:cubicBezTo>
                  <a:pt x="2631051" y="1868181"/>
                  <a:pt x="2634689" y="1850597"/>
                  <a:pt x="2644140" y="1836420"/>
                </a:cubicBezTo>
                <a:cubicBezTo>
                  <a:pt x="2650118" y="1827454"/>
                  <a:pt x="2660176" y="1821900"/>
                  <a:pt x="2667000" y="1813560"/>
                </a:cubicBezTo>
                <a:cubicBezTo>
                  <a:pt x="2683084" y="1793901"/>
                  <a:pt x="2697480" y="1772920"/>
                  <a:pt x="2712720" y="1752600"/>
                </a:cubicBezTo>
                <a:cubicBezTo>
                  <a:pt x="2720340" y="1742440"/>
                  <a:pt x="2726600" y="1731100"/>
                  <a:pt x="2735580" y="1722120"/>
                </a:cubicBezTo>
                <a:cubicBezTo>
                  <a:pt x="2743200" y="1714500"/>
                  <a:pt x="2751616" y="1707600"/>
                  <a:pt x="2758440" y="1699260"/>
                </a:cubicBezTo>
                <a:cubicBezTo>
                  <a:pt x="2774524" y="1679601"/>
                  <a:pt x="2790071" y="1659434"/>
                  <a:pt x="2804160" y="1638300"/>
                </a:cubicBezTo>
                <a:cubicBezTo>
                  <a:pt x="2809240" y="1630680"/>
                  <a:pt x="2815304" y="1623631"/>
                  <a:pt x="2819400" y="1615440"/>
                </a:cubicBezTo>
                <a:cubicBezTo>
                  <a:pt x="2848263" y="1557713"/>
                  <a:pt x="2817388" y="1594592"/>
                  <a:pt x="2857500" y="1554480"/>
                </a:cubicBezTo>
                <a:cubicBezTo>
                  <a:pt x="2876033" y="1480347"/>
                  <a:pt x="2848715" y="1580252"/>
                  <a:pt x="2895600" y="1463040"/>
                </a:cubicBezTo>
                <a:cubicBezTo>
                  <a:pt x="2900680" y="1450340"/>
                  <a:pt x="2906166" y="1437795"/>
                  <a:pt x="2910840" y="1424940"/>
                </a:cubicBezTo>
                <a:cubicBezTo>
                  <a:pt x="2916330" y="1409843"/>
                  <a:pt x="2918896" y="1393588"/>
                  <a:pt x="2926080" y="1379220"/>
                </a:cubicBezTo>
                <a:cubicBezTo>
                  <a:pt x="2934271" y="1362837"/>
                  <a:pt x="2946400" y="1348740"/>
                  <a:pt x="2956560" y="1333500"/>
                </a:cubicBezTo>
                <a:cubicBezTo>
                  <a:pt x="2961640" y="1325880"/>
                  <a:pt x="2965324" y="1317116"/>
                  <a:pt x="2971800" y="1310640"/>
                </a:cubicBezTo>
                <a:lnTo>
                  <a:pt x="3017520" y="1264920"/>
                </a:lnTo>
                <a:cubicBezTo>
                  <a:pt x="3025140" y="1257300"/>
                  <a:pt x="3031414" y="1248038"/>
                  <a:pt x="3040380" y="1242060"/>
                </a:cubicBezTo>
                <a:cubicBezTo>
                  <a:pt x="3155934" y="1165024"/>
                  <a:pt x="3037337" y="1248406"/>
                  <a:pt x="3108960" y="1188720"/>
                </a:cubicBezTo>
                <a:cubicBezTo>
                  <a:pt x="3115995" y="1182857"/>
                  <a:pt x="3124975" y="1179564"/>
                  <a:pt x="3131820" y="1173480"/>
                </a:cubicBezTo>
                <a:cubicBezTo>
                  <a:pt x="3147929" y="1159161"/>
                  <a:pt x="3165585" y="1145693"/>
                  <a:pt x="3177540" y="1127760"/>
                </a:cubicBezTo>
                <a:cubicBezTo>
                  <a:pt x="3182620" y="1120140"/>
                  <a:pt x="3186304" y="1111376"/>
                  <a:pt x="3192780" y="1104900"/>
                </a:cubicBezTo>
                <a:cubicBezTo>
                  <a:pt x="3199256" y="1098424"/>
                  <a:pt x="3208020" y="1094740"/>
                  <a:pt x="3215640" y="1089660"/>
                </a:cubicBezTo>
                <a:cubicBezTo>
                  <a:pt x="3243580" y="1047750"/>
                  <a:pt x="3215640" y="1083310"/>
                  <a:pt x="3253740" y="1051560"/>
                </a:cubicBezTo>
                <a:cubicBezTo>
                  <a:pt x="3262019" y="1044661"/>
                  <a:pt x="3267831" y="1034964"/>
                  <a:pt x="3276600" y="1028700"/>
                </a:cubicBezTo>
                <a:cubicBezTo>
                  <a:pt x="3285843" y="1022098"/>
                  <a:pt x="3297837" y="1020062"/>
                  <a:pt x="3307080" y="1013460"/>
                </a:cubicBezTo>
                <a:cubicBezTo>
                  <a:pt x="3315849" y="1007196"/>
                  <a:pt x="3321661" y="997499"/>
                  <a:pt x="3329940" y="990600"/>
                </a:cubicBezTo>
                <a:cubicBezTo>
                  <a:pt x="3336975" y="984737"/>
                  <a:pt x="3345180" y="980440"/>
                  <a:pt x="3352800" y="975360"/>
                </a:cubicBezTo>
                <a:cubicBezTo>
                  <a:pt x="3393440" y="914400"/>
                  <a:pt x="3340100" y="988060"/>
                  <a:pt x="3390900" y="937260"/>
                </a:cubicBezTo>
                <a:cubicBezTo>
                  <a:pt x="3441700" y="886460"/>
                  <a:pt x="3368040" y="939800"/>
                  <a:pt x="3429000" y="899160"/>
                </a:cubicBezTo>
                <a:cubicBezTo>
                  <a:pt x="3443985" y="876683"/>
                  <a:pt x="3445098" y="871775"/>
                  <a:pt x="3467100" y="853440"/>
                </a:cubicBezTo>
                <a:cubicBezTo>
                  <a:pt x="3474135" y="847577"/>
                  <a:pt x="3483115" y="844284"/>
                  <a:pt x="3489960" y="838200"/>
                </a:cubicBezTo>
                <a:cubicBezTo>
                  <a:pt x="3506069" y="823881"/>
                  <a:pt x="3520440" y="807720"/>
                  <a:pt x="3535680" y="792480"/>
                </a:cubicBezTo>
                <a:cubicBezTo>
                  <a:pt x="3543300" y="784860"/>
                  <a:pt x="3549574" y="775598"/>
                  <a:pt x="3558540" y="769620"/>
                </a:cubicBezTo>
                <a:lnTo>
                  <a:pt x="3581400" y="754380"/>
                </a:lnTo>
                <a:cubicBezTo>
                  <a:pt x="3596385" y="731903"/>
                  <a:pt x="3597498" y="726995"/>
                  <a:pt x="3619500" y="708660"/>
                </a:cubicBezTo>
                <a:cubicBezTo>
                  <a:pt x="3626535" y="702797"/>
                  <a:pt x="3634740" y="698500"/>
                  <a:pt x="3642360" y="693420"/>
                </a:cubicBezTo>
                <a:cubicBezTo>
                  <a:pt x="3660684" y="665934"/>
                  <a:pt x="3672003" y="645718"/>
                  <a:pt x="3703320" y="624840"/>
                </a:cubicBezTo>
                <a:cubicBezTo>
                  <a:pt x="3710940" y="619760"/>
                  <a:pt x="3719704" y="616076"/>
                  <a:pt x="3726180" y="609600"/>
                </a:cubicBezTo>
                <a:cubicBezTo>
                  <a:pt x="3735160" y="600620"/>
                  <a:pt x="3739548" y="587557"/>
                  <a:pt x="3749040" y="579120"/>
                </a:cubicBezTo>
                <a:cubicBezTo>
                  <a:pt x="3826730" y="510062"/>
                  <a:pt x="3764412" y="576849"/>
                  <a:pt x="3825240" y="533400"/>
                </a:cubicBezTo>
                <a:cubicBezTo>
                  <a:pt x="3852740" y="513757"/>
                  <a:pt x="3843682" y="511269"/>
                  <a:pt x="3863340" y="487680"/>
                </a:cubicBezTo>
                <a:cubicBezTo>
                  <a:pt x="3921065" y="418411"/>
                  <a:pt x="3853097" y="514912"/>
                  <a:pt x="3901440" y="434340"/>
                </a:cubicBezTo>
                <a:cubicBezTo>
                  <a:pt x="3910864" y="418634"/>
                  <a:pt x="3926128" y="405996"/>
                  <a:pt x="3931920" y="388620"/>
                </a:cubicBezTo>
                <a:lnTo>
                  <a:pt x="3947160" y="342900"/>
                </a:lnTo>
                <a:cubicBezTo>
                  <a:pt x="3949700" y="335280"/>
                  <a:pt x="3950325" y="326723"/>
                  <a:pt x="3954780" y="320040"/>
                </a:cubicBezTo>
                <a:cubicBezTo>
                  <a:pt x="3974475" y="290497"/>
                  <a:pt x="3967124" y="305868"/>
                  <a:pt x="3977640" y="274320"/>
                </a:cubicBezTo>
                <a:cubicBezTo>
                  <a:pt x="3976541" y="268824"/>
                  <a:pt x="3969095" y="223402"/>
                  <a:pt x="3962400" y="213360"/>
                </a:cubicBezTo>
                <a:cubicBezTo>
                  <a:pt x="3945811" y="188476"/>
                  <a:pt x="3930187" y="188767"/>
                  <a:pt x="3909060" y="167640"/>
                </a:cubicBezTo>
                <a:cubicBezTo>
                  <a:pt x="3902584" y="161164"/>
                  <a:pt x="3899904" y="151625"/>
                  <a:pt x="3893820" y="144780"/>
                </a:cubicBezTo>
                <a:cubicBezTo>
                  <a:pt x="3879501" y="128671"/>
                  <a:pt x="3866033" y="111015"/>
                  <a:pt x="3848100" y="99060"/>
                </a:cubicBezTo>
                <a:lnTo>
                  <a:pt x="3802380" y="68580"/>
                </a:lnTo>
                <a:cubicBezTo>
                  <a:pt x="3794760" y="63500"/>
                  <a:pt x="3785996" y="59816"/>
                  <a:pt x="3779520" y="53340"/>
                </a:cubicBezTo>
                <a:cubicBezTo>
                  <a:pt x="3771900" y="45720"/>
                  <a:pt x="3766299" y="35299"/>
                  <a:pt x="3756660" y="30480"/>
                </a:cubicBezTo>
                <a:cubicBezTo>
                  <a:pt x="3745076" y="24688"/>
                  <a:pt x="3731260" y="25400"/>
                  <a:pt x="3718560" y="22860"/>
                </a:cubicBezTo>
                <a:cubicBezTo>
                  <a:pt x="3675380" y="25400"/>
                  <a:pt x="3632060" y="26176"/>
                  <a:pt x="3589020" y="30480"/>
                </a:cubicBezTo>
                <a:cubicBezTo>
                  <a:pt x="3581028" y="31279"/>
                  <a:pt x="3574130" y="37104"/>
                  <a:pt x="3566160" y="38100"/>
                </a:cubicBezTo>
                <a:cubicBezTo>
                  <a:pt x="3533298" y="42208"/>
                  <a:pt x="3500120" y="43180"/>
                  <a:pt x="3467100" y="45720"/>
                </a:cubicBezTo>
                <a:cubicBezTo>
                  <a:pt x="3454400" y="48260"/>
                  <a:pt x="3441565" y="50199"/>
                  <a:pt x="3429000" y="53340"/>
                </a:cubicBezTo>
                <a:cubicBezTo>
                  <a:pt x="3421208" y="55288"/>
                  <a:pt x="3414091" y="59824"/>
                  <a:pt x="3406140" y="60960"/>
                </a:cubicBezTo>
                <a:cubicBezTo>
                  <a:pt x="3378367" y="64928"/>
                  <a:pt x="3350260" y="66040"/>
                  <a:pt x="3322320" y="68580"/>
                </a:cubicBezTo>
                <a:lnTo>
                  <a:pt x="3078480" y="60960"/>
                </a:lnTo>
                <a:cubicBezTo>
                  <a:pt x="3058027" y="59937"/>
                  <a:pt x="3037998" y="53340"/>
                  <a:pt x="3017520" y="53340"/>
                </a:cubicBezTo>
                <a:cubicBezTo>
                  <a:pt x="2915888" y="53340"/>
                  <a:pt x="2814320" y="58420"/>
                  <a:pt x="2712720" y="60960"/>
                </a:cubicBezTo>
                <a:cubicBezTo>
                  <a:pt x="2682240" y="63500"/>
                  <a:pt x="2651698" y="65378"/>
                  <a:pt x="2621280" y="68580"/>
                </a:cubicBezTo>
                <a:cubicBezTo>
                  <a:pt x="2603418" y="70460"/>
                  <a:pt x="2585791" y="74217"/>
                  <a:pt x="2567940" y="76200"/>
                </a:cubicBezTo>
                <a:cubicBezTo>
                  <a:pt x="2540056" y="79298"/>
                  <a:pt x="2512060" y="81280"/>
                  <a:pt x="2484120" y="83820"/>
                </a:cubicBezTo>
                <a:lnTo>
                  <a:pt x="2156460" y="76200"/>
                </a:lnTo>
                <a:lnTo>
                  <a:pt x="1653540" y="68580"/>
                </a:lnTo>
                <a:cubicBezTo>
                  <a:pt x="1606362" y="67269"/>
                  <a:pt x="1619117" y="61879"/>
                  <a:pt x="1584960" y="53340"/>
                </a:cubicBezTo>
                <a:cubicBezTo>
                  <a:pt x="1572395" y="50199"/>
                  <a:pt x="1559503" y="48530"/>
                  <a:pt x="1546860" y="45720"/>
                </a:cubicBezTo>
                <a:cubicBezTo>
                  <a:pt x="1536637" y="43448"/>
                  <a:pt x="1526584" y="40455"/>
                  <a:pt x="1516380" y="38100"/>
                </a:cubicBezTo>
                <a:lnTo>
                  <a:pt x="1447800" y="22860"/>
                </a:lnTo>
                <a:cubicBezTo>
                  <a:pt x="1343640" y="-1648"/>
                  <a:pt x="1426322" y="15516"/>
                  <a:pt x="1348740" y="0"/>
                </a:cubicBezTo>
                <a:lnTo>
                  <a:pt x="1021080" y="7620"/>
                </a:lnTo>
                <a:cubicBezTo>
                  <a:pt x="824159" y="15658"/>
                  <a:pt x="944880" y="20320"/>
                  <a:pt x="929640" y="2286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8" name="Freeform: Shape 21"/>
          <p:cNvSpPr/>
          <p:nvPr/>
        </p:nvSpPr>
        <p:spPr>
          <a:xfrm>
            <a:off x="4632480" y="1249200"/>
            <a:ext cx="2743200" cy="3992760"/>
          </a:xfrm>
          <a:custGeom>
            <a:avLst/>
            <a:gdLst/>
            <a:ahLst/>
            <a:rect l="l" t="t" r="r" b="b"/>
            <a:pathLst>
              <a:path w="2743200" h="3992880">
                <a:moveTo>
                  <a:pt x="2133600" y="152400"/>
                </a:moveTo>
                <a:lnTo>
                  <a:pt x="2133600" y="152400"/>
                </a:lnTo>
                <a:cubicBezTo>
                  <a:pt x="2115820" y="137160"/>
                  <a:pt x="2098821" y="120958"/>
                  <a:pt x="2080260" y="106680"/>
                </a:cubicBezTo>
                <a:cubicBezTo>
                  <a:pt x="2065742" y="95512"/>
                  <a:pt x="2047492" y="89152"/>
                  <a:pt x="2034540" y="76200"/>
                </a:cubicBezTo>
                <a:cubicBezTo>
                  <a:pt x="1998728" y="40388"/>
                  <a:pt x="2020646" y="59318"/>
                  <a:pt x="1965960" y="22860"/>
                </a:cubicBezTo>
                <a:cubicBezTo>
                  <a:pt x="1936417" y="3165"/>
                  <a:pt x="1951788" y="10516"/>
                  <a:pt x="1920240" y="0"/>
                </a:cubicBezTo>
                <a:cubicBezTo>
                  <a:pt x="1892300" y="2540"/>
                  <a:pt x="1863396" y="-87"/>
                  <a:pt x="1836420" y="7620"/>
                </a:cubicBezTo>
                <a:cubicBezTo>
                  <a:pt x="1826058" y="10580"/>
                  <a:pt x="1820176" y="21974"/>
                  <a:pt x="1813560" y="30480"/>
                </a:cubicBezTo>
                <a:cubicBezTo>
                  <a:pt x="1721818" y="148434"/>
                  <a:pt x="1813784" y="30078"/>
                  <a:pt x="1775460" y="99060"/>
                </a:cubicBezTo>
                <a:lnTo>
                  <a:pt x="1729740" y="167640"/>
                </a:lnTo>
                <a:lnTo>
                  <a:pt x="1714500" y="190500"/>
                </a:lnTo>
                <a:cubicBezTo>
                  <a:pt x="1709420" y="198120"/>
                  <a:pt x="1705736" y="206884"/>
                  <a:pt x="1699260" y="213360"/>
                </a:cubicBezTo>
                <a:cubicBezTo>
                  <a:pt x="1684020" y="228600"/>
                  <a:pt x="1665495" y="241147"/>
                  <a:pt x="1653540" y="259080"/>
                </a:cubicBezTo>
                <a:cubicBezTo>
                  <a:pt x="1643380" y="274320"/>
                  <a:pt x="1636012" y="291848"/>
                  <a:pt x="1623060" y="304800"/>
                </a:cubicBezTo>
                <a:lnTo>
                  <a:pt x="1577340" y="350520"/>
                </a:lnTo>
                <a:cubicBezTo>
                  <a:pt x="1569720" y="358140"/>
                  <a:pt x="1560458" y="364414"/>
                  <a:pt x="1554480" y="373380"/>
                </a:cubicBezTo>
                <a:cubicBezTo>
                  <a:pt x="1544320" y="388620"/>
                  <a:pt x="1539240" y="408940"/>
                  <a:pt x="1524000" y="419100"/>
                </a:cubicBezTo>
                <a:cubicBezTo>
                  <a:pt x="1467243" y="456938"/>
                  <a:pt x="1536952" y="408307"/>
                  <a:pt x="1478280" y="457200"/>
                </a:cubicBezTo>
                <a:cubicBezTo>
                  <a:pt x="1471245" y="463063"/>
                  <a:pt x="1462455" y="466577"/>
                  <a:pt x="1455420" y="472440"/>
                </a:cubicBezTo>
                <a:cubicBezTo>
                  <a:pt x="1417367" y="504151"/>
                  <a:pt x="1449874" y="489529"/>
                  <a:pt x="1409700" y="502920"/>
                </a:cubicBezTo>
                <a:lnTo>
                  <a:pt x="1295400" y="617220"/>
                </a:lnTo>
                <a:cubicBezTo>
                  <a:pt x="1287780" y="624840"/>
                  <a:pt x="1278518" y="631114"/>
                  <a:pt x="1272540" y="640080"/>
                </a:cubicBezTo>
                <a:cubicBezTo>
                  <a:pt x="1267460" y="647700"/>
                  <a:pt x="1263776" y="656464"/>
                  <a:pt x="1257300" y="662940"/>
                </a:cubicBezTo>
                <a:cubicBezTo>
                  <a:pt x="1250824" y="669416"/>
                  <a:pt x="1242060" y="673100"/>
                  <a:pt x="1234440" y="678180"/>
                </a:cubicBezTo>
                <a:cubicBezTo>
                  <a:pt x="1229360" y="685800"/>
                  <a:pt x="1225676" y="694564"/>
                  <a:pt x="1219200" y="701040"/>
                </a:cubicBezTo>
                <a:cubicBezTo>
                  <a:pt x="1212724" y="707516"/>
                  <a:pt x="1202061" y="709129"/>
                  <a:pt x="1196340" y="716280"/>
                </a:cubicBezTo>
                <a:cubicBezTo>
                  <a:pt x="1191322" y="722552"/>
                  <a:pt x="1193651" y="732800"/>
                  <a:pt x="1188720" y="739140"/>
                </a:cubicBezTo>
                <a:cubicBezTo>
                  <a:pt x="1175488" y="756153"/>
                  <a:pt x="1158240" y="769620"/>
                  <a:pt x="1143000" y="784860"/>
                </a:cubicBezTo>
                <a:cubicBezTo>
                  <a:pt x="1135380" y="792480"/>
                  <a:pt x="1126118" y="798754"/>
                  <a:pt x="1120140" y="807720"/>
                </a:cubicBezTo>
                <a:cubicBezTo>
                  <a:pt x="1115060" y="815340"/>
                  <a:pt x="1111376" y="824104"/>
                  <a:pt x="1104900" y="830580"/>
                </a:cubicBezTo>
                <a:cubicBezTo>
                  <a:pt x="1098424" y="837056"/>
                  <a:pt x="1089660" y="840740"/>
                  <a:pt x="1082040" y="845820"/>
                </a:cubicBezTo>
                <a:cubicBezTo>
                  <a:pt x="1041400" y="906780"/>
                  <a:pt x="1094740" y="833120"/>
                  <a:pt x="1043940" y="883920"/>
                </a:cubicBezTo>
                <a:cubicBezTo>
                  <a:pt x="993140" y="934720"/>
                  <a:pt x="1066800" y="881380"/>
                  <a:pt x="1005840" y="922020"/>
                </a:cubicBezTo>
                <a:cubicBezTo>
                  <a:pt x="995680" y="937260"/>
                  <a:pt x="988312" y="954788"/>
                  <a:pt x="975360" y="967740"/>
                </a:cubicBezTo>
                <a:cubicBezTo>
                  <a:pt x="960120" y="982980"/>
                  <a:pt x="941595" y="995527"/>
                  <a:pt x="929640" y="1013460"/>
                </a:cubicBezTo>
                <a:cubicBezTo>
                  <a:pt x="909320" y="1043940"/>
                  <a:pt x="922020" y="1031240"/>
                  <a:pt x="891540" y="1051560"/>
                </a:cubicBezTo>
                <a:cubicBezTo>
                  <a:pt x="850900" y="1112520"/>
                  <a:pt x="904240" y="1038860"/>
                  <a:pt x="853440" y="1089660"/>
                </a:cubicBezTo>
                <a:cubicBezTo>
                  <a:pt x="802640" y="1140460"/>
                  <a:pt x="876300" y="1087120"/>
                  <a:pt x="815340" y="1127760"/>
                </a:cubicBezTo>
                <a:cubicBezTo>
                  <a:pt x="783936" y="1174865"/>
                  <a:pt x="818804" y="1128915"/>
                  <a:pt x="777240" y="1165860"/>
                </a:cubicBezTo>
                <a:lnTo>
                  <a:pt x="708660" y="1234440"/>
                </a:lnTo>
                <a:cubicBezTo>
                  <a:pt x="701040" y="1242060"/>
                  <a:pt x="694766" y="1251322"/>
                  <a:pt x="685800" y="1257300"/>
                </a:cubicBezTo>
                <a:lnTo>
                  <a:pt x="662940" y="1272540"/>
                </a:lnTo>
                <a:cubicBezTo>
                  <a:pt x="652780" y="1270000"/>
                  <a:pt x="642933" y="1264920"/>
                  <a:pt x="632460" y="1264920"/>
                </a:cubicBezTo>
                <a:cubicBezTo>
                  <a:pt x="602791" y="1264920"/>
                  <a:pt x="611913" y="1277847"/>
                  <a:pt x="594360" y="1295400"/>
                </a:cubicBezTo>
                <a:cubicBezTo>
                  <a:pt x="587884" y="1301876"/>
                  <a:pt x="579120" y="1305560"/>
                  <a:pt x="571500" y="1310640"/>
                </a:cubicBezTo>
                <a:cubicBezTo>
                  <a:pt x="566420" y="1318260"/>
                  <a:pt x="562736" y="1327024"/>
                  <a:pt x="556260" y="1333500"/>
                </a:cubicBezTo>
                <a:cubicBezTo>
                  <a:pt x="549784" y="1339976"/>
                  <a:pt x="539121" y="1341589"/>
                  <a:pt x="533400" y="1348740"/>
                </a:cubicBezTo>
                <a:cubicBezTo>
                  <a:pt x="528382" y="1355012"/>
                  <a:pt x="530235" y="1364917"/>
                  <a:pt x="525780" y="1371600"/>
                </a:cubicBezTo>
                <a:cubicBezTo>
                  <a:pt x="519802" y="1380566"/>
                  <a:pt x="510540" y="1386840"/>
                  <a:pt x="502920" y="1394460"/>
                </a:cubicBezTo>
                <a:cubicBezTo>
                  <a:pt x="495283" y="1417371"/>
                  <a:pt x="496473" y="1420485"/>
                  <a:pt x="480060" y="1440180"/>
                </a:cubicBezTo>
                <a:cubicBezTo>
                  <a:pt x="473161" y="1448459"/>
                  <a:pt x="464099" y="1454761"/>
                  <a:pt x="457200" y="1463040"/>
                </a:cubicBezTo>
                <a:cubicBezTo>
                  <a:pt x="425450" y="1501140"/>
                  <a:pt x="461010" y="1473200"/>
                  <a:pt x="419100" y="1501140"/>
                </a:cubicBezTo>
                <a:cubicBezTo>
                  <a:pt x="414020" y="1511300"/>
                  <a:pt x="411132" y="1522894"/>
                  <a:pt x="403860" y="1531620"/>
                </a:cubicBezTo>
                <a:cubicBezTo>
                  <a:pt x="397997" y="1538655"/>
                  <a:pt x="387476" y="1540384"/>
                  <a:pt x="381000" y="1546860"/>
                </a:cubicBezTo>
                <a:cubicBezTo>
                  <a:pt x="374524" y="1553336"/>
                  <a:pt x="371623" y="1562685"/>
                  <a:pt x="365760" y="1569720"/>
                </a:cubicBezTo>
                <a:cubicBezTo>
                  <a:pt x="358861" y="1577999"/>
                  <a:pt x="349516" y="1584074"/>
                  <a:pt x="342900" y="1592580"/>
                </a:cubicBezTo>
                <a:cubicBezTo>
                  <a:pt x="331655" y="1607038"/>
                  <a:pt x="322580" y="1623060"/>
                  <a:pt x="312420" y="1638300"/>
                </a:cubicBezTo>
                <a:lnTo>
                  <a:pt x="281940" y="1684020"/>
                </a:lnTo>
                <a:lnTo>
                  <a:pt x="266700" y="1706880"/>
                </a:lnTo>
                <a:cubicBezTo>
                  <a:pt x="261620" y="1714500"/>
                  <a:pt x="257936" y="1723264"/>
                  <a:pt x="251460" y="1729740"/>
                </a:cubicBezTo>
                <a:lnTo>
                  <a:pt x="205740" y="1775460"/>
                </a:lnTo>
                <a:cubicBezTo>
                  <a:pt x="198120" y="1783080"/>
                  <a:pt x="188858" y="1789354"/>
                  <a:pt x="182880" y="1798320"/>
                </a:cubicBezTo>
                <a:cubicBezTo>
                  <a:pt x="128422" y="1880008"/>
                  <a:pt x="213230" y="1756033"/>
                  <a:pt x="144780" y="1844040"/>
                </a:cubicBezTo>
                <a:cubicBezTo>
                  <a:pt x="133535" y="1858498"/>
                  <a:pt x="124460" y="1874520"/>
                  <a:pt x="114300" y="1889760"/>
                </a:cubicBezTo>
                <a:cubicBezTo>
                  <a:pt x="109220" y="1897380"/>
                  <a:pt x="106680" y="1907540"/>
                  <a:pt x="99060" y="1912620"/>
                </a:cubicBezTo>
                <a:lnTo>
                  <a:pt x="76200" y="1927860"/>
                </a:lnTo>
                <a:cubicBezTo>
                  <a:pt x="32524" y="1993374"/>
                  <a:pt x="84888" y="1910484"/>
                  <a:pt x="53340" y="1973580"/>
                </a:cubicBezTo>
                <a:cubicBezTo>
                  <a:pt x="49244" y="1981771"/>
                  <a:pt x="41819" y="1988071"/>
                  <a:pt x="38100" y="1996440"/>
                </a:cubicBezTo>
                <a:cubicBezTo>
                  <a:pt x="31576" y="2011120"/>
                  <a:pt x="27940" y="2026920"/>
                  <a:pt x="22860" y="2042160"/>
                </a:cubicBezTo>
                <a:lnTo>
                  <a:pt x="15240" y="2065020"/>
                </a:lnTo>
                <a:cubicBezTo>
                  <a:pt x="12700" y="2072640"/>
                  <a:pt x="9568" y="2080088"/>
                  <a:pt x="7620" y="2087880"/>
                </a:cubicBezTo>
                <a:lnTo>
                  <a:pt x="0" y="2118360"/>
                </a:lnTo>
                <a:cubicBezTo>
                  <a:pt x="2540" y="2153920"/>
                  <a:pt x="3455" y="2189634"/>
                  <a:pt x="7620" y="2225040"/>
                </a:cubicBezTo>
                <a:cubicBezTo>
                  <a:pt x="10567" y="2250086"/>
                  <a:pt x="19415" y="2248630"/>
                  <a:pt x="30480" y="2270760"/>
                </a:cubicBezTo>
                <a:cubicBezTo>
                  <a:pt x="34072" y="2277944"/>
                  <a:pt x="34199" y="2286599"/>
                  <a:pt x="38100" y="2293620"/>
                </a:cubicBezTo>
                <a:cubicBezTo>
                  <a:pt x="64247" y="2340685"/>
                  <a:pt x="58046" y="2332318"/>
                  <a:pt x="91440" y="2354580"/>
                </a:cubicBezTo>
                <a:cubicBezTo>
                  <a:pt x="132080" y="2415540"/>
                  <a:pt x="78740" y="2341880"/>
                  <a:pt x="129540" y="2392680"/>
                </a:cubicBezTo>
                <a:cubicBezTo>
                  <a:pt x="136016" y="2399156"/>
                  <a:pt x="138917" y="2408505"/>
                  <a:pt x="144780" y="2415540"/>
                </a:cubicBezTo>
                <a:cubicBezTo>
                  <a:pt x="151679" y="2423819"/>
                  <a:pt x="160741" y="2430121"/>
                  <a:pt x="167640" y="2438400"/>
                </a:cubicBezTo>
                <a:cubicBezTo>
                  <a:pt x="199390" y="2476500"/>
                  <a:pt x="163830" y="2448560"/>
                  <a:pt x="205740" y="2476500"/>
                </a:cubicBezTo>
                <a:lnTo>
                  <a:pt x="236220" y="2522220"/>
                </a:lnTo>
                <a:cubicBezTo>
                  <a:pt x="241300" y="2529840"/>
                  <a:pt x="247364" y="2536889"/>
                  <a:pt x="251460" y="2545080"/>
                </a:cubicBezTo>
                <a:cubicBezTo>
                  <a:pt x="256540" y="2555240"/>
                  <a:pt x="260098" y="2566317"/>
                  <a:pt x="266700" y="2575560"/>
                </a:cubicBezTo>
                <a:cubicBezTo>
                  <a:pt x="294787" y="2614882"/>
                  <a:pt x="284643" y="2580967"/>
                  <a:pt x="304800" y="2621280"/>
                </a:cubicBezTo>
                <a:cubicBezTo>
                  <a:pt x="308392" y="2628464"/>
                  <a:pt x="308828" y="2636956"/>
                  <a:pt x="312420" y="2644140"/>
                </a:cubicBezTo>
                <a:cubicBezTo>
                  <a:pt x="316516" y="2652331"/>
                  <a:pt x="323564" y="2658809"/>
                  <a:pt x="327660" y="2667000"/>
                </a:cubicBezTo>
                <a:cubicBezTo>
                  <a:pt x="364942" y="2741565"/>
                  <a:pt x="322832" y="2674998"/>
                  <a:pt x="358140" y="2727960"/>
                </a:cubicBezTo>
                <a:cubicBezTo>
                  <a:pt x="370202" y="2776209"/>
                  <a:pt x="359951" y="2749726"/>
                  <a:pt x="396240" y="2804160"/>
                </a:cubicBezTo>
                <a:cubicBezTo>
                  <a:pt x="401320" y="2811780"/>
                  <a:pt x="405004" y="2820544"/>
                  <a:pt x="411480" y="2827020"/>
                </a:cubicBezTo>
                <a:cubicBezTo>
                  <a:pt x="419100" y="2834640"/>
                  <a:pt x="428076" y="2841111"/>
                  <a:pt x="434340" y="2849880"/>
                </a:cubicBezTo>
                <a:cubicBezTo>
                  <a:pt x="464405" y="2891971"/>
                  <a:pt x="432583" y="2878603"/>
                  <a:pt x="480060" y="2926080"/>
                </a:cubicBezTo>
                <a:lnTo>
                  <a:pt x="548640" y="2994660"/>
                </a:lnTo>
                <a:cubicBezTo>
                  <a:pt x="556260" y="3002280"/>
                  <a:pt x="565522" y="3008554"/>
                  <a:pt x="571500" y="3017520"/>
                </a:cubicBezTo>
                <a:cubicBezTo>
                  <a:pt x="587177" y="3041036"/>
                  <a:pt x="586783" y="3043683"/>
                  <a:pt x="609600" y="3063240"/>
                </a:cubicBezTo>
                <a:cubicBezTo>
                  <a:pt x="640206" y="3089474"/>
                  <a:pt x="660147" y="3093340"/>
                  <a:pt x="685800" y="3131820"/>
                </a:cubicBezTo>
                <a:cubicBezTo>
                  <a:pt x="721716" y="3185694"/>
                  <a:pt x="676642" y="3118999"/>
                  <a:pt x="723900" y="3185160"/>
                </a:cubicBezTo>
                <a:cubicBezTo>
                  <a:pt x="729223" y="3192612"/>
                  <a:pt x="735044" y="3199829"/>
                  <a:pt x="739140" y="3208020"/>
                </a:cubicBezTo>
                <a:cubicBezTo>
                  <a:pt x="742732" y="3215204"/>
                  <a:pt x="743168" y="3223696"/>
                  <a:pt x="746760" y="3230880"/>
                </a:cubicBezTo>
                <a:cubicBezTo>
                  <a:pt x="750856" y="3239071"/>
                  <a:pt x="757456" y="3245789"/>
                  <a:pt x="762000" y="3253740"/>
                </a:cubicBezTo>
                <a:cubicBezTo>
                  <a:pt x="767636" y="3263603"/>
                  <a:pt x="770638" y="3274977"/>
                  <a:pt x="777240" y="3284220"/>
                </a:cubicBezTo>
                <a:cubicBezTo>
                  <a:pt x="783504" y="3292989"/>
                  <a:pt x="793201" y="3298801"/>
                  <a:pt x="800100" y="3307080"/>
                </a:cubicBezTo>
                <a:cubicBezTo>
                  <a:pt x="831850" y="3345180"/>
                  <a:pt x="796290" y="3317240"/>
                  <a:pt x="838200" y="3345180"/>
                </a:cubicBezTo>
                <a:cubicBezTo>
                  <a:pt x="878840" y="3406140"/>
                  <a:pt x="825500" y="3332480"/>
                  <a:pt x="876300" y="3383280"/>
                </a:cubicBezTo>
                <a:cubicBezTo>
                  <a:pt x="927100" y="3434080"/>
                  <a:pt x="853440" y="3380740"/>
                  <a:pt x="914400" y="3421380"/>
                </a:cubicBezTo>
                <a:cubicBezTo>
                  <a:pt x="941595" y="3462173"/>
                  <a:pt x="923164" y="3437764"/>
                  <a:pt x="975360" y="3489960"/>
                </a:cubicBezTo>
                <a:cubicBezTo>
                  <a:pt x="982980" y="3497580"/>
                  <a:pt x="989254" y="3506842"/>
                  <a:pt x="998220" y="3512820"/>
                </a:cubicBezTo>
                <a:cubicBezTo>
                  <a:pt x="1005840" y="3517900"/>
                  <a:pt x="1014045" y="3522197"/>
                  <a:pt x="1021080" y="3528060"/>
                </a:cubicBezTo>
                <a:cubicBezTo>
                  <a:pt x="1079752" y="3576953"/>
                  <a:pt x="1010043" y="3528322"/>
                  <a:pt x="1066800" y="3566160"/>
                </a:cubicBezTo>
                <a:cubicBezTo>
                  <a:pt x="1107440" y="3627120"/>
                  <a:pt x="1054100" y="3553460"/>
                  <a:pt x="1104900" y="3604260"/>
                </a:cubicBezTo>
                <a:cubicBezTo>
                  <a:pt x="1111376" y="3610736"/>
                  <a:pt x="1113248" y="3621089"/>
                  <a:pt x="1120140" y="3627120"/>
                </a:cubicBezTo>
                <a:lnTo>
                  <a:pt x="1188720" y="3672840"/>
                </a:lnTo>
                <a:cubicBezTo>
                  <a:pt x="1196340" y="3677920"/>
                  <a:pt x="1205104" y="3681604"/>
                  <a:pt x="1211580" y="3688080"/>
                </a:cubicBezTo>
                <a:cubicBezTo>
                  <a:pt x="1247392" y="3723892"/>
                  <a:pt x="1225474" y="3704962"/>
                  <a:pt x="1280160" y="3741420"/>
                </a:cubicBezTo>
                <a:lnTo>
                  <a:pt x="1371600" y="3802380"/>
                </a:lnTo>
                <a:lnTo>
                  <a:pt x="1440180" y="3848100"/>
                </a:lnTo>
                <a:cubicBezTo>
                  <a:pt x="1447800" y="3853180"/>
                  <a:pt x="1454155" y="3861119"/>
                  <a:pt x="1463040" y="3863340"/>
                </a:cubicBezTo>
                <a:lnTo>
                  <a:pt x="1493520" y="3870960"/>
                </a:lnTo>
                <a:cubicBezTo>
                  <a:pt x="1501140" y="3876040"/>
                  <a:pt x="1508011" y="3882481"/>
                  <a:pt x="1516380" y="3886200"/>
                </a:cubicBezTo>
                <a:cubicBezTo>
                  <a:pt x="1531060" y="3892724"/>
                  <a:pt x="1548734" y="3892529"/>
                  <a:pt x="1562100" y="3901440"/>
                </a:cubicBezTo>
                <a:cubicBezTo>
                  <a:pt x="1569720" y="3906520"/>
                  <a:pt x="1576769" y="3912584"/>
                  <a:pt x="1584960" y="3916680"/>
                </a:cubicBezTo>
                <a:cubicBezTo>
                  <a:pt x="1592144" y="3920272"/>
                  <a:pt x="1600799" y="3920399"/>
                  <a:pt x="1607820" y="3924300"/>
                </a:cubicBezTo>
                <a:cubicBezTo>
                  <a:pt x="1623831" y="3933195"/>
                  <a:pt x="1636164" y="3948988"/>
                  <a:pt x="1653540" y="3954780"/>
                </a:cubicBezTo>
                <a:lnTo>
                  <a:pt x="1722120" y="3977640"/>
                </a:lnTo>
                <a:lnTo>
                  <a:pt x="1744980" y="3985260"/>
                </a:lnTo>
                <a:lnTo>
                  <a:pt x="1767840" y="3992880"/>
                </a:lnTo>
                <a:cubicBezTo>
                  <a:pt x="1781607" y="3991350"/>
                  <a:pt x="1843803" y="3987539"/>
                  <a:pt x="1866900" y="3977640"/>
                </a:cubicBezTo>
                <a:cubicBezTo>
                  <a:pt x="1875318" y="3974032"/>
                  <a:pt x="1882140" y="3967480"/>
                  <a:pt x="1889760" y="3962400"/>
                </a:cubicBezTo>
                <a:cubicBezTo>
                  <a:pt x="1935814" y="3870292"/>
                  <a:pt x="1877158" y="3984453"/>
                  <a:pt x="1920240" y="3909060"/>
                </a:cubicBezTo>
                <a:cubicBezTo>
                  <a:pt x="1925876" y="3899197"/>
                  <a:pt x="1929460" y="3888213"/>
                  <a:pt x="1935480" y="3878580"/>
                </a:cubicBezTo>
                <a:cubicBezTo>
                  <a:pt x="1944109" y="3864774"/>
                  <a:pt x="1965520" y="3841360"/>
                  <a:pt x="1973580" y="3825240"/>
                </a:cubicBezTo>
                <a:cubicBezTo>
                  <a:pt x="1979982" y="3812436"/>
                  <a:pt x="1985158" y="3784107"/>
                  <a:pt x="1988820" y="3771900"/>
                </a:cubicBezTo>
                <a:cubicBezTo>
                  <a:pt x="1993436" y="3756513"/>
                  <a:pt x="2000164" y="3741765"/>
                  <a:pt x="2004060" y="3726180"/>
                </a:cubicBezTo>
                <a:cubicBezTo>
                  <a:pt x="2006600" y="3716020"/>
                  <a:pt x="2008803" y="3705770"/>
                  <a:pt x="2011680" y="3695700"/>
                </a:cubicBezTo>
                <a:cubicBezTo>
                  <a:pt x="2013887" y="3687977"/>
                  <a:pt x="2017352" y="3680632"/>
                  <a:pt x="2019300" y="3672840"/>
                </a:cubicBezTo>
                <a:cubicBezTo>
                  <a:pt x="2022441" y="3660275"/>
                  <a:pt x="2024110" y="3647383"/>
                  <a:pt x="2026920" y="3634740"/>
                </a:cubicBezTo>
                <a:cubicBezTo>
                  <a:pt x="2029192" y="3624517"/>
                  <a:pt x="2032268" y="3614483"/>
                  <a:pt x="2034540" y="3604260"/>
                </a:cubicBezTo>
                <a:cubicBezTo>
                  <a:pt x="2037350" y="3591617"/>
                  <a:pt x="2039019" y="3578725"/>
                  <a:pt x="2042160" y="3566160"/>
                </a:cubicBezTo>
                <a:cubicBezTo>
                  <a:pt x="2049308" y="3537568"/>
                  <a:pt x="2051935" y="3543351"/>
                  <a:pt x="2065020" y="3512820"/>
                </a:cubicBezTo>
                <a:cubicBezTo>
                  <a:pt x="2068184" y="3505437"/>
                  <a:pt x="2069820" y="3497481"/>
                  <a:pt x="2072640" y="3489960"/>
                </a:cubicBezTo>
                <a:cubicBezTo>
                  <a:pt x="2077443" y="3477153"/>
                  <a:pt x="2082800" y="3464560"/>
                  <a:pt x="2087880" y="3451860"/>
                </a:cubicBezTo>
                <a:cubicBezTo>
                  <a:pt x="2090420" y="3436620"/>
                  <a:pt x="2091435" y="3421046"/>
                  <a:pt x="2095500" y="3406140"/>
                </a:cubicBezTo>
                <a:cubicBezTo>
                  <a:pt x="2099099" y="3392944"/>
                  <a:pt x="2106066" y="3380895"/>
                  <a:pt x="2110740" y="3368040"/>
                </a:cubicBezTo>
                <a:cubicBezTo>
                  <a:pt x="2116230" y="3352943"/>
                  <a:pt x="2120014" y="3337235"/>
                  <a:pt x="2125980" y="3322320"/>
                </a:cubicBezTo>
                <a:cubicBezTo>
                  <a:pt x="2136140" y="3296920"/>
                  <a:pt x="2151095" y="3272945"/>
                  <a:pt x="2156460" y="3246120"/>
                </a:cubicBezTo>
                <a:cubicBezTo>
                  <a:pt x="2159000" y="3233420"/>
                  <a:pt x="2160672" y="3220515"/>
                  <a:pt x="2164080" y="3208020"/>
                </a:cubicBezTo>
                <a:cubicBezTo>
                  <a:pt x="2174753" y="3168887"/>
                  <a:pt x="2180926" y="3160558"/>
                  <a:pt x="2194560" y="3124200"/>
                </a:cubicBezTo>
                <a:cubicBezTo>
                  <a:pt x="2208081" y="3088145"/>
                  <a:pt x="2194299" y="3113162"/>
                  <a:pt x="2217420" y="3078480"/>
                </a:cubicBezTo>
                <a:cubicBezTo>
                  <a:pt x="2219960" y="3068320"/>
                  <a:pt x="2220915" y="3057626"/>
                  <a:pt x="2225040" y="3048000"/>
                </a:cubicBezTo>
                <a:cubicBezTo>
                  <a:pt x="2235056" y="3024629"/>
                  <a:pt x="2246985" y="3021666"/>
                  <a:pt x="2263140" y="3002280"/>
                </a:cubicBezTo>
                <a:cubicBezTo>
                  <a:pt x="2269003" y="2995245"/>
                  <a:pt x="2274284" y="2987611"/>
                  <a:pt x="2278380" y="2979420"/>
                </a:cubicBezTo>
                <a:cubicBezTo>
                  <a:pt x="2281972" y="2972236"/>
                  <a:pt x="2282099" y="2963581"/>
                  <a:pt x="2286000" y="2956560"/>
                </a:cubicBezTo>
                <a:cubicBezTo>
                  <a:pt x="2294895" y="2940549"/>
                  <a:pt x="2306320" y="2926080"/>
                  <a:pt x="2316480" y="2910840"/>
                </a:cubicBezTo>
                <a:lnTo>
                  <a:pt x="2331720" y="2887980"/>
                </a:lnTo>
                <a:cubicBezTo>
                  <a:pt x="2336800" y="2880360"/>
                  <a:pt x="2341465" y="2872446"/>
                  <a:pt x="2346960" y="2865120"/>
                </a:cubicBezTo>
                <a:cubicBezTo>
                  <a:pt x="2354580" y="2854960"/>
                  <a:pt x="2360840" y="2843620"/>
                  <a:pt x="2369820" y="2834640"/>
                </a:cubicBezTo>
                <a:cubicBezTo>
                  <a:pt x="2376296" y="2828164"/>
                  <a:pt x="2385060" y="2824480"/>
                  <a:pt x="2392680" y="2819400"/>
                </a:cubicBezTo>
                <a:cubicBezTo>
                  <a:pt x="2410151" y="2766986"/>
                  <a:pt x="2386254" y="2830645"/>
                  <a:pt x="2423160" y="2766060"/>
                </a:cubicBezTo>
                <a:cubicBezTo>
                  <a:pt x="2427145" y="2759086"/>
                  <a:pt x="2427188" y="2750384"/>
                  <a:pt x="2430780" y="2743200"/>
                </a:cubicBezTo>
                <a:cubicBezTo>
                  <a:pt x="2434876" y="2735009"/>
                  <a:pt x="2442498" y="2728794"/>
                  <a:pt x="2446020" y="2720340"/>
                </a:cubicBezTo>
                <a:cubicBezTo>
                  <a:pt x="2455288" y="2698097"/>
                  <a:pt x="2458104" y="2673313"/>
                  <a:pt x="2468880" y="2651760"/>
                </a:cubicBezTo>
                <a:lnTo>
                  <a:pt x="2506980" y="2575560"/>
                </a:lnTo>
                <a:cubicBezTo>
                  <a:pt x="2512060" y="2565400"/>
                  <a:pt x="2515919" y="2554531"/>
                  <a:pt x="2522220" y="2545080"/>
                </a:cubicBezTo>
                <a:cubicBezTo>
                  <a:pt x="2527300" y="2537460"/>
                  <a:pt x="2533364" y="2530411"/>
                  <a:pt x="2537460" y="2522220"/>
                </a:cubicBezTo>
                <a:cubicBezTo>
                  <a:pt x="2541052" y="2515036"/>
                  <a:pt x="2541179" y="2506381"/>
                  <a:pt x="2545080" y="2499360"/>
                </a:cubicBezTo>
                <a:cubicBezTo>
                  <a:pt x="2594086" y="2411149"/>
                  <a:pt x="2555226" y="2486316"/>
                  <a:pt x="2598420" y="2430780"/>
                </a:cubicBezTo>
                <a:cubicBezTo>
                  <a:pt x="2646289" y="2369234"/>
                  <a:pt x="2607505" y="2399323"/>
                  <a:pt x="2651760" y="2369820"/>
                </a:cubicBezTo>
                <a:cubicBezTo>
                  <a:pt x="2656840" y="2362200"/>
                  <a:pt x="2660524" y="2353436"/>
                  <a:pt x="2667000" y="2346960"/>
                </a:cubicBezTo>
                <a:cubicBezTo>
                  <a:pt x="2673476" y="2340484"/>
                  <a:pt x="2685006" y="2339486"/>
                  <a:pt x="2689860" y="2331720"/>
                </a:cubicBezTo>
                <a:cubicBezTo>
                  <a:pt x="2700222" y="2315141"/>
                  <a:pt x="2706543" y="2276110"/>
                  <a:pt x="2712720" y="2255520"/>
                </a:cubicBezTo>
                <a:cubicBezTo>
                  <a:pt x="2717336" y="2240133"/>
                  <a:pt x="2724064" y="2225385"/>
                  <a:pt x="2727960" y="2209800"/>
                </a:cubicBezTo>
                <a:lnTo>
                  <a:pt x="2743200" y="2148840"/>
                </a:lnTo>
                <a:cubicBezTo>
                  <a:pt x="2740660" y="2085340"/>
                  <a:pt x="2740108" y="2021729"/>
                  <a:pt x="2735580" y="1958340"/>
                </a:cubicBezTo>
                <a:cubicBezTo>
                  <a:pt x="2735008" y="1950328"/>
                  <a:pt x="2730167" y="1943203"/>
                  <a:pt x="2727960" y="1935480"/>
                </a:cubicBezTo>
                <a:cubicBezTo>
                  <a:pt x="2725083" y="1925410"/>
                  <a:pt x="2724465" y="1914626"/>
                  <a:pt x="2720340" y="1905000"/>
                </a:cubicBezTo>
                <a:cubicBezTo>
                  <a:pt x="2716732" y="1896582"/>
                  <a:pt x="2710180" y="1889760"/>
                  <a:pt x="2705100" y="1882140"/>
                </a:cubicBezTo>
                <a:cubicBezTo>
                  <a:pt x="2687639" y="1812295"/>
                  <a:pt x="2701478" y="1838608"/>
                  <a:pt x="2674620" y="1798320"/>
                </a:cubicBezTo>
                <a:cubicBezTo>
                  <a:pt x="2672080" y="1785620"/>
                  <a:pt x="2669129" y="1772995"/>
                  <a:pt x="2667000" y="1760220"/>
                </a:cubicBezTo>
                <a:cubicBezTo>
                  <a:pt x="2664047" y="1742504"/>
                  <a:pt x="2662593" y="1724551"/>
                  <a:pt x="2659380" y="1706880"/>
                </a:cubicBezTo>
                <a:cubicBezTo>
                  <a:pt x="2649878" y="1654618"/>
                  <a:pt x="2655021" y="1697065"/>
                  <a:pt x="2644140" y="1653540"/>
                </a:cubicBezTo>
                <a:cubicBezTo>
                  <a:pt x="2640999" y="1640975"/>
                  <a:pt x="2641879" y="1627231"/>
                  <a:pt x="2636520" y="1615440"/>
                </a:cubicBezTo>
                <a:cubicBezTo>
                  <a:pt x="2628941" y="1598766"/>
                  <a:pt x="2616200" y="1584960"/>
                  <a:pt x="2606040" y="1569720"/>
                </a:cubicBezTo>
                <a:cubicBezTo>
                  <a:pt x="2600960" y="1562100"/>
                  <a:pt x="2593696" y="1555548"/>
                  <a:pt x="2590800" y="1546860"/>
                </a:cubicBezTo>
                <a:cubicBezTo>
                  <a:pt x="2580284" y="1515312"/>
                  <a:pt x="2587635" y="1530683"/>
                  <a:pt x="2567940" y="1501140"/>
                </a:cubicBezTo>
                <a:cubicBezTo>
                  <a:pt x="2565499" y="1491374"/>
                  <a:pt x="2558166" y="1458732"/>
                  <a:pt x="2552700" y="1447800"/>
                </a:cubicBezTo>
                <a:cubicBezTo>
                  <a:pt x="2548604" y="1439609"/>
                  <a:pt x="2542540" y="1432560"/>
                  <a:pt x="2537460" y="1424940"/>
                </a:cubicBezTo>
                <a:cubicBezTo>
                  <a:pt x="2532380" y="1404620"/>
                  <a:pt x="2531587" y="1382714"/>
                  <a:pt x="2522220" y="1363980"/>
                </a:cubicBezTo>
                <a:cubicBezTo>
                  <a:pt x="2517140" y="1353820"/>
                  <a:pt x="2510968" y="1344136"/>
                  <a:pt x="2506980" y="1333500"/>
                </a:cubicBezTo>
                <a:cubicBezTo>
                  <a:pt x="2503303" y="1323694"/>
                  <a:pt x="2502237" y="1313090"/>
                  <a:pt x="2499360" y="1303020"/>
                </a:cubicBezTo>
                <a:cubicBezTo>
                  <a:pt x="2497153" y="1295297"/>
                  <a:pt x="2493688" y="1287952"/>
                  <a:pt x="2491740" y="1280160"/>
                </a:cubicBezTo>
                <a:cubicBezTo>
                  <a:pt x="2488599" y="1267595"/>
                  <a:pt x="2487261" y="1254625"/>
                  <a:pt x="2484120" y="1242060"/>
                </a:cubicBezTo>
                <a:cubicBezTo>
                  <a:pt x="2482172" y="1234268"/>
                  <a:pt x="2478707" y="1226923"/>
                  <a:pt x="2476500" y="1219200"/>
                </a:cubicBezTo>
                <a:cubicBezTo>
                  <a:pt x="2473623" y="1209130"/>
                  <a:pt x="2471757" y="1198790"/>
                  <a:pt x="2468880" y="1188720"/>
                </a:cubicBezTo>
                <a:cubicBezTo>
                  <a:pt x="2458179" y="1151267"/>
                  <a:pt x="2462124" y="1176071"/>
                  <a:pt x="2446020" y="1127760"/>
                </a:cubicBezTo>
                <a:cubicBezTo>
                  <a:pt x="2442708" y="1117825"/>
                  <a:pt x="2440672" y="1107503"/>
                  <a:pt x="2438400" y="1097280"/>
                </a:cubicBezTo>
                <a:cubicBezTo>
                  <a:pt x="2435590" y="1084637"/>
                  <a:pt x="2434876" y="1071467"/>
                  <a:pt x="2430780" y="1059180"/>
                </a:cubicBezTo>
                <a:cubicBezTo>
                  <a:pt x="2427188" y="1048404"/>
                  <a:pt x="2419528" y="1039336"/>
                  <a:pt x="2415540" y="1028700"/>
                </a:cubicBezTo>
                <a:cubicBezTo>
                  <a:pt x="2411863" y="1018894"/>
                  <a:pt x="2410797" y="1008290"/>
                  <a:pt x="2407920" y="998220"/>
                </a:cubicBezTo>
                <a:cubicBezTo>
                  <a:pt x="2405713" y="990497"/>
                  <a:pt x="2402840" y="982980"/>
                  <a:pt x="2400300" y="975360"/>
                </a:cubicBezTo>
                <a:cubicBezTo>
                  <a:pt x="2397760" y="957580"/>
                  <a:pt x="2394259" y="939911"/>
                  <a:pt x="2392680" y="922020"/>
                </a:cubicBezTo>
                <a:cubicBezTo>
                  <a:pt x="2378377" y="759917"/>
                  <a:pt x="2384153" y="762360"/>
                  <a:pt x="2369820" y="647700"/>
                </a:cubicBezTo>
                <a:cubicBezTo>
                  <a:pt x="2368612" y="638032"/>
                  <a:pt x="2357758" y="561351"/>
                  <a:pt x="2354580" y="548640"/>
                </a:cubicBezTo>
                <a:cubicBezTo>
                  <a:pt x="2350684" y="533055"/>
                  <a:pt x="2348251" y="516286"/>
                  <a:pt x="2339340" y="502920"/>
                </a:cubicBezTo>
                <a:lnTo>
                  <a:pt x="2308860" y="457200"/>
                </a:lnTo>
                <a:cubicBezTo>
                  <a:pt x="2303780" y="449580"/>
                  <a:pt x="2296516" y="443028"/>
                  <a:pt x="2293620" y="434340"/>
                </a:cubicBezTo>
                <a:cubicBezTo>
                  <a:pt x="2274467" y="376881"/>
                  <a:pt x="2300303" y="447706"/>
                  <a:pt x="2270760" y="388620"/>
                </a:cubicBezTo>
                <a:cubicBezTo>
                  <a:pt x="2267168" y="381436"/>
                  <a:pt x="2267041" y="372781"/>
                  <a:pt x="2263140" y="365760"/>
                </a:cubicBezTo>
                <a:cubicBezTo>
                  <a:pt x="2254245" y="349749"/>
                  <a:pt x="2242820" y="335280"/>
                  <a:pt x="2232660" y="320040"/>
                </a:cubicBezTo>
                <a:cubicBezTo>
                  <a:pt x="2227580" y="312420"/>
                  <a:pt x="2225040" y="302260"/>
                  <a:pt x="2217420" y="297180"/>
                </a:cubicBezTo>
                <a:lnTo>
                  <a:pt x="2194560" y="281940"/>
                </a:lnTo>
                <a:cubicBezTo>
                  <a:pt x="2153920" y="220980"/>
                  <a:pt x="2207260" y="294640"/>
                  <a:pt x="2156460" y="243840"/>
                </a:cubicBezTo>
                <a:cubicBezTo>
                  <a:pt x="2149984" y="237364"/>
                  <a:pt x="2145316" y="229171"/>
                  <a:pt x="2141220" y="220980"/>
                </a:cubicBezTo>
                <a:cubicBezTo>
                  <a:pt x="2137628" y="213796"/>
                  <a:pt x="2139280" y="203800"/>
                  <a:pt x="2133600" y="198120"/>
                </a:cubicBezTo>
                <a:lnTo>
                  <a:pt x="2133600" y="152400"/>
                </a:lnTo>
                <a:close/>
              </a:path>
            </a:pathLst>
          </a:custGeom>
          <a:no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9" name="Freeform: Shape 22"/>
          <p:cNvSpPr/>
          <p:nvPr/>
        </p:nvSpPr>
        <p:spPr>
          <a:xfrm>
            <a:off x="2689200" y="3200400"/>
            <a:ext cx="3940200" cy="2925720"/>
          </a:xfrm>
          <a:custGeom>
            <a:avLst/>
            <a:gdLst/>
            <a:ahLst/>
            <a:rect l="l" t="t" r="r" b="b"/>
            <a:pathLst>
              <a:path w="3939540" h="2926080">
                <a:moveTo>
                  <a:pt x="3604260" y="2164080"/>
                </a:moveTo>
                <a:lnTo>
                  <a:pt x="3604260" y="2164080"/>
                </a:lnTo>
                <a:cubicBezTo>
                  <a:pt x="3589020" y="2181860"/>
                  <a:pt x="3573169" y="2199134"/>
                  <a:pt x="3558540" y="2217420"/>
                </a:cubicBezTo>
                <a:cubicBezTo>
                  <a:pt x="3552819" y="2224571"/>
                  <a:pt x="3550192" y="2234249"/>
                  <a:pt x="3543300" y="2240280"/>
                </a:cubicBezTo>
                <a:cubicBezTo>
                  <a:pt x="3529516" y="2252341"/>
                  <a:pt x="3512820" y="2260600"/>
                  <a:pt x="3497580" y="2270760"/>
                </a:cubicBezTo>
                <a:cubicBezTo>
                  <a:pt x="3489960" y="2275840"/>
                  <a:pt x="3481196" y="2279524"/>
                  <a:pt x="3474720" y="2286000"/>
                </a:cubicBezTo>
                <a:cubicBezTo>
                  <a:pt x="3459480" y="2301240"/>
                  <a:pt x="3448277" y="2322081"/>
                  <a:pt x="3429000" y="2331720"/>
                </a:cubicBezTo>
                <a:cubicBezTo>
                  <a:pt x="3418840" y="2336800"/>
                  <a:pt x="3408961" y="2342485"/>
                  <a:pt x="3398520" y="2346960"/>
                </a:cubicBezTo>
                <a:cubicBezTo>
                  <a:pt x="3391137" y="2350124"/>
                  <a:pt x="3383181" y="2351760"/>
                  <a:pt x="3375660" y="2354580"/>
                </a:cubicBezTo>
                <a:cubicBezTo>
                  <a:pt x="3362853" y="2359383"/>
                  <a:pt x="3350415" y="2365146"/>
                  <a:pt x="3337560" y="2369820"/>
                </a:cubicBezTo>
                <a:cubicBezTo>
                  <a:pt x="3322463" y="2375310"/>
                  <a:pt x="3306208" y="2377876"/>
                  <a:pt x="3291840" y="2385060"/>
                </a:cubicBezTo>
                <a:cubicBezTo>
                  <a:pt x="3281680" y="2390140"/>
                  <a:pt x="3271100" y="2394456"/>
                  <a:pt x="3261360" y="2400300"/>
                </a:cubicBezTo>
                <a:cubicBezTo>
                  <a:pt x="3245654" y="2409724"/>
                  <a:pt x="3231093" y="2420946"/>
                  <a:pt x="3215640" y="2430780"/>
                </a:cubicBezTo>
                <a:cubicBezTo>
                  <a:pt x="3195770" y="2443425"/>
                  <a:pt x="3169335" y="2459334"/>
                  <a:pt x="3147060" y="2468880"/>
                </a:cubicBezTo>
                <a:cubicBezTo>
                  <a:pt x="3128790" y="2476710"/>
                  <a:pt x="3113054" y="2478596"/>
                  <a:pt x="3093720" y="2484120"/>
                </a:cubicBezTo>
                <a:cubicBezTo>
                  <a:pt x="3085997" y="2486327"/>
                  <a:pt x="3078044" y="2488148"/>
                  <a:pt x="3070860" y="2491740"/>
                </a:cubicBezTo>
                <a:cubicBezTo>
                  <a:pt x="3043914" y="2505213"/>
                  <a:pt x="3048733" y="2509617"/>
                  <a:pt x="3025140" y="2529840"/>
                </a:cubicBezTo>
                <a:cubicBezTo>
                  <a:pt x="3015497" y="2538105"/>
                  <a:pt x="3005762" y="2546532"/>
                  <a:pt x="2994660" y="2552700"/>
                </a:cubicBezTo>
                <a:cubicBezTo>
                  <a:pt x="2974269" y="2564028"/>
                  <a:pt x="2954758" y="2567663"/>
                  <a:pt x="2933700" y="2575560"/>
                </a:cubicBezTo>
                <a:cubicBezTo>
                  <a:pt x="2876414" y="2597042"/>
                  <a:pt x="2915793" y="2586761"/>
                  <a:pt x="2857500" y="2598420"/>
                </a:cubicBezTo>
                <a:cubicBezTo>
                  <a:pt x="2837180" y="2608580"/>
                  <a:pt x="2815443" y="2616298"/>
                  <a:pt x="2796540" y="2628900"/>
                </a:cubicBezTo>
                <a:cubicBezTo>
                  <a:pt x="2781300" y="2639060"/>
                  <a:pt x="2765473" y="2648390"/>
                  <a:pt x="2750820" y="2659380"/>
                </a:cubicBezTo>
                <a:cubicBezTo>
                  <a:pt x="2740660" y="2667000"/>
                  <a:pt x="2731367" y="2675939"/>
                  <a:pt x="2720340" y="2682240"/>
                </a:cubicBezTo>
                <a:cubicBezTo>
                  <a:pt x="2713366" y="2686225"/>
                  <a:pt x="2704863" y="2686696"/>
                  <a:pt x="2697480" y="2689860"/>
                </a:cubicBezTo>
                <a:cubicBezTo>
                  <a:pt x="2642271" y="2713521"/>
                  <a:pt x="2693126" y="2699875"/>
                  <a:pt x="2628900" y="2712720"/>
                </a:cubicBezTo>
                <a:cubicBezTo>
                  <a:pt x="2601807" y="2726267"/>
                  <a:pt x="2601722" y="2728105"/>
                  <a:pt x="2575560" y="2735580"/>
                </a:cubicBezTo>
                <a:cubicBezTo>
                  <a:pt x="2565490" y="2738457"/>
                  <a:pt x="2555303" y="2740928"/>
                  <a:pt x="2545080" y="2743200"/>
                </a:cubicBezTo>
                <a:cubicBezTo>
                  <a:pt x="2532437" y="2746010"/>
                  <a:pt x="2519475" y="2747412"/>
                  <a:pt x="2506980" y="2750820"/>
                </a:cubicBezTo>
                <a:cubicBezTo>
                  <a:pt x="2491482" y="2755047"/>
                  <a:pt x="2477106" y="2763419"/>
                  <a:pt x="2461260" y="2766060"/>
                </a:cubicBezTo>
                <a:cubicBezTo>
                  <a:pt x="2430780" y="2771140"/>
                  <a:pt x="2400120" y="2775240"/>
                  <a:pt x="2369820" y="2781300"/>
                </a:cubicBezTo>
                <a:lnTo>
                  <a:pt x="2331720" y="2788920"/>
                </a:lnTo>
                <a:cubicBezTo>
                  <a:pt x="2316519" y="2791684"/>
                  <a:pt x="2301150" y="2793510"/>
                  <a:pt x="2286000" y="2796540"/>
                </a:cubicBezTo>
                <a:cubicBezTo>
                  <a:pt x="2275731" y="2798594"/>
                  <a:pt x="2265590" y="2801283"/>
                  <a:pt x="2255520" y="2804160"/>
                </a:cubicBezTo>
                <a:cubicBezTo>
                  <a:pt x="2247797" y="2806367"/>
                  <a:pt x="2240501" y="2810038"/>
                  <a:pt x="2232660" y="2811780"/>
                </a:cubicBezTo>
                <a:cubicBezTo>
                  <a:pt x="2217578" y="2815132"/>
                  <a:pt x="2202022" y="2816048"/>
                  <a:pt x="2186940" y="2819400"/>
                </a:cubicBezTo>
                <a:cubicBezTo>
                  <a:pt x="2179099" y="2821142"/>
                  <a:pt x="2171872" y="2825072"/>
                  <a:pt x="2164080" y="2827020"/>
                </a:cubicBezTo>
                <a:cubicBezTo>
                  <a:pt x="2151515" y="2830161"/>
                  <a:pt x="2138545" y="2831499"/>
                  <a:pt x="2125980" y="2834640"/>
                </a:cubicBezTo>
                <a:cubicBezTo>
                  <a:pt x="2107962" y="2839145"/>
                  <a:pt x="2088217" y="2848154"/>
                  <a:pt x="2072640" y="2857500"/>
                </a:cubicBezTo>
                <a:cubicBezTo>
                  <a:pt x="2056934" y="2866924"/>
                  <a:pt x="2044296" y="2882188"/>
                  <a:pt x="2026920" y="2887980"/>
                </a:cubicBezTo>
                <a:cubicBezTo>
                  <a:pt x="2011680" y="2893060"/>
                  <a:pt x="1994566" y="2894309"/>
                  <a:pt x="1981200" y="2903220"/>
                </a:cubicBezTo>
                <a:cubicBezTo>
                  <a:pt x="1951657" y="2922915"/>
                  <a:pt x="1967028" y="2915564"/>
                  <a:pt x="1935480" y="2926080"/>
                </a:cubicBezTo>
                <a:cubicBezTo>
                  <a:pt x="1879600" y="2923540"/>
                  <a:pt x="1823379" y="2925125"/>
                  <a:pt x="1767840" y="2918460"/>
                </a:cubicBezTo>
                <a:cubicBezTo>
                  <a:pt x="1758747" y="2917369"/>
                  <a:pt x="1752931" y="2907764"/>
                  <a:pt x="1744980" y="2903220"/>
                </a:cubicBezTo>
                <a:cubicBezTo>
                  <a:pt x="1735117" y="2897584"/>
                  <a:pt x="1724430" y="2893497"/>
                  <a:pt x="1714500" y="2887980"/>
                </a:cubicBezTo>
                <a:cubicBezTo>
                  <a:pt x="1701553" y="2880787"/>
                  <a:pt x="1689647" y="2871744"/>
                  <a:pt x="1676400" y="2865120"/>
                </a:cubicBezTo>
                <a:cubicBezTo>
                  <a:pt x="1669216" y="2861528"/>
                  <a:pt x="1661061" y="2860320"/>
                  <a:pt x="1653540" y="2857500"/>
                </a:cubicBezTo>
                <a:cubicBezTo>
                  <a:pt x="1614623" y="2842906"/>
                  <a:pt x="1619594" y="2844337"/>
                  <a:pt x="1584960" y="2827020"/>
                </a:cubicBezTo>
                <a:cubicBezTo>
                  <a:pt x="1544320" y="2766060"/>
                  <a:pt x="1597660" y="2839720"/>
                  <a:pt x="1546860" y="2788920"/>
                </a:cubicBezTo>
                <a:cubicBezTo>
                  <a:pt x="1540384" y="2782444"/>
                  <a:pt x="1538771" y="2771781"/>
                  <a:pt x="1531620" y="2766060"/>
                </a:cubicBezTo>
                <a:cubicBezTo>
                  <a:pt x="1525348" y="2761042"/>
                  <a:pt x="1515944" y="2762032"/>
                  <a:pt x="1508760" y="2758440"/>
                </a:cubicBezTo>
                <a:cubicBezTo>
                  <a:pt x="1500569" y="2754344"/>
                  <a:pt x="1493851" y="2747744"/>
                  <a:pt x="1485900" y="2743200"/>
                </a:cubicBezTo>
                <a:cubicBezTo>
                  <a:pt x="1476037" y="2737564"/>
                  <a:pt x="1465283" y="2733596"/>
                  <a:pt x="1455420" y="2727960"/>
                </a:cubicBezTo>
                <a:cubicBezTo>
                  <a:pt x="1394950" y="2693406"/>
                  <a:pt x="1472741" y="2734889"/>
                  <a:pt x="1409700" y="2689860"/>
                </a:cubicBezTo>
                <a:cubicBezTo>
                  <a:pt x="1384428" y="2671808"/>
                  <a:pt x="1381234" y="2677660"/>
                  <a:pt x="1356360" y="2667000"/>
                </a:cubicBezTo>
                <a:cubicBezTo>
                  <a:pt x="1345919" y="2662525"/>
                  <a:pt x="1336321" y="2656235"/>
                  <a:pt x="1325880" y="2651760"/>
                </a:cubicBezTo>
                <a:cubicBezTo>
                  <a:pt x="1283136" y="2633441"/>
                  <a:pt x="1323085" y="2657783"/>
                  <a:pt x="1272540" y="2628900"/>
                </a:cubicBezTo>
                <a:cubicBezTo>
                  <a:pt x="1228554" y="2603765"/>
                  <a:pt x="1270463" y="2624745"/>
                  <a:pt x="1226820" y="2590800"/>
                </a:cubicBezTo>
                <a:cubicBezTo>
                  <a:pt x="1212362" y="2579555"/>
                  <a:pt x="1194052" y="2573272"/>
                  <a:pt x="1181100" y="2560320"/>
                </a:cubicBezTo>
                <a:cubicBezTo>
                  <a:pt x="1173480" y="2552700"/>
                  <a:pt x="1167378" y="2543171"/>
                  <a:pt x="1158240" y="2537460"/>
                </a:cubicBezTo>
                <a:cubicBezTo>
                  <a:pt x="1146641" y="2530211"/>
                  <a:pt x="1132374" y="2528337"/>
                  <a:pt x="1120140" y="2522220"/>
                </a:cubicBezTo>
                <a:cubicBezTo>
                  <a:pt x="1111949" y="2518124"/>
                  <a:pt x="1105471" y="2511076"/>
                  <a:pt x="1097280" y="2506980"/>
                </a:cubicBezTo>
                <a:cubicBezTo>
                  <a:pt x="1090096" y="2503388"/>
                  <a:pt x="1081941" y="2502180"/>
                  <a:pt x="1074420" y="2499360"/>
                </a:cubicBezTo>
                <a:cubicBezTo>
                  <a:pt x="1017032" y="2477839"/>
                  <a:pt x="1056913" y="2489268"/>
                  <a:pt x="1005840" y="2476500"/>
                </a:cubicBezTo>
                <a:cubicBezTo>
                  <a:pt x="998220" y="2471420"/>
                  <a:pt x="991171" y="2465356"/>
                  <a:pt x="982980" y="2461260"/>
                </a:cubicBezTo>
                <a:cubicBezTo>
                  <a:pt x="914541" y="2427041"/>
                  <a:pt x="1023098" y="2494554"/>
                  <a:pt x="922020" y="2438400"/>
                </a:cubicBezTo>
                <a:cubicBezTo>
                  <a:pt x="857760" y="2402700"/>
                  <a:pt x="930126" y="2421971"/>
                  <a:pt x="845820" y="2407920"/>
                </a:cubicBezTo>
                <a:cubicBezTo>
                  <a:pt x="833120" y="2400300"/>
                  <a:pt x="820967" y="2391684"/>
                  <a:pt x="807720" y="2385060"/>
                </a:cubicBezTo>
                <a:cubicBezTo>
                  <a:pt x="800536" y="2381468"/>
                  <a:pt x="792044" y="2381032"/>
                  <a:pt x="784860" y="2377440"/>
                </a:cubicBezTo>
                <a:cubicBezTo>
                  <a:pt x="776669" y="2373344"/>
                  <a:pt x="770418" y="2365808"/>
                  <a:pt x="762000" y="2362200"/>
                </a:cubicBezTo>
                <a:cubicBezTo>
                  <a:pt x="752374" y="2358075"/>
                  <a:pt x="741244" y="2358469"/>
                  <a:pt x="731520" y="2354580"/>
                </a:cubicBezTo>
                <a:cubicBezTo>
                  <a:pt x="715700" y="2348252"/>
                  <a:pt x="701370" y="2338640"/>
                  <a:pt x="685800" y="2331720"/>
                </a:cubicBezTo>
                <a:cubicBezTo>
                  <a:pt x="678460" y="2328458"/>
                  <a:pt x="670124" y="2327692"/>
                  <a:pt x="662940" y="2324100"/>
                </a:cubicBezTo>
                <a:cubicBezTo>
                  <a:pt x="654749" y="2320004"/>
                  <a:pt x="648498" y="2312468"/>
                  <a:pt x="640080" y="2308860"/>
                </a:cubicBezTo>
                <a:cubicBezTo>
                  <a:pt x="630454" y="2304735"/>
                  <a:pt x="619535" y="2304552"/>
                  <a:pt x="609600" y="2301240"/>
                </a:cubicBezTo>
                <a:cubicBezTo>
                  <a:pt x="532448" y="2275523"/>
                  <a:pt x="607407" y="2297315"/>
                  <a:pt x="541020" y="2270760"/>
                </a:cubicBezTo>
                <a:cubicBezTo>
                  <a:pt x="456542" y="2236969"/>
                  <a:pt x="532167" y="2273599"/>
                  <a:pt x="457200" y="2240280"/>
                </a:cubicBezTo>
                <a:cubicBezTo>
                  <a:pt x="446820" y="2235667"/>
                  <a:pt x="436059" y="2231506"/>
                  <a:pt x="426720" y="2225040"/>
                </a:cubicBezTo>
                <a:cubicBezTo>
                  <a:pt x="402909" y="2208555"/>
                  <a:pt x="381095" y="2189358"/>
                  <a:pt x="358140" y="2171700"/>
                </a:cubicBezTo>
                <a:cubicBezTo>
                  <a:pt x="348074" y="2163957"/>
                  <a:pt x="336640" y="2157820"/>
                  <a:pt x="327660" y="2148840"/>
                </a:cubicBezTo>
                <a:cubicBezTo>
                  <a:pt x="275464" y="2096644"/>
                  <a:pt x="299873" y="2115075"/>
                  <a:pt x="259080" y="2087880"/>
                </a:cubicBezTo>
                <a:cubicBezTo>
                  <a:pt x="218440" y="2026920"/>
                  <a:pt x="271780" y="2100580"/>
                  <a:pt x="220980" y="2049780"/>
                </a:cubicBezTo>
                <a:cubicBezTo>
                  <a:pt x="170180" y="1998980"/>
                  <a:pt x="243840" y="2052320"/>
                  <a:pt x="182880" y="2011680"/>
                </a:cubicBezTo>
                <a:cubicBezTo>
                  <a:pt x="142240" y="1950720"/>
                  <a:pt x="195580" y="2024380"/>
                  <a:pt x="144780" y="1973580"/>
                </a:cubicBezTo>
                <a:cubicBezTo>
                  <a:pt x="93980" y="1922780"/>
                  <a:pt x="167640" y="1976120"/>
                  <a:pt x="106680" y="1935480"/>
                </a:cubicBezTo>
                <a:cubicBezTo>
                  <a:pt x="81471" y="1859852"/>
                  <a:pt x="123766" y="1975379"/>
                  <a:pt x="76200" y="1889760"/>
                </a:cubicBezTo>
                <a:cubicBezTo>
                  <a:pt x="68398" y="1875717"/>
                  <a:pt x="66040" y="1859280"/>
                  <a:pt x="60960" y="1844040"/>
                </a:cubicBezTo>
                <a:cubicBezTo>
                  <a:pt x="58420" y="1836420"/>
                  <a:pt x="57795" y="1827863"/>
                  <a:pt x="53340" y="1821180"/>
                </a:cubicBezTo>
                <a:cubicBezTo>
                  <a:pt x="48260" y="1813560"/>
                  <a:pt x="41819" y="1806689"/>
                  <a:pt x="38100" y="1798320"/>
                </a:cubicBezTo>
                <a:cubicBezTo>
                  <a:pt x="31576" y="1783640"/>
                  <a:pt x="27940" y="1767840"/>
                  <a:pt x="22860" y="1752600"/>
                </a:cubicBezTo>
                <a:cubicBezTo>
                  <a:pt x="14313" y="1726958"/>
                  <a:pt x="11707" y="1722291"/>
                  <a:pt x="7620" y="1691640"/>
                </a:cubicBezTo>
                <a:cubicBezTo>
                  <a:pt x="4246" y="1666337"/>
                  <a:pt x="2540" y="1640840"/>
                  <a:pt x="0" y="1615440"/>
                </a:cubicBezTo>
                <a:cubicBezTo>
                  <a:pt x="2540" y="1569720"/>
                  <a:pt x="3279" y="1523864"/>
                  <a:pt x="7620" y="1478280"/>
                </a:cubicBezTo>
                <a:cubicBezTo>
                  <a:pt x="10684" y="1446108"/>
                  <a:pt x="34382" y="1443715"/>
                  <a:pt x="45720" y="1409700"/>
                </a:cubicBezTo>
                <a:cubicBezTo>
                  <a:pt x="59111" y="1369526"/>
                  <a:pt x="44489" y="1402033"/>
                  <a:pt x="76200" y="1363980"/>
                </a:cubicBezTo>
                <a:cubicBezTo>
                  <a:pt x="82063" y="1356945"/>
                  <a:pt x="85356" y="1347965"/>
                  <a:pt x="91440" y="1341120"/>
                </a:cubicBezTo>
                <a:cubicBezTo>
                  <a:pt x="105759" y="1325011"/>
                  <a:pt x="121920" y="1310640"/>
                  <a:pt x="137160" y="1295400"/>
                </a:cubicBezTo>
                <a:lnTo>
                  <a:pt x="182880" y="1249680"/>
                </a:lnTo>
                <a:cubicBezTo>
                  <a:pt x="190500" y="1242060"/>
                  <a:pt x="199762" y="1235786"/>
                  <a:pt x="205740" y="1226820"/>
                </a:cubicBezTo>
                <a:cubicBezTo>
                  <a:pt x="220725" y="1204343"/>
                  <a:pt x="221838" y="1199435"/>
                  <a:pt x="243840" y="1181100"/>
                </a:cubicBezTo>
                <a:cubicBezTo>
                  <a:pt x="250875" y="1175237"/>
                  <a:pt x="259080" y="1170940"/>
                  <a:pt x="266700" y="1165860"/>
                </a:cubicBezTo>
                <a:cubicBezTo>
                  <a:pt x="271780" y="1158240"/>
                  <a:pt x="275464" y="1149476"/>
                  <a:pt x="281940" y="1143000"/>
                </a:cubicBezTo>
                <a:cubicBezTo>
                  <a:pt x="287392" y="1137548"/>
                  <a:pt x="325184" y="1110669"/>
                  <a:pt x="335280" y="1104900"/>
                </a:cubicBezTo>
                <a:cubicBezTo>
                  <a:pt x="345143" y="1099264"/>
                  <a:pt x="356127" y="1095680"/>
                  <a:pt x="365760" y="1089660"/>
                </a:cubicBezTo>
                <a:cubicBezTo>
                  <a:pt x="376530" y="1082929"/>
                  <a:pt x="385213" y="1073101"/>
                  <a:pt x="396240" y="1066800"/>
                </a:cubicBezTo>
                <a:cubicBezTo>
                  <a:pt x="403214" y="1062815"/>
                  <a:pt x="411717" y="1062344"/>
                  <a:pt x="419100" y="1059180"/>
                </a:cubicBezTo>
                <a:cubicBezTo>
                  <a:pt x="429541" y="1054705"/>
                  <a:pt x="439717" y="1049576"/>
                  <a:pt x="449580" y="1043940"/>
                </a:cubicBezTo>
                <a:cubicBezTo>
                  <a:pt x="457531" y="1039396"/>
                  <a:pt x="463865" y="1031916"/>
                  <a:pt x="472440" y="1028700"/>
                </a:cubicBezTo>
                <a:cubicBezTo>
                  <a:pt x="484567" y="1024152"/>
                  <a:pt x="497840" y="1023620"/>
                  <a:pt x="510540" y="1021080"/>
                </a:cubicBezTo>
                <a:lnTo>
                  <a:pt x="579120" y="975360"/>
                </a:lnTo>
                <a:lnTo>
                  <a:pt x="601980" y="960120"/>
                </a:lnTo>
                <a:cubicBezTo>
                  <a:pt x="609600" y="955040"/>
                  <a:pt x="617514" y="950375"/>
                  <a:pt x="624840" y="944880"/>
                </a:cubicBezTo>
                <a:cubicBezTo>
                  <a:pt x="635000" y="937260"/>
                  <a:pt x="644293" y="928321"/>
                  <a:pt x="655320" y="922020"/>
                </a:cubicBezTo>
                <a:cubicBezTo>
                  <a:pt x="662294" y="918035"/>
                  <a:pt x="670868" y="917724"/>
                  <a:pt x="678180" y="914400"/>
                </a:cubicBezTo>
                <a:cubicBezTo>
                  <a:pt x="710290" y="899805"/>
                  <a:pt x="730327" y="884218"/>
                  <a:pt x="762000" y="876300"/>
                </a:cubicBezTo>
                <a:cubicBezTo>
                  <a:pt x="774565" y="873159"/>
                  <a:pt x="787400" y="871220"/>
                  <a:pt x="800100" y="868680"/>
                </a:cubicBezTo>
                <a:cubicBezTo>
                  <a:pt x="810260" y="863600"/>
                  <a:pt x="820717" y="859076"/>
                  <a:pt x="830580" y="853440"/>
                </a:cubicBezTo>
                <a:cubicBezTo>
                  <a:pt x="873485" y="828923"/>
                  <a:pt x="832109" y="845987"/>
                  <a:pt x="883920" y="822960"/>
                </a:cubicBezTo>
                <a:cubicBezTo>
                  <a:pt x="896419" y="817405"/>
                  <a:pt x="910063" y="814363"/>
                  <a:pt x="922020" y="807720"/>
                </a:cubicBezTo>
                <a:cubicBezTo>
                  <a:pt x="933122" y="801552"/>
                  <a:pt x="941730" y="791591"/>
                  <a:pt x="952500" y="784860"/>
                </a:cubicBezTo>
                <a:cubicBezTo>
                  <a:pt x="962133" y="778840"/>
                  <a:pt x="973737" y="776222"/>
                  <a:pt x="982980" y="769620"/>
                </a:cubicBezTo>
                <a:cubicBezTo>
                  <a:pt x="991749" y="763356"/>
                  <a:pt x="997071" y="753024"/>
                  <a:pt x="1005840" y="746760"/>
                </a:cubicBezTo>
                <a:cubicBezTo>
                  <a:pt x="1015083" y="740158"/>
                  <a:pt x="1026580" y="737364"/>
                  <a:pt x="1036320" y="731520"/>
                </a:cubicBezTo>
                <a:cubicBezTo>
                  <a:pt x="1052026" y="722096"/>
                  <a:pt x="1066800" y="711200"/>
                  <a:pt x="1082040" y="701040"/>
                </a:cubicBezTo>
                <a:cubicBezTo>
                  <a:pt x="1089660" y="695960"/>
                  <a:pt x="1098424" y="692276"/>
                  <a:pt x="1104900" y="685800"/>
                </a:cubicBezTo>
                <a:cubicBezTo>
                  <a:pt x="1112520" y="678180"/>
                  <a:pt x="1118991" y="669204"/>
                  <a:pt x="1127760" y="662940"/>
                </a:cubicBezTo>
                <a:cubicBezTo>
                  <a:pt x="1137003" y="656338"/>
                  <a:pt x="1149370" y="654796"/>
                  <a:pt x="1158240" y="647700"/>
                </a:cubicBezTo>
                <a:cubicBezTo>
                  <a:pt x="1175070" y="634236"/>
                  <a:pt x="1188720" y="617220"/>
                  <a:pt x="1203960" y="601980"/>
                </a:cubicBezTo>
                <a:cubicBezTo>
                  <a:pt x="1211580" y="594360"/>
                  <a:pt x="1217181" y="583939"/>
                  <a:pt x="1226820" y="579120"/>
                </a:cubicBezTo>
                <a:cubicBezTo>
                  <a:pt x="1310356" y="537352"/>
                  <a:pt x="1208078" y="592507"/>
                  <a:pt x="1280160" y="541020"/>
                </a:cubicBezTo>
                <a:cubicBezTo>
                  <a:pt x="1289403" y="534418"/>
                  <a:pt x="1300777" y="531416"/>
                  <a:pt x="1310640" y="525780"/>
                </a:cubicBezTo>
                <a:cubicBezTo>
                  <a:pt x="1351569" y="502392"/>
                  <a:pt x="1313917" y="515436"/>
                  <a:pt x="1363980" y="502920"/>
                </a:cubicBezTo>
                <a:cubicBezTo>
                  <a:pt x="1371600" y="497840"/>
                  <a:pt x="1378649" y="491776"/>
                  <a:pt x="1386840" y="487680"/>
                </a:cubicBezTo>
                <a:cubicBezTo>
                  <a:pt x="1394024" y="484088"/>
                  <a:pt x="1402726" y="484045"/>
                  <a:pt x="1409700" y="480060"/>
                </a:cubicBezTo>
                <a:cubicBezTo>
                  <a:pt x="1474285" y="443154"/>
                  <a:pt x="1410626" y="467051"/>
                  <a:pt x="1463040" y="449580"/>
                </a:cubicBezTo>
                <a:cubicBezTo>
                  <a:pt x="1470660" y="441960"/>
                  <a:pt x="1477394" y="433336"/>
                  <a:pt x="1485900" y="426720"/>
                </a:cubicBezTo>
                <a:cubicBezTo>
                  <a:pt x="1500358" y="415475"/>
                  <a:pt x="1531620" y="396240"/>
                  <a:pt x="1531620" y="396240"/>
                </a:cubicBezTo>
                <a:cubicBezTo>
                  <a:pt x="1567180" y="342900"/>
                  <a:pt x="1546860" y="360680"/>
                  <a:pt x="1584960" y="335280"/>
                </a:cubicBezTo>
                <a:cubicBezTo>
                  <a:pt x="1625600" y="274320"/>
                  <a:pt x="1572260" y="347980"/>
                  <a:pt x="1623060" y="297180"/>
                </a:cubicBezTo>
                <a:cubicBezTo>
                  <a:pt x="1629536" y="290704"/>
                  <a:pt x="1631824" y="280796"/>
                  <a:pt x="1638300" y="274320"/>
                </a:cubicBezTo>
                <a:cubicBezTo>
                  <a:pt x="1644776" y="267844"/>
                  <a:pt x="1654125" y="264943"/>
                  <a:pt x="1661160" y="259080"/>
                </a:cubicBezTo>
                <a:cubicBezTo>
                  <a:pt x="1669439" y="252181"/>
                  <a:pt x="1675514" y="242836"/>
                  <a:pt x="1684020" y="236220"/>
                </a:cubicBezTo>
                <a:cubicBezTo>
                  <a:pt x="1698478" y="224975"/>
                  <a:pt x="1716788" y="218692"/>
                  <a:pt x="1729740" y="205740"/>
                </a:cubicBezTo>
                <a:cubicBezTo>
                  <a:pt x="1770147" y="165333"/>
                  <a:pt x="1732932" y="197729"/>
                  <a:pt x="1783080" y="167640"/>
                </a:cubicBezTo>
                <a:cubicBezTo>
                  <a:pt x="1798786" y="158216"/>
                  <a:pt x="1813560" y="147320"/>
                  <a:pt x="1828800" y="137160"/>
                </a:cubicBezTo>
                <a:lnTo>
                  <a:pt x="1874520" y="106680"/>
                </a:lnTo>
                <a:cubicBezTo>
                  <a:pt x="1882140" y="101600"/>
                  <a:pt x="1888692" y="94336"/>
                  <a:pt x="1897380" y="91440"/>
                </a:cubicBezTo>
                <a:cubicBezTo>
                  <a:pt x="1905000" y="88900"/>
                  <a:pt x="1913219" y="87721"/>
                  <a:pt x="1920240" y="83820"/>
                </a:cubicBezTo>
                <a:cubicBezTo>
                  <a:pt x="1936251" y="74925"/>
                  <a:pt x="1950720" y="63500"/>
                  <a:pt x="1965960" y="53340"/>
                </a:cubicBezTo>
                <a:cubicBezTo>
                  <a:pt x="1973580" y="48260"/>
                  <a:pt x="1980132" y="40996"/>
                  <a:pt x="1988820" y="38100"/>
                </a:cubicBezTo>
                <a:cubicBezTo>
                  <a:pt x="1996440" y="35560"/>
                  <a:pt x="2004496" y="34072"/>
                  <a:pt x="2011680" y="30480"/>
                </a:cubicBezTo>
                <a:cubicBezTo>
                  <a:pt x="2019871" y="26384"/>
                  <a:pt x="2026171" y="18959"/>
                  <a:pt x="2034540" y="15240"/>
                </a:cubicBezTo>
                <a:cubicBezTo>
                  <a:pt x="2049220" y="8716"/>
                  <a:pt x="2080260" y="0"/>
                  <a:pt x="2080260" y="0"/>
                </a:cubicBezTo>
                <a:cubicBezTo>
                  <a:pt x="2120900" y="2540"/>
                  <a:pt x="2161959" y="1269"/>
                  <a:pt x="2202180" y="7620"/>
                </a:cubicBezTo>
                <a:cubicBezTo>
                  <a:pt x="2226310" y="11430"/>
                  <a:pt x="2226310" y="31750"/>
                  <a:pt x="2240280" y="45720"/>
                </a:cubicBezTo>
                <a:cubicBezTo>
                  <a:pt x="2246756" y="52196"/>
                  <a:pt x="2255520" y="55880"/>
                  <a:pt x="2263140" y="60960"/>
                </a:cubicBezTo>
                <a:cubicBezTo>
                  <a:pt x="2278125" y="83437"/>
                  <a:pt x="2279238" y="88345"/>
                  <a:pt x="2301240" y="106680"/>
                </a:cubicBezTo>
                <a:cubicBezTo>
                  <a:pt x="2308275" y="112543"/>
                  <a:pt x="2316480" y="116840"/>
                  <a:pt x="2324100" y="121920"/>
                </a:cubicBezTo>
                <a:cubicBezTo>
                  <a:pt x="2341260" y="173400"/>
                  <a:pt x="2317462" y="117599"/>
                  <a:pt x="2354580" y="160020"/>
                </a:cubicBezTo>
                <a:cubicBezTo>
                  <a:pt x="2366641" y="173804"/>
                  <a:pt x="2374900" y="190500"/>
                  <a:pt x="2385060" y="205740"/>
                </a:cubicBezTo>
                <a:cubicBezTo>
                  <a:pt x="2390140" y="213360"/>
                  <a:pt x="2396204" y="220409"/>
                  <a:pt x="2400300" y="228600"/>
                </a:cubicBezTo>
                <a:cubicBezTo>
                  <a:pt x="2405380" y="238760"/>
                  <a:pt x="2409696" y="249340"/>
                  <a:pt x="2415540" y="259080"/>
                </a:cubicBezTo>
                <a:cubicBezTo>
                  <a:pt x="2424964" y="274786"/>
                  <a:pt x="2437829" y="288417"/>
                  <a:pt x="2446020" y="304800"/>
                </a:cubicBezTo>
                <a:cubicBezTo>
                  <a:pt x="2451100" y="314960"/>
                  <a:pt x="2454658" y="326037"/>
                  <a:pt x="2461260" y="335280"/>
                </a:cubicBezTo>
                <a:cubicBezTo>
                  <a:pt x="2467524" y="344049"/>
                  <a:pt x="2477107" y="349958"/>
                  <a:pt x="2484120" y="358140"/>
                </a:cubicBezTo>
                <a:cubicBezTo>
                  <a:pt x="2492385" y="367783"/>
                  <a:pt x="2499697" y="378216"/>
                  <a:pt x="2506980" y="388620"/>
                </a:cubicBezTo>
                <a:lnTo>
                  <a:pt x="2552700" y="457200"/>
                </a:lnTo>
                <a:cubicBezTo>
                  <a:pt x="2557780" y="464820"/>
                  <a:pt x="2561464" y="473584"/>
                  <a:pt x="2567940" y="480060"/>
                </a:cubicBezTo>
                <a:cubicBezTo>
                  <a:pt x="2575560" y="487680"/>
                  <a:pt x="2583901" y="494641"/>
                  <a:pt x="2590800" y="502920"/>
                </a:cubicBezTo>
                <a:cubicBezTo>
                  <a:pt x="2622550" y="541020"/>
                  <a:pt x="2586990" y="513080"/>
                  <a:pt x="2628900" y="541020"/>
                </a:cubicBezTo>
                <a:cubicBezTo>
                  <a:pt x="2703463" y="652864"/>
                  <a:pt x="2627757" y="535211"/>
                  <a:pt x="2674620" y="617220"/>
                </a:cubicBezTo>
                <a:cubicBezTo>
                  <a:pt x="2679164" y="625171"/>
                  <a:pt x="2685764" y="631889"/>
                  <a:pt x="2689860" y="640080"/>
                </a:cubicBezTo>
                <a:cubicBezTo>
                  <a:pt x="2693452" y="647264"/>
                  <a:pt x="2692462" y="656668"/>
                  <a:pt x="2697480" y="662940"/>
                </a:cubicBezTo>
                <a:cubicBezTo>
                  <a:pt x="2703201" y="670091"/>
                  <a:pt x="2712720" y="673100"/>
                  <a:pt x="2720340" y="678180"/>
                </a:cubicBezTo>
                <a:cubicBezTo>
                  <a:pt x="2726169" y="701498"/>
                  <a:pt x="2725659" y="713979"/>
                  <a:pt x="2743200" y="731520"/>
                </a:cubicBezTo>
                <a:cubicBezTo>
                  <a:pt x="2749676" y="737996"/>
                  <a:pt x="2758440" y="741680"/>
                  <a:pt x="2766060" y="746760"/>
                </a:cubicBezTo>
                <a:cubicBezTo>
                  <a:pt x="2771140" y="756920"/>
                  <a:pt x="2776825" y="766799"/>
                  <a:pt x="2781300" y="777240"/>
                </a:cubicBezTo>
                <a:cubicBezTo>
                  <a:pt x="2795673" y="810777"/>
                  <a:pt x="2782273" y="808693"/>
                  <a:pt x="2819400" y="845820"/>
                </a:cubicBezTo>
                <a:lnTo>
                  <a:pt x="2887980" y="914400"/>
                </a:lnTo>
                <a:cubicBezTo>
                  <a:pt x="2895600" y="922020"/>
                  <a:pt x="2904862" y="928294"/>
                  <a:pt x="2910840" y="937260"/>
                </a:cubicBezTo>
                <a:cubicBezTo>
                  <a:pt x="2938780" y="979170"/>
                  <a:pt x="2910840" y="943610"/>
                  <a:pt x="2948940" y="975360"/>
                </a:cubicBezTo>
                <a:cubicBezTo>
                  <a:pt x="2995278" y="1013975"/>
                  <a:pt x="2945880" y="985260"/>
                  <a:pt x="3002280" y="1013460"/>
                </a:cubicBezTo>
                <a:cubicBezTo>
                  <a:pt x="3010933" y="1026440"/>
                  <a:pt x="3030928" y="1057348"/>
                  <a:pt x="3040380" y="1066800"/>
                </a:cubicBezTo>
                <a:cubicBezTo>
                  <a:pt x="3091564" y="1117984"/>
                  <a:pt x="3036441" y="1015172"/>
                  <a:pt x="3116580" y="1135380"/>
                </a:cubicBezTo>
                <a:cubicBezTo>
                  <a:pt x="3136900" y="1165860"/>
                  <a:pt x="3124200" y="1153160"/>
                  <a:pt x="3154680" y="1173480"/>
                </a:cubicBezTo>
                <a:cubicBezTo>
                  <a:pt x="3195320" y="1234440"/>
                  <a:pt x="3141980" y="1160780"/>
                  <a:pt x="3192780" y="1211580"/>
                </a:cubicBezTo>
                <a:cubicBezTo>
                  <a:pt x="3243580" y="1262380"/>
                  <a:pt x="3169920" y="1209040"/>
                  <a:pt x="3230880" y="1249680"/>
                </a:cubicBezTo>
                <a:cubicBezTo>
                  <a:pt x="3274556" y="1315194"/>
                  <a:pt x="3216400" y="1238096"/>
                  <a:pt x="3268980" y="1280160"/>
                </a:cubicBezTo>
                <a:cubicBezTo>
                  <a:pt x="3276131" y="1285881"/>
                  <a:pt x="3278357" y="1295985"/>
                  <a:pt x="3284220" y="1303020"/>
                </a:cubicBezTo>
                <a:cubicBezTo>
                  <a:pt x="3291119" y="1311299"/>
                  <a:pt x="3298574" y="1319264"/>
                  <a:pt x="3307080" y="1325880"/>
                </a:cubicBezTo>
                <a:cubicBezTo>
                  <a:pt x="3321538" y="1337125"/>
                  <a:pt x="3352800" y="1356360"/>
                  <a:pt x="3352800" y="1356360"/>
                </a:cubicBezTo>
                <a:cubicBezTo>
                  <a:pt x="3384204" y="1403465"/>
                  <a:pt x="3349336" y="1357515"/>
                  <a:pt x="3390900" y="1394460"/>
                </a:cubicBezTo>
                <a:cubicBezTo>
                  <a:pt x="3407009" y="1408779"/>
                  <a:pt x="3421380" y="1424940"/>
                  <a:pt x="3436620" y="1440180"/>
                </a:cubicBezTo>
                <a:cubicBezTo>
                  <a:pt x="3444240" y="1447800"/>
                  <a:pt x="3450514" y="1457062"/>
                  <a:pt x="3459480" y="1463040"/>
                </a:cubicBezTo>
                <a:cubicBezTo>
                  <a:pt x="3467100" y="1468120"/>
                  <a:pt x="3475305" y="1472417"/>
                  <a:pt x="3482340" y="1478280"/>
                </a:cubicBezTo>
                <a:cubicBezTo>
                  <a:pt x="3557240" y="1540697"/>
                  <a:pt x="3460500" y="1464060"/>
                  <a:pt x="3520440" y="1524000"/>
                </a:cubicBezTo>
                <a:cubicBezTo>
                  <a:pt x="3526916" y="1530476"/>
                  <a:pt x="3535680" y="1534160"/>
                  <a:pt x="3543300" y="1539240"/>
                </a:cubicBezTo>
                <a:cubicBezTo>
                  <a:pt x="3583940" y="1600200"/>
                  <a:pt x="3530600" y="1526540"/>
                  <a:pt x="3581400" y="1577340"/>
                </a:cubicBezTo>
                <a:cubicBezTo>
                  <a:pt x="3587876" y="1583816"/>
                  <a:pt x="3589748" y="1594169"/>
                  <a:pt x="3596640" y="1600200"/>
                </a:cubicBezTo>
                <a:cubicBezTo>
                  <a:pt x="3610424" y="1612261"/>
                  <a:pt x="3627120" y="1620520"/>
                  <a:pt x="3642360" y="1630680"/>
                </a:cubicBezTo>
                <a:lnTo>
                  <a:pt x="3665220" y="1645920"/>
                </a:lnTo>
                <a:cubicBezTo>
                  <a:pt x="3670300" y="1653540"/>
                  <a:pt x="3674597" y="1661745"/>
                  <a:pt x="3680460" y="1668780"/>
                </a:cubicBezTo>
                <a:cubicBezTo>
                  <a:pt x="3698795" y="1690782"/>
                  <a:pt x="3703703" y="1691895"/>
                  <a:pt x="3726180" y="1706880"/>
                </a:cubicBezTo>
                <a:cubicBezTo>
                  <a:pt x="3760264" y="1758005"/>
                  <a:pt x="3720113" y="1707915"/>
                  <a:pt x="3764280" y="1737360"/>
                </a:cubicBezTo>
                <a:cubicBezTo>
                  <a:pt x="3773246" y="1743338"/>
                  <a:pt x="3778634" y="1753604"/>
                  <a:pt x="3787140" y="1760220"/>
                </a:cubicBezTo>
                <a:cubicBezTo>
                  <a:pt x="3801598" y="1771465"/>
                  <a:pt x="3832860" y="1790700"/>
                  <a:pt x="3832860" y="1790700"/>
                </a:cubicBezTo>
                <a:cubicBezTo>
                  <a:pt x="3847695" y="1835204"/>
                  <a:pt x="3828873" y="1794333"/>
                  <a:pt x="3863340" y="1828800"/>
                </a:cubicBezTo>
                <a:cubicBezTo>
                  <a:pt x="3869816" y="1835276"/>
                  <a:pt x="3872717" y="1844625"/>
                  <a:pt x="3878580" y="1851660"/>
                </a:cubicBezTo>
                <a:cubicBezTo>
                  <a:pt x="3895670" y="1872168"/>
                  <a:pt x="3905869" y="1873056"/>
                  <a:pt x="3916680" y="1897380"/>
                </a:cubicBezTo>
                <a:cubicBezTo>
                  <a:pt x="3923204" y="1912060"/>
                  <a:pt x="3926840" y="1927860"/>
                  <a:pt x="3931920" y="1943100"/>
                </a:cubicBezTo>
                <a:lnTo>
                  <a:pt x="3939540" y="1965960"/>
                </a:lnTo>
                <a:cubicBezTo>
                  <a:pt x="3937774" y="1978320"/>
                  <a:pt x="3931999" y="2031816"/>
                  <a:pt x="3924300" y="2049780"/>
                </a:cubicBezTo>
                <a:cubicBezTo>
                  <a:pt x="3917640" y="2065320"/>
                  <a:pt x="3898406" y="2085328"/>
                  <a:pt x="3886200" y="2095500"/>
                </a:cubicBezTo>
                <a:cubicBezTo>
                  <a:pt x="3879165" y="2101363"/>
                  <a:pt x="3870375" y="2104877"/>
                  <a:pt x="3863340" y="2110740"/>
                </a:cubicBezTo>
                <a:cubicBezTo>
                  <a:pt x="3855061" y="2117639"/>
                  <a:pt x="3849900" y="2128367"/>
                  <a:pt x="3840480" y="2133600"/>
                </a:cubicBezTo>
                <a:cubicBezTo>
                  <a:pt x="3814604" y="2147976"/>
                  <a:pt x="3777423" y="2151729"/>
                  <a:pt x="3749040" y="2156460"/>
                </a:cubicBezTo>
                <a:cubicBezTo>
                  <a:pt x="3723640" y="2153920"/>
                  <a:pt x="3698070" y="2152722"/>
                  <a:pt x="3672840" y="2148840"/>
                </a:cubicBezTo>
                <a:cubicBezTo>
                  <a:pt x="3664901" y="2147619"/>
                  <a:pt x="3657600" y="2138680"/>
                  <a:pt x="3649980" y="2141220"/>
                </a:cubicBezTo>
                <a:cubicBezTo>
                  <a:pt x="3639757" y="2144628"/>
                  <a:pt x="3634019" y="2155801"/>
                  <a:pt x="3627120" y="2164080"/>
                </a:cubicBezTo>
                <a:cubicBezTo>
                  <a:pt x="3606309" y="2189053"/>
                  <a:pt x="3608070" y="2164080"/>
                  <a:pt x="3604260" y="2164080"/>
                </a:cubicBezTo>
                <a:close/>
              </a:path>
            </a:pathLst>
          </a:custGeom>
          <a:noFill/>
          <a:ln w="25560">
            <a:solidFill>
              <a:srgbClr val="9bbb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0" name="Freeform: Shape 23"/>
          <p:cNvSpPr/>
          <p:nvPr/>
        </p:nvSpPr>
        <p:spPr>
          <a:xfrm>
            <a:off x="343080" y="2911320"/>
            <a:ext cx="2636640" cy="2757600"/>
          </a:xfrm>
          <a:custGeom>
            <a:avLst/>
            <a:gdLst/>
            <a:ahLst/>
            <a:rect l="l" t="t" r="r" b="b"/>
            <a:pathLst>
              <a:path w="2636551" h="2758440">
                <a:moveTo>
                  <a:pt x="2034540" y="2148840"/>
                </a:moveTo>
                <a:lnTo>
                  <a:pt x="2034540" y="2148840"/>
                </a:lnTo>
                <a:cubicBezTo>
                  <a:pt x="2019300" y="2174240"/>
                  <a:pt x="2006593" y="2201343"/>
                  <a:pt x="1988820" y="2225040"/>
                </a:cubicBezTo>
                <a:cubicBezTo>
                  <a:pt x="1975888" y="2242282"/>
                  <a:pt x="1955055" y="2252827"/>
                  <a:pt x="1943100" y="2270760"/>
                </a:cubicBezTo>
                <a:cubicBezTo>
                  <a:pt x="1922780" y="2301240"/>
                  <a:pt x="1935480" y="2288540"/>
                  <a:pt x="1905000" y="2308860"/>
                </a:cubicBezTo>
                <a:cubicBezTo>
                  <a:pt x="1864360" y="2369820"/>
                  <a:pt x="1917700" y="2296160"/>
                  <a:pt x="1866900" y="2346960"/>
                </a:cubicBezTo>
                <a:cubicBezTo>
                  <a:pt x="1816100" y="2397760"/>
                  <a:pt x="1889760" y="2344420"/>
                  <a:pt x="1828800" y="2385060"/>
                </a:cubicBezTo>
                <a:cubicBezTo>
                  <a:pt x="1815253" y="2405380"/>
                  <a:pt x="1811009" y="2414984"/>
                  <a:pt x="1790700" y="2430780"/>
                </a:cubicBezTo>
                <a:cubicBezTo>
                  <a:pt x="1776242" y="2442025"/>
                  <a:pt x="1744980" y="2461260"/>
                  <a:pt x="1744980" y="2461260"/>
                </a:cubicBezTo>
                <a:cubicBezTo>
                  <a:pt x="1739900" y="2468880"/>
                  <a:pt x="1736775" y="2478257"/>
                  <a:pt x="1729740" y="2484120"/>
                </a:cubicBezTo>
                <a:cubicBezTo>
                  <a:pt x="1721014" y="2491392"/>
                  <a:pt x="1709123" y="2493724"/>
                  <a:pt x="1699260" y="2499360"/>
                </a:cubicBezTo>
                <a:cubicBezTo>
                  <a:pt x="1657900" y="2522995"/>
                  <a:pt x="1695453" y="2508249"/>
                  <a:pt x="1653540" y="2522220"/>
                </a:cubicBezTo>
                <a:cubicBezTo>
                  <a:pt x="1636688" y="2539072"/>
                  <a:pt x="1629038" y="2549711"/>
                  <a:pt x="1607820" y="2560320"/>
                </a:cubicBezTo>
                <a:cubicBezTo>
                  <a:pt x="1600636" y="2563912"/>
                  <a:pt x="1592144" y="2564348"/>
                  <a:pt x="1584960" y="2567940"/>
                </a:cubicBezTo>
                <a:cubicBezTo>
                  <a:pt x="1576769" y="2572036"/>
                  <a:pt x="1570291" y="2579084"/>
                  <a:pt x="1562100" y="2583180"/>
                </a:cubicBezTo>
                <a:cubicBezTo>
                  <a:pt x="1554916" y="2586772"/>
                  <a:pt x="1546424" y="2587208"/>
                  <a:pt x="1539240" y="2590800"/>
                </a:cubicBezTo>
                <a:cubicBezTo>
                  <a:pt x="1531049" y="2594896"/>
                  <a:pt x="1524749" y="2602321"/>
                  <a:pt x="1516380" y="2606040"/>
                </a:cubicBezTo>
                <a:cubicBezTo>
                  <a:pt x="1501700" y="2612564"/>
                  <a:pt x="1484026" y="2612369"/>
                  <a:pt x="1470660" y="2621280"/>
                </a:cubicBezTo>
                <a:cubicBezTo>
                  <a:pt x="1405146" y="2664956"/>
                  <a:pt x="1488036" y="2612592"/>
                  <a:pt x="1424940" y="2644140"/>
                </a:cubicBezTo>
                <a:cubicBezTo>
                  <a:pt x="1416749" y="2648236"/>
                  <a:pt x="1410271" y="2655284"/>
                  <a:pt x="1402080" y="2659380"/>
                </a:cubicBezTo>
                <a:cubicBezTo>
                  <a:pt x="1394896" y="2662972"/>
                  <a:pt x="1386404" y="2663408"/>
                  <a:pt x="1379220" y="2667000"/>
                </a:cubicBezTo>
                <a:cubicBezTo>
                  <a:pt x="1371029" y="2671096"/>
                  <a:pt x="1364729" y="2678521"/>
                  <a:pt x="1356360" y="2682240"/>
                </a:cubicBezTo>
                <a:cubicBezTo>
                  <a:pt x="1341680" y="2688764"/>
                  <a:pt x="1324006" y="2688569"/>
                  <a:pt x="1310640" y="2697480"/>
                </a:cubicBezTo>
                <a:cubicBezTo>
                  <a:pt x="1274414" y="2721631"/>
                  <a:pt x="1296468" y="2709824"/>
                  <a:pt x="1242060" y="2727960"/>
                </a:cubicBezTo>
                <a:cubicBezTo>
                  <a:pt x="1187250" y="2746230"/>
                  <a:pt x="1255697" y="2724064"/>
                  <a:pt x="1188720" y="2743200"/>
                </a:cubicBezTo>
                <a:cubicBezTo>
                  <a:pt x="1180997" y="2745407"/>
                  <a:pt x="1173763" y="2749383"/>
                  <a:pt x="1165860" y="2750820"/>
                </a:cubicBezTo>
                <a:cubicBezTo>
                  <a:pt x="1145712" y="2754483"/>
                  <a:pt x="1125220" y="2755900"/>
                  <a:pt x="1104900" y="2758440"/>
                </a:cubicBezTo>
                <a:cubicBezTo>
                  <a:pt x="1061720" y="2755900"/>
                  <a:pt x="1018400" y="2755124"/>
                  <a:pt x="975360" y="2750820"/>
                </a:cubicBezTo>
                <a:cubicBezTo>
                  <a:pt x="967368" y="2750021"/>
                  <a:pt x="958772" y="2748218"/>
                  <a:pt x="952500" y="2743200"/>
                </a:cubicBezTo>
                <a:cubicBezTo>
                  <a:pt x="909486" y="2708789"/>
                  <a:pt x="973244" y="2725844"/>
                  <a:pt x="922020" y="2674620"/>
                </a:cubicBezTo>
                <a:cubicBezTo>
                  <a:pt x="914400" y="2667000"/>
                  <a:pt x="905776" y="2660266"/>
                  <a:pt x="899160" y="2651760"/>
                </a:cubicBezTo>
                <a:cubicBezTo>
                  <a:pt x="887915" y="2637302"/>
                  <a:pt x="881632" y="2618992"/>
                  <a:pt x="868680" y="2606040"/>
                </a:cubicBezTo>
                <a:cubicBezTo>
                  <a:pt x="861060" y="2598420"/>
                  <a:pt x="852436" y="2591686"/>
                  <a:pt x="845820" y="2583180"/>
                </a:cubicBezTo>
                <a:cubicBezTo>
                  <a:pt x="797951" y="2521634"/>
                  <a:pt x="836735" y="2551723"/>
                  <a:pt x="792480" y="2522220"/>
                </a:cubicBezTo>
                <a:cubicBezTo>
                  <a:pt x="748804" y="2456706"/>
                  <a:pt x="801168" y="2539596"/>
                  <a:pt x="769620" y="2476500"/>
                </a:cubicBezTo>
                <a:cubicBezTo>
                  <a:pt x="765524" y="2468309"/>
                  <a:pt x="758476" y="2461831"/>
                  <a:pt x="754380" y="2453640"/>
                </a:cubicBezTo>
                <a:cubicBezTo>
                  <a:pt x="750788" y="2446456"/>
                  <a:pt x="751778" y="2437052"/>
                  <a:pt x="746760" y="2430780"/>
                </a:cubicBezTo>
                <a:cubicBezTo>
                  <a:pt x="741039" y="2423629"/>
                  <a:pt x="731520" y="2420620"/>
                  <a:pt x="723900" y="2415540"/>
                </a:cubicBezTo>
                <a:cubicBezTo>
                  <a:pt x="718820" y="2407920"/>
                  <a:pt x="714523" y="2399715"/>
                  <a:pt x="708660" y="2392680"/>
                </a:cubicBezTo>
                <a:cubicBezTo>
                  <a:pt x="701761" y="2384401"/>
                  <a:pt x="691778" y="2378786"/>
                  <a:pt x="685800" y="2369820"/>
                </a:cubicBezTo>
                <a:cubicBezTo>
                  <a:pt x="681345" y="2363137"/>
                  <a:pt x="681772" y="2354144"/>
                  <a:pt x="678180" y="2346960"/>
                </a:cubicBezTo>
                <a:cubicBezTo>
                  <a:pt x="674084" y="2338769"/>
                  <a:pt x="668020" y="2331720"/>
                  <a:pt x="662940" y="2324100"/>
                </a:cubicBezTo>
                <a:cubicBezTo>
                  <a:pt x="660499" y="2314334"/>
                  <a:pt x="653166" y="2281692"/>
                  <a:pt x="647700" y="2270760"/>
                </a:cubicBezTo>
                <a:cubicBezTo>
                  <a:pt x="628285" y="2231929"/>
                  <a:pt x="627049" y="2261157"/>
                  <a:pt x="617220" y="2202180"/>
                </a:cubicBezTo>
                <a:cubicBezTo>
                  <a:pt x="614680" y="2186940"/>
                  <a:pt x="614040" y="2171259"/>
                  <a:pt x="609600" y="2156460"/>
                </a:cubicBezTo>
                <a:cubicBezTo>
                  <a:pt x="599581" y="2123062"/>
                  <a:pt x="593150" y="2131180"/>
                  <a:pt x="579120" y="2103120"/>
                </a:cubicBezTo>
                <a:cubicBezTo>
                  <a:pt x="547588" y="2040056"/>
                  <a:pt x="603829" y="2129062"/>
                  <a:pt x="556260" y="2049780"/>
                </a:cubicBezTo>
                <a:cubicBezTo>
                  <a:pt x="506737" y="1967241"/>
                  <a:pt x="546419" y="2033398"/>
                  <a:pt x="502920" y="1981200"/>
                </a:cubicBezTo>
                <a:cubicBezTo>
                  <a:pt x="471170" y="1943100"/>
                  <a:pt x="506730" y="1971040"/>
                  <a:pt x="464820" y="1943100"/>
                </a:cubicBezTo>
                <a:cubicBezTo>
                  <a:pt x="428904" y="1889226"/>
                  <a:pt x="473978" y="1955921"/>
                  <a:pt x="426720" y="1889760"/>
                </a:cubicBezTo>
                <a:cubicBezTo>
                  <a:pt x="421397" y="1882308"/>
                  <a:pt x="415576" y="1875091"/>
                  <a:pt x="411480" y="1866900"/>
                </a:cubicBezTo>
                <a:cubicBezTo>
                  <a:pt x="407888" y="1859716"/>
                  <a:pt x="407452" y="1851224"/>
                  <a:pt x="403860" y="1844040"/>
                </a:cubicBezTo>
                <a:cubicBezTo>
                  <a:pt x="399764" y="1835849"/>
                  <a:pt x="393164" y="1829131"/>
                  <a:pt x="388620" y="1821180"/>
                </a:cubicBezTo>
                <a:cubicBezTo>
                  <a:pt x="382984" y="1811317"/>
                  <a:pt x="379224" y="1800440"/>
                  <a:pt x="373380" y="1790700"/>
                </a:cubicBezTo>
                <a:cubicBezTo>
                  <a:pt x="363956" y="1774994"/>
                  <a:pt x="348692" y="1762356"/>
                  <a:pt x="342900" y="1744980"/>
                </a:cubicBezTo>
                <a:cubicBezTo>
                  <a:pt x="331872" y="1711897"/>
                  <a:pt x="340960" y="1727800"/>
                  <a:pt x="312420" y="1699260"/>
                </a:cubicBezTo>
                <a:cubicBezTo>
                  <a:pt x="309880" y="1691640"/>
                  <a:pt x="308701" y="1683421"/>
                  <a:pt x="304800" y="1676400"/>
                </a:cubicBezTo>
                <a:cubicBezTo>
                  <a:pt x="295905" y="1660389"/>
                  <a:pt x="280112" y="1648056"/>
                  <a:pt x="274320" y="1630680"/>
                </a:cubicBezTo>
                <a:lnTo>
                  <a:pt x="259080" y="1584960"/>
                </a:lnTo>
                <a:cubicBezTo>
                  <a:pt x="256540" y="1567180"/>
                  <a:pt x="254413" y="1549336"/>
                  <a:pt x="251460" y="1531620"/>
                </a:cubicBezTo>
                <a:cubicBezTo>
                  <a:pt x="249331" y="1518845"/>
                  <a:pt x="245969" y="1506295"/>
                  <a:pt x="243840" y="1493520"/>
                </a:cubicBezTo>
                <a:cubicBezTo>
                  <a:pt x="235206" y="1441718"/>
                  <a:pt x="240304" y="1450662"/>
                  <a:pt x="228600" y="1409700"/>
                </a:cubicBezTo>
                <a:cubicBezTo>
                  <a:pt x="226393" y="1401977"/>
                  <a:pt x="225998" y="1393112"/>
                  <a:pt x="220980" y="1386840"/>
                </a:cubicBezTo>
                <a:cubicBezTo>
                  <a:pt x="215259" y="1379689"/>
                  <a:pt x="205740" y="1376680"/>
                  <a:pt x="198120" y="1371600"/>
                </a:cubicBezTo>
                <a:cubicBezTo>
                  <a:pt x="195580" y="1363980"/>
                  <a:pt x="194955" y="1355423"/>
                  <a:pt x="190500" y="1348740"/>
                </a:cubicBezTo>
                <a:cubicBezTo>
                  <a:pt x="156795" y="1298183"/>
                  <a:pt x="177331" y="1352881"/>
                  <a:pt x="152400" y="1303020"/>
                </a:cubicBezTo>
                <a:cubicBezTo>
                  <a:pt x="135817" y="1269855"/>
                  <a:pt x="155967" y="1286678"/>
                  <a:pt x="129540" y="1249680"/>
                </a:cubicBezTo>
                <a:cubicBezTo>
                  <a:pt x="123276" y="1240911"/>
                  <a:pt x="113579" y="1235099"/>
                  <a:pt x="106680" y="1226820"/>
                </a:cubicBezTo>
                <a:cubicBezTo>
                  <a:pt x="74930" y="1188720"/>
                  <a:pt x="110490" y="1216660"/>
                  <a:pt x="68580" y="1188720"/>
                </a:cubicBezTo>
                <a:cubicBezTo>
                  <a:pt x="58420" y="1173480"/>
                  <a:pt x="43892" y="1160376"/>
                  <a:pt x="38100" y="1143000"/>
                </a:cubicBezTo>
                <a:cubicBezTo>
                  <a:pt x="35560" y="1135380"/>
                  <a:pt x="34072" y="1127324"/>
                  <a:pt x="30480" y="1120140"/>
                </a:cubicBezTo>
                <a:cubicBezTo>
                  <a:pt x="26384" y="1111949"/>
                  <a:pt x="18959" y="1105649"/>
                  <a:pt x="15240" y="1097280"/>
                </a:cubicBezTo>
                <a:cubicBezTo>
                  <a:pt x="8716" y="1082600"/>
                  <a:pt x="0" y="1051560"/>
                  <a:pt x="0" y="1051560"/>
                </a:cubicBezTo>
                <a:cubicBezTo>
                  <a:pt x="540" y="1045075"/>
                  <a:pt x="-18" y="964724"/>
                  <a:pt x="15240" y="937260"/>
                </a:cubicBezTo>
                <a:cubicBezTo>
                  <a:pt x="24135" y="921249"/>
                  <a:pt x="35560" y="906780"/>
                  <a:pt x="45720" y="891540"/>
                </a:cubicBezTo>
                <a:cubicBezTo>
                  <a:pt x="50800" y="883920"/>
                  <a:pt x="54484" y="875156"/>
                  <a:pt x="60960" y="868680"/>
                </a:cubicBezTo>
                <a:cubicBezTo>
                  <a:pt x="77812" y="851828"/>
                  <a:pt x="88451" y="844178"/>
                  <a:pt x="99060" y="822960"/>
                </a:cubicBezTo>
                <a:cubicBezTo>
                  <a:pt x="102652" y="815776"/>
                  <a:pt x="102779" y="807121"/>
                  <a:pt x="106680" y="800100"/>
                </a:cubicBezTo>
                <a:cubicBezTo>
                  <a:pt x="132827" y="753035"/>
                  <a:pt x="126626" y="761402"/>
                  <a:pt x="160020" y="739140"/>
                </a:cubicBezTo>
                <a:cubicBezTo>
                  <a:pt x="200660" y="678180"/>
                  <a:pt x="147320" y="751840"/>
                  <a:pt x="198120" y="701040"/>
                </a:cubicBezTo>
                <a:cubicBezTo>
                  <a:pt x="204596" y="694564"/>
                  <a:pt x="206468" y="684211"/>
                  <a:pt x="213360" y="678180"/>
                </a:cubicBezTo>
                <a:cubicBezTo>
                  <a:pt x="277429" y="622119"/>
                  <a:pt x="236588" y="662756"/>
                  <a:pt x="281940" y="640080"/>
                </a:cubicBezTo>
                <a:cubicBezTo>
                  <a:pt x="290131" y="635984"/>
                  <a:pt x="296028" y="627472"/>
                  <a:pt x="304800" y="624840"/>
                </a:cubicBezTo>
                <a:cubicBezTo>
                  <a:pt x="322003" y="619679"/>
                  <a:pt x="340388" y="619951"/>
                  <a:pt x="358140" y="617220"/>
                </a:cubicBezTo>
                <a:cubicBezTo>
                  <a:pt x="451608" y="602840"/>
                  <a:pt x="359416" y="612775"/>
                  <a:pt x="510540" y="601980"/>
                </a:cubicBezTo>
                <a:cubicBezTo>
                  <a:pt x="579367" y="574449"/>
                  <a:pt x="516644" y="596390"/>
                  <a:pt x="594360" y="579120"/>
                </a:cubicBezTo>
                <a:cubicBezTo>
                  <a:pt x="634309" y="570242"/>
                  <a:pt x="601108" y="571791"/>
                  <a:pt x="647700" y="556260"/>
                </a:cubicBezTo>
                <a:cubicBezTo>
                  <a:pt x="673785" y="547565"/>
                  <a:pt x="685849" y="552425"/>
                  <a:pt x="708660" y="541020"/>
                </a:cubicBezTo>
                <a:cubicBezTo>
                  <a:pt x="750276" y="520212"/>
                  <a:pt x="712243" y="529652"/>
                  <a:pt x="754380" y="518160"/>
                </a:cubicBezTo>
                <a:cubicBezTo>
                  <a:pt x="774587" y="512649"/>
                  <a:pt x="795469" y="509544"/>
                  <a:pt x="815340" y="502920"/>
                </a:cubicBezTo>
                <a:cubicBezTo>
                  <a:pt x="822960" y="500380"/>
                  <a:pt x="831016" y="498892"/>
                  <a:pt x="838200" y="495300"/>
                </a:cubicBezTo>
                <a:cubicBezTo>
                  <a:pt x="846391" y="491204"/>
                  <a:pt x="852691" y="483779"/>
                  <a:pt x="861060" y="480060"/>
                </a:cubicBezTo>
                <a:cubicBezTo>
                  <a:pt x="880055" y="471618"/>
                  <a:pt x="915095" y="462126"/>
                  <a:pt x="937260" y="457200"/>
                </a:cubicBezTo>
                <a:cubicBezTo>
                  <a:pt x="949903" y="454390"/>
                  <a:pt x="962740" y="452492"/>
                  <a:pt x="975360" y="449580"/>
                </a:cubicBezTo>
                <a:cubicBezTo>
                  <a:pt x="995769" y="444870"/>
                  <a:pt x="1016000" y="439420"/>
                  <a:pt x="1036320" y="434340"/>
                </a:cubicBezTo>
                <a:cubicBezTo>
                  <a:pt x="1046480" y="431800"/>
                  <a:pt x="1056408" y="428019"/>
                  <a:pt x="1066800" y="426720"/>
                </a:cubicBezTo>
                <a:cubicBezTo>
                  <a:pt x="1087120" y="424180"/>
                  <a:pt x="1107520" y="422214"/>
                  <a:pt x="1127760" y="419100"/>
                </a:cubicBezTo>
                <a:cubicBezTo>
                  <a:pt x="1140561" y="417131"/>
                  <a:pt x="1153295" y="414621"/>
                  <a:pt x="1165860" y="411480"/>
                </a:cubicBezTo>
                <a:cubicBezTo>
                  <a:pt x="1173652" y="409532"/>
                  <a:pt x="1180844" y="405435"/>
                  <a:pt x="1188720" y="403860"/>
                </a:cubicBezTo>
                <a:cubicBezTo>
                  <a:pt x="1206332" y="400338"/>
                  <a:pt x="1224344" y="399193"/>
                  <a:pt x="1242060" y="396240"/>
                </a:cubicBezTo>
                <a:cubicBezTo>
                  <a:pt x="1288024" y="388579"/>
                  <a:pt x="1269540" y="390133"/>
                  <a:pt x="1310640" y="381000"/>
                </a:cubicBezTo>
                <a:cubicBezTo>
                  <a:pt x="1323283" y="378190"/>
                  <a:pt x="1336245" y="376788"/>
                  <a:pt x="1348740" y="373380"/>
                </a:cubicBezTo>
                <a:cubicBezTo>
                  <a:pt x="1466180" y="341351"/>
                  <a:pt x="1345160" y="374971"/>
                  <a:pt x="1417320" y="342900"/>
                </a:cubicBezTo>
                <a:cubicBezTo>
                  <a:pt x="1432000" y="336376"/>
                  <a:pt x="1463040" y="327660"/>
                  <a:pt x="1463040" y="327660"/>
                </a:cubicBezTo>
                <a:cubicBezTo>
                  <a:pt x="1470660" y="320040"/>
                  <a:pt x="1476480" y="310033"/>
                  <a:pt x="1485900" y="304800"/>
                </a:cubicBezTo>
                <a:cubicBezTo>
                  <a:pt x="1501079" y="296367"/>
                  <a:pt x="1542423" y="286859"/>
                  <a:pt x="1562100" y="281940"/>
                </a:cubicBezTo>
                <a:cubicBezTo>
                  <a:pt x="1569720" y="276860"/>
                  <a:pt x="1576591" y="270419"/>
                  <a:pt x="1584960" y="266700"/>
                </a:cubicBezTo>
                <a:cubicBezTo>
                  <a:pt x="1599640" y="260176"/>
                  <a:pt x="1617314" y="260371"/>
                  <a:pt x="1630680" y="251460"/>
                </a:cubicBezTo>
                <a:cubicBezTo>
                  <a:pt x="1645920" y="241300"/>
                  <a:pt x="1659024" y="226772"/>
                  <a:pt x="1676400" y="220980"/>
                </a:cubicBezTo>
                <a:cubicBezTo>
                  <a:pt x="1684020" y="218440"/>
                  <a:pt x="1692076" y="216952"/>
                  <a:pt x="1699260" y="213360"/>
                </a:cubicBezTo>
                <a:cubicBezTo>
                  <a:pt x="1707451" y="209264"/>
                  <a:pt x="1713751" y="201839"/>
                  <a:pt x="1722120" y="198120"/>
                </a:cubicBezTo>
                <a:cubicBezTo>
                  <a:pt x="1743862" y="188457"/>
                  <a:pt x="1809427" y="170869"/>
                  <a:pt x="1828800" y="167640"/>
                </a:cubicBezTo>
                <a:cubicBezTo>
                  <a:pt x="1844040" y="165100"/>
                  <a:pt x="1859370" y="163050"/>
                  <a:pt x="1874520" y="160020"/>
                </a:cubicBezTo>
                <a:cubicBezTo>
                  <a:pt x="1884789" y="157966"/>
                  <a:pt x="1894777" y="154672"/>
                  <a:pt x="1905000" y="152400"/>
                </a:cubicBezTo>
                <a:cubicBezTo>
                  <a:pt x="1917643" y="149590"/>
                  <a:pt x="1930400" y="147320"/>
                  <a:pt x="1943100" y="144780"/>
                </a:cubicBezTo>
                <a:cubicBezTo>
                  <a:pt x="1959622" y="136519"/>
                  <a:pt x="1977753" y="125657"/>
                  <a:pt x="1996440" y="121920"/>
                </a:cubicBezTo>
                <a:cubicBezTo>
                  <a:pt x="2014052" y="118398"/>
                  <a:pt x="2032000" y="116840"/>
                  <a:pt x="2049780" y="114300"/>
                </a:cubicBezTo>
                <a:cubicBezTo>
                  <a:pt x="2128858" y="61581"/>
                  <a:pt x="2006442" y="141827"/>
                  <a:pt x="2103120" y="83820"/>
                </a:cubicBezTo>
                <a:cubicBezTo>
                  <a:pt x="2167922" y="44939"/>
                  <a:pt x="2125142" y="59264"/>
                  <a:pt x="2179320" y="45720"/>
                </a:cubicBezTo>
                <a:cubicBezTo>
                  <a:pt x="2213539" y="11501"/>
                  <a:pt x="2191957" y="26268"/>
                  <a:pt x="2247900" y="7620"/>
                </a:cubicBezTo>
                <a:lnTo>
                  <a:pt x="2270760" y="0"/>
                </a:lnTo>
                <a:cubicBezTo>
                  <a:pt x="2367280" y="2540"/>
                  <a:pt x="2463990" y="1052"/>
                  <a:pt x="2560320" y="7620"/>
                </a:cubicBezTo>
                <a:cubicBezTo>
                  <a:pt x="2576347" y="8713"/>
                  <a:pt x="2606040" y="22860"/>
                  <a:pt x="2606040" y="22860"/>
                </a:cubicBezTo>
                <a:cubicBezTo>
                  <a:pt x="2616200" y="38100"/>
                  <a:pt x="2637483" y="50289"/>
                  <a:pt x="2636520" y="68580"/>
                </a:cubicBezTo>
                <a:cubicBezTo>
                  <a:pt x="2631229" y="169117"/>
                  <a:pt x="2639997" y="178330"/>
                  <a:pt x="2621280" y="243840"/>
                </a:cubicBezTo>
                <a:cubicBezTo>
                  <a:pt x="2619073" y="251563"/>
                  <a:pt x="2618115" y="260017"/>
                  <a:pt x="2613660" y="266700"/>
                </a:cubicBezTo>
                <a:cubicBezTo>
                  <a:pt x="2607682" y="275666"/>
                  <a:pt x="2598420" y="281940"/>
                  <a:pt x="2590800" y="289560"/>
                </a:cubicBezTo>
                <a:cubicBezTo>
                  <a:pt x="2556112" y="393625"/>
                  <a:pt x="2593956" y="287275"/>
                  <a:pt x="2560320" y="365760"/>
                </a:cubicBezTo>
                <a:cubicBezTo>
                  <a:pt x="2541898" y="408744"/>
                  <a:pt x="2564414" y="367543"/>
                  <a:pt x="2545080" y="419100"/>
                </a:cubicBezTo>
                <a:cubicBezTo>
                  <a:pt x="2541092" y="429736"/>
                  <a:pt x="2534059" y="439033"/>
                  <a:pt x="2529840" y="449580"/>
                </a:cubicBezTo>
                <a:cubicBezTo>
                  <a:pt x="2502636" y="517590"/>
                  <a:pt x="2528680" y="474179"/>
                  <a:pt x="2499360" y="518160"/>
                </a:cubicBezTo>
                <a:cubicBezTo>
                  <a:pt x="2487446" y="589646"/>
                  <a:pt x="2484451" y="586409"/>
                  <a:pt x="2499360" y="685800"/>
                </a:cubicBezTo>
                <a:cubicBezTo>
                  <a:pt x="2501045" y="697034"/>
                  <a:pt x="2510125" y="705839"/>
                  <a:pt x="2514600" y="716280"/>
                </a:cubicBezTo>
                <a:cubicBezTo>
                  <a:pt x="2517764" y="723663"/>
                  <a:pt x="2520013" y="731417"/>
                  <a:pt x="2522220" y="739140"/>
                </a:cubicBezTo>
                <a:cubicBezTo>
                  <a:pt x="2525097" y="749210"/>
                  <a:pt x="2526963" y="759550"/>
                  <a:pt x="2529840" y="769620"/>
                </a:cubicBezTo>
                <a:cubicBezTo>
                  <a:pt x="2532047" y="777343"/>
                  <a:pt x="2535253" y="784757"/>
                  <a:pt x="2537460" y="792480"/>
                </a:cubicBezTo>
                <a:cubicBezTo>
                  <a:pt x="2540337" y="802550"/>
                  <a:pt x="2540955" y="813334"/>
                  <a:pt x="2545080" y="822960"/>
                </a:cubicBezTo>
                <a:cubicBezTo>
                  <a:pt x="2548688" y="831378"/>
                  <a:pt x="2555240" y="838200"/>
                  <a:pt x="2560320" y="845820"/>
                </a:cubicBezTo>
                <a:cubicBezTo>
                  <a:pt x="2562860" y="858520"/>
                  <a:pt x="2564799" y="871355"/>
                  <a:pt x="2567940" y="883920"/>
                </a:cubicBezTo>
                <a:cubicBezTo>
                  <a:pt x="2569888" y="891712"/>
                  <a:pt x="2575560" y="898748"/>
                  <a:pt x="2575560" y="906780"/>
                </a:cubicBezTo>
                <a:cubicBezTo>
                  <a:pt x="2575560" y="947499"/>
                  <a:pt x="2571992" y="988183"/>
                  <a:pt x="2567940" y="1028700"/>
                </a:cubicBezTo>
                <a:cubicBezTo>
                  <a:pt x="2566295" y="1045152"/>
                  <a:pt x="2548490" y="1094669"/>
                  <a:pt x="2545080" y="1104900"/>
                </a:cubicBezTo>
                <a:lnTo>
                  <a:pt x="2537460" y="1127760"/>
                </a:lnTo>
                <a:cubicBezTo>
                  <a:pt x="2534920" y="1135380"/>
                  <a:pt x="2531788" y="1142828"/>
                  <a:pt x="2529840" y="1150620"/>
                </a:cubicBezTo>
                <a:cubicBezTo>
                  <a:pt x="2527300" y="1160780"/>
                  <a:pt x="2525097" y="1171030"/>
                  <a:pt x="2522220" y="1181100"/>
                </a:cubicBezTo>
                <a:cubicBezTo>
                  <a:pt x="2500356" y="1257622"/>
                  <a:pt x="2530801" y="1139155"/>
                  <a:pt x="2506980" y="1234440"/>
                </a:cubicBezTo>
                <a:cubicBezTo>
                  <a:pt x="2500161" y="1302632"/>
                  <a:pt x="2493757" y="1313107"/>
                  <a:pt x="2506980" y="1379220"/>
                </a:cubicBezTo>
                <a:lnTo>
                  <a:pt x="2529840" y="1447800"/>
                </a:lnTo>
                <a:lnTo>
                  <a:pt x="2537460" y="1470660"/>
                </a:lnTo>
                <a:cubicBezTo>
                  <a:pt x="2540000" y="1488440"/>
                  <a:pt x="2541867" y="1506329"/>
                  <a:pt x="2545080" y="1524000"/>
                </a:cubicBezTo>
                <a:cubicBezTo>
                  <a:pt x="2546953" y="1534304"/>
                  <a:pt x="2551926" y="1544036"/>
                  <a:pt x="2552700" y="1554480"/>
                </a:cubicBezTo>
                <a:cubicBezTo>
                  <a:pt x="2557020" y="1612795"/>
                  <a:pt x="2557780" y="1671320"/>
                  <a:pt x="2560320" y="1729740"/>
                </a:cubicBezTo>
                <a:cubicBezTo>
                  <a:pt x="2557780" y="1780540"/>
                  <a:pt x="2557106" y="1831468"/>
                  <a:pt x="2552700" y="1882140"/>
                </a:cubicBezTo>
                <a:cubicBezTo>
                  <a:pt x="2552004" y="1890142"/>
                  <a:pt x="2548672" y="1897816"/>
                  <a:pt x="2545080" y="1905000"/>
                </a:cubicBezTo>
                <a:cubicBezTo>
                  <a:pt x="2540984" y="1913191"/>
                  <a:pt x="2536316" y="1921384"/>
                  <a:pt x="2529840" y="1927860"/>
                </a:cubicBezTo>
                <a:cubicBezTo>
                  <a:pt x="2523364" y="1934336"/>
                  <a:pt x="2514600" y="1938020"/>
                  <a:pt x="2506980" y="1943100"/>
                </a:cubicBezTo>
                <a:cubicBezTo>
                  <a:pt x="2469142" y="1999857"/>
                  <a:pt x="2517773" y="1930148"/>
                  <a:pt x="2468880" y="1988820"/>
                </a:cubicBezTo>
                <a:cubicBezTo>
                  <a:pt x="2437130" y="2026920"/>
                  <a:pt x="2472690" y="1998980"/>
                  <a:pt x="2430780" y="2026920"/>
                </a:cubicBezTo>
                <a:cubicBezTo>
                  <a:pt x="2417368" y="2067156"/>
                  <a:pt x="2429843" y="2045325"/>
                  <a:pt x="2377440" y="2080260"/>
                </a:cubicBezTo>
                <a:cubicBezTo>
                  <a:pt x="2369820" y="2085340"/>
                  <a:pt x="2363268" y="2092604"/>
                  <a:pt x="2354580" y="2095500"/>
                </a:cubicBezTo>
                <a:lnTo>
                  <a:pt x="2308860" y="2110740"/>
                </a:lnTo>
                <a:cubicBezTo>
                  <a:pt x="2247370" y="2131237"/>
                  <a:pt x="2294017" y="2117859"/>
                  <a:pt x="2164080" y="2125980"/>
                </a:cubicBezTo>
                <a:cubicBezTo>
                  <a:pt x="2154314" y="2128421"/>
                  <a:pt x="2121672" y="2135754"/>
                  <a:pt x="2110740" y="2141220"/>
                </a:cubicBezTo>
                <a:cubicBezTo>
                  <a:pt x="2102549" y="2145316"/>
                  <a:pt x="2095500" y="2151380"/>
                  <a:pt x="2087880" y="2156460"/>
                </a:cubicBezTo>
                <a:cubicBezTo>
                  <a:pt x="2051890" y="2147462"/>
                  <a:pt x="2043430" y="2150110"/>
                  <a:pt x="2034540" y="2148840"/>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1" name="Freeform: Shape 24"/>
          <p:cNvSpPr/>
          <p:nvPr/>
        </p:nvSpPr>
        <p:spPr>
          <a:xfrm>
            <a:off x="258840" y="1494000"/>
            <a:ext cx="4781520" cy="2438280"/>
          </a:xfrm>
          <a:custGeom>
            <a:avLst/>
            <a:gdLst/>
            <a:ahLst/>
            <a:rect l="l" t="t" r="r" b="b"/>
            <a:pathLst>
              <a:path w="4780495" h="2438400">
                <a:moveTo>
                  <a:pt x="99060" y="99060"/>
                </a:moveTo>
                <a:lnTo>
                  <a:pt x="99060" y="99060"/>
                </a:lnTo>
                <a:cubicBezTo>
                  <a:pt x="104140" y="121920"/>
                  <a:pt x="109034" y="144822"/>
                  <a:pt x="114300" y="167640"/>
                </a:cubicBezTo>
                <a:cubicBezTo>
                  <a:pt x="116655" y="177844"/>
                  <a:pt x="119648" y="187897"/>
                  <a:pt x="121920" y="198120"/>
                </a:cubicBezTo>
                <a:cubicBezTo>
                  <a:pt x="124730" y="210763"/>
                  <a:pt x="127000" y="223520"/>
                  <a:pt x="129540" y="236220"/>
                </a:cubicBezTo>
                <a:cubicBezTo>
                  <a:pt x="127000" y="264160"/>
                  <a:pt x="127422" y="292530"/>
                  <a:pt x="121920" y="320040"/>
                </a:cubicBezTo>
                <a:cubicBezTo>
                  <a:pt x="119692" y="331179"/>
                  <a:pt x="110272" y="339744"/>
                  <a:pt x="106680" y="350520"/>
                </a:cubicBezTo>
                <a:cubicBezTo>
                  <a:pt x="102584" y="362807"/>
                  <a:pt x="102468" y="376125"/>
                  <a:pt x="99060" y="388620"/>
                </a:cubicBezTo>
                <a:cubicBezTo>
                  <a:pt x="94833" y="404118"/>
                  <a:pt x="88900" y="419100"/>
                  <a:pt x="83820" y="434340"/>
                </a:cubicBezTo>
                <a:lnTo>
                  <a:pt x="68580" y="480060"/>
                </a:lnTo>
                <a:cubicBezTo>
                  <a:pt x="66040" y="487680"/>
                  <a:pt x="62908" y="495128"/>
                  <a:pt x="60960" y="502920"/>
                </a:cubicBezTo>
                <a:cubicBezTo>
                  <a:pt x="55880" y="523240"/>
                  <a:pt x="49828" y="543341"/>
                  <a:pt x="45720" y="563880"/>
                </a:cubicBezTo>
                <a:cubicBezTo>
                  <a:pt x="39888" y="593039"/>
                  <a:pt x="32128" y="638121"/>
                  <a:pt x="22860" y="670560"/>
                </a:cubicBezTo>
                <a:cubicBezTo>
                  <a:pt x="20653" y="678283"/>
                  <a:pt x="17780" y="685800"/>
                  <a:pt x="15240" y="693420"/>
                </a:cubicBezTo>
                <a:cubicBezTo>
                  <a:pt x="12700" y="711200"/>
                  <a:pt x="10351" y="729008"/>
                  <a:pt x="7620" y="746760"/>
                </a:cubicBezTo>
                <a:cubicBezTo>
                  <a:pt x="5271" y="762031"/>
                  <a:pt x="0" y="777030"/>
                  <a:pt x="0" y="792480"/>
                </a:cubicBezTo>
                <a:cubicBezTo>
                  <a:pt x="0" y="889033"/>
                  <a:pt x="741" y="985732"/>
                  <a:pt x="7620" y="1082040"/>
                </a:cubicBezTo>
                <a:cubicBezTo>
                  <a:pt x="8429" y="1093370"/>
                  <a:pt x="17780" y="1102360"/>
                  <a:pt x="22860" y="1112520"/>
                </a:cubicBezTo>
                <a:cubicBezTo>
                  <a:pt x="25400" y="1127760"/>
                  <a:pt x="27716" y="1143039"/>
                  <a:pt x="30480" y="1158240"/>
                </a:cubicBezTo>
                <a:cubicBezTo>
                  <a:pt x="32797" y="1170983"/>
                  <a:pt x="36268" y="1183519"/>
                  <a:pt x="38100" y="1196340"/>
                </a:cubicBezTo>
                <a:cubicBezTo>
                  <a:pt x="41580" y="1220698"/>
                  <a:pt x="51155" y="1319269"/>
                  <a:pt x="53340" y="1341120"/>
                </a:cubicBezTo>
                <a:cubicBezTo>
                  <a:pt x="50800" y="1430020"/>
                  <a:pt x="49758" y="1518975"/>
                  <a:pt x="45720" y="1607820"/>
                </a:cubicBezTo>
                <a:cubicBezTo>
                  <a:pt x="44676" y="1630797"/>
                  <a:pt x="39121" y="1653422"/>
                  <a:pt x="38100" y="1676400"/>
                </a:cubicBezTo>
                <a:cubicBezTo>
                  <a:pt x="34038" y="1767785"/>
                  <a:pt x="33020" y="1859280"/>
                  <a:pt x="30480" y="1950720"/>
                </a:cubicBezTo>
                <a:cubicBezTo>
                  <a:pt x="33020" y="1968500"/>
                  <a:pt x="35369" y="1986308"/>
                  <a:pt x="38100" y="2004060"/>
                </a:cubicBezTo>
                <a:cubicBezTo>
                  <a:pt x="40449" y="2019331"/>
                  <a:pt x="43535" y="2034485"/>
                  <a:pt x="45720" y="2049780"/>
                </a:cubicBezTo>
                <a:cubicBezTo>
                  <a:pt x="48616" y="2070052"/>
                  <a:pt x="49973" y="2090540"/>
                  <a:pt x="53340" y="2110740"/>
                </a:cubicBezTo>
                <a:cubicBezTo>
                  <a:pt x="58104" y="2139326"/>
                  <a:pt x="61333" y="2138714"/>
                  <a:pt x="68580" y="2164080"/>
                </a:cubicBezTo>
                <a:cubicBezTo>
                  <a:pt x="71457" y="2174150"/>
                  <a:pt x="74327" y="2184256"/>
                  <a:pt x="76200" y="2194560"/>
                </a:cubicBezTo>
                <a:cubicBezTo>
                  <a:pt x="80212" y="2216624"/>
                  <a:pt x="80262" y="2248404"/>
                  <a:pt x="91440" y="2270760"/>
                </a:cubicBezTo>
                <a:cubicBezTo>
                  <a:pt x="95536" y="2278951"/>
                  <a:pt x="102584" y="2285429"/>
                  <a:pt x="106680" y="2293620"/>
                </a:cubicBezTo>
                <a:cubicBezTo>
                  <a:pt x="110272" y="2300804"/>
                  <a:pt x="109845" y="2309797"/>
                  <a:pt x="114300" y="2316480"/>
                </a:cubicBezTo>
                <a:cubicBezTo>
                  <a:pt x="126034" y="2334081"/>
                  <a:pt x="143152" y="2343335"/>
                  <a:pt x="160020" y="2354580"/>
                </a:cubicBezTo>
                <a:cubicBezTo>
                  <a:pt x="200660" y="2415540"/>
                  <a:pt x="147320" y="2341880"/>
                  <a:pt x="198120" y="2392680"/>
                </a:cubicBezTo>
                <a:cubicBezTo>
                  <a:pt x="204596" y="2399156"/>
                  <a:pt x="205594" y="2410686"/>
                  <a:pt x="213360" y="2415540"/>
                </a:cubicBezTo>
                <a:cubicBezTo>
                  <a:pt x="226983" y="2424054"/>
                  <a:pt x="243840" y="2425700"/>
                  <a:pt x="259080" y="2430780"/>
                </a:cubicBezTo>
                <a:lnTo>
                  <a:pt x="281940" y="2438400"/>
                </a:lnTo>
                <a:cubicBezTo>
                  <a:pt x="297180" y="2435860"/>
                  <a:pt x="312671" y="2434527"/>
                  <a:pt x="327660" y="2430780"/>
                </a:cubicBezTo>
                <a:cubicBezTo>
                  <a:pt x="343245" y="2426884"/>
                  <a:pt x="373380" y="2415540"/>
                  <a:pt x="373380" y="2415540"/>
                </a:cubicBezTo>
                <a:cubicBezTo>
                  <a:pt x="390232" y="2398688"/>
                  <a:pt x="397882" y="2388049"/>
                  <a:pt x="419100" y="2377440"/>
                </a:cubicBezTo>
                <a:cubicBezTo>
                  <a:pt x="426284" y="2373848"/>
                  <a:pt x="434776" y="2373412"/>
                  <a:pt x="441960" y="2369820"/>
                </a:cubicBezTo>
                <a:cubicBezTo>
                  <a:pt x="470339" y="2355631"/>
                  <a:pt x="462401" y="2352786"/>
                  <a:pt x="487680" y="2331720"/>
                </a:cubicBezTo>
                <a:cubicBezTo>
                  <a:pt x="494715" y="2325857"/>
                  <a:pt x="502920" y="2321560"/>
                  <a:pt x="510540" y="2316480"/>
                </a:cubicBezTo>
                <a:cubicBezTo>
                  <a:pt x="515620" y="2308860"/>
                  <a:pt x="518629" y="2299341"/>
                  <a:pt x="525780" y="2293620"/>
                </a:cubicBezTo>
                <a:cubicBezTo>
                  <a:pt x="532052" y="2288602"/>
                  <a:pt x="541257" y="2289164"/>
                  <a:pt x="548640" y="2286000"/>
                </a:cubicBezTo>
                <a:cubicBezTo>
                  <a:pt x="559081" y="2281525"/>
                  <a:pt x="569257" y="2276396"/>
                  <a:pt x="579120" y="2270760"/>
                </a:cubicBezTo>
                <a:cubicBezTo>
                  <a:pt x="587071" y="2266216"/>
                  <a:pt x="593611" y="2259239"/>
                  <a:pt x="601980" y="2255520"/>
                </a:cubicBezTo>
                <a:cubicBezTo>
                  <a:pt x="616660" y="2248996"/>
                  <a:pt x="634334" y="2249191"/>
                  <a:pt x="647700" y="2240280"/>
                </a:cubicBezTo>
                <a:cubicBezTo>
                  <a:pt x="655320" y="2235200"/>
                  <a:pt x="662191" y="2228759"/>
                  <a:pt x="670560" y="2225040"/>
                </a:cubicBezTo>
                <a:lnTo>
                  <a:pt x="739140" y="2202180"/>
                </a:lnTo>
                <a:lnTo>
                  <a:pt x="784860" y="2186940"/>
                </a:lnTo>
                <a:cubicBezTo>
                  <a:pt x="792480" y="2184400"/>
                  <a:pt x="799844" y="2180895"/>
                  <a:pt x="807720" y="2179320"/>
                </a:cubicBezTo>
                <a:cubicBezTo>
                  <a:pt x="833120" y="2174240"/>
                  <a:pt x="859346" y="2172271"/>
                  <a:pt x="883920" y="2164080"/>
                </a:cubicBezTo>
                <a:cubicBezTo>
                  <a:pt x="899160" y="2159000"/>
                  <a:pt x="913794" y="2151481"/>
                  <a:pt x="929640" y="2148840"/>
                </a:cubicBezTo>
                <a:cubicBezTo>
                  <a:pt x="962726" y="2143326"/>
                  <a:pt x="981510" y="2140700"/>
                  <a:pt x="1013460" y="2133600"/>
                </a:cubicBezTo>
                <a:cubicBezTo>
                  <a:pt x="1023683" y="2131328"/>
                  <a:pt x="1033483" y="2126545"/>
                  <a:pt x="1043940" y="2125980"/>
                </a:cubicBezTo>
                <a:cubicBezTo>
                  <a:pt x="1127676" y="2121454"/>
                  <a:pt x="1211580" y="2120900"/>
                  <a:pt x="1295400" y="2118360"/>
                </a:cubicBezTo>
                <a:cubicBezTo>
                  <a:pt x="1346949" y="2101177"/>
                  <a:pt x="1284380" y="2123870"/>
                  <a:pt x="1356360" y="2087880"/>
                </a:cubicBezTo>
                <a:cubicBezTo>
                  <a:pt x="1373662" y="2079229"/>
                  <a:pt x="1391739" y="2072204"/>
                  <a:pt x="1409700" y="2065020"/>
                </a:cubicBezTo>
                <a:cubicBezTo>
                  <a:pt x="1438507" y="2053497"/>
                  <a:pt x="1432206" y="2061431"/>
                  <a:pt x="1463040" y="2042160"/>
                </a:cubicBezTo>
                <a:cubicBezTo>
                  <a:pt x="1473810" y="2035429"/>
                  <a:pt x="1481629" y="2023759"/>
                  <a:pt x="1493520" y="2019300"/>
                </a:cubicBezTo>
                <a:cubicBezTo>
                  <a:pt x="1522938" y="2008268"/>
                  <a:pt x="1554152" y="2002602"/>
                  <a:pt x="1584960" y="1996440"/>
                </a:cubicBezTo>
                <a:cubicBezTo>
                  <a:pt x="1597660" y="1993900"/>
                  <a:pt x="1610259" y="1990789"/>
                  <a:pt x="1623060" y="1988820"/>
                </a:cubicBezTo>
                <a:cubicBezTo>
                  <a:pt x="1643300" y="1985706"/>
                  <a:pt x="1663722" y="1983906"/>
                  <a:pt x="1684020" y="1981200"/>
                </a:cubicBezTo>
                <a:lnTo>
                  <a:pt x="1737360" y="1973580"/>
                </a:lnTo>
                <a:cubicBezTo>
                  <a:pt x="1752631" y="1971231"/>
                  <a:pt x="1767785" y="1968145"/>
                  <a:pt x="1783080" y="1965960"/>
                </a:cubicBezTo>
                <a:cubicBezTo>
                  <a:pt x="1803352" y="1963064"/>
                  <a:pt x="1823768" y="1961236"/>
                  <a:pt x="1844040" y="1958340"/>
                </a:cubicBezTo>
                <a:cubicBezTo>
                  <a:pt x="1912847" y="1948510"/>
                  <a:pt x="1877844" y="1948974"/>
                  <a:pt x="1965960" y="1943100"/>
                </a:cubicBezTo>
                <a:cubicBezTo>
                  <a:pt x="2016711" y="1939717"/>
                  <a:pt x="2067560" y="1938020"/>
                  <a:pt x="2118360" y="1935480"/>
                </a:cubicBezTo>
                <a:cubicBezTo>
                  <a:pt x="2187801" y="1921592"/>
                  <a:pt x="2124837" y="1935823"/>
                  <a:pt x="2202180" y="1912620"/>
                </a:cubicBezTo>
                <a:cubicBezTo>
                  <a:pt x="2212211" y="1909611"/>
                  <a:pt x="2222725" y="1908312"/>
                  <a:pt x="2232660" y="1905000"/>
                </a:cubicBezTo>
                <a:cubicBezTo>
                  <a:pt x="2245636" y="1900675"/>
                  <a:pt x="2257564" y="1893359"/>
                  <a:pt x="2270760" y="1889760"/>
                </a:cubicBezTo>
                <a:cubicBezTo>
                  <a:pt x="2285666" y="1885695"/>
                  <a:pt x="2301240" y="1884680"/>
                  <a:pt x="2316480" y="1882140"/>
                </a:cubicBezTo>
                <a:cubicBezTo>
                  <a:pt x="2324100" y="1877060"/>
                  <a:pt x="2331149" y="1870996"/>
                  <a:pt x="2339340" y="1866900"/>
                </a:cubicBezTo>
                <a:cubicBezTo>
                  <a:pt x="2356758" y="1858191"/>
                  <a:pt x="2382910" y="1856007"/>
                  <a:pt x="2400300" y="1851660"/>
                </a:cubicBezTo>
                <a:cubicBezTo>
                  <a:pt x="2408092" y="1849712"/>
                  <a:pt x="2415437" y="1846247"/>
                  <a:pt x="2423160" y="1844040"/>
                </a:cubicBezTo>
                <a:cubicBezTo>
                  <a:pt x="2444564" y="1837925"/>
                  <a:pt x="2470134" y="1832728"/>
                  <a:pt x="2491740" y="1828800"/>
                </a:cubicBezTo>
                <a:cubicBezTo>
                  <a:pt x="2506941" y="1826036"/>
                  <a:pt x="2522079" y="1822645"/>
                  <a:pt x="2537460" y="1821180"/>
                </a:cubicBezTo>
                <a:cubicBezTo>
                  <a:pt x="2575473" y="1817560"/>
                  <a:pt x="2613660" y="1816100"/>
                  <a:pt x="2651760" y="1813560"/>
                </a:cubicBezTo>
                <a:cubicBezTo>
                  <a:pt x="2727960" y="1816100"/>
                  <a:pt x="2804235" y="1816951"/>
                  <a:pt x="2880360" y="1821180"/>
                </a:cubicBezTo>
                <a:cubicBezTo>
                  <a:pt x="2921628" y="1823473"/>
                  <a:pt x="2938383" y="1834570"/>
                  <a:pt x="2979420" y="1844040"/>
                </a:cubicBezTo>
                <a:cubicBezTo>
                  <a:pt x="2994475" y="1847514"/>
                  <a:pt x="3010151" y="1847913"/>
                  <a:pt x="3025140" y="1851660"/>
                </a:cubicBezTo>
                <a:cubicBezTo>
                  <a:pt x="3040725" y="1855556"/>
                  <a:pt x="3055014" y="1864259"/>
                  <a:pt x="3070860" y="1866900"/>
                </a:cubicBezTo>
                <a:cubicBezTo>
                  <a:pt x="3196669" y="1887868"/>
                  <a:pt x="3064405" y="1863381"/>
                  <a:pt x="3139440" y="1882140"/>
                </a:cubicBezTo>
                <a:cubicBezTo>
                  <a:pt x="3152005" y="1885281"/>
                  <a:pt x="3165045" y="1886352"/>
                  <a:pt x="3177540" y="1889760"/>
                </a:cubicBezTo>
                <a:cubicBezTo>
                  <a:pt x="3283886" y="1918763"/>
                  <a:pt x="3168535" y="1894055"/>
                  <a:pt x="3261360" y="1912620"/>
                </a:cubicBezTo>
                <a:cubicBezTo>
                  <a:pt x="3283875" y="1923877"/>
                  <a:pt x="3305617" y="1935803"/>
                  <a:pt x="3329940" y="1943100"/>
                </a:cubicBezTo>
                <a:cubicBezTo>
                  <a:pt x="3342345" y="1946822"/>
                  <a:pt x="3355545" y="1947312"/>
                  <a:pt x="3368040" y="1950720"/>
                </a:cubicBezTo>
                <a:cubicBezTo>
                  <a:pt x="3436530" y="1969399"/>
                  <a:pt x="3390506" y="1960749"/>
                  <a:pt x="3451860" y="1981200"/>
                </a:cubicBezTo>
                <a:cubicBezTo>
                  <a:pt x="3528228" y="2006656"/>
                  <a:pt x="3479661" y="1988150"/>
                  <a:pt x="3543300" y="2004060"/>
                </a:cubicBezTo>
                <a:cubicBezTo>
                  <a:pt x="3551092" y="2006008"/>
                  <a:pt x="3558284" y="2010105"/>
                  <a:pt x="3566160" y="2011680"/>
                </a:cubicBezTo>
                <a:cubicBezTo>
                  <a:pt x="3583772" y="2015202"/>
                  <a:pt x="3601748" y="2016569"/>
                  <a:pt x="3619500" y="2019300"/>
                </a:cubicBezTo>
                <a:cubicBezTo>
                  <a:pt x="3671247" y="2027261"/>
                  <a:pt x="3681489" y="2031753"/>
                  <a:pt x="3741420" y="2034540"/>
                </a:cubicBezTo>
                <a:cubicBezTo>
                  <a:pt x="3825188" y="2038436"/>
                  <a:pt x="3909060" y="2039620"/>
                  <a:pt x="3992880" y="2042160"/>
                </a:cubicBezTo>
                <a:cubicBezTo>
                  <a:pt x="4003040" y="2044700"/>
                  <a:pt x="4013137" y="2047508"/>
                  <a:pt x="4023360" y="2049780"/>
                </a:cubicBezTo>
                <a:cubicBezTo>
                  <a:pt x="4036003" y="2052590"/>
                  <a:pt x="4048965" y="2053992"/>
                  <a:pt x="4061460" y="2057400"/>
                </a:cubicBezTo>
                <a:cubicBezTo>
                  <a:pt x="4076958" y="2061627"/>
                  <a:pt x="4091595" y="2068744"/>
                  <a:pt x="4107180" y="2072640"/>
                </a:cubicBezTo>
                <a:lnTo>
                  <a:pt x="4168140" y="2087880"/>
                </a:lnTo>
                <a:cubicBezTo>
                  <a:pt x="4178300" y="2090420"/>
                  <a:pt x="4188685" y="2092188"/>
                  <a:pt x="4198620" y="2095500"/>
                </a:cubicBezTo>
                <a:cubicBezTo>
                  <a:pt x="4206240" y="2098040"/>
                  <a:pt x="4213577" y="2101683"/>
                  <a:pt x="4221480" y="2103120"/>
                </a:cubicBezTo>
                <a:cubicBezTo>
                  <a:pt x="4241628" y="2106783"/>
                  <a:pt x="4262120" y="2108200"/>
                  <a:pt x="4282440" y="2110740"/>
                </a:cubicBezTo>
                <a:cubicBezTo>
                  <a:pt x="4356185" y="2140238"/>
                  <a:pt x="4282918" y="2114858"/>
                  <a:pt x="4389120" y="2133600"/>
                </a:cubicBezTo>
                <a:cubicBezTo>
                  <a:pt x="4409747" y="2137240"/>
                  <a:pt x="4429760" y="2143760"/>
                  <a:pt x="4450080" y="2148840"/>
                </a:cubicBezTo>
                <a:cubicBezTo>
                  <a:pt x="4460240" y="2151380"/>
                  <a:pt x="4470193" y="2154979"/>
                  <a:pt x="4480560" y="2156460"/>
                </a:cubicBezTo>
                <a:lnTo>
                  <a:pt x="4533900" y="2164080"/>
                </a:lnTo>
                <a:cubicBezTo>
                  <a:pt x="4564380" y="2161540"/>
                  <a:pt x="4596702" y="2167199"/>
                  <a:pt x="4625340" y="2156460"/>
                </a:cubicBezTo>
                <a:cubicBezTo>
                  <a:pt x="4628791" y="2155166"/>
                  <a:pt x="4665240" y="2107140"/>
                  <a:pt x="4671060" y="2095500"/>
                </a:cubicBezTo>
                <a:cubicBezTo>
                  <a:pt x="4674652" y="2088316"/>
                  <a:pt x="4674011" y="2079176"/>
                  <a:pt x="4678680" y="2072640"/>
                </a:cubicBezTo>
                <a:cubicBezTo>
                  <a:pt x="4687031" y="2060948"/>
                  <a:pt x="4699000" y="2052320"/>
                  <a:pt x="4709160" y="2042160"/>
                </a:cubicBezTo>
                <a:cubicBezTo>
                  <a:pt x="4717101" y="2018338"/>
                  <a:pt x="4724801" y="1988552"/>
                  <a:pt x="4747260" y="1973580"/>
                </a:cubicBezTo>
                <a:lnTo>
                  <a:pt x="4770120" y="1958340"/>
                </a:lnTo>
                <a:cubicBezTo>
                  <a:pt x="4780142" y="1908231"/>
                  <a:pt x="4787309" y="1890680"/>
                  <a:pt x="4770120" y="1828800"/>
                </a:cubicBezTo>
                <a:cubicBezTo>
                  <a:pt x="4765218" y="1811152"/>
                  <a:pt x="4749800" y="1798320"/>
                  <a:pt x="4739640" y="1783080"/>
                </a:cubicBezTo>
                <a:cubicBezTo>
                  <a:pt x="4730987" y="1770100"/>
                  <a:pt x="4710992" y="1739192"/>
                  <a:pt x="4701540" y="1729740"/>
                </a:cubicBezTo>
                <a:cubicBezTo>
                  <a:pt x="4695064" y="1723264"/>
                  <a:pt x="4685156" y="1720976"/>
                  <a:pt x="4678680" y="1714500"/>
                </a:cubicBezTo>
                <a:cubicBezTo>
                  <a:pt x="4669700" y="1705520"/>
                  <a:pt x="4664316" y="1693460"/>
                  <a:pt x="4655820" y="1684020"/>
                </a:cubicBezTo>
                <a:cubicBezTo>
                  <a:pt x="4641402" y="1668000"/>
                  <a:pt x="4625340" y="1653540"/>
                  <a:pt x="4610100" y="1638300"/>
                </a:cubicBezTo>
                <a:cubicBezTo>
                  <a:pt x="4602480" y="1630680"/>
                  <a:pt x="4596206" y="1621418"/>
                  <a:pt x="4587240" y="1615440"/>
                </a:cubicBezTo>
                <a:cubicBezTo>
                  <a:pt x="4579620" y="1610360"/>
                  <a:pt x="4571415" y="1606063"/>
                  <a:pt x="4564380" y="1600200"/>
                </a:cubicBezTo>
                <a:cubicBezTo>
                  <a:pt x="4556101" y="1593301"/>
                  <a:pt x="4550289" y="1583604"/>
                  <a:pt x="4541520" y="1577340"/>
                </a:cubicBezTo>
                <a:cubicBezTo>
                  <a:pt x="4532277" y="1570738"/>
                  <a:pt x="4520283" y="1568702"/>
                  <a:pt x="4511040" y="1562100"/>
                </a:cubicBezTo>
                <a:cubicBezTo>
                  <a:pt x="4502271" y="1555836"/>
                  <a:pt x="4497146" y="1545218"/>
                  <a:pt x="4488180" y="1539240"/>
                </a:cubicBezTo>
                <a:cubicBezTo>
                  <a:pt x="4481497" y="1534785"/>
                  <a:pt x="4472504" y="1535212"/>
                  <a:pt x="4465320" y="1531620"/>
                </a:cubicBezTo>
                <a:cubicBezTo>
                  <a:pt x="4452073" y="1524996"/>
                  <a:pt x="4440167" y="1515953"/>
                  <a:pt x="4427220" y="1508760"/>
                </a:cubicBezTo>
                <a:cubicBezTo>
                  <a:pt x="4417290" y="1503243"/>
                  <a:pt x="4406670" y="1499037"/>
                  <a:pt x="4396740" y="1493520"/>
                </a:cubicBezTo>
                <a:cubicBezTo>
                  <a:pt x="4346381" y="1465543"/>
                  <a:pt x="4336515" y="1449889"/>
                  <a:pt x="4267200" y="1432560"/>
                </a:cubicBezTo>
                <a:cubicBezTo>
                  <a:pt x="4257040" y="1430020"/>
                  <a:pt x="4246526" y="1428617"/>
                  <a:pt x="4236720" y="1424940"/>
                </a:cubicBezTo>
                <a:cubicBezTo>
                  <a:pt x="4226084" y="1420952"/>
                  <a:pt x="4217016" y="1413292"/>
                  <a:pt x="4206240" y="1409700"/>
                </a:cubicBezTo>
                <a:cubicBezTo>
                  <a:pt x="4193953" y="1405604"/>
                  <a:pt x="4180635" y="1405488"/>
                  <a:pt x="4168140" y="1402080"/>
                </a:cubicBezTo>
                <a:cubicBezTo>
                  <a:pt x="4152642" y="1397853"/>
                  <a:pt x="4137100" y="1393364"/>
                  <a:pt x="4122420" y="1386840"/>
                </a:cubicBezTo>
                <a:cubicBezTo>
                  <a:pt x="4114051" y="1383121"/>
                  <a:pt x="4108248" y="1374496"/>
                  <a:pt x="4099560" y="1371600"/>
                </a:cubicBezTo>
                <a:cubicBezTo>
                  <a:pt x="4077344" y="1364195"/>
                  <a:pt x="4053840" y="1361440"/>
                  <a:pt x="4030980" y="1356360"/>
                </a:cubicBezTo>
                <a:cubicBezTo>
                  <a:pt x="4020820" y="1351280"/>
                  <a:pt x="4010363" y="1346756"/>
                  <a:pt x="4000500" y="1341120"/>
                </a:cubicBezTo>
                <a:cubicBezTo>
                  <a:pt x="3992549" y="1336576"/>
                  <a:pt x="3985831" y="1329976"/>
                  <a:pt x="3977640" y="1325880"/>
                </a:cubicBezTo>
                <a:cubicBezTo>
                  <a:pt x="3965406" y="1319763"/>
                  <a:pt x="3952039" y="1316195"/>
                  <a:pt x="3939540" y="1310640"/>
                </a:cubicBezTo>
                <a:cubicBezTo>
                  <a:pt x="3929160" y="1306027"/>
                  <a:pt x="3919501" y="1299875"/>
                  <a:pt x="3909060" y="1295400"/>
                </a:cubicBezTo>
                <a:cubicBezTo>
                  <a:pt x="3901677" y="1292236"/>
                  <a:pt x="3893384" y="1291372"/>
                  <a:pt x="3886200" y="1287780"/>
                </a:cubicBezTo>
                <a:cubicBezTo>
                  <a:pt x="3800037" y="1244699"/>
                  <a:pt x="3862426" y="1267155"/>
                  <a:pt x="3810000" y="1249680"/>
                </a:cubicBezTo>
                <a:cubicBezTo>
                  <a:pt x="3802380" y="1242060"/>
                  <a:pt x="3796106" y="1232798"/>
                  <a:pt x="3787140" y="1226820"/>
                </a:cubicBezTo>
                <a:cubicBezTo>
                  <a:pt x="3780457" y="1222365"/>
                  <a:pt x="3771464" y="1222792"/>
                  <a:pt x="3764280" y="1219200"/>
                </a:cubicBezTo>
                <a:cubicBezTo>
                  <a:pt x="3756089" y="1215104"/>
                  <a:pt x="3749838" y="1207568"/>
                  <a:pt x="3741420" y="1203960"/>
                </a:cubicBezTo>
                <a:cubicBezTo>
                  <a:pt x="3731794" y="1199835"/>
                  <a:pt x="3721010" y="1199217"/>
                  <a:pt x="3710940" y="1196340"/>
                </a:cubicBezTo>
                <a:cubicBezTo>
                  <a:pt x="3703217" y="1194133"/>
                  <a:pt x="3695700" y="1191260"/>
                  <a:pt x="3688080" y="1188720"/>
                </a:cubicBezTo>
                <a:cubicBezTo>
                  <a:pt x="3684611" y="1186118"/>
                  <a:pt x="3643406" y="1154334"/>
                  <a:pt x="3634740" y="1150620"/>
                </a:cubicBezTo>
                <a:cubicBezTo>
                  <a:pt x="3625114" y="1146495"/>
                  <a:pt x="3614066" y="1146677"/>
                  <a:pt x="3604260" y="1143000"/>
                </a:cubicBezTo>
                <a:cubicBezTo>
                  <a:pt x="3559614" y="1126258"/>
                  <a:pt x="3586653" y="1126422"/>
                  <a:pt x="3535680" y="1112520"/>
                </a:cubicBezTo>
                <a:cubicBezTo>
                  <a:pt x="3520774" y="1108455"/>
                  <a:pt x="3505110" y="1107930"/>
                  <a:pt x="3489960" y="1104900"/>
                </a:cubicBezTo>
                <a:cubicBezTo>
                  <a:pt x="3479691" y="1102846"/>
                  <a:pt x="3469831" y="1098872"/>
                  <a:pt x="3459480" y="1097280"/>
                </a:cubicBezTo>
                <a:cubicBezTo>
                  <a:pt x="3392013" y="1086900"/>
                  <a:pt x="3288071" y="1083470"/>
                  <a:pt x="3230880" y="1082040"/>
                </a:cubicBezTo>
                <a:lnTo>
                  <a:pt x="2781300" y="1074420"/>
                </a:lnTo>
                <a:lnTo>
                  <a:pt x="2651760" y="1059180"/>
                </a:lnTo>
                <a:cubicBezTo>
                  <a:pt x="2631173" y="1055320"/>
                  <a:pt x="2611209" y="1048650"/>
                  <a:pt x="2590800" y="1043940"/>
                </a:cubicBezTo>
                <a:cubicBezTo>
                  <a:pt x="2578180" y="1041028"/>
                  <a:pt x="2565079" y="1040129"/>
                  <a:pt x="2552700" y="1036320"/>
                </a:cubicBezTo>
                <a:cubicBezTo>
                  <a:pt x="2531958" y="1029938"/>
                  <a:pt x="2512223" y="1020629"/>
                  <a:pt x="2491740" y="1013460"/>
                </a:cubicBezTo>
                <a:cubicBezTo>
                  <a:pt x="2461415" y="1002846"/>
                  <a:pt x="2430780" y="993140"/>
                  <a:pt x="2400300" y="982980"/>
                </a:cubicBezTo>
                <a:cubicBezTo>
                  <a:pt x="2385060" y="977900"/>
                  <a:pt x="2370165" y="971636"/>
                  <a:pt x="2354580" y="967740"/>
                </a:cubicBezTo>
                <a:cubicBezTo>
                  <a:pt x="2277926" y="948577"/>
                  <a:pt x="2353883" y="968191"/>
                  <a:pt x="2202180" y="922020"/>
                </a:cubicBezTo>
                <a:cubicBezTo>
                  <a:pt x="2184490" y="916636"/>
                  <a:pt x="2166383" y="912628"/>
                  <a:pt x="2148840" y="906780"/>
                </a:cubicBezTo>
                <a:cubicBezTo>
                  <a:pt x="2118360" y="896620"/>
                  <a:pt x="2088905" y="882601"/>
                  <a:pt x="2057400" y="876300"/>
                </a:cubicBezTo>
                <a:cubicBezTo>
                  <a:pt x="2013291" y="867478"/>
                  <a:pt x="2019502" y="870359"/>
                  <a:pt x="1973580" y="853440"/>
                </a:cubicBezTo>
                <a:cubicBezTo>
                  <a:pt x="1940383" y="841210"/>
                  <a:pt x="1907493" y="828163"/>
                  <a:pt x="1874520" y="815340"/>
                </a:cubicBezTo>
                <a:cubicBezTo>
                  <a:pt x="1842509" y="802891"/>
                  <a:pt x="1824728" y="794140"/>
                  <a:pt x="1790700" y="784860"/>
                </a:cubicBezTo>
                <a:cubicBezTo>
                  <a:pt x="1778205" y="781452"/>
                  <a:pt x="1765005" y="780962"/>
                  <a:pt x="1752600" y="777240"/>
                </a:cubicBezTo>
                <a:cubicBezTo>
                  <a:pt x="1739499" y="773310"/>
                  <a:pt x="1726734" y="768117"/>
                  <a:pt x="1714500" y="762000"/>
                </a:cubicBezTo>
                <a:cubicBezTo>
                  <a:pt x="1637973" y="723736"/>
                  <a:pt x="1754674" y="771597"/>
                  <a:pt x="1661160" y="731520"/>
                </a:cubicBezTo>
                <a:cubicBezTo>
                  <a:pt x="1636015" y="720744"/>
                  <a:pt x="1610913" y="709691"/>
                  <a:pt x="1584960" y="701040"/>
                </a:cubicBezTo>
                <a:cubicBezTo>
                  <a:pt x="1577340" y="698500"/>
                  <a:pt x="1569597" y="696303"/>
                  <a:pt x="1562100" y="693420"/>
                </a:cubicBezTo>
                <a:cubicBezTo>
                  <a:pt x="1536567" y="683600"/>
                  <a:pt x="1511300" y="673100"/>
                  <a:pt x="1485900" y="662940"/>
                </a:cubicBezTo>
                <a:cubicBezTo>
                  <a:pt x="1473200" y="657860"/>
                  <a:pt x="1460952" y="651458"/>
                  <a:pt x="1447800" y="647700"/>
                </a:cubicBezTo>
                <a:lnTo>
                  <a:pt x="1394460" y="632460"/>
                </a:lnTo>
                <a:cubicBezTo>
                  <a:pt x="1320788" y="588257"/>
                  <a:pt x="1389373" y="631185"/>
                  <a:pt x="1325880" y="586740"/>
                </a:cubicBezTo>
                <a:cubicBezTo>
                  <a:pt x="1310875" y="576236"/>
                  <a:pt x="1294618" y="567505"/>
                  <a:pt x="1280160" y="556260"/>
                </a:cubicBezTo>
                <a:cubicBezTo>
                  <a:pt x="1271654" y="549644"/>
                  <a:pt x="1265579" y="540299"/>
                  <a:pt x="1257300" y="533400"/>
                </a:cubicBezTo>
                <a:cubicBezTo>
                  <a:pt x="1250265" y="527537"/>
                  <a:pt x="1241475" y="524023"/>
                  <a:pt x="1234440" y="518160"/>
                </a:cubicBezTo>
                <a:cubicBezTo>
                  <a:pt x="1226161" y="511261"/>
                  <a:pt x="1219920" y="502124"/>
                  <a:pt x="1211580" y="495300"/>
                </a:cubicBezTo>
                <a:cubicBezTo>
                  <a:pt x="1191921" y="479216"/>
                  <a:pt x="1168581" y="467541"/>
                  <a:pt x="1150620" y="449580"/>
                </a:cubicBezTo>
                <a:lnTo>
                  <a:pt x="1082040" y="381000"/>
                </a:lnTo>
                <a:cubicBezTo>
                  <a:pt x="1074420" y="373380"/>
                  <a:pt x="1067801" y="364606"/>
                  <a:pt x="1059180" y="358140"/>
                </a:cubicBezTo>
                <a:cubicBezTo>
                  <a:pt x="930997" y="262003"/>
                  <a:pt x="1053554" y="358411"/>
                  <a:pt x="960120" y="274320"/>
                </a:cubicBezTo>
                <a:cubicBezTo>
                  <a:pt x="933920" y="250740"/>
                  <a:pt x="914598" y="237499"/>
                  <a:pt x="883920" y="220980"/>
                </a:cubicBezTo>
                <a:cubicBezTo>
                  <a:pt x="863917" y="210209"/>
                  <a:pt x="841135" y="204131"/>
                  <a:pt x="822960" y="190500"/>
                </a:cubicBezTo>
                <a:cubicBezTo>
                  <a:pt x="812800" y="182880"/>
                  <a:pt x="802123" y="175905"/>
                  <a:pt x="792480" y="167640"/>
                </a:cubicBezTo>
                <a:cubicBezTo>
                  <a:pt x="784298" y="160627"/>
                  <a:pt x="778712" y="150566"/>
                  <a:pt x="769620" y="144780"/>
                </a:cubicBezTo>
                <a:cubicBezTo>
                  <a:pt x="732141" y="120930"/>
                  <a:pt x="719371" y="117870"/>
                  <a:pt x="685800" y="106680"/>
                </a:cubicBezTo>
                <a:cubicBezTo>
                  <a:pt x="675640" y="99060"/>
                  <a:pt x="664963" y="92085"/>
                  <a:pt x="655320" y="83820"/>
                </a:cubicBezTo>
                <a:cubicBezTo>
                  <a:pt x="623432" y="56488"/>
                  <a:pt x="639715" y="58258"/>
                  <a:pt x="594360" y="38100"/>
                </a:cubicBezTo>
                <a:cubicBezTo>
                  <a:pt x="584790" y="33847"/>
                  <a:pt x="574040" y="33020"/>
                  <a:pt x="563880" y="30480"/>
                </a:cubicBezTo>
                <a:cubicBezTo>
                  <a:pt x="556260" y="25400"/>
                  <a:pt x="549211" y="19336"/>
                  <a:pt x="541020" y="15240"/>
                </a:cubicBezTo>
                <a:cubicBezTo>
                  <a:pt x="522261" y="5861"/>
                  <a:pt x="490000" y="2927"/>
                  <a:pt x="472440" y="0"/>
                </a:cubicBezTo>
                <a:cubicBezTo>
                  <a:pt x="398780" y="2540"/>
                  <a:pt x="324842" y="740"/>
                  <a:pt x="251460" y="7620"/>
                </a:cubicBezTo>
                <a:cubicBezTo>
                  <a:pt x="242342" y="8475"/>
                  <a:pt x="236551" y="18316"/>
                  <a:pt x="228600" y="22860"/>
                </a:cubicBezTo>
                <a:cubicBezTo>
                  <a:pt x="200539" y="38895"/>
                  <a:pt x="177254" y="43726"/>
                  <a:pt x="152400" y="68580"/>
                </a:cubicBezTo>
                <a:cubicBezTo>
                  <a:pt x="144780" y="76200"/>
                  <a:pt x="137819" y="84541"/>
                  <a:pt x="129540" y="91440"/>
                </a:cubicBezTo>
                <a:cubicBezTo>
                  <a:pt x="97606" y="118051"/>
                  <a:pt x="110104" y="93353"/>
                  <a:pt x="83820" y="137160"/>
                </a:cubicBezTo>
                <a:cubicBezTo>
                  <a:pt x="82513" y="139338"/>
                  <a:pt x="96520" y="105410"/>
                  <a:pt x="99060" y="9906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4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4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4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50"/>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FA6F-BBAB-4D3B-8A45-662F5DDF14C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53" name="Oval 6"/>
          <p:cNvSpPr/>
          <p:nvPr/>
        </p:nvSpPr>
        <p:spPr>
          <a:xfrm>
            <a:off x="1676520" y="8380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7"/>
          <p:cNvSpPr/>
          <p:nvPr/>
        </p:nvSpPr>
        <p:spPr>
          <a:xfrm>
            <a:off x="4486320" y="5867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9"/>
          <p:cNvSpPr/>
          <p:nvPr/>
        </p:nvSpPr>
        <p:spPr>
          <a:xfrm>
            <a:off x="609480" y="1627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Oval 10"/>
          <p:cNvSpPr/>
          <p:nvPr/>
        </p:nvSpPr>
        <p:spPr>
          <a:xfrm>
            <a:off x="7086600" y="29718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11"/>
          <p:cNvSpPr/>
          <p:nvPr/>
        </p:nvSpPr>
        <p:spPr>
          <a:xfrm>
            <a:off x="2765520" y="28954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12"/>
          <p:cNvSpPr/>
          <p:nvPr/>
        </p:nvSpPr>
        <p:spPr>
          <a:xfrm>
            <a:off x="1295280" y="5494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13"/>
          <p:cNvSpPr/>
          <p:nvPr/>
        </p:nvSpPr>
        <p:spPr>
          <a:xfrm>
            <a:off x="6324480" y="502920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14"/>
          <p:cNvSpPr/>
          <p:nvPr/>
        </p:nvSpPr>
        <p:spPr>
          <a:xfrm>
            <a:off x="6477120" y="12891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Oval 15"/>
          <p:cNvSpPr/>
          <p:nvPr/>
        </p:nvSpPr>
        <p:spPr>
          <a:xfrm>
            <a:off x="4648320" y="327672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16"/>
          <p:cNvSpPr/>
          <p:nvPr/>
        </p:nvSpPr>
        <p:spPr>
          <a:xfrm>
            <a:off x="2666880" y="4648320"/>
            <a:ext cx="15264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17"/>
          <p:cNvSpPr/>
          <p:nvPr/>
        </p:nvSpPr>
        <p:spPr>
          <a:xfrm>
            <a:off x="460440" y="363528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val 18"/>
          <p:cNvSpPr/>
          <p:nvPr/>
        </p:nvSpPr>
        <p:spPr>
          <a:xfrm>
            <a:off x="3657600" y="12175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Isosceles Triangle 1"/>
          <p:cNvSpPr/>
          <p:nvPr/>
        </p:nvSpPr>
        <p:spPr>
          <a:xfrm>
            <a:off x="3657600" y="3276720"/>
            <a:ext cx="239760" cy="206280"/>
          </a:xfrm>
          <a:prstGeom prst="triangle">
            <a:avLst>
              <a:gd name="adj" fmla="val 50000"/>
            </a:avLst>
          </a:prstGeom>
          <a:solidFill>
            <a:srgbClr val="ff0000"/>
          </a:solidFill>
          <a:ln w="25560">
            <a:solidFill>
              <a:srgbClr val="385d8a"/>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6" name="Group 9221"/>
          <p:cNvGrpSpPr/>
          <p:nvPr/>
        </p:nvGrpSpPr>
        <p:grpSpPr>
          <a:xfrm>
            <a:off x="761760" y="941400"/>
            <a:ext cx="3074760" cy="2411280"/>
            <a:chOff x="761760" y="941400"/>
            <a:chExt cx="3074760" cy="2411280"/>
          </a:xfrm>
        </p:grpSpPr>
        <p:sp>
          <p:nvSpPr>
            <p:cNvPr id="267" name="Straight Connector 3"/>
            <p:cNvSpPr/>
            <p:nvPr/>
          </p:nvSpPr>
          <p:spPr>
            <a:xfrm flipH="1" flipV="1">
              <a:off x="761760" y="1675800"/>
              <a:ext cx="3074760" cy="1676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Straight Connector 24"/>
            <p:cNvSpPr/>
            <p:nvPr/>
          </p:nvSpPr>
          <p:spPr>
            <a:xfrm flipH="1" flipV="1">
              <a:off x="2895480" y="2998440"/>
              <a:ext cx="822240" cy="3538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Straight Connector 27"/>
            <p:cNvSpPr/>
            <p:nvPr/>
          </p:nvSpPr>
          <p:spPr>
            <a:xfrm flipH="1" flipV="1">
              <a:off x="1806120" y="941400"/>
              <a:ext cx="1911240" cy="2411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Straight Connector 30"/>
            <p:cNvSpPr/>
            <p:nvPr/>
          </p:nvSpPr>
          <p:spPr>
            <a:xfrm flipV="1">
              <a:off x="3718080" y="1342440"/>
              <a:ext cx="15840" cy="20098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1" name="Group 9222"/>
          <p:cNvGrpSpPr/>
          <p:nvPr/>
        </p:nvGrpSpPr>
        <p:grpSpPr>
          <a:xfrm>
            <a:off x="631800" y="816120"/>
            <a:ext cx="3178080" cy="2079360"/>
            <a:chOff x="631800" y="816120"/>
            <a:chExt cx="3178080" cy="2079360"/>
          </a:xfrm>
        </p:grpSpPr>
        <p:sp>
          <p:nvSpPr>
            <p:cNvPr id="272" name="Straight Connector 20"/>
            <p:cNvSpPr/>
            <p:nvPr/>
          </p:nvSpPr>
          <p:spPr>
            <a:xfrm flipH="1">
              <a:off x="739080" y="816120"/>
              <a:ext cx="1012680" cy="8110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Straight Connector 23"/>
            <p:cNvSpPr/>
            <p:nvPr/>
          </p:nvSpPr>
          <p:spPr>
            <a:xfrm>
              <a:off x="631800" y="1735200"/>
              <a:ext cx="2155680" cy="116028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Straight Connector 26"/>
            <p:cNvSpPr/>
            <p:nvPr/>
          </p:nvSpPr>
          <p:spPr>
            <a:xfrm>
              <a:off x="1752480" y="839880"/>
              <a:ext cx="2057400" cy="4554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28"/>
            <p:cNvSpPr/>
            <p:nvPr/>
          </p:nvSpPr>
          <p:spPr>
            <a:xfrm flipV="1">
              <a:off x="2841480" y="1347480"/>
              <a:ext cx="892080" cy="152532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Straight Connector 9218"/>
            <p:cNvSpPr/>
            <p:nvPr/>
          </p:nvSpPr>
          <p:spPr>
            <a:xfrm flipV="1">
              <a:off x="761760" y="1325160"/>
              <a:ext cx="2917800" cy="35532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Straight Connector 9220"/>
            <p:cNvSpPr/>
            <p:nvPr/>
          </p:nvSpPr>
          <p:spPr>
            <a:xfrm flipH="1" flipV="1">
              <a:off x="1806120" y="945720"/>
              <a:ext cx="981000" cy="1949400"/>
            </a:xfrm>
            <a:prstGeom prst="line">
              <a:avLst/>
            </a:prstGeom>
            <a:ln w="255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8" name="Group 9236"/>
          <p:cNvGrpSpPr/>
          <p:nvPr/>
        </p:nvGrpSpPr>
        <p:grpSpPr>
          <a:xfrm>
            <a:off x="2819520" y="1217520"/>
            <a:ext cx="3765600" cy="2211480"/>
            <a:chOff x="2819520" y="1217520"/>
            <a:chExt cx="3765600" cy="2211480"/>
          </a:xfrm>
        </p:grpSpPr>
        <p:sp>
          <p:nvSpPr>
            <p:cNvPr id="279" name="Straight Connector 64"/>
            <p:cNvSpPr/>
            <p:nvPr/>
          </p:nvSpPr>
          <p:spPr>
            <a:xfrm flipV="1">
              <a:off x="2849400" y="1418760"/>
              <a:ext cx="3627720" cy="150516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0" name="Group 9229"/>
            <p:cNvGrpSpPr/>
            <p:nvPr/>
          </p:nvGrpSpPr>
          <p:grpSpPr>
            <a:xfrm>
              <a:off x="2819520" y="1217520"/>
              <a:ext cx="3765600" cy="2211480"/>
              <a:chOff x="2819520" y="1217520"/>
              <a:chExt cx="3765600" cy="2211480"/>
            </a:xfrm>
          </p:grpSpPr>
          <p:sp>
            <p:nvSpPr>
              <p:cNvPr id="281" name="Straight Connector 31"/>
              <p:cNvSpPr/>
              <p:nvPr/>
            </p:nvSpPr>
            <p:spPr>
              <a:xfrm>
                <a:off x="3711600" y="1217520"/>
                <a:ext cx="2873520" cy="2016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Straight Connector 33"/>
              <p:cNvSpPr/>
              <p:nvPr/>
            </p:nvSpPr>
            <p:spPr>
              <a:xfrm flipH="1">
                <a:off x="4702320" y="1441080"/>
                <a:ext cx="1828800" cy="198792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Straight Connector 54"/>
              <p:cNvSpPr/>
              <p:nvPr/>
            </p:nvSpPr>
            <p:spPr>
              <a:xfrm flipV="1">
                <a:off x="2819520" y="1239480"/>
                <a:ext cx="946080" cy="165600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Straight Connector 65"/>
              <p:cNvSpPr/>
              <p:nvPr/>
            </p:nvSpPr>
            <p:spPr>
              <a:xfrm flipH="1" flipV="1">
                <a:off x="3765600" y="1347480"/>
                <a:ext cx="947520" cy="195768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Straight Connector 66"/>
              <p:cNvSpPr/>
              <p:nvPr/>
            </p:nvSpPr>
            <p:spPr>
              <a:xfrm>
                <a:off x="2857320" y="2970360"/>
                <a:ext cx="1920960" cy="458640"/>
              </a:xfrm>
              <a:prstGeom prst="line">
                <a:avLst/>
              </a:prstGeom>
              <a:ln w="255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86" name="Group 9235"/>
          <p:cNvGrpSpPr/>
          <p:nvPr/>
        </p:nvGrpSpPr>
        <p:grpSpPr>
          <a:xfrm>
            <a:off x="2828880" y="1217520"/>
            <a:ext cx="3670200" cy="2265120"/>
            <a:chOff x="2828880" y="1217520"/>
            <a:chExt cx="3670200" cy="2265120"/>
          </a:xfrm>
        </p:grpSpPr>
        <p:sp>
          <p:nvSpPr>
            <p:cNvPr id="287" name="Straight Connector 9231"/>
            <p:cNvSpPr/>
            <p:nvPr/>
          </p:nvSpPr>
          <p:spPr>
            <a:xfrm flipV="1">
              <a:off x="3776400" y="3352680"/>
              <a:ext cx="871560" cy="1299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Straight Connector 69"/>
            <p:cNvSpPr/>
            <p:nvPr/>
          </p:nvSpPr>
          <p:spPr>
            <a:xfrm>
              <a:off x="2828880" y="2970360"/>
              <a:ext cx="887400" cy="4093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Straight Connector 70"/>
            <p:cNvSpPr/>
            <p:nvPr/>
          </p:nvSpPr>
          <p:spPr>
            <a:xfrm flipV="1">
              <a:off x="3770280" y="1419120"/>
              <a:ext cx="2728800" cy="195120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Straight Connector 71"/>
            <p:cNvSpPr/>
            <p:nvPr/>
          </p:nvSpPr>
          <p:spPr>
            <a:xfrm flipH="1" flipV="1">
              <a:off x="3733200" y="1217520"/>
              <a:ext cx="20520" cy="21895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1" name="Group 34"/>
          <p:cNvGrpSpPr/>
          <p:nvPr/>
        </p:nvGrpSpPr>
        <p:grpSpPr>
          <a:xfrm>
            <a:off x="3733920" y="1371600"/>
            <a:ext cx="3352680" cy="3738600"/>
            <a:chOff x="3733920" y="1371600"/>
            <a:chExt cx="3352680" cy="3738600"/>
          </a:xfrm>
        </p:grpSpPr>
        <p:sp>
          <p:nvSpPr>
            <p:cNvPr id="292" name="Straight Connector 78"/>
            <p:cNvSpPr/>
            <p:nvPr/>
          </p:nvSpPr>
          <p:spPr>
            <a:xfrm flipV="1">
              <a:off x="3759120" y="3047760"/>
              <a:ext cx="3327480" cy="32220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Straight Connector 77"/>
            <p:cNvSpPr/>
            <p:nvPr/>
          </p:nvSpPr>
          <p:spPr>
            <a:xfrm flipH="1">
              <a:off x="3770280" y="1371600"/>
              <a:ext cx="2674800" cy="196704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Straight Connector 79"/>
            <p:cNvSpPr/>
            <p:nvPr/>
          </p:nvSpPr>
          <p:spPr>
            <a:xfrm>
              <a:off x="3733920" y="3346560"/>
              <a:ext cx="2665440" cy="176364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Straight Connector 80"/>
            <p:cNvSpPr/>
            <p:nvPr/>
          </p:nvSpPr>
          <p:spPr>
            <a:xfrm flipV="1">
              <a:off x="3841560" y="3250800"/>
              <a:ext cx="880920" cy="1839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6" name="Group 38"/>
          <p:cNvGrpSpPr/>
          <p:nvPr/>
        </p:nvGrpSpPr>
        <p:grpSpPr>
          <a:xfrm>
            <a:off x="4695840" y="1295280"/>
            <a:ext cx="2466720" cy="3830760"/>
            <a:chOff x="4695840" y="1295280"/>
            <a:chExt cx="2466720" cy="3830760"/>
          </a:xfrm>
        </p:grpSpPr>
        <p:sp>
          <p:nvSpPr>
            <p:cNvPr id="297" name="Straight Connector 37"/>
            <p:cNvSpPr/>
            <p:nvPr/>
          </p:nvSpPr>
          <p:spPr>
            <a:xfrm flipH="1">
              <a:off x="6400440" y="3130560"/>
              <a:ext cx="762120" cy="1905120"/>
            </a:xfrm>
            <a:prstGeom prst="line">
              <a:avLst/>
            </a:prstGeom>
            <a:ln w="25560">
              <a:solidFill>
                <a:srgbClr val="f7964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Straight Connector 57"/>
            <p:cNvSpPr/>
            <p:nvPr/>
          </p:nvSpPr>
          <p:spPr>
            <a:xfrm flipH="1" flipV="1">
              <a:off x="4777920" y="3412800"/>
              <a:ext cx="1622520" cy="1622520"/>
            </a:xfrm>
            <a:prstGeom prst="line">
              <a:avLst/>
            </a:prstGeom>
            <a:ln w="25560">
              <a:solidFill>
                <a:srgbClr val="f7964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Straight Connector 87"/>
            <p:cNvSpPr/>
            <p:nvPr/>
          </p:nvSpPr>
          <p:spPr>
            <a:xfrm flipV="1">
              <a:off x="4732200" y="1447560"/>
              <a:ext cx="1820880" cy="188280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Straight Connector 88"/>
            <p:cNvSpPr/>
            <p:nvPr/>
          </p:nvSpPr>
          <p:spPr>
            <a:xfrm flipV="1">
              <a:off x="4695840" y="3053880"/>
              <a:ext cx="2337120" cy="22212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Straight Connector 89"/>
            <p:cNvSpPr/>
            <p:nvPr/>
          </p:nvSpPr>
          <p:spPr>
            <a:xfrm flipH="1">
              <a:off x="6407280" y="1447560"/>
              <a:ext cx="125280" cy="367848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Straight Connector 96"/>
            <p:cNvSpPr/>
            <p:nvPr/>
          </p:nvSpPr>
          <p:spPr>
            <a:xfrm>
              <a:off x="6532920" y="1295280"/>
              <a:ext cx="555480" cy="1704960"/>
            </a:xfrm>
            <a:prstGeom prst="line">
              <a:avLst/>
            </a:prstGeom>
            <a:ln w="25560">
              <a:solidFill>
                <a:srgbClr val="f7964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3" name="Group 43"/>
          <p:cNvGrpSpPr/>
          <p:nvPr/>
        </p:nvGrpSpPr>
        <p:grpSpPr>
          <a:xfrm>
            <a:off x="2743200" y="3352680"/>
            <a:ext cx="3658680" cy="2590920"/>
            <a:chOff x="2743200" y="3352680"/>
            <a:chExt cx="3658680" cy="2590920"/>
          </a:xfrm>
        </p:grpSpPr>
        <p:sp>
          <p:nvSpPr>
            <p:cNvPr id="304" name="Straight Connector 39"/>
            <p:cNvSpPr/>
            <p:nvPr/>
          </p:nvSpPr>
          <p:spPr>
            <a:xfrm flipH="1">
              <a:off x="4486320" y="5029200"/>
              <a:ext cx="1914480" cy="91440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Straight Connector 45"/>
            <p:cNvSpPr/>
            <p:nvPr/>
          </p:nvSpPr>
          <p:spPr>
            <a:xfrm flipH="1" flipV="1">
              <a:off x="2796480" y="4777920"/>
              <a:ext cx="1765080" cy="108900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Straight Connector 47"/>
            <p:cNvSpPr/>
            <p:nvPr/>
          </p:nvSpPr>
          <p:spPr>
            <a:xfrm flipV="1">
              <a:off x="2743200" y="3352680"/>
              <a:ext cx="2057400" cy="129528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Straight Connector 100"/>
            <p:cNvSpPr/>
            <p:nvPr/>
          </p:nvSpPr>
          <p:spPr>
            <a:xfrm flipV="1">
              <a:off x="4562280" y="3360600"/>
              <a:ext cx="106200" cy="250704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Straight Connector 101"/>
            <p:cNvSpPr/>
            <p:nvPr/>
          </p:nvSpPr>
          <p:spPr>
            <a:xfrm flipH="1" flipV="1">
              <a:off x="2796480" y="4669920"/>
              <a:ext cx="3583080" cy="42372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Straight Connector 102"/>
            <p:cNvSpPr/>
            <p:nvPr/>
          </p:nvSpPr>
          <p:spPr>
            <a:xfrm flipH="1" flipV="1">
              <a:off x="4777920" y="3352680"/>
              <a:ext cx="1623960" cy="1673280"/>
            </a:xfrm>
            <a:prstGeom prst="line">
              <a:avLst/>
            </a:prstGeom>
            <a:ln w="255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0" name="Group 72"/>
          <p:cNvGrpSpPr/>
          <p:nvPr/>
        </p:nvGrpSpPr>
        <p:grpSpPr>
          <a:xfrm>
            <a:off x="2819520" y="3352320"/>
            <a:ext cx="3635280" cy="2514960"/>
            <a:chOff x="2819520" y="3352320"/>
            <a:chExt cx="3635280" cy="2514960"/>
          </a:xfrm>
        </p:grpSpPr>
        <p:sp>
          <p:nvSpPr>
            <p:cNvPr id="311" name="Straight Connector 46"/>
            <p:cNvSpPr/>
            <p:nvPr/>
          </p:nvSpPr>
          <p:spPr>
            <a:xfrm flipV="1">
              <a:off x="3776760" y="3352320"/>
              <a:ext cx="871560" cy="12996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Straight Connector 51"/>
            <p:cNvSpPr/>
            <p:nvPr/>
          </p:nvSpPr>
          <p:spPr>
            <a:xfrm flipH="1">
              <a:off x="2819520" y="3482640"/>
              <a:ext cx="838080" cy="124128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Straight Connector 56"/>
            <p:cNvSpPr/>
            <p:nvPr/>
          </p:nvSpPr>
          <p:spPr>
            <a:xfrm>
              <a:off x="3776760" y="3482640"/>
              <a:ext cx="785520" cy="238464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Straight Connector 68"/>
            <p:cNvSpPr/>
            <p:nvPr/>
          </p:nvSpPr>
          <p:spPr>
            <a:xfrm>
              <a:off x="3776760" y="3482640"/>
              <a:ext cx="2678040" cy="1676520"/>
            </a:xfrm>
            <a:prstGeom prst="line">
              <a:avLst/>
            </a:prstGeom>
            <a:ln w="255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5" name="Group 76"/>
          <p:cNvGrpSpPr/>
          <p:nvPr/>
        </p:nvGrpSpPr>
        <p:grpSpPr>
          <a:xfrm>
            <a:off x="517680" y="2971800"/>
            <a:ext cx="2323800" cy="2549520"/>
            <a:chOff x="517680" y="2971800"/>
            <a:chExt cx="2323800" cy="2549520"/>
          </a:xfrm>
        </p:grpSpPr>
        <p:sp>
          <p:nvSpPr>
            <p:cNvPr id="316" name="Straight Connector 50"/>
            <p:cNvSpPr/>
            <p:nvPr/>
          </p:nvSpPr>
          <p:spPr>
            <a:xfrm flipH="1">
              <a:off x="1425600" y="4648320"/>
              <a:ext cx="1317600" cy="86832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Straight Connector 53"/>
            <p:cNvSpPr/>
            <p:nvPr/>
          </p:nvSpPr>
          <p:spPr>
            <a:xfrm flipH="1" flipV="1">
              <a:off x="536040" y="3787200"/>
              <a:ext cx="834840" cy="170676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Straight Connector 55"/>
            <p:cNvSpPr/>
            <p:nvPr/>
          </p:nvSpPr>
          <p:spPr>
            <a:xfrm flipV="1">
              <a:off x="2743200" y="3047400"/>
              <a:ext cx="98280" cy="160020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Straight Connector 117"/>
            <p:cNvSpPr/>
            <p:nvPr/>
          </p:nvSpPr>
          <p:spPr>
            <a:xfrm flipH="1" flipV="1">
              <a:off x="590040" y="3765240"/>
              <a:ext cx="2120760" cy="91764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Straight Connector 118"/>
            <p:cNvSpPr/>
            <p:nvPr/>
          </p:nvSpPr>
          <p:spPr>
            <a:xfrm flipH="1">
              <a:off x="517680" y="2971800"/>
              <a:ext cx="2270160" cy="67788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Straight Connector 119"/>
            <p:cNvSpPr/>
            <p:nvPr/>
          </p:nvSpPr>
          <p:spPr>
            <a:xfrm flipH="1">
              <a:off x="1382760" y="3025440"/>
              <a:ext cx="1404720" cy="2495880"/>
            </a:xfrm>
            <a:prstGeom prst="line">
              <a:avLst/>
            </a:prstGeom>
            <a:ln w="25560">
              <a:solidFill>
                <a:srgbClr val="8064a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2" name="Group 93"/>
          <p:cNvGrpSpPr/>
          <p:nvPr/>
        </p:nvGrpSpPr>
        <p:grpSpPr>
          <a:xfrm>
            <a:off x="590400" y="2971800"/>
            <a:ext cx="3211560" cy="2490840"/>
            <a:chOff x="590400" y="2971800"/>
            <a:chExt cx="3211560" cy="2490840"/>
          </a:xfrm>
        </p:grpSpPr>
        <p:sp>
          <p:nvSpPr>
            <p:cNvPr id="323" name="Straight Connector 123"/>
            <p:cNvSpPr/>
            <p:nvPr/>
          </p:nvSpPr>
          <p:spPr>
            <a:xfrm flipH="1">
              <a:off x="2797200" y="3370320"/>
              <a:ext cx="931680" cy="124632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Straight Connector 126"/>
            <p:cNvSpPr/>
            <p:nvPr/>
          </p:nvSpPr>
          <p:spPr>
            <a:xfrm flipH="1">
              <a:off x="1424880" y="3370320"/>
              <a:ext cx="2305080" cy="209232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Straight Connector 127"/>
            <p:cNvSpPr/>
            <p:nvPr/>
          </p:nvSpPr>
          <p:spPr>
            <a:xfrm flipH="1" flipV="1">
              <a:off x="2895480" y="2971800"/>
              <a:ext cx="906480" cy="37296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Straight Connector 131"/>
            <p:cNvSpPr/>
            <p:nvPr/>
          </p:nvSpPr>
          <p:spPr>
            <a:xfrm flipH="1">
              <a:off x="590400" y="3359160"/>
              <a:ext cx="3175200" cy="35244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7" name="Group 105"/>
          <p:cNvGrpSpPr/>
          <p:nvPr/>
        </p:nvGrpSpPr>
        <p:grpSpPr>
          <a:xfrm>
            <a:off x="536400" y="1752480"/>
            <a:ext cx="4133880" cy="2008440"/>
            <a:chOff x="536400" y="1752480"/>
            <a:chExt cx="4133880" cy="2008440"/>
          </a:xfrm>
        </p:grpSpPr>
        <p:grpSp>
          <p:nvGrpSpPr>
            <p:cNvPr id="328" name="Group 104"/>
            <p:cNvGrpSpPr/>
            <p:nvPr/>
          </p:nvGrpSpPr>
          <p:grpSpPr>
            <a:xfrm>
              <a:off x="536400" y="1752480"/>
              <a:ext cx="4133520" cy="2008440"/>
              <a:chOff x="536400" y="1752480"/>
              <a:chExt cx="4133520" cy="2008440"/>
            </a:xfrm>
          </p:grpSpPr>
          <p:grpSp>
            <p:nvGrpSpPr>
              <p:cNvPr id="329" name="Group 94"/>
              <p:cNvGrpSpPr/>
              <p:nvPr/>
            </p:nvGrpSpPr>
            <p:grpSpPr>
              <a:xfrm>
                <a:off x="536400" y="1752480"/>
                <a:ext cx="4111560" cy="2008440"/>
                <a:chOff x="536400" y="1752480"/>
                <a:chExt cx="4111560" cy="2008440"/>
              </a:xfrm>
            </p:grpSpPr>
            <p:sp>
              <p:nvSpPr>
                <p:cNvPr id="330" name="Straight Connector 59"/>
                <p:cNvSpPr/>
                <p:nvPr/>
              </p:nvSpPr>
              <p:spPr>
                <a:xfrm flipH="1" flipV="1">
                  <a:off x="2917440" y="2967120"/>
                  <a:ext cx="1730520" cy="3808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Straight Connector 61"/>
                <p:cNvSpPr/>
                <p:nvPr/>
              </p:nvSpPr>
              <p:spPr>
                <a:xfrm flipH="1">
                  <a:off x="589680" y="3043440"/>
                  <a:ext cx="2251080" cy="717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Straight Connector 63"/>
                <p:cNvSpPr/>
                <p:nvPr/>
              </p:nvSpPr>
              <p:spPr>
                <a:xfrm flipV="1">
                  <a:off x="536400" y="1752480"/>
                  <a:ext cx="95040" cy="1878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3" name="Straight Connector 138"/>
              <p:cNvSpPr/>
              <p:nvPr/>
            </p:nvSpPr>
            <p:spPr>
              <a:xfrm flipH="1" flipV="1">
                <a:off x="693000" y="1764720"/>
                <a:ext cx="3976920" cy="15289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Straight Connector 139"/>
              <p:cNvSpPr/>
              <p:nvPr/>
            </p:nvSpPr>
            <p:spPr>
              <a:xfrm>
                <a:off x="739440" y="1752480"/>
                <a:ext cx="2025720" cy="12146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5" name="Straight Connector 140"/>
            <p:cNvSpPr/>
            <p:nvPr/>
          </p:nvSpPr>
          <p:spPr>
            <a:xfrm flipV="1">
              <a:off x="555120" y="3434040"/>
              <a:ext cx="4115160" cy="2937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6" name="Group 120"/>
          <p:cNvGrpSpPr/>
          <p:nvPr/>
        </p:nvGrpSpPr>
        <p:grpSpPr>
          <a:xfrm>
            <a:off x="590400" y="1752480"/>
            <a:ext cx="4057920" cy="1900440"/>
            <a:chOff x="590400" y="1752480"/>
            <a:chExt cx="4057920" cy="1900440"/>
          </a:xfrm>
        </p:grpSpPr>
        <p:sp>
          <p:nvSpPr>
            <p:cNvPr id="337" name="Straight Connector 107"/>
            <p:cNvSpPr/>
            <p:nvPr/>
          </p:nvSpPr>
          <p:spPr>
            <a:xfrm flipV="1">
              <a:off x="3897360" y="3348000"/>
              <a:ext cx="750960" cy="129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Straight Connector 111"/>
            <p:cNvSpPr/>
            <p:nvPr/>
          </p:nvSpPr>
          <p:spPr>
            <a:xfrm flipH="1" flipV="1">
              <a:off x="2895480" y="3020760"/>
              <a:ext cx="822240" cy="353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Straight Connector 113"/>
            <p:cNvSpPr/>
            <p:nvPr/>
          </p:nvSpPr>
          <p:spPr>
            <a:xfrm flipH="1">
              <a:off x="590400" y="3375360"/>
              <a:ext cx="3127680" cy="27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Straight Connector 115"/>
            <p:cNvSpPr/>
            <p:nvPr/>
          </p:nvSpPr>
          <p:spPr>
            <a:xfrm flipH="1" flipV="1">
              <a:off x="739080" y="1752480"/>
              <a:ext cx="2978280" cy="162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1" name="Freeform: Shape 160"/>
          <p:cNvSpPr/>
          <p:nvPr/>
        </p:nvSpPr>
        <p:spPr>
          <a:xfrm>
            <a:off x="579600" y="617400"/>
            <a:ext cx="3360600" cy="2575080"/>
          </a:xfrm>
          <a:custGeom>
            <a:avLst/>
            <a:gdLst/>
            <a:ahLst/>
            <a:rect l="l" t="t" r="r" b="b"/>
            <a:pathLst>
              <a:path w="3360420" h="2575560">
                <a:moveTo>
                  <a:pt x="1242060" y="22860"/>
                </a:moveTo>
                <a:lnTo>
                  <a:pt x="1242060" y="22860"/>
                </a:lnTo>
                <a:cubicBezTo>
                  <a:pt x="1235575" y="23400"/>
                  <a:pt x="1155224" y="22842"/>
                  <a:pt x="1127760" y="38100"/>
                </a:cubicBezTo>
                <a:cubicBezTo>
                  <a:pt x="1111749" y="46995"/>
                  <a:pt x="1099416" y="62788"/>
                  <a:pt x="1082040" y="68580"/>
                </a:cubicBezTo>
                <a:cubicBezTo>
                  <a:pt x="1059129" y="76217"/>
                  <a:pt x="1056015" y="75027"/>
                  <a:pt x="1036320" y="91440"/>
                </a:cubicBezTo>
                <a:cubicBezTo>
                  <a:pt x="1028041" y="98339"/>
                  <a:pt x="1022426" y="108322"/>
                  <a:pt x="1013460" y="114300"/>
                </a:cubicBezTo>
                <a:cubicBezTo>
                  <a:pt x="1006777" y="118755"/>
                  <a:pt x="997912" y="118596"/>
                  <a:pt x="990600" y="121920"/>
                </a:cubicBezTo>
                <a:cubicBezTo>
                  <a:pt x="969918" y="131321"/>
                  <a:pt x="951680" y="146890"/>
                  <a:pt x="929640" y="152400"/>
                </a:cubicBezTo>
                <a:cubicBezTo>
                  <a:pt x="914173" y="156267"/>
                  <a:pt x="891604" y="161081"/>
                  <a:pt x="876300" y="167640"/>
                </a:cubicBezTo>
                <a:cubicBezTo>
                  <a:pt x="865859" y="172115"/>
                  <a:pt x="856367" y="178661"/>
                  <a:pt x="845820" y="182880"/>
                </a:cubicBezTo>
                <a:cubicBezTo>
                  <a:pt x="830905" y="188846"/>
                  <a:pt x="813466" y="189209"/>
                  <a:pt x="800100" y="198120"/>
                </a:cubicBezTo>
                <a:lnTo>
                  <a:pt x="754380" y="228600"/>
                </a:lnTo>
                <a:lnTo>
                  <a:pt x="731520" y="243840"/>
                </a:lnTo>
                <a:cubicBezTo>
                  <a:pt x="723900" y="248920"/>
                  <a:pt x="715136" y="252604"/>
                  <a:pt x="708660" y="259080"/>
                </a:cubicBezTo>
                <a:cubicBezTo>
                  <a:pt x="701040" y="266700"/>
                  <a:pt x="692699" y="273661"/>
                  <a:pt x="685800" y="281940"/>
                </a:cubicBezTo>
                <a:cubicBezTo>
                  <a:pt x="679937" y="288975"/>
                  <a:pt x="677452" y="298769"/>
                  <a:pt x="670560" y="304800"/>
                </a:cubicBezTo>
                <a:cubicBezTo>
                  <a:pt x="656776" y="316861"/>
                  <a:pt x="640080" y="325120"/>
                  <a:pt x="624840" y="335280"/>
                </a:cubicBezTo>
                <a:lnTo>
                  <a:pt x="601980" y="350520"/>
                </a:lnTo>
                <a:cubicBezTo>
                  <a:pt x="594360" y="355600"/>
                  <a:pt x="585596" y="359284"/>
                  <a:pt x="579120" y="365760"/>
                </a:cubicBezTo>
                <a:cubicBezTo>
                  <a:pt x="527720" y="417160"/>
                  <a:pt x="553847" y="404664"/>
                  <a:pt x="510540" y="419100"/>
                </a:cubicBezTo>
                <a:cubicBezTo>
                  <a:pt x="502920" y="426720"/>
                  <a:pt x="496186" y="435344"/>
                  <a:pt x="487680" y="441960"/>
                </a:cubicBezTo>
                <a:cubicBezTo>
                  <a:pt x="473222" y="453205"/>
                  <a:pt x="457200" y="462280"/>
                  <a:pt x="441960" y="472440"/>
                </a:cubicBezTo>
                <a:lnTo>
                  <a:pt x="419100" y="487680"/>
                </a:lnTo>
                <a:cubicBezTo>
                  <a:pt x="411480" y="492760"/>
                  <a:pt x="403566" y="497425"/>
                  <a:pt x="396240" y="502920"/>
                </a:cubicBezTo>
                <a:cubicBezTo>
                  <a:pt x="386080" y="510540"/>
                  <a:pt x="376164" y="518497"/>
                  <a:pt x="365760" y="525780"/>
                </a:cubicBezTo>
                <a:cubicBezTo>
                  <a:pt x="350755" y="536284"/>
                  <a:pt x="332992" y="543308"/>
                  <a:pt x="320040" y="556260"/>
                </a:cubicBezTo>
                <a:cubicBezTo>
                  <a:pt x="303188" y="573112"/>
                  <a:pt x="295538" y="583751"/>
                  <a:pt x="274320" y="594360"/>
                </a:cubicBezTo>
                <a:cubicBezTo>
                  <a:pt x="211224" y="625908"/>
                  <a:pt x="294114" y="573544"/>
                  <a:pt x="228600" y="617220"/>
                </a:cubicBezTo>
                <a:cubicBezTo>
                  <a:pt x="223520" y="624840"/>
                  <a:pt x="220252" y="634049"/>
                  <a:pt x="213360" y="640080"/>
                </a:cubicBezTo>
                <a:cubicBezTo>
                  <a:pt x="199576" y="652141"/>
                  <a:pt x="167640" y="670560"/>
                  <a:pt x="167640" y="670560"/>
                </a:cubicBezTo>
                <a:cubicBezTo>
                  <a:pt x="162560" y="678180"/>
                  <a:pt x="159292" y="687389"/>
                  <a:pt x="152400" y="693420"/>
                </a:cubicBezTo>
                <a:cubicBezTo>
                  <a:pt x="138616" y="705481"/>
                  <a:pt x="121920" y="713740"/>
                  <a:pt x="106680" y="723900"/>
                </a:cubicBezTo>
                <a:cubicBezTo>
                  <a:pt x="99060" y="728980"/>
                  <a:pt x="90296" y="732664"/>
                  <a:pt x="83820" y="739140"/>
                </a:cubicBezTo>
                <a:cubicBezTo>
                  <a:pt x="66968" y="755992"/>
                  <a:pt x="56329" y="763642"/>
                  <a:pt x="45720" y="784860"/>
                </a:cubicBezTo>
                <a:cubicBezTo>
                  <a:pt x="42128" y="792044"/>
                  <a:pt x="40640" y="800100"/>
                  <a:pt x="38100" y="807720"/>
                </a:cubicBezTo>
                <a:cubicBezTo>
                  <a:pt x="35560" y="835660"/>
                  <a:pt x="34448" y="863767"/>
                  <a:pt x="30480" y="891540"/>
                </a:cubicBezTo>
                <a:cubicBezTo>
                  <a:pt x="29344" y="899491"/>
                  <a:pt x="24808" y="906608"/>
                  <a:pt x="22860" y="914400"/>
                </a:cubicBezTo>
                <a:cubicBezTo>
                  <a:pt x="19719" y="926965"/>
                  <a:pt x="18648" y="940005"/>
                  <a:pt x="15240" y="952500"/>
                </a:cubicBezTo>
                <a:cubicBezTo>
                  <a:pt x="11013" y="967998"/>
                  <a:pt x="0" y="998220"/>
                  <a:pt x="0" y="998220"/>
                </a:cubicBezTo>
                <a:cubicBezTo>
                  <a:pt x="2540" y="1046480"/>
                  <a:pt x="3245" y="1094872"/>
                  <a:pt x="7620" y="1143000"/>
                </a:cubicBezTo>
                <a:cubicBezTo>
                  <a:pt x="9738" y="1166295"/>
                  <a:pt x="36540" y="1197810"/>
                  <a:pt x="45720" y="1211580"/>
                </a:cubicBezTo>
                <a:cubicBezTo>
                  <a:pt x="50800" y="1219200"/>
                  <a:pt x="54484" y="1227964"/>
                  <a:pt x="60960" y="1234440"/>
                </a:cubicBezTo>
                <a:cubicBezTo>
                  <a:pt x="76200" y="1249680"/>
                  <a:pt x="94725" y="1262227"/>
                  <a:pt x="106680" y="1280160"/>
                </a:cubicBezTo>
                <a:cubicBezTo>
                  <a:pt x="127000" y="1310640"/>
                  <a:pt x="114300" y="1297940"/>
                  <a:pt x="144780" y="1318260"/>
                </a:cubicBezTo>
                <a:cubicBezTo>
                  <a:pt x="182618" y="1375017"/>
                  <a:pt x="133987" y="1305308"/>
                  <a:pt x="182880" y="1363980"/>
                </a:cubicBezTo>
                <a:cubicBezTo>
                  <a:pt x="214630" y="1402080"/>
                  <a:pt x="179070" y="1374140"/>
                  <a:pt x="220980" y="1402080"/>
                </a:cubicBezTo>
                <a:cubicBezTo>
                  <a:pt x="261620" y="1463040"/>
                  <a:pt x="208280" y="1389380"/>
                  <a:pt x="259080" y="1440180"/>
                </a:cubicBezTo>
                <a:cubicBezTo>
                  <a:pt x="309880" y="1490980"/>
                  <a:pt x="236220" y="1437640"/>
                  <a:pt x="297180" y="1478280"/>
                </a:cubicBezTo>
                <a:cubicBezTo>
                  <a:pt x="337820" y="1539240"/>
                  <a:pt x="284480" y="1465580"/>
                  <a:pt x="335280" y="1516380"/>
                </a:cubicBezTo>
                <a:cubicBezTo>
                  <a:pt x="386080" y="1567180"/>
                  <a:pt x="312420" y="1513840"/>
                  <a:pt x="373380" y="1554480"/>
                </a:cubicBezTo>
                <a:cubicBezTo>
                  <a:pt x="404784" y="1601585"/>
                  <a:pt x="369916" y="1555635"/>
                  <a:pt x="411480" y="1592580"/>
                </a:cubicBezTo>
                <a:cubicBezTo>
                  <a:pt x="427589" y="1606899"/>
                  <a:pt x="439267" y="1626345"/>
                  <a:pt x="457200" y="1638300"/>
                </a:cubicBezTo>
                <a:cubicBezTo>
                  <a:pt x="513957" y="1676138"/>
                  <a:pt x="444248" y="1627507"/>
                  <a:pt x="502920" y="1676400"/>
                </a:cubicBezTo>
                <a:cubicBezTo>
                  <a:pt x="509955" y="1682263"/>
                  <a:pt x="518160" y="1686560"/>
                  <a:pt x="525780" y="1691640"/>
                </a:cubicBezTo>
                <a:cubicBezTo>
                  <a:pt x="542822" y="1717203"/>
                  <a:pt x="540964" y="1719911"/>
                  <a:pt x="571500" y="1737360"/>
                </a:cubicBezTo>
                <a:cubicBezTo>
                  <a:pt x="578474" y="1741345"/>
                  <a:pt x="587176" y="1741388"/>
                  <a:pt x="594360" y="1744980"/>
                </a:cubicBezTo>
                <a:cubicBezTo>
                  <a:pt x="602551" y="1749076"/>
                  <a:pt x="609269" y="1755676"/>
                  <a:pt x="617220" y="1760220"/>
                </a:cubicBezTo>
                <a:cubicBezTo>
                  <a:pt x="643585" y="1775286"/>
                  <a:pt x="644913" y="1774531"/>
                  <a:pt x="670560" y="1783080"/>
                </a:cubicBezTo>
                <a:cubicBezTo>
                  <a:pt x="700215" y="1827563"/>
                  <a:pt x="667074" y="1788957"/>
                  <a:pt x="716280" y="1813560"/>
                </a:cubicBezTo>
                <a:cubicBezTo>
                  <a:pt x="732663" y="1821751"/>
                  <a:pt x="746760" y="1833880"/>
                  <a:pt x="762000" y="1844040"/>
                </a:cubicBezTo>
                <a:lnTo>
                  <a:pt x="807720" y="1874520"/>
                </a:lnTo>
                <a:cubicBezTo>
                  <a:pt x="815340" y="1879600"/>
                  <a:pt x="821892" y="1886864"/>
                  <a:pt x="830580" y="1889760"/>
                </a:cubicBezTo>
                <a:cubicBezTo>
                  <a:pt x="856923" y="1898541"/>
                  <a:pt x="897364" y="1910824"/>
                  <a:pt x="914400" y="1927860"/>
                </a:cubicBezTo>
                <a:cubicBezTo>
                  <a:pt x="929640" y="1943100"/>
                  <a:pt x="939673" y="1966764"/>
                  <a:pt x="960120" y="1973580"/>
                </a:cubicBezTo>
                <a:cubicBezTo>
                  <a:pt x="988429" y="1983016"/>
                  <a:pt x="979990" y="1977976"/>
                  <a:pt x="1005840" y="1996440"/>
                </a:cubicBezTo>
                <a:cubicBezTo>
                  <a:pt x="1016174" y="2003822"/>
                  <a:pt x="1025986" y="2011918"/>
                  <a:pt x="1036320" y="2019300"/>
                </a:cubicBezTo>
                <a:cubicBezTo>
                  <a:pt x="1043772" y="2024623"/>
                  <a:pt x="1052145" y="2028677"/>
                  <a:pt x="1059180" y="2034540"/>
                </a:cubicBezTo>
                <a:cubicBezTo>
                  <a:pt x="1067459" y="2041439"/>
                  <a:pt x="1072948" y="2051614"/>
                  <a:pt x="1082040" y="2057400"/>
                </a:cubicBezTo>
                <a:cubicBezTo>
                  <a:pt x="1101207" y="2069597"/>
                  <a:pt x="1122680" y="2077720"/>
                  <a:pt x="1143000" y="2087880"/>
                </a:cubicBezTo>
                <a:cubicBezTo>
                  <a:pt x="1235108" y="2133934"/>
                  <a:pt x="1120947" y="2075278"/>
                  <a:pt x="1196340" y="2118360"/>
                </a:cubicBezTo>
                <a:cubicBezTo>
                  <a:pt x="1206203" y="2123996"/>
                  <a:pt x="1217080" y="2127756"/>
                  <a:pt x="1226820" y="2133600"/>
                </a:cubicBezTo>
                <a:cubicBezTo>
                  <a:pt x="1309359" y="2183123"/>
                  <a:pt x="1243202" y="2143441"/>
                  <a:pt x="1295400" y="2186940"/>
                </a:cubicBezTo>
                <a:cubicBezTo>
                  <a:pt x="1302435" y="2192803"/>
                  <a:pt x="1311225" y="2196317"/>
                  <a:pt x="1318260" y="2202180"/>
                </a:cubicBezTo>
                <a:cubicBezTo>
                  <a:pt x="1393160" y="2264597"/>
                  <a:pt x="1296420" y="2187960"/>
                  <a:pt x="1356360" y="2247900"/>
                </a:cubicBezTo>
                <a:cubicBezTo>
                  <a:pt x="1362836" y="2254376"/>
                  <a:pt x="1371600" y="2258060"/>
                  <a:pt x="1379220" y="2263140"/>
                </a:cubicBezTo>
                <a:cubicBezTo>
                  <a:pt x="1419860" y="2324100"/>
                  <a:pt x="1366520" y="2250440"/>
                  <a:pt x="1417320" y="2301240"/>
                </a:cubicBezTo>
                <a:cubicBezTo>
                  <a:pt x="1423796" y="2307716"/>
                  <a:pt x="1425409" y="2318379"/>
                  <a:pt x="1432560" y="2324100"/>
                </a:cubicBezTo>
                <a:cubicBezTo>
                  <a:pt x="1438832" y="2329118"/>
                  <a:pt x="1448236" y="2328128"/>
                  <a:pt x="1455420" y="2331720"/>
                </a:cubicBezTo>
                <a:cubicBezTo>
                  <a:pt x="1463611" y="2335816"/>
                  <a:pt x="1471245" y="2341097"/>
                  <a:pt x="1478280" y="2346960"/>
                </a:cubicBezTo>
                <a:cubicBezTo>
                  <a:pt x="1486559" y="2353859"/>
                  <a:pt x="1492634" y="2363204"/>
                  <a:pt x="1501140" y="2369820"/>
                </a:cubicBezTo>
                <a:cubicBezTo>
                  <a:pt x="1515598" y="2381065"/>
                  <a:pt x="1546860" y="2400300"/>
                  <a:pt x="1546860" y="2400300"/>
                </a:cubicBezTo>
                <a:cubicBezTo>
                  <a:pt x="1583418" y="2455137"/>
                  <a:pt x="1531649" y="2387619"/>
                  <a:pt x="1607820" y="2438400"/>
                </a:cubicBezTo>
                <a:cubicBezTo>
                  <a:pt x="1623060" y="2448560"/>
                  <a:pt x="1636164" y="2463088"/>
                  <a:pt x="1653540" y="2468880"/>
                </a:cubicBezTo>
                <a:cubicBezTo>
                  <a:pt x="1705795" y="2486298"/>
                  <a:pt x="1640938" y="2465730"/>
                  <a:pt x="1714500" y="2484120"/>
                </a:cubicBezTo>
                <a:cubicBezTo>
                  <a:pt x="1722292" y="2486068"/>
                  <a:pt x="1729364" y="2490978"/>
                  <a:pt x="1737360" y="2491740"/>
                </a:cubicBezTo>
                <a:cubicBezTo>
                  <a:pt x="1782944" y="2496081"/>
                  <a:pt x="1828800" y="2496820"/>
                  <a:pt x="1874520" y="2499360"/>
                </a:cubicBezTo>
                <a:cubicBezTo>
                  <a:pt x="1884680" y="2501900"/>
                  <a:pt x="1894930" y="2504103"/>
                  <a:pt x="1905000" y="2506980"/>
                </a:cubicBezTo>
                <a:cubicBezTo>
                  <a:pt x="1912723" y="2509187"/>
                  <a:pt x="1920019" y="2512858"/>
                  <a:pt x="1927860" y="2514600"/>
                </a:cubicBezTo>
                <a:cubicBezTo>
                  <a:pt x="1948932" y="2519283"/>
                  <a:pt x="1975856" y="2519548"/>
                  <a:pt x="1996440" y="2529840"/>
                </a:cubicBezTo>
                <a:cubicBezTo>
                  <a:pt x="2004631" y="2533936"/>
                  <a:pt x="2011109" y="2540984"/>
                  <a:pt x="2019300" y="2545080"/>
                </a:cubicBezTo>
                <a:cubicBezTo>
                  <a:pt x="2026484" y="2548672"/>
                  <a:pt x="2034976" y="2549108"/>
                  <a:pt x="2042160" y="2552700"/>
                </a:cubicBezTo>
                <a:cubicBezTo>
                  <a:pt x="2101246" y="2582243"/>
                  <a:pt x="2030421" y="2556407"/>
                  <a:pt x="2087880" y="2575560"/>
                </a:cubicBezTo>
                <a:cubicBezTo>
                  <a:pt x="2136140" y="2573020"/>
                  <a:pt x="2184532" y="2572315"/>
                  <a:pt x="2232660" y="2567940"/>
                </a:cubicBezTo>
                <a:cubicBezTo>
                  <a:pt x="2240659" y="2567213"/>
                  <a:pt x="2247679" y="2562062"/>
                  <a:pt x="2255520" y="2560320"/>
                </a:cubicBezTo>
                <a:cubicBezTo>
                  <a:pt x="2283771" y="2554042"/>
                  <a:pt x="2335836" y="2548376"/>
                  <a:pt x="2362200" y="2545080"/>
                </a:cubicBezTo>
                <a:cubicBezTo>
                  <a:pt x="2419659" y="2525927"/>
                  <a:pt x="2348834" y="2551763"/>
                  <a:pt x="2407920" y="2522220"/>
                </a:cubicBezTo>
                <a:cubicBezTo>
                  <a:pt x="2415104" y="2518628"/>
                  <a:pt x="2423160" y="2517140"/>
                  <a:pt x="2430780" y="2514600"/>
                </a:cubicBezTo>
                <a:cubicBezTo>
                  <a:pt x="2451561" y="2493819"/>
                  <a:pt x="2460208" y="2487327"/>
                  <a:pt x="2476500" y="2461260"/>
                </a:cubicBezTo>
                <a:cubicBezTo>
                  <a:pt x="2482520" y="2451627"/>
                  <a:pt x="2485138" y="2440023"/>
                  <a:pt x="2491740" y="2430780"/>
                </a:cubicBezTo>
                <a:cubicBezTo>
                  <a:pt x="2498004" y="2422011"/>
                  <a:pt x="2508336" y="2416689"/>
                  <a:pt x="2514600" y="2407920"/>
                </a:cubicBezTo>
                <a:cubicBezTo>
                  <a:pt x="2521202" y="2398677"/>
                  <a:pt x="2523820" y="2387073"/>
                  <a:pt x="2529840" y="2377440"/>
                </a:cubicBezTo>
                <a:cubicBezTo>
                  <a:pt x="2536571" y="2366670"/>
                  <a:pt x="2545318" y="2357294"/>
                  <a:pt x="2552700" y="2346960"/>
                </a:cubicBezTo>
                <a:cubicBezTo>
                  <a:pt x="2558023" y="2339508"/>
                  <a:pt x="2562860" y="2331720"/>
                  <a:pt x="2567940" y="2324100"/>
                </a:cubicBezTo>
                <a:cubicBezTo>
                  <a:pt x="2570480" y="2313940"/>
                  <a:pt x="2571435" y="2303246"/>
                  <a:pt x="2575560" y="2293620"/>
                </a:cubicBezTo>
                <a:cubicBezTo>
                  <a:pt x="2579168" y="2285202"/>
                  <a:pt x="2586704" y="2278951"/>
                  <a:pt x="2590800" y="2270760"/>
                </a:cubicBezTo>
                <a:cubicBezTo>
                  <a:pt x="2594392" y="2263576"/>
                  <a:pt x="2595600" y="2255421"/>
                  <a:pt x="2598420" y="2247900"/>
                </a:cubicBezTo>
                <a:cubicBezTo>
                  <a:pt x="2603223" y="2235093"/>
                  <a:pt x="2609730" y="2222901"/>
                  <a:pt x="2613660" y="2209800"/>
                </a:cubicBezTo>
                <a:cubicBezTo>
                  <a:pt x="2617382" y="2197395"/>
                  <a:pt x="2616470" y="2183725"/>
                  <a:pt x="2621280" y="2171700"/>
                </a:cubicBezTo>
                <a:cubicBezTo>
                  <a:pt x="2626781" y="2157949"/>
                  <a:pt x="2636189" y="2146095"/>
                  <a:pt x="2644140" y="2133600"/>
                </a:cubicBezTo>
                <a:cubicBezTo>
                  <a:pt x="2653974" y="2118147"/>
                  <a:pt x="2667818" y="2104886"/>
                  <a:pt x="2674620" y="2087880"/>
                </a:cubicBezTo>
                <a:cubicBezTo>
                  <a:pt x="2685506" y="2060664"/>
                  <a:pt x="2690862" y="2044217"/>
                  <a:pt x="2705100" y="2019300"/>
                </a:cubicBezTo>
                <a:cubicBezTo>
                  <a:pt x="2709644" y="2011349"/>
                  <a:pt x="2715796" y="2004391"/>
                  <a:pt x="2720340" y="1996440"/>
                </a:cubicBezTo>
                <a:cubicBezTo>
                  <a:pt x="2725976" y="1986577"/>
                  <a:pt x="2728308" y="1974686"/>
                  <a:pt x="2735580" y="1965960"/>
                </a:cubicBezTo>
                <a:cubicBezTo>
                  <a:pt x="2741443" y="1958925"/>
                  <a:pt x="2751964" y="1957196"/>
                  <a:pt x="2758440" y="1950720"/>
                </a:cubicBezTo>
                <a:cubicBezTo>
                  <a:pt x="2767420" y="1941740"/>
                  <a:pt x="2772320" y="1929220"/>
                  <a:pt x="2781300" y="1920240"/>
                </a:cubicBezTo>
                <a:cubicBezTo>
                  <a:pt x="2787776" y="1913764"/>
                  <a:pt x="2796708" y="1910323"/>
                  <a:pt x="2804160" y="1905000"/>
                </a:cubicBezTo>
                <a:cubicBezTo>
                  <a:pt x="2814494" y="1897618"/>
                  <a:pt x="2825660" y="1891120"/>
                  <a:pt x="2834640" y="1882140"/>
                </a:cubicBezTo>
                <a:cubicBezTo>
                  <a:pt x="2841116" y="1875664"/>
                  <a:pt x="2842845" y="1865143"/>
                  <a:pt x="2849880" y="1859280"/>
                </a:cubicBezTo>
                <a:cubicBezTo>
                  <a:pt x="2858606" y="1852008"/>
                  <a:pt x="2871117" y="1850642"/>
                  <a:pt x="2880360" y="1844040"/>
                </a:cubicBezTo>
                <a:cubicBezTo>
                  <a:pt x="2909391" y="1823304"/>
                  <a:pt x="2900065" y="1816715"/>
                  <a:pt x="2926080" y="1790700"/>
                </a:cubicBezTo>
                <a:cubicBezTo>
                  <a:pt x="2932556" y="1784224"/>
                  <a:pt x="2941320" y="1780540"/>
                  <a:pt x="2948940" y="1775460"/>
                </a:cubicBezTo>
                <a:cubicBezTo>
                  <a:pt x="2973851" y="1700727"/>
                  <a:pt x="2933464" y="1806294"/>
                  <a:pt x="2979420" y="1737360"/>
                </a:cubicBezTo>
                <a:cubicBezTo>
                  <a:pt x="2985229" y="1728646"/>
                  <a:pt x="2982787" y="1716450"/>
                  <a:pt x="2987040" y="1706880"/>
                </a:cubicBezTo>
                <a:cubicBezTo>
                  <a:pt x="2993055" y="1693346"/>
                  <a:pt x="3002808" y="1681782"/>
                  <a:pt x="3009900" y="1668780"/>
                </a:cubicBezTo>
                <a:cubicBezTo>
                  <a:pt x="3018059" y="1653822"/>
                  <a:pt x="3025709" y="1638572"/>
                  <a:pt x="3032760" y="1623060"/>
                </a:cubicBezTo>
                <a:cubicBezTo>
                  <a:pt x="3038420" y="1610608"/>
                  <a:pt x="3042340" y="1597412"/>
                  <a:pt x="3048000" y="1584960"/>
                </a:cubicBezTo>
                <a:cubicBezTo>
                  <a:pt x="3055051" y="1569448"/>
                  <a:pt x="3063809" y="1554752"/>
                  <a:pt x="3070860" y="1539240"/>
                </a:cubicBezTo>
                <a:cubicBezTo>
                  <a:pt x="3092821" y="1490926"/>
                  <a:pt x="3080888" y="1508595"/>
                  <a:pt x="3101340" y="1455420"/>
                </a:cubicBezTo>
                <a:cubicBezTo>
                  <a:pt x="3108284" y="1437365"/>
                  <a:pt x="3116580" y="1419860"/>
                  <a:pt x="3124200" y="1402080"/>
                </a:cubicBezTo>
                <a:cubicBezTo>
                  <a:pt x="3126740" y="1389380"/>
                  <a:pt x="3126461" y="1375771"/>
                  <a:pt x="3131820" y="1363980"/>
                </a:cubicBezTo>
                <a:cubicBezTo>
                  <a:pt x="3139399" y="1347306"/>
                  <a:pt x="3162300" y="1318260"/>
                  <a:pt x="3162300" y="1318260"/>
                </a:cubicBezTo>
                <a:cubicBezTo>
                  <a:pt x="3164840" y="1308100"/>
                  <a:pt x="3165795" y="1297406"/>
                  <a:pt x="3169920" y="1287780"/>
                </a:cubicBezTo>
                <a:cubicBezTo>
                  <a:pt x="3173528" y="1279362"/>
                  <a:pt x="3180616" y="1272871"/>
                  <a:pt x="3185160" y="1264920"/>
                </a:cubicBezTo>
                <a:cubicBezTo>
                  <a:pt x="3190796" y="1255057"/>
                  <a:pt x="3195787" y="1244820"/>
                  <a:pt x="3200400" y="1234440"/>
                </a:cubicBezTo>
                <a:cubicBezTo>
                  <a:pt x="3241085" y="1142899"/>
                  <a:pt x="3198125" y="1236319"/>
                  <a:pt x="3223260" y="1173480"/>
                </a:cubicBezTo>
                <a:cubicBezTo>
                  <a:pt x="3241483" y="1127922"/>
                  <a:pt x="3242820" y="1126741"/>
                  <a:pt x="3261360" y="1089660"/>
                </a:cubicBezTo>
                <a:cubicBezTo>
                  <a:pt x="3273388" y="1029521"/>
                  <a:pt x="3261276" y="1072704"/>
                  <a:pt x="3284220" y="1021080"/>
                </a:cubicBezTo>
                <a:cubicBezTo>
                  <a:pt x="3289775" y="1008581"/>
                  <a:pt x="3292817" y="994937"/>
                  <a:pt x="3299460" y="982980"/>
                </a:cubicBezTo>
                <a:cubicBezTo>
                  <a:pt x="3305628" y="971878"/>
                  <a:pt x="3314700" y="962660"/>
                  <a:pt x="3322320" y="952500"/>
                </a:cubicBezTo>
                <a:cubicBezTo>
                  <a:pt x="3324860" y="942340"/>
                  <a:pt x="3326931" y="932051"/>
                  <a:pt x="3329940" y="922020"/>
                </a:cubicBezTo>
                <a:cubicBezTo>
                  <a:pt x="3334556" y="906633"/>
                  <a:pt x="3341284" y="891885"/>
                  <a:pt x="3345180" y="876300"/>
                </a:cubicBezTo>
                <a:lnTo>
                  <a:pt x="3360420" y="815340"/>
                </a:lnTo>
                <a:cubicBezTo>
                  <a:pt x="3357880" y="777240"/>
                  <a:pt x="3357017" y="738991"/>
                  <a:pt x="3352800" y="701040"/>
                </a:cubicBezTo>
                <a:cubicBezTo>
                  <a:pt x="3351913" y="693057"/>
                  <a:pt x="3350198" y="684452"/>
                  <a:pt x="3345180" y="678180"/>
                </a:cubicBezTo>
                <a:cubicBezTo>
                  <a:pt x="3339459" y="671029"/>
                  <a:pt x="3329940" y="668020"/>
                  <a:pt x="3322320" y="662940"/>
                </a:cubicBezTo>
                <a:cubicBezTo>
                  <a:pt x="3281680" y="601980"/>
                  <a:pt x="3335020" y="675640"/>
                  <a:pt x="3284220" y="624840"/>
                </a:cubicBezTo>
                <a:cubicBezTo>
                  <a:pt x="3277744" y="618364"/>
                  <a:pt x="3274843" y="609015"/>
                  <a:pt x="3268980" y="601980"/>
                </a:cubicBezTo>
                <a:cubicBezTo>
                  <a:pt x="3262081" y="593701"/>
                  <a:pt x="3253019" y="587399"/>
                  <a:pt x="3246120" y="579120"/>
                </a:cubicBezTo>
                <a:cubicBezTo>
                  <a:pt x="3240257" y="572085"/>
                  <a:pt x="3236743" y="563295"/>
                  <a:pt x="3230880" y="556260"/>
                </a:cubicBezTo>
                <a:cubicBezTo>
                  <a:pt x="3223981" y="547981"/>
                  <a:pt x="3214919" y="541679"/>
                  <a:pt x="3208020" y="533400"/>
                </a:cubicBezTo>
                <a:cubicBezTo>
                  <a:pt x="3202157" y="526365"/>
                  <a:pt x="3199931" y="516261"/>
                  <a:pt x="3192780" y="510540"/>
                </a:cubicBezTo>
                <a:cubicBezTo>
                  <a:pt x="3186508" y="505522"/>
                  <a:pt x="3177540" y="505460"/>
                  <a:pt x="3169920" y="502920"/>
                </a:cubicBezTo>
                <a:cubicBezTo>
                  <a:pt x="3141980" y="461010"/>
                  <a:pt x="3169920" y="496570"/>
                  <a:pt x="3131820" y="464820"/>
                </a:cubicBezTo>
                <a:cubicBezTo>
                  <a:pt x="3123541" y="457921"/>
                  <a:pt x="3118316" y="447307"/>
                  <a:pt x="3108960" y="441960"/>
                </a:cubicBezTo>
                <a:cubicBezTo>
                  <a:pt x="3099867" y="436764"/>
                  <a:pt x="3088550" y="437217"/>
                  <a:pt x="3078480" y="434340"/>
                </a:cubicBezTo>
                <a:cubicBezTo>
                  <a:pt x="3052059" y="426791"/>
                  <a:pt x="3047044" y="422216"/>
                  <a:pt x="3017520" y="411480"/>
                </a:cubicBezTo>
                <a:cubicBezTo>
                  <a:pt x="3002423" y="405990"/>
                  <a:pt x="2986715" y="402206"/>
                  <a:pt x="2971800" y="396240"/>
                </a:cubicBezTo>
                <a:cubicBezTo>
                  <a:pt x="2951670" y="388188"/>
                  <a:pt x="2931745" y="379353"/>
                  <a:pt x="2910840" y="373380"/>
                </a:cubicBezTo>
                <a:cubicBezTo>
                  <a:pt x="2900770" y="370503"/>
                  <a:pt x="2890430" y="368637"/>
                  <a:pt x="2880360" y="365760"/>
                </a:cubicBezTo>
                <a:cubicBezTo>
                  <a:pt x="2872637" y="363553"/>
                  <a:pt x="2865292" y="360088"/>
                  <a:pt x="2857500" y="358140"/>
                </a:cubicBezTo>
                <a:cubicBezTo>
                  <a:pt x="2814815" y="347469"/>
                  <a:pt x="2770645" y="345951"/>
                  <a:pt x="2727960" y="335280"/>
                </a:cubicBezTo>
                <a:cubicBezTo>
                  <a:pt x="2720168" y="333332"/>
                  <a:pt x="2712823" y="329867"/>
                  <a:pt x="2705100" y="327660"/>
                </a:cubicBezTo>
                <a:cubicBezTo>
                  <a:pt x="2695030" y="324783"/>
                  <a:pt x="2684651" y="323049"/>
                  <a:pt x="2674620" y="320040"/>
                </a:cubicBezTo>
                <a:cubicBezTo>
                  <a:pt x="2659233" y="315424"/>
                  <a:pt x="2644652" y="307950"/>
                  <a:pt x="2628900" y="304800"/>
                </a:cubicBezTo>
                <a:cubicBezTo>
                  <a:pt x="2616200" y="302260"/>
                  <a:pt x="2603365" y="300321"/>
                  <a:pt x="2590800" y="297180"/>
                </a:cubicBezTo>
                <a:cubicBezTo>
                  <a:pt x="2583008" y="295232"/>
                  <a:pt x="2575461" y="292380"/>
                  <a:pt x="2567940" y="289560"/>
                </a:cubicBezTo>
                <a:cubicBezTo>
                  <a:pt x="2555133" y="284757"/>
                  <a:pt x="2543253" y="277003"/>
                  <a:pt x="2529840" y="274320"/>
                </a:cubicBezTo>
                <a:cubicBezTo>
                  <a:pt x="2504809" y="269314"/>
                  <a:pt x="2479040" y="269240"/>
                  <a:pt x="2453640" y="266700"/>
                </a:cubicBezTo>
                <a:lnTo>
                  <a:pt x="2385060" y="243840"/>
                </a:lnTo>
                <a:lnTo>
                  <a:pt x="2362200" y="236220"/>
                </a:lnTo>
                <a:cubicBezTo>
                  <a:pt x="2354580" y="233680"/>
                  <a:pt x="2347132" y="230548"/>
                  <a:pt x="2339340" y="228600"/>
                </a:cubicBezTo>
                <a:cubicBezTo>
                  <a:pt x="2322302" y="224340"/>
                  <a:pt x="2274271" y="213161"/>
                  <a:pt x="2263140" y="205740"/>
                </a:cubicBezTo>
                <a:cubicBezTo>
                  <a:pt x="2255520" y="200660"/>
                  <a:pt x="2248698" y="194108"/>
                  <a:pt x="2240280" y="190500"/>
                </a:cubicBezTo>
                <a:cubicBezTo>
                  <a:pt x="2229329" y="185807"/>
                  <a:pt x="2180379" y="177430"/>
                  <a:pt x="2171700" y="175260"/>
                </a:cubicBezTo>
                <a:cubicBezTo>
                  <a:pt x="2163908" y="173312"/>
                  <a:pt x="2156563" y="169847"/>
                  <a:pt x="2148840" y="167640"/>
                </a:cubicBezTo>
                <a:cubicBezTo>
                  <a:pt x="2138770" y="164763"/>
                  <a:pt x="2128295" y="163332"/>
                  <a:pt x="2118360" y="160020"/>
                </a:cubicBezTo>
                <a:cubicBezTo>
                  <a:pt x="2105384" y="155695"/>
                  <a:pt x="2093530" y="148097"/>
                  <a:pt x="2080260" y="144780"/>
                </a:cubicBezTo>
                <a:cubicBezTo>
                  <a:pt x="2062836" y="140424"/>
                  <a:pt x="2044700" y="139700"/>
                  <a:pt x="2026920" y="137160"/>
                </a:cubicBezTo>
                <a:cubicBezTo>
                  <a:pt x="2011680" y="132080"/>
                  <a:pt x="1994566" y="130831"/>
                  <a:pt x="1981200" y="121920"/>
                </a:cubicBezTo>
                <a:cubicBezTo>
                  <a:pt x="1946681" y="98907"/>
                  <a:pt x="1944952" y="94858"/>
                  <a:pt x="1889760" y="83820"/>
                </a:cubicBezTo>
                <a:cubicBezTo>
                  <a:pt x="1877060" y="81280"/>
                  <a:pt x="1864225" y="79341"/>
                  <a:pt x="1851660" y="76200"/>
                </a:cubicBezTo>
                <a:cubicBezTo>
                  <a:pt x="1819796" y="68234"/>
                  <a:pt x="1835378" y="66661"/>
                  <a:pt x="1798320" y="60960"/>
                </a:cubicBezTo>
                <a:cubicBezTo>
                  <a:pt x="1710216" y="47406"/>
                  <a:pt x="1755228" y="59962"/>
                  <a:pt x="1684020" y="45720"/>
                </a:cubicBezTo>
                <a:cubicBezTo>
                  <a:pt x="1612754" y="31467"/>
                  <a:pt x="1688780" y="45005"/>
                  <a:pt x="1630680" y="30480"/>
                </a:cubicBezTo>
                <a:cubicBezTo>
                  <a:pt x="1618115" y="27339"/>
                  <a:pt x="1605075" y="26268"/>
                  <a:pt x="1592580" y="22860"/>
                </a:cubicBezTo>
                <a:cubicBezTo>
                  <a:pt x="1486234" y="-6143"/>
                  <a:pt x="1601585" y="18565"/>
                  <a:pt x="1508760" y="0"/>
                </a:cubicBezTo>
                <a:cubicBezTo>
                  <a:pt x="1417320" y="2540"/>
                  <a:pt x="1325795" y="2935"/>
                  <a:pt x="1234440" y="7620"/>
                </a:cubicBezTo>
                <a:cubicBezTo>
                  <a:pt x="1226418" y="8031"/>
                  <a:pt x="1218764" y="11648"/>
                  <a:pt x="1211580" y="15240"/>
                </a:cubicBezTo>
                <a:cubicBezTo>
                  <a:pt x="1203389" y="19336"/>
                  <a:pt x="1188720" y="30480"/>
                  <a:pt x="1188720" y="30480"/>
                </a:cubicBezTo>
                <a:lnTo>
                  <a:pt x="1165860" y="22860"/>
                </a:lnTo>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Freeform: Shape 161"/>
          <p:cNvSpPr/>
          <p:nvPr/>
        </p:nvSpPr>
        <p:spPr>
          <a:xfrm>
            <a:off x="2720880" y="1120680"/>
            <a:ext cx="3976920" cy="2346480"/>
          </a:xfrm>
          <a:custGeom>
            <a:avLst/>
            <a:gdLst/>
            <a:ahLst/>
            <a:rect l="l" t="t" r="r" b="b"/>
            <a:pathLst>
              <a:path w="3977640" h="2346960">
                <a:moveTo>
                  <a:pt x="929640" y="22860"/>
                </a:moveTo>
                <a:lnTo>
                  <a:pt x="929640" y="22860"/>
                </a:lnTo>
                <a:cubicBezTo>
                  <a:pt x="911860" y="48260"/>
                  <a:pt x="886105" y="69646"/>
                  <a:pt x="876300" y="99060"/>
                </a:cubicBezTo>
                <a:cubicBezTo>
                  <a:pt x="873760" y="106680"/>
                  <a:pt x="872581" y="114899"/>
                  <a:pt x="868680" y="121920"/>
                </a:cubicBezTo>
                <a:cubicBezTo>
                  <a:pt x="859785" y="137931"/>
                  <a:pt x="843992" y="150264"/>
                  <a:pt x="838200" y="167640"/>
                </a:cubicBezTo>
                <a:cubicBezTo>
                  <a:pt x="835660" y="175260"/>
                  <a:pt x="834172" y="183316"/>
                  <a:pt x="830580" y="190500"/>
                </a:cubicBezTo>
                <a:cubicBezTo>
                  <a:pt x="810423" y="230813"/>
                  <a:pt x="820567" y="196898"/>
                  <a:pt x="792480" y="236220"/>
                </a:cubicBezTo>
                <a:cubicBezTo>
                  <a:pt x="785878" y="245463"/>
                  <a:pt x="781228" y="256064"/>
                  <a:pt x="777240" y="266700"/>
                </a:cubicBezTo>
                <a:cubicBezTo>
                  <a:pt x="773563" y="276506"/>
                  <a:pt x="772629" y="287149"/>
                  <a:pt x="769620" y="297180"/>
                </a:cubicBezTo>
                <a:cubicBezTo>
                  <a:pt x="765004" y="312567"/>
                  <a:pt x="757530" y="327148"/>
                  <a:pt x="754380" y="342900"/>
                </a:cubicBezTo>
                <a:cubicBezTo>
                  <a:pt x="751840" y="355600"/>
                  <a:pt x="749901" y="368435"/>
                  <a:pt x="746760" y="381000"/>
                </a:cubicBezTo>
                <a:cubicBezTo>
                  <a:pt x="744812" y="388792"/>
                  <a:pt x="742023" y="396363"/>
                  <a:pt x="739140" y="403860"/>
                </a:cubicBezTo>
                <a:cubicBezTo>
                  <a:pt x="729320" y="429393"/>
                  <a:pt x="717311" y="454107"/>
                  <a:pt x="708660" y="480060"/>
                </a:cubicBezTo>
                <a:cubicBezTo>
                  <a:pt x="706120" y="487680"/>
                  <a:pt x="705495" y="496237"/>
                  <a:pt x="701040" y="502920"/>
                </a:cubicBezTo>
                <a:cubicBezTo>
                  <a:pt x="692614" y="515559"/>
                  <a:pt x="669377" y="533992"/>
                  <a:pt x="655320" y="541020"/>
                </a:cubicBezTo>
                <a:cubicBezTo>
                  <a:pt x="648136" y="544612"/>
                  <a:pt x="639644" y="545048"/>
                  <a:pt x="632460" y="548640"/>
                </a:cubicBezTo>
                <a:cubicBezTo>
                  <a:pt x="624269" y="552736"/>
                  <a:pt x="617220" y="558800"/>
                  <a:pt x="609600" y="563880"/>
                </a:cubicBezTo>
                <a:cubicBezTo>
                  <a:pt x="604520" y="571500"/>
                  <a:pt x="600836" y="580264"/>
                  <a:pt x="594360" y="586740"/>
                </a:cubicBezTo>
                <a:cubicBezTo>
                  <a:pt x="587884" y="593216"/>
                  <a:pt x="577363" y="594945"/>
                  <a:pt x="571500" y="601980"/>
                </a:cubicBezTo>
                <a:cubicBezTo>
                  <a:pt x="541618" y="637839"/>
                  <a:pt x="571064" y="625276"/>
                  <a:pt x="541020" y="655320"/>
                </a:cubicBezTo>
                <a:cubicBezTo>
                  <a:pt x="534544" y="661796"/>
                  <a:pt x="525780" y="665480"/>
                  <a:pt x="518160" y="670560"/>
                </a:cubicBezTo>
                <a:cubicBezTo>
                  <a:pt x="502855" y="693518"/>
                  <a:pt x="499281" y="696830"/>
                  <a:pt x="487680" y="723900"/>
                </a:cubicBezTo>
                <a:cubicBezTo>
                  <a:pt x="484516" y="731283"/>
                  <a:pt x="484515" y="740077"/>
                  <a:pt x="480060" y="746760"/>
                </a:cubicBezTo>
                <a:cubicBezTo>
                  <a:pt x="474082" y="755726"/>
                  <a:pt x="464820" y="762000"/>
                  <a:pt x="457200" y="769620"/>
                </a:cubicBezTo>
                <a:cubicBezTo>
                  <a:pt x="443229" y="811533"/>
                  <a:pt x="457975" y="773980"/>
                  <a:pt x="434340" y="815340"/>
                </a:cubicBezTo>
                <a:cubicBezTo>
                  <a:pt x="423048" y="835101"/>
                  <a:pt x="405827" y="880069"/>
                  <a:pt x="388620" y="891540"/>
                </a:cubicBezTo>
                <a:lnTo>
                  <a:pt x="365760" y="906780"/>
                </a:lnTo>
                <a:cubicBezTo>
                  <a:pt x="351187" y="950499"/>
                  <a:pt x="368576" y="909691"/>
                  <a:pt x="335280" y="952500"/>
                </a:cubicBezTo>
                <a:cubicBezTo>
                  <a:pt x="324035" y="966958"/>
                  <a:pt x="314960" y="982980"/>
                  <a:pt x="304800" y="998220"/>
                </a:cubicBezTo>
                <a:lnTo>
                  <a:pt x="289560" y="1021080"/>
                </a:lnTo>
                <a:lnTo>
                  <a:pt x="274320" y="1043940"/>
                </a:lnTo>
                <a:cubicBezTo>
                  <a:pt x="271780" y="1054100"/>
                  <a:pt x="271896" y="1065327"/>
                  <a:pt x="266700" y="1074420"/>
                </a:cubicBezTo>
                <a:cubicBezTo>
                  <a:pt x="261353" y="1083776"/>
                  <a:pt x="250456" y="1088774"/>
                  <a:pt x="243840" y="1097280"/>
                </a:cubicBezTo>
                <a:cubicBezTo>
                  <a:pt x="232595" y="1111738"/>
                  <a:pt x="223520" y="1127760"/>
                  <a:pt x="213360" y="1143000"/>
                </a:cubicBezTo>
                <a:lnTo>
                  <a:pt x="182880" y="1188720"/>
                </a:lnTo>
                <a:cubicBezTo>
                  <a:pt x="177800" y="1196340"/>
                  <a:pt x="174116" y="1205104"/>
                  <a:pt x="167640" y="1211580"/>
                </a:cubicBezTo>
                <a:cubicBezTo>
                  <a:pt x="160020" y="1219200"/>
                  <a:pt x="151679" y="1226161"/>
                  <a:pt x="144780" y="1234440"/>
                </a:cubicBezTo>
                <a:cubicBezTo>
                  <a:pt x="113030" y="1272540"/>
                  <a:pt x="148590" y="1244600"/>
                  <a:pt x="106680" y="1272540"/>
                </a:cubicBezTo>
                <a:cubicBezTo>
                  <a:pt x="104140" y="1280160"/>
                  <a:pt x="102961" y="1288379"/>
                  <a:pt x="99060" y="1295400"/>
                </a:cubicBezTo>
                <a:cubicBezTo>
                  <a:pt x="90165" y="1311411"/>
                  <a:pt x="68580" y="1341120"/>
                  <a:pt x="68580" y="1341120"/>
                </a:cubicBezTo>
                <a:cubicBezTo>
                  <a:pt x="66040" y="1353820"/>
                  <a:pt x="64101" y="1366655"/>
                  <a:pt x="60960" y="1379220"/>
                </a:cubicBezTo>
                <a:cubicBezTo>
                  <a:pt x="59012" y="1387012"/>
                  <a:pt x="54915" y="1394204"/>
                  <a:pt x="53340" y="1402080"/>
                </a:cubicBezTo>
                <a:cubicBezTo>
                  <a:pt x="49818" y="1419692"/>
                  <a:pt x="48933" y="1437749"/>
                  <a:pt x="45720" y="1455420"/>
                </a:cubicBezTo>
                <a:cubicBezTo>
                  <a:pt x="43847" y="1465724"/>
                  <a:pt x="40372" y="1475677"/>
                  <a:pt x="38100" y="1485900"/>
                </a:cubicBezTo>
                <a:cubicBezTo>
                  <a:pt x="35290" y="1498543"/>
                  <a:pt x="35028" y="1511873"/>
                  <a:pt x="30480" y="1524000"/>
                </a:cubicBezTo>
                <a:cubicBezTo>
                  <a:pt x="27264" y="1532575"/>
                  <a:pt x="20320" y="1539240"/>
                  <a:pt x="15240" y="1546860"/>
                </a:cubicBezTo>
                <a:cubicBezTo>
                  <a:pt x="12301" y="1558615"/>
                  <a:pt x="0" y="1605766"/>
                  <a:pt x="0" y="1615440"/>
                </a:cubicBezTo>
                <a:cubicBezTo>
                  <a:pt x="0" y="1719611"/>
                  <a:pt x="2890" y="1823796"/>
                  <a:pt x="7620" y="1927860"/>
                </a:cubicBezTo>
                <a:cubicBezTo>
                  <a:pt x="7985" y="1935884"/>
                  <a:pt x="11339" y="1943699"/>
                  <a:pt x="15240" y="1950720"/>
                </a:cubicBezTo>
                <a:cubicBezTo>
                  <a:pt x="41387" y="1997785"/>
                  <a:pt x="35186" y="1989418"/>
                  <a:pt x="68580" y="2011680"/>
                </a:cubicBezTo>
                <a:cubicBezTo>
                  <a:pt x="86360" y="2038350"/>
                  <a:pt x="91440" y="2052320"/>
                  <a:pt x="129540" y="2065020"/>
                </a:cubicBezTo>
                <a:cubicBezTo>
                  <a:pt x="144780" y="2070100"/>
                  <a:pt x="161894" y="2071349"/>
                  <a:pt x="175260" y="2080260"/>
                </a:cubicBezTo>
                <a:cubicBezTo>
                  <a:pt x="182880" y="2085340"/>
                  <a:pt x="189432" y="2092604"/>
                  <a:pt x="198120" y="2095500"/>
                </a:cubicBezTo>
                <a:cubicBezTo>
                  <a:pt x="223416" y="2103932"/>
                  <a:pt x="328598" y="2110183"/>
                  <a:pt x="335280" y="2110740"/>
                </a:cubicBezTo>
                <a:cubicBezTo>
                  <a:pt x="404643" y="2133861"/>
                  <a:pt x="295092" y="2098394"/>
                  <a:pt x="396240" y="2125980"/>
                </a:cubicBezTo>
                <a:cubicBezTo>
                  <a:pt x="411738" y="2130207"/>
                  <a:pt x="426020" y="2139227"/>
                  <a:pt x="441960" y="2141220"/>
                </a:cubicBezTo>
                <a:cubicBezTo>
                  <a:pt x="462280" y="2143760"/>
                  <a:pt x="482680" y="2145726"/>
                  <a:pt x="502920" y="2148840"/>
                </a:cubicBezTo>
                <a:cubicBezTo>
                  <a:pt x="568412" y="2158916"/>
                  <a:pt x="514636" y="2156108"/>
                  <a:pt x="594360" y="2164080"/>
                </a:cubicBezTo>
                <a:cubicBezTo>
                  <a:pt x="652709" y="2169915"/>
                  <a:pt x="769620" y="2179320"/>
                  <a:pt x="769620" y="2179320"/>
                </a:cubicBezTo>
                <a:cubicBezTo>
                  <a:pt x="779780" y="2181860"/>
                  <a:pt x="790030" y="2184063"/>
                  <a:pt x="800100" y="2186940"/>
                </a:cubicBezTo>
                <a:cubicBezTo>
                  <a:pt x="807823" y="2189147"/>
                  <a:pt x="815168" y="2192612"/>
                  <a:pt x="822960" y="2194560"/>
                </a:cubicBezTo>
                <a:cubicBezTo>
                  <a:pt x="835525" y="2197701"/>
                  <a:pt x="848495" y="2199039"/>
                  <a:pt x="861060" y="2202180"/>
                </a:cubicBezTo>
                <a:cubicBezTo>
                  <a:pt x="868852" y="2204128"/>
                  <a:pt x="876197" y="2207593"/>
                  <a:pt x="883920" y="2209800"/>
                </a:cubicBezTo>
                <a:cubicBezTo>
                  <a:pt x="893990" y="2212677"/>
                  <a:pt x="904330" y="2214543"/>
                  <a:pt x="914400" y="2217420"/>
                </a:cubicBezTo>
                <a:cubicBezTo>
                  <a:pt x="948292" y="2227103"/>
                  <a:pt x="928038" y="2224720"/>
                  <a:pt x="967740" y="2232660"/>
                </a:cubicBezTo>
                <a:cubicBezTo>
                  <a:pt x="982890" y="2235690"/>
                  <a:pt x="998310" y="2237250"/>
                  <a:pt x="1013460" y="2240280"/>
                </a:cubicBezTo>
                <a:cubicBezTo>
                  <a:pt x="1058101" y="2249208"/>
                  <a:pt x="1039169" y="2251646"/>
                  <a:pt x="1097280" y="2255520"/>
                </a:cubicBezTo>
                <a:cubicBezTo>
                  <a:pt x="1244064" y="2265306"/>
                  <a:pt x="1527534" y="2268452"/>
                  <a:pt x="1638300" y="2270760"/>
                </a:cubicBezTo>
                <a:cubicBezTo>
                  <a:pt x="1651000" y="2273300"/>
                  <a:pt x="1663835" y="2275239"/>
                  <a:pt x="1676400" y="2278380"/>
                </a:cubicBezTo>
                <a:cubicBezTo>
                  <a:pt x="1684192" y="2280328"/>
                  <a:pt x="1691537" y="2283793"/>
                  <a:pt x="1699260" y="2286000"/>
                </a:cubicBezTo>
                <a:cubicBezTo>
                  <a:pt x="1779873" y="2309032"/>
                  <a:pt x="1666810" y="2272643"/>
                  <a:pt x="1775460" y="2308860"/>
                </a:cubicBezTo>
                <a:cubicBezTo>
                  <a:pt x="1783080" y="2311400"/>
                  <a:pt x="1791637" y="2312025"/>
                  <a:pt x="1798320" y="2316480"/>
                </a:cubicBezTo>
                <a:cubicBezTo>
                  <a:pt x="1805940" y="2321560"/>
                  <a:pt x="1812762" y="2328112"/>
                  <a:pt x="1821180" y="2331720"/>
                </a:cubicBezTo>
                <a:cubicBezTo>
                  <a:pt x="1850219" y="2344165"/>
                  <a:pt x="1932090" y="2346043"/>
                  <a:pt x="1943100" y="2346960"/>
                </a:cubicBezTo>
                <a:cubicBezTo>
                  <a:pt x="1955054" y="2346163"/>
                  <a:pt x="2067384" y="2342441"/>
                  <a:pt x="2103120" y="2331720"/>
                </a:cubicBezTo>
                <a:cubicBezTo>
                  <a:pt x="2114397" y="2328337"/>
                  <a:pt x="2166170" y="2298229"/>
                  <a:pt x="2171700" y="2293620"/>
                </a:cubicBezTo>
                <a:cubicBezTo>
                  <a:pt x="2191017" y="2277523"/>
                  <a:pt x="2207260" y="2258060"/>
                  <a:pt x="2225040" y="2240280"/>
                </a:cubicBezTo>
                <a:cubicBezTo>
                  <a:pt x="2232660" y="2232660"/>
                  <a:pt x="2238934" y="2223398"/>
                  <a:pt x="2247900" y="2217420"/>
                </a:cubicBezTo>
                <a:cubicBezTo>
                  <a:pt x="2304657" y="2179582"/>
                  <a:pt x="2234948" y="2228213"/>
                  <a:pt x="2293620" y="2179320"/>
                </a:cubicBezTo>
                <a:cubicBezTo>
                  <a:pt x="2300655" y="2173457"/>
                  <a:pt x="2309445" y="2169943"/>
                  <a:pt x="2316480" y="2164080"/>
                </a:cubicBezTo>
                <a:cubicBezTo>
                  <a:pt x="2324759" y="2157181"/>
                  <a:pt x="2331061" y="2148119"/>
                  <a:pt x="2339340" y="2141220"/>
                </a:cubicBezTo>
                <a:cubicBezTo>
                  <a:pt x="2346375" y="2135357"/>
                  <a:pt x="2354748" y="2131303"/>
                  <a:pt x="2362200" y="2125980"/>
                </a:cubicBezTo>
                <a:cubicBezTo>
                  <a:pt x="2372534" y="2118598"/>
                  <a:pt x="2382346" y="2110502"/>
                  <a:pt x="2392680" y="2103120"/>
                </a:cubicBezTo>
                <a:cubicBezTo>
                  <a:pt x="2400132" y="2097797"/>
                  <a:pt x="2408587" y="2093840"/>
                  <a:pt x="2415540" y="2087880"/>
                </a:cubicBezTo>
                <a:cubicBezTo>
                  <a:pt x="2426449" y="2078529"/>
                  <a:pt x="2434328" y="2065751"/>
                  <a:pt x="2446020" y="2057400"/>
                </a:cubicBezTo>
                <a:cubicBezTo>
                  <a:pt x="2452556" y="2052731"/>
                  <a:pt x="2461260" y="2052320"/>
                  <a:pt x="2468880" y="2049780"/>
                </a:cubicBezTo>
                <a:cubicBezTo>
                  <a:pt x="2476500" y="2042160"/>
                  <a:pt x="2484841" y="2035199"/>
                  <a:pt x="2491740" y="2026920"/>
                </a:cubicBezTo>
                <a:cubicBezTo>
                  <a:pt x="2497603" y="2019885"/>
                  <a:pt x="2500854" y="2010867"/>
                  <a:pt x="2506980" y="2004060"/>
                </a:cubicBezTo>
                <a:cubicBezTo>
                  <a:pt x="2551842" y="1954214"/>
                  <a:pt x="2544845" y="1961037"/>
                  <a:pt x="2583180" y="1935480"/>
                </a:cubicBezTo>
                <a:cubicBezTo>
                  <a:pt x="2600857" y="1882450"/>
                  <a:pt x="2575259" y="1947885"/>
                  <a:pt x="2621280" y="1882140"/>
                </a:cubicBezTo>
                <a:cubicBezTo>
                  <a:pt x="2631051" y="1868181"/>
                  <a:pt x="2634689" y="1850597"/>
                  <a:pt x="2644140" y="1836420"/>
                </a:cubicBezTo>
                <a:cubicBezTo>
                  <a:pt x="2650118" y="1827454"/>
                  <a:pt x="2660176" y="1821900"/>
                  <a:pt x="2667000" y="1813560"/>
                </a:cubicBezTo>
                <a:cubicBezTo>
                  <a:pt x="2683084" y="1793901"/>
                  <a:pt x="2697480" y="1772920"/>
                  <a:pt x="2712720" y="1752600"/>
                </a:cubicBezTo>
                <a:cubicBezTo>
                  <a:pt x="2720340" y="1742440"/>
                  <a:pt x="2726600" y="1731100"/>
                  <a:pt x="2735580" y="1722120"/>
                </a:cubicBezTo>
                <a:cubicBezTo>
                  <a:pt x="2743200" y="1714500"/>
                  <a:pt x="2751616" y="1707600"/>
                  <a:pt x="2758440" y="1699260"/>
                </a:cubicBezTo>
                <a:cubicBezTo>
                  <a:pt x="2774524" y="1679601"/>
                  <a:pt x="2790071" y="1659434"/>
                  <a:pt x="2804160" y="1638300"/>
                </a:cubicBezTo>
                <a:cubicBezTo>
                  <a:pt x="2809240" y="1630680"/>
                  <a:pt x="2815304" y="1623631"/>
                  <a:pt x="2819400" y="1615440"/>
                </a:cubicBezTo>
                <a:cubicBezTo>
                  <a:pt x="2848263" y="1557713"/>
                  <a:pt x="2817388" y="1594592"/>
                  <a:pt x="2857500" y="1554480"/>
                </a:cubicBezTo>
                <a:cubicBezTo>
                  <a:pt x="2876033" y="1480347"/>
                  <a:pt x="2848715" y="1580252"/>
                  <a:pt x="2895600" y="1463040"/>
                </a:cubicBezTo>
                <a:cubicBezTo>
                  <a:pt x="2900680" y="1450340"/>
                  <a:pt x="2906166" y="1437795"/>
                  <a:pt x="2910840" y="1424940"/>
                </a:cubicBezTo>
                <a:cubicBezTo>
                  <a:pt x="2916330" y="1409843"/>
                  <a:pt x="2918896" y="1393588"/>
                  <a:pt x="2926080" y="1379220"/>
                </a:cubicBezTo>
                <a:cubicBezTo>
                  <a:pt x="2934271" y="1362837"/>
                  <a:pt x="2946400" y="1348740"/>
                  <a:pt x="2956560" y="1333500"/>
                </a:cubicBezTo>
                <a:cubicBezTo>
                  <a:pt x="2961640" y="1325880"/>
                  <a:pt x="2965324" y="1317116"/>
                  <a:pt x="2971800" y="1310640"/>
                </a:cubicBezTo>
                <a:lnTo>
                  <a:pt x="3017520" y="1264920"/>
                </a:lnTo>
                <a:cubicBezTo>
                  <a:pt x="3025140" y="1257300"/>
                  <a:pt x="3031414" y="1248038"/>
                  <a:pt x="3040380" y="1242060"/>
                </a:cubicBezTo>
                <a:cubicBezTo>
                  <a:pt x="3155934" y="1165024"/>
                  <a:pt x="3037337" y="1248406"/>
                  <a:pt x="3108960" y="1188720"/>
                </a:cubicBezTo>
                <a:cubicBezTo>
                  <a:pt x="3115995" y="1182857"/>
                  <a:pt x="3124975" y="1179564"/>
                  <a:pt x="3131820" y="1173480"/>
                </a:cubicBezTo>
                <a:cubicBezTo>
                  <a:pt x="3147929" y="1159161"/>
                  <a:pt x="3165585" y="1145693"/>
                  <a:pt x="3177540" y="1127760"/>
                </a:cubicBezTo>
                <a:cubicBezTo>
                  <a:pt x="3182620" y="1120140"/>
                  <a:pt x="3186304" y="1111376"/>
                  <a:pt x="3192780" y="1104900"/>
                </a:cubicBezTo>
                <a:cubicBezTo>
                  <a:pt x="3199256" y="1098424"/>
                  <a:pt x="3208020" y="1094740"/>
                  <a:pt x="3215640" y="1089660"/>
                </a:cubicBezTo>
                <a:cubicBezTo>
                  <a:pt x="3243580" y="1047750"/>
                  <a:pt x="3215640" y="1083310"/>
                  <a:pt x="3253740" y="1051560"/>
                </a:cubicBezTo>
                <a:cubicBezTo>
                  <a:pt x="3262019" y="1044661"/>
                  <a:pt x="3267831" y="1034964"/>
                  <a:pt x="3276600" y="1028700"/>
                </a:cubicBezTo>
                <a:cubicBezTo>
                  <a:pt x="3285843" y="1022098"/>
                  <a:pt x="3297837" y="1020062"/>
                  <a:pt x="3307080" y="1013460"/>
                </a:cubicBezTo>
                <a:cubicBezTo>
                  <a:pt x="3315849" y="1007196"/>
                  <a:pt x="3321661" y="997499"/>
                  <a:pt x="3329940" y="990600"/>
                </a:cubicBezTo>
                <a:cubicBezTo>
                  <a:pt x="3336975" y="984737"/>
                  <a:pt x="3345180" y="980440"/>
                  <a:pt x="3352800" y="975360"/>
                </a:cubicBezTo>
                <a:cubicBezTo>
                  <a:pt x="3393440" y="914400"/>
                  <a:pt x="3340100" y="988060"/>
                  <a:pt x="3390900" y="937260"/>
                </a:cubicBezTo>
                <a:cubicBezTo>
                  <a:pt x="3441700" y="886460"/>
                  <a:pt x="3368040" y="939800"/>
                  <a:pt x="3429000" y="899160"/>
                </a:cubicBezTo>
                <a:cubicBezTo>
                  <a:pt x="3443985" y="876683"/>
                  <a:pt x="3445098" y="871775"/>
                  <a:pt x="3467100" y="853440"/>
                </a:cubicBezTo>
                <a:cubicBezTo>
                  <a:pt x="3474135" y="847577"/>
                  <a:pt x="3483115" y="844284"/>
                  <a:pt x="3489960" y="838200"/>
                </a:cubicBezTo>
                <a:cubicBezTo>
                  <a:pt x="3506069" y="823881"/>
                  <a:pt x="3520440" y="807720"/>
                  <a:pt x="3535680" y="792480"/>
                </a:cubicBezTo>
                <a:cubicBezTo>
                  <a:pt x="3543300" y="784860"/>
                  <a:pt x="3549574" y="775598"/>
                  <a:pt x="3558540" y="769620"/>
                </a:cubicBezTo>
                <a:lnTo>
                  <a:pt x="3581400" y="754380"/>
                </a:lnTo>
                <a:cubicBezTo>
                  <a:pt x="3596385" y="731903"/>
                  <a:pt x="3597498" y="726995"/>
                  <a:pt x="3619500" y="708660"/>
                </a:cubicBezTo>
                <a:cubicBezTo>
                  <a:pt x="3626535" y="702797"/>
                  <a:pt x="3634740" y="698500"/>
                  <a:pt x="3642360" y="693420"/>
                </a:cubicBezTo>
                <a:cubicBezTo>
                  <a:pt x="3660684" y="665934"/>
                  <a:pt x="3672003" y="645718"/>
                  <a:pt x="3703320" y="624840"/>
                </a:cubicBezTo>
                <a:cubicBezTo>
                  <a:pt x="3710940" y="619760"/>
                  <a:pt x="3719704" y="616076"/>
                  <a:pt x="3726180" y="609600"/>
                </a:cubicBezTo>
                <a:cubicBezTo>
                  <a:pt x="3735160" y="600620"/>
                  <a:pt x="3739548" y="587557"/>
                  <a:pt x="3749040" y="579120"/>
                </a:cubicBezTo>
                <a:cubicBezTo>
                  <a:pt x="3826730" y="510062"/>
                  <a:pt x="3764412" y="576849"/>
                  <a:pt x="3825240" y="533400"/>
                </a:cubicBezTo>
                <a:cubicBezTo>
                  <a:pt x="3852740" y="513757"/>
                  <a:pt x="3843682" y="511269"/>
                  <a:pt x="3863340" y="487680"/>
                </a:cubicBezTo>
                <a:cubicBezTo>
                  <a:pt x="3921065" y="418411"/>
                  <a:pt x="3853097" y="514912"/>
                  <a:pt x="3901440" y="434340"/>
                </a:cubicBezTo>
                <a:cubicBezTo>
                  <a:pt x="3910864" y="418634"/>
                  <a:pt x="3926128" y="405996"/>
                  <a:pt x="3931920" y="388620"/>
                </a:cubicBezTo>
                <a:lnTo>
                  <a:pt x="3947160" y="342900"/>
                </a:lnTo>
                <a:cubicBezTo>
                  <a:pt x="3949700" y="335280"/>
                  <a:pt x="3950325" y="326723"/>
                  <a:pt x="3954780" y="320040"/>
                </a:cubicBezTo>
                <a:cubicBezTo>
                  <a:pt x="3974475" y="290497"/>
                  <a:pt x="3967124" y="305868"/>
                  <a:pt x="3977640" y="274320"/>
                </a:cubicBezTo>
                <a:cubicBezTo>
                  <a:pt x="3976541" y="268824"/>
                  <a:pt x="3969095" y="223402"/>
                  <a:pt x="3962400" y="213360"/>
                </a:cubicBezTo>
                <a:cubicBezTo>
                  <a:pt x="3945811" y="188476"/>
                  <a:pt x="3930187" y="188767"/>
                  <a:pt x="3909060" y="167640"/>
                </a:cubicBezTo>
                <a:cubicBezTo>
                  <a:pt x="3902584" y="161164"/>
                  <a:pt x="3899904" y="151625"/>
                  <a:pt x="3893820" y="144780"/>
                </a:cubicBezTo>
                <a:cubicBezTo>
                  <a:pt x="3879501" y="128671"/>
                  <a:pt x="3866033" y="111015"/>
                  <a:pt x="3848100" y="99060"/>
                </a:cubicBezTo>
                <a:lnTo>
                  <a:pt x="3802380" y="68580"/>
                </a:lnTo>
                <a:cubicBezTo>
                  <a:pt x="3794760" y="63500"/>
                  <a:pt x="3785996" y="59816"/>
                  <a:pt x="3779520" y="53340"/>
                </a:cubicBezTo>
                <a:cubicBezTo>
                  <a:pt x="3771900" y="45720"/>
                  <a:pt x="3766299" y="35299"/>
                  <a:pt x="3756660" y="30480"/>
                </a:cubicBezTo>
                <a:cubicBezTo>
                  <a:pt x="3745076" y="24688"/>
                  <a:pt x="3731260" y="25400"/>
                  <a:pt x="3718560" y="22860"/>
                </a:cubicBezTo>
                <a:cubicBezTo>
                  <a:pt x="3675380" y="25400"/>
                  <a:pt x="3632060" y="26176"/>
                  <a:pt x="3589020" y="30480"/>
                </a:cubicBezTo>
                <a:cubicBezTo>
                  <a:pt x="3581028" y="31279"/>
                  <a:pt x="3574130" y="37104"/>
                  <a:pt x="3566160" y="38100"/>
                </a:cubicBezTo>
                <a:cubicBezTo>
                  <a:pt x="3533298" y="42208"/>
                  <a:pt x="3500120" y="43180"/>
                  <a:pt x="3467100" y="45720"/>
                </a:cubicBezTo>
                <a:cubicBezTo>
                  <a:pt x="3454400" y="48260"/>
                  <a:pt x="3441565" y="50199"/>
                  <a:pt x="3429000" y="53340"/>
                </a:cubicBezTo>
                <a:cubicBezTo>
                  <a:pt x="3421208" y="55288"/>
                  <a:pt x="3414091" y="59824"/>
                  <a:pt x="3406140" y="60960"/>
                </a:cubicBezTo>
                <a:cubicBezTo>
                  <a:pt x="3378367" y="64928"/>
                  <a:pt x="3350260" y="66040"/>
                  <a:pt x="3322320" y="68580"/>
                </a:cubicBezTo>
                <a:lnTo>
                  <a:pt x="3078480" y="60960"/>
                </a:lnTo>
                <a:cubicBezTo>
                  <a:pt x="3058027" y="59937"/>
                  <a:pt x="3037998" y="53340"/>
                  <a:pt x="3017520" y="53340"/>
                </a:cubicBezTo>
                <a:cubicBezTo>
                  <a:pt x="2915888" y="53340"/>
                  <a:pt x="2814320" y="58420"/>
                  <a:pt x="2712720" y="60960"/>
                </a:cubicBezTo>
                <a:cubicBezTo>
                  <a:pt x="2682240" y="63500"/>
                  <a:pt x="2651698" y="65378"/>
                  <a:pt x="2621280" y="68580"/>
                </a:cubicBezTo>
                <a:cubicBezTo>
                  <a:pt x="2603418" y="70460"/>
                  <a:pt x="2585791" y="74217"/>
                  <a:pt x="2567940" y="76200"/>
                </a:cubicBezTo>
                <a:cubicBezTo>
                  <a:pt x="2540056" y="79298"/>
                  <a:pt x="2512060" y="81280"/>
                  <a:pt x="2484120" y="83820"/>
                </a:cubicBezTo>
                <a:lnTo>
                  <a:pt x="2156460" y="76200"/>
                </a:lnTo>
                <a:lnTo>
                  <a:pt x="1653540" y="68580"/>
                </a:lnTo>
                <a:cubicBezTo>
                  <a:pt x="1606362" y="67269"/>
                  <a:pt x="1619117" y="61879"/>
                  <a:pt x="1584960" y="53340"/>
                </a:cubicBezTo>
                <a:cubicBezTo>
                  <a:pt x="1572395" y="50199"/>
                  <a:pt x="1559503" y="48530"/>
                  <a:pt x="1546860" y="45720"/>
                </a:cubicBezTo>
                <a:cubicBezTo>
                  <a:pt x="1536637" y="43448"/>
                  <a:pt x="1526584" y="40455"/>
                  <a:pt x="1516380" y="38100"/>
                </a:cubicBezTo>
                <a:lnTo>
                  <a:pt x="1447800" y="22860"/>
                </a:lnTo>
                <a:cubicBezTo>
                  <a:pt x="1343640" y="-1648"/>
                  <a:pt x="1426322" y="15516"/>
                  <a:pt x="1348740" y="0"/>
                </a:cubicBezTo>
                <a:lnTo>
                  <a:pt x="1021080" y="7620"/>
                </a:lnTo>
                <a:cubicBezTo>
                  <a:pt x="824159" y="15658"/>
                  <a:pt x="944880" y="20320"/>
                  <a:pt x="929640" y="2286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3" name="Freeform: Shape 162"/>
          <p:cNvSpPr/>
          <p:nvPr/>
        </p:nvSpPr>
        <p:spPr>
          <a:xfrm>
            <a:off x="4632480" y="1249200"/>
            <a:ext cx="2743200" cy="3992760"/>
          </a:xfrm>
          <a:custGeom>
            <a:avLst/>
            <a:gdLst/>
            <a:ahLst/>
            <a:rect l="l" t="t" r="r" b="b"/>
            <a:pathLst>
              <a:path w="2743200" h="3992880">
                <a:moveTo>
                  <a:pt x="2133600" y="152400"/>
                </a:moveTo>
                <a:lnTo>
                  <a:pt x="2133600" y="152400"/>
                </a:lnTo>
                <a:cubicBezTo>
                  <a:pt x="2115820" y="137160"/>
                  <a:pt x="2098821" y="120958"/>
                  <a:pt x="2080260" y="106680"/>
                </a:cubicBezTo>
                <a:cubicBezTo>
                  <a:pt x="2065742" y="95512"/>
                  <a:pt x="2047492" y="89152"/>
                  <a:pt x="2034540" y="76200"/>
                </a:cubicBezTo>
                <a:cubicBezTo>
                  <a:pt x="1998728" y="40388"/>
                  <a:pt x="2020646" y="59318"/>
                  <a:pt x="1965960" y="22860"/>
                </a:cubicBezTo>
                <a:cubicBezTo>
                  <a:pt x="1936417" y="3165"/>
                  <a:pt x="1951788" y="10516"/>
                  <a:pt x="1920240" y="0"/>
                </a:cubicBezTo>
                <a:cubicBezTo>
                  <a:pt x="1892300" y="2540"/>
                  <a:pt x="1863396" y="-87"/>
                  <a:pt x="1836420" y="7620"/>
                </a:cubicBezTo>
                <a:cubicBezTo>
                  <a:pt x="1826058" y="10580"/>
                  <a:pt x="1820176" y="21974"/>
                  <a:pt x="1813560" y="30480"/>
                </a:cubicBezTo>
                <a:cubicBezTo>
                  <a:pt x="1721818" y="148434"/>
                  <a:pt x="1813784" y="30078"/>
                  <a:pt x="1775460" y="99060"/>
                </a:cubicBezTo>
                <a:lnTo>
                  <a:pt x="1729740" y="167640"/>
                </a:lnTo>
                <a:lnTo>
                  <a:pt x="1714500" y="190500"/>
                </a:lnTo>
                <a:cubicBezTo>
                  <a:pt x="1709420" y="198120"/>
                  <a:pt x="1705736" y="206884"/>
                  <a:pt x="1699260" y="213360"/>
                </a:cubicBezTo>
                <a:cubicBezTo>
                  <a:pt x="1684020" y="228600"/>
                  <a:pt x="1665495" y="241147"/>
                  <a:pt x="1653540" y="259080"/>
                </a:cubicBezTo>
                <a:cubicBezTo>
                  <a:pt x="1643380" y="274320"/>
                  <a:pt x="1636012" y="291848"/>
                  <a:pt x="1623060" y="304800"/>
                </a:cubicBezTo>
                <a:lnTo>
                  <a:pt x="1577340" y="350520"/>
                </a:lnTo>
                <a:cubicBezTo>
                  <a:pt x="1569720" y="358140"/>
                  <a:pt x="1560458" y="364414"/>
                  <a:pt x="1554480" y="373380"/>
                </a:cubicBezTo>
                <a:cubicBezTo>
                  <a:pt x="1544320" y="388620"/>
                  <a:pt x="1539240" y="408940"/>
                  <a:pt x="1524000" y="419100"/>
                </a:cubicBezTo>
                <a:cubicBezTo>
                  <a:pt x="1467243" y="456938"/>
                  <a:pt x="1536952" y="408307"/>
                  <a:pt x="1478280" y="457200"/>
                </a:cubicBezTo>
                <a:cubicBezTo>
                  <a:pt x="1471245" y="463063"/>
                  <a:pt x="1462455" y="466577"/>
                  <a:pt x="1455420" y="472440"/>
                </a:cubicBezTo>
                <a:cubicBezTo>
                  <a:pt x="1417367" y="504151"/>
                  <a:pt x="1449874" y="489529"/>
                  <a:pt x="1409700" y="502920"/>
                </a:cubicBezTo>
                <a:lnTo>
                  <a:pt x="1295400" y="617220"/>
                </a:lnTo>
                <a:cubicBezTo>
                  <a:pt x="1287780" y="624840"/>
                  <a:pt x="1278518" y="631114"/>
                  <a:pt x="1272540" y="640080"/>
                </a:cubicBezTo>
                <a:cubicBezTo>
                  <a:pt x="1267460" y="647700"/>
                  <a:pt x="1263776" y="656464"/>
                  <a:pt x="1257300" y="662940"/>
                </a:cubicBezTo>
                <a:cubicBezTo>
                  <a:pt x="1250824" y="669416"/>
                  <a:pt x="1242060" y="673100"/>
                  <a:pt x="1234440" y="678180"/>
                </a:cubicBezTo>
                <a:cubicBezTo>
                  <a:pt x="1229360" y="685800"/>
                  <a:pt x="1225676" y="694564"/>
                  <a:pt x="1219200" y="701040"/>
                </a:cubicBezTo>
                <a:cubicBezTo>
                  <a:pt x="1212724" y="707516"/>
                  <a:pt x="1202061" y="709129"/>
                  <a:pt x="1196340" y="716280"/>
                </a:cubicBezTo>
                <a:cubicBezTo>
                  <a:pt x="1191322" y="722552"/>
                  <a:pt x="1193651" y="732800"/>
                  <a:pt x="1188720" y="739140"/>
                </a:cubicBezTo>
                <a:cubicBezTo>
                  <a:pt x="1175488" y="756153"/>
                  <a:pt x="1158240" y="769620"/>
                  <a:pt x="1143000" y="784860"/>
                </a:cubicBezTo>
                <a:cubicBezTo>
                  <a:pt x="1135380" y="792480"/>
                  <a:pt x="1126118" y="798754"/>
                  <a:pt x="1120140" y="807720"/>
                </a:cubicBezTo>
                <a:cubicBezTo>
                  <a:pt x="1115060" y="815340"/>
                  <a:pt x="1111376" y="824104"/>
                  <a:pt x="1104900" y="830580"/>
                </a:cubicBezTo>
                <a:cubicBezTo>
                  <a:pt x="1098424" y="837056"/>
                  <a:pt x="1089660" y="840740"/>
                  <a:pt x="1082040" y="845820"/>
                </a:cubicBezTo>
                <a:cubicBezTo>
                  <a:pt x="1041400" y="906780"/>
                  <a:pt x="1094740" y="833120"/>
                  <a:pt x="1043940" y="883920"/>
                </a:cubicBezTo>
                <a:cubicBezTo>
                  <a:pt x="993140" y="934720"/>
                  <a:pt x="1066800" y="881380"/>
                  <a:pt x="1005840" y="922020"/>
                </a:cubicBezTo>
                <a:cubicBezTo>
                  <a:pt x="995680" y="937260"/>
                  <a:pt x="988312" y="954788"/>
                  <a:pt x="975360" y="967740"/>
                </a:cubicBezTo>
                <a:cubicBezTo>
                  <a:pt x="960120" y="982980"/>
                  <a:pt x="941595" y="995527"/>
                  <a:pt x="929640" y="1013460"/>
                </a:cubicBezTo>
                <a:cubicBezTo>
                  <a:pt x="909320" y="1043940"/>
                  <a:pt x="922020" y="1031240"/>
                  <a:pt x="891540" y="1051560"/>
                </a:cubicBezTo>
                <a:cubicBezTo>
                  <a:pt x="850900" y="1112520"/>
                  <a:pt x="904240" y="1038860"/>
                  <a:pt x="853440" y="1089660"/>
                </a:cubicBezTo>
                <a:cubicBezTo>
                  <a:pt x="802640" y="1140460"/>
                  <a:pt x="876300" y="1087120"/>
                  <a:pt x="815340" y="1127760"/>
                </a:cubicBezTo>
                <a:cubicBezTo>
                  <a:pt x="783936" y="1174865"/>
                  <a:pt x="818804" y="1128915"/>
                  <a:pt x="777240" y="1165860"/>
                </a:cubicBezTo>
                <a:lnTo>
                  <a:pt x="708660" y="1234440"/>
                </a:lnTo>
                <a:cubicBezTo>
                  <a:pt x="701040" y="1242060"/>
                  <a:pt x="694766" y="1251322"/>
                  <a:pt x="685800" y="1257300"/>
                </a:cubicBezTo>
                <a:lnTo>
                  <a:pt x="662940" y="1272540"/>
                </a:lnTo>
                <a:cubicBezTo>
                  <a:pt x="652780" y="1270000"/>
                  <a:pt x="642933" y="1264920"/>
                  <a:pt x="632460" y="1264920"/>
                </a:cubicBezTo>
                <a:cubicBezTo>
                  <a:pt x="602791" y="1264920"/>
                  <a:pt x="611913" y="1277847"/>
                  <a:pt x="594360" y="1295400"/>
                </a:cubicBezTo>
                <a:cubicBezTo>
                  <a:pt x="587884" y="1301876"/>
                  <a:pt x="579120" y="1305560"/>
                  <a:pt x="571500" y="1310640"/>
                </a:cubicBezTo>
                <a:cubicBezTo>
                  <a:pt x="566420" y="1318260"/>
                  <a:pt x="562736" y="1327024"/>
                  <a:pt x="556260" y="1333500"/>
                </a:cubicBezTo>
                <a:cubicBezTo>
                  <a:pt x="549784" y="1339976"/>
                  <a:pt x="539121" y="1341589"/>
                  <a:pt x="533400" y="1348740"/>
                </a:cubicBezTo>
                <a:cubicBezTo>
                  <a:pt x="528382" y="1355012"/>
                  <a:pt x="530235" y="1364917"/>
                  <a:pt x="525780" y="1371600"/>
                </a:cubicBezTo>
                <a:cubicBezTo>
                  <a:pt x="519802" y="1380566"/>
                  <a:pt x="510540" y="1386840"/>
                  <a:pt x="502920" y="1394460"/>
                </a:cubicBezTo>
                <a:cubicBezTo>
                  <a:pt x="495283" y="1417371"/>
                  <a:pt x="496473" y="1420485"/>
                  <a:pt x="480060" y="1440180"/>
                </a:cubicBezTo>
                <a:cubicBezTo>
                  <a:pt x="473161" y="1448459"/>
                  <a:pt x="464099" y="1454761"/>
                  <a:pt x="457200" y="1463040"/>
                </a:cubicBezTo>
                <a:cubicBezTo>
                  <a:pt x="425450" y="1501140"/>
                  <a:pt x="461010" y="1473200"/>
                  <a:pt x="419100" y="1501140"/>
                </a:cubicBezTo>
                <a:cubicBezTo>
                  <a:pt x="414020" y="1511300"/>
                  <a:pt x="411132" y="1522894"/>
                  <a:pt x="403860" y="1531620"/>
                </a:cubicBezTo>
                <a:cubicBezTo>
                  <a:pt x="397997" y="1538655"/>
                  <a:pt x="387476" y="1540384"/>
                  <a:pt x="381000" y="1546860"/>
                </a:cubicBezTo>
                <a:cubicBezTo>
                  <a:pt x="374524" y="1553336"/>
                  <a:pt x="371623" y="1562685"/>
                  <a:pt x="365760" y="1569720"/>
                </a:cubicBezTo>
                <a:cubicBezTo>
                  <a:pt x="358861" y="1577999"/>
                  <a:pt x="349516" y="1584074"/>
                  <a:pt x="342900" y="1592580"/>
                </a:cubicBezTo>
                <a:cubicBezTo>
                  <a:pt x="331655" y="1607038"/>
                  <a:pt x="322580" y="1623060"/>
                  <a:pt x="312420" y="1638300"/>
                </a:cubicBezTo>
                <a:lnTo>
                  <a:pt x="281940" y="1684020"/>
                </a:lnTo>
                <a:lnTo>
                  <a:pt x="266700" y="1706880"/>
                </a:lnTo>
                <a:cubicBezTo>
                  <a:pt x="261620" y="1714500"/>
                  <a:pt x="257936" y="1723264"/>
                  <a:pt x="251460" y="1729740"/>
                </a:cubicBezTo>
                <a:lnTo>
                  <a:pt x="205740" y="1775460"/>
                </a:lnTo>
                <a:cubicBezTo>
                  <a:pt x="198120" y="1783080"/>
                  <a:pt x="188858" y="1789354"/>
                  <a:pt x="182880" y="1798320"/>
                </a:cubicBezTo>
                <a:cubicBezTo>
                  <a:pt x="128422" y="1880008"/>
                  <a:pt x="213230" y="1756033"/>
                  <a:pt x="144780" y="1844040"/>
                </a:cubicBezTo>
                <a:cubicBezTo>
                  <a:pt x="133535" y="1858498"/>
                  <a:pt x="124460" y="1874520"/>
                  <a:pt x="114300" y="1889760"/>
                </a:cubicBezTo>
                <a:cubicBezTo>
                  <a:pt x="109220" y="1897380"/>
                  <a:pt x="106680" y="1907540"/>
                  <a:pt x="99060" y="1912620"/>
                </a:cubicBezTo>
                <a:lnTo>
                  <a:pt x="76200" y="1927860"/>
                </a:lnTo>
                <a:cubicBezTo>
                  <a:pt x="32524" y="1993374"/>
                  <a:pt x="84888" y="1910484"/>
                  <a:pt x="53340" y="1973580"/>
                </a:cubicBezTo>
                <a:cubicBezTo>
                  <a:pt x="49244" y="1981771"/>
                  <a:pt x="41819" y="1988071"/>
                  <a:pt x="38100" y="1996440"/>
                </a:cubicBezTo>
                <a:cubicBezTo>
                  <a:pt x="31576" y="2011120"/>
                  <a:pt x="27940" y="2026920"/>
                  <a:pt x="22860" y="2042160"/>
                </a:cubicBezTo>
                <a:lnTo>
                  <a:pt x="15240" y="2065020"/>
                </a:lnTo>
                <a:cubicBezTo>
                  <a:pt x="12700" y="2072640"/>
                  <a:pt x="9568" y="2080088"/>
                  <a:pt x="7620" y="2087880"/>
                </a:cubicBezTo>
                <a:lnTo>
                  <a:pt x="0" y="2118360"/>
                </a:lnTo>
                <a:cubicBezTo>
                  <a:pt x="2540" y="2153920"/>
                  <a:pt x="3455" y="2189634"/>
                  <a:pt x="7620" y="2225040"/>
                </a:cubicBezTo>
                <a:cubicBezTo>
                  <a:pt x="10567" y="2250086"/>
                  <a:pt x="19415" y="2248630"/>
                  <a:pt x="30480" y="2270760"/>
                </a:cubicBezTo>
                <a:cubicBezTo>
                  <a:pt x="34072" y="2277944"/>
                  <a:pt x="34199" y="2286599"/>
                  <a:pt x="38100" y="2293620"/>
                </a:cubicBezTo>
                <a:cubicBezTo>
                  <a:pt x="64247" y="2340685"/>
                  <a:pt x="58046" y="2332318"/>
                  <a:pt x="91440" y="2354580"/>
                </a:cubicBezTo>
                <a:cubicBezTo>
                  <a:pt x="132080" y="2415540"/>
                  <a:pt x="78740" y="2341880"/>
                  <a:pt x="129540" y="2392680"/>
                </a:cubicBezTo>
                <a:cubicBezTo>
                  <a:pt x="136016" y="2399156"/>
                  <a:pt x="138917" y="2408505"/>
                  <a:pt x="144780" y="2415540"/>
                </a:cubicBezTo>
                <a:cubicBezTo>
                  <a:pt x="151679" y="2423819"/>
                  <a:pt x="160741" y="2430121"/>
                  <a:pt x="167640" y="2438400"/>
                </a:cubicBezTo>
                <a:cubicBezTo>
                  <a:pt x="199390" y="2476500"/>
                  <a:pt x="163830" y="2448560"/>
                  <a:pt x="205740" y="2476500"/>
                </a:cubicBezTo>
                <a:lnTo>
                  <a:pt x="236220" y="2522220"/>
                </a:lnTo>
                <a:cubicBezTo>
                  <a:pt x="241300" y="2529840"/>
                  <a:pt x="247364" y="2536889"/>
                  <a:pt x="251460" y="2545080"/>
                </a:cubicBezTo>
                <a:cubicBezTo>
                  <a:pt x="256540" y="2555240"/>
                  <a:pt x="260098" y="2566317"/>
                  <a:pt x="266700" y="2575560"/>
                </a:cubicBezTo>
                <a:cubicBezTo>
                  <a:pt x="294787" y="2614882"/>
                  <a:pt x="284643" y="2580967"/>
                  <a:pt x="304800" y="2621280"/>
                </a:cubicBezTo>
                <a:cubicBezTo>
                  <a:pt x="308392" y="2628464"/>
                  <a:pt x="308828" y="2636956"/>
                  <a:pt x="312420" y="2644140"/>
                </a:cubicBezTo>
                <a:cubicBezTo>
                  <a:pt x="316516" y="2652331"/>
                  <a:pt x="323564" y="2658809"/>
                  <a:pt x="327660" y="2667000"/>
                </a:cubicBezTo>
                <a:cubicBezTo>
                  <a:pt x="364942" y="2741565"/>
                  <a:pt x="322832" y="2674998"/>
                  <a:pt x="358140" y="2727960"/>
                </a:cubicBezTo>
                <a:cubicBezTo>
                  <a:pt x="370202" y="2776209"/>
                  <a:pt x="359951" y="2749726"/>
                  <a:pt x="396240" y="2804160"/>
                </a:cubicBezTo>
                <a:cubicBezTo>
                  <a:pt x="401320" y="2811780"/>
                  <a:pt x="405004" y="2820544"/>
                  <a:pt x="411480" y="2827020"/>
                </a:cubicBezTo>
                <a:cubicBezTo>
                  <a:pt x="419100" y="2834640"/>
                  <a:pt x="428076" y="2841111"/>
                  <a:pt x="434340" y="2849880"/>
                </a:cubicBezTo>
                <a:cubicBezTo>
                  <a:pt x="464405" y="2891971"/>
                  <a:pt x="432583" y="2878603"/>
                  <a:pt x="480060" y="2926080"/>
                </a:cubicBezTo>
                <a:lnTo>
                  <a:pt x="548640" y="2994660"/>
                </a:lnTo>
                <a:cubicBezTo>
                  <a:pt x="556260" y="3002280"/>
                  <a:pt x="565522" y="3008554"/>
                  <a:pt x="571500" y="3017520"/>
                </a:cubicBezTo>
                <a:cubicBezTo>
                  <a:pt x="587177" y="3041036"/>
                  <a:pt x="586783" y="3043683"/>
                  <a:pt x="609600" y="3063240"/>
                </a:cubicBezTo>
                <a:cubicBezTo>
                  <a:pt x="640206" y="3089474"/>
                  <a:pt x="660147" y="3093340"/>
                  <a:pt x="685800" y="3131820"/>
                </a:cubicBezTo>
                <a:cubicBezTo>
                  <a:pt x="721716" y="3185694"/>
                  <a:pt x="676642" y="3118999"/>
                  <a:pt x="723900" y="3185160"/>
                </a:cubicBezTo>
                <a:cubicBezTo>
                  <a:pt x="729223" y="3192612"/>
                  <a:pt x="735044" y="3199829"/>
                  <a:pt x="739140" y="3208020"/>
                </a:cubicBezTo>
                <a:cubicBezTo>
                  <a:pt x="742732" y="3215204"/>
                  <a:pt x="743168" y="3223696"/>
                  <a:pt x="746760" y="3230880"/>
                </a:cubicBezTo>
                <a:cubicBezTo>
                  <a:pt x="750856" y="3239071"/>
                  <a:pt x="757456" y="3245789"/>
                  <a:pt x="762000" y="3253740"/>
                </a:cubicBezTo>
                <a:cubicBezTo>
                  <a:pt x="767636" y="3263603"/>
                  <a:pt x="770638" y="3274977"/>
                  <a:pt x="777240" y="3284220"/>
                </a:cubicBezTo>
                <a:cubicBezTo>
                  <a:pt x="783504" y="3292989"/>
                  <a:pt x="793201" y="3298801"/>
                  <a:pt x="800100" y="3307080"/>
                </a:cubicBezTo>
                <a:cubicBezTo>
                  <a:pt x="831850" y="3345180"/>
                  <a:pt x="796290" y="3317240"/>
                  <a:pt x="838200" y="3345180"/>
                </a:cubicBezTo>
                <a:cubicBezTo>
                  <a:pt x="878840" y="3406140"/>
                  <a:pt x="825500" y="3332480"/>
                  <a:pt x="876300" y="3383280"/>
                </a:cubicBezTo>
                <a:cubicBezTo>
                  <a:pt x="927100" y="3434080"/>
                  <a:pt x="853440" y="3380740"/>
                  <a:pt x="914400" y="3421380"/>
                </a:cubicBezTo>
                <a:cubicBezTo>
                  <a:pt x="941595" y="3462173"/>
                  <a:pt x="923164" y="3437764"/>
                  <a:pt x="975360" y="3489960"/>
                </a:cubicBezTo>
                <a:cubicBezTo>
                  <a:pt x="982980" y="3497580"/>
                  <a:pt x="989254" y="3506842"/>
                  <a:pt x="998220" y="3512820"/>
                </a:cubicBezTo>
                <a:cubicBezTo>
                  <a:pt x="1005840" y="3517900"/>
                  <a:pt x="1014045" y="3522197"/>
                  <a:pt x="1021080" y="3528060"/>
                </a:cubicBezTo>
                <a:cubicBezTo>
                  <a:pt x="1079752" y="3576953"/>
                  <a:pt x="1010043" y="3528322"/>
                  <a:pt x="1066800" y="3566160"/>
                </a:cubicBezTo>
                <a:cubicBezTo>
                  <a:pt x="1107440" y="3627120"/>
                  <a:pt x="1054100" y="3553460"/>
                  <a:pt x="1104900" y="3604260"/>
                </a:cubicBezTo>
                <a:cubicBezTo>
                  <a:pt x="1111376" y="3610736"/>
                  <a:pt x="1113248" y="3621089"/>
                  <a:pt x="1120140" y="3627120"/>
                </a:cubicBezTo>
                <a:lnTo>
                  <a:pt x="1188720" y="3672840"/>
                </a:lnTo>
                <a:cubicBezTo>
                  <a:pt x="1196340" y="3677920"/>
                  <a:pt x="1205104" y="3681604"/>
                  <a:pt x="1211580" y="3688080"/>
                </a:cubicBezTo>
                <a:cubicBezTo>
                  <a:pt x="1247392" y="3723892"/>
                  <a:pt x="1225474" y="3704962"/>
                  <a:pt x="1280160" y="3741420"/>
                </a:cubicBezTo>
                <a:lnTo>
                  <a:pt x="1371600" y="3802380"/>
                </a:lnTo>
                <a:lnTo>
                  <a:pt x="1440180" y="3848100"/>
                </a:lnTo>
                <a:cubicBezTo>
                  <a:pt x="1447800" y="3853180"/>
                  <a:pt x="1454155" y="3861119"/>
                  <a:pt x="1463040" y="3863340"/>
                </a:cubicBezTo>
                <a:lnTo>
                  <a:pt x="1493520" y="3870960"/>
                </a:lnTo>
                <a:cubicBezTo>
                  <a:pt x="1501140" y="3876040"/>
                  <a:pt x="1508011" y="3882481"/>
                  <a:pt x="1516380" y="3886200"/>
                </a:cubicBezTo>
                <a:cubicBezTo>
                  <a:pt x="1531060" y="3892724"/>
                  <a:pt x="1548734" y="3892529"/>
                  <a:pt x="1562100" y="3901440"/>
                </a:cubicBezTo>
                <a:cubicBezTo>
                  <a:pt x="1569720" y="3906520"/>
                  <a:pt x="1576769" y="3912584"/>
                  <a:pt x="1584960" y="3916680"/>
                </a:cubicBezTo>
                <a:cubicBezTo>
                  <a:pt x="1592144" y="3920272"/>
                  <a:pt x="1600799" y="3920399"/>
                  <a:pt x="1607820" y="3924300"/>
                </a:cubicBezTo>
                <a:cubicBezTo>
                  <a:pt x="1623831" y="3933195"/>
                  <a:pt x="1636164" y="3948988"/>
                  <a:pt x="1653540" y="3954780"/>
                </a:cubicBezTo>
                <a:lnTo>
                  <a:pt x="1722120" y="3977640"/>
                </a:lnTo>
                <a:lnTo>
                  <a:pt x="1744980" y="3985260"/>
                </a:lnTo>
                <a:lnTo>
                  <a:pt x="1767840" y="3992880"/>
                </a:lnTo>
                <a:cubicBezTo>
                  <a:pt x="1781607" y="3991350"/>
                  <a:pt x="1843803" y="3987539"/>
                  <a:pt x="1866900" y="3977640"/>
                </a:cubicBezTo>
                <a:cubicBezTo>
                  <a:pt x="1875318" y="3974032"/>
                  <a:pt x="1882140" y="3967480"/>
                  <a:pt x="1889760" y="3962400"/>
                </a:cubicBezTo>
                <a:cubicBezTo>
                  <a:pt x="1935814" y="3870292"/>
                  <a:pt x="1877158" y="3984453"/>
                  <a:pt x="1920240" y="3909060"/>
                </a:cubicBezTo>
                <a:cubicBezTo>
                  <a:pt x="1925876" y="3899197"/>
                  <a:pt x="1929460" y="3888213"/>
                  <a:pt x="1935480" y="3878580"/>
                </a:cubicBezTo>
                <a:cubicBezTo>
                  <a:pt x="1944109" y="3864774"/>
                  <a:pt x="1965520" y="3841360"/>
                  <a:pt x="1973580" y="3825240"/>
                </a:cubicBezTo>
                <a:cubicBezTo>
                  <a:pt x="1979982" y="3812436"/>
                  <a:pt x="1985158" y="3784107"/>
                  <a:pt x="1988820" y="3771900"/>
                </a:cubicBezTo>
                <a:cubicBezTo>
                  <a:pt x="1993436" y="3756513"/>
                  <a:pt x="2000164" y="3741765"/>
                  <a:pt x="2004060" y="3726180"/>
                </a:cubicBezTo>
                <a:cubicBezTo>
                  <a:pt x="2006600" y="3716020"/>
                  <a:pt x="2008803" y="3705770"/>
                  <a:pt x="2011680" y="3695700"/>
                </a:cubicBezTo>
                <a:cubicBezTo>
                  <a:pt x="2013887" y="3687977"/>
                  <a:pt x="2017352" y="3680632"/>
                  <a:pt x="2019300" y="3672840"/>
                </a:cubicBezTo>
                <a:cubicBezTo>
                  <a:pt x="2022441" y="3660275"/>
                  <a:pt x="2024110" y="3647383"/>
                  <a:pt x="2026920" y="3634740"/>
                </a:cubicBezTo>
                <a:cubicBezTo>
                  <a:pt x="2029192" y="3624517"/>
                  <a:pt x="2032268" y="3614483"/>
                  <a:pt x="2034540" y="3604260"/>
                </a:cubicBezTo>
                <a:cubicBezTo>
                  <a:pt x="2037350" y="3591617"/>
                  <a:pt x="2039019" y="3578725"/>
                  <a:pt x="2042160" y="3566160"/>
                </a:cubicBezTo>
                <a:cubicBezTo>
                  <a:pt x="2049308" y="3537568"/>
                  <a:pt x="2051935" y="3543351"/>
                  <a:pt x="2065020" y="3512820"/>
                </a:cubicBezTo>
                <a:cubicBezTo>
                  <a:pt x="2068184" y="3505437"/>
                  <a:pt x="2069820" y="3497481"/>
                  <a:pt x="2072640" y="3489960"/>
                </a:cubicBezTo>
                <a:cubicBezTo>
                  <a:pt x="2077443" y="3477153"/>
                  <a:pt x="2082800" y="3464560"/>
                  <a:pt x="2087880" y="3451860"/>
                </a:cubicBezTo>
                <a:cubicBezTo>
                  <a:pt x="2090420" y="3436620"/>
                  <a:pt x="2091435" y="3421046"/>
                  <a:pt x="2095500" y="3406140"/>
                </a:cubicBezTo>
                <a:cubicBezTo>
                  <a:pt x="2099099" y="3392944"/>
                  <a:pt x="2106066" y="3380895"/>
                  <a:pt x="2110740" y="3368040"/>
                </a:cubicBezTo>
                <a:cubicBezTo>
                  <a:pt x="2116230" y="3352943"/>
                  <a:pt x="2120014" y="3337235"/>
                  <a:pt x="2125980" y="3322320"/>
                </a:cubicBezTo>
                <a:cubicBezTo>
                  <a:pt x="2136140" y="3296920"/>
                  <a:pt x="2151095" y="3272945"/>
                  <a:pt x="2156460" y="3246120"/>
                </a:cubicBezTo>
                <a:cubicBezTo>
                  <a:pt x="2159000" y="3233420"/>
                  <a:pt x="2160672" y="3220515"/>
                  <a:pt x="2164080" y="3208020"/>
                </a:cubicBezTo>
                <a:cubicBezTo>
                  <a:pt x="2174753" y="3168887"/>
                  <a:pt x="2180926" y="3160558"/>
                  <a:pt x="2194560" y="3124200"/>
                </a:cubicBezTo>
                <a:cubicBezTo>
                  <a:pt x="2208081" y="3088145"/>
                  <a:pt x="2194299" y="3113162"/>
                  <a:pt x="2217420" y="3078480"/>
                </a:cubicBezTo>
                <a:cubicBezTo>
                  <a:pt x="2219960" y="3068320"/>
                  <a:pt x="2220915" y="3057626"/>
                  <a:pt x="2225040" y="3048000"/>
                </a:cubicBezTo>
                <a:cubicBezTo>
                  <a:pt x="2235056" y="3024629"/>
                  <a:pt x="2246985" y="3021666"/>
                  <a:pt x="2263140" y="3002280"/>
                </a:cubicBezTo>
                <a:cubicBezTo>
                  <a:pt x="2269003" y="2995245"/>
                  <a:pt x="2274284" y="2987611"/>
                  <a:pt x="2278380" y="2979420"/>
                </a:cubicBezTo>
                <a:cubicBezTo>
                  <a:pt x="2281972" y="2972236"/>
                  <a:pt x="2282099" y="2963581"/>
                  <a:pt x="2286000" y="2956560"/>
                </a:cubicBezTo>
                <a:cubicBezTo>
                  <a:pt x="2294895" y="2940549"/>
                  <a:pt x="2306320" y="2926080"/>
                  <a:pt x="2316480" y="2910840"/>
                </a:cubicBezTo>
                <a:lnTo>
                  <a:pt x="2331720" y="2887980"/>
                </a:lnTo>
                <a:cubicBezTo>
                  <a:pt x="2336800" y="2880360"/>
                  <a:pt x="2341465" y="2872446"/>
                  <a:pt x="2346960" y="2865120"/>
                </a:cubicBezTo>
                <a:cubicBezTo>
                  <a:pt x="2354580" y="2854960"/>
                  <a:pt x="2360840" y="2843620"/>
                  <a:pt x="2369820" y="2834640"/>
                </a:cubicBezTo>
                <a:cubicBezTo>
                  <a:pt x="2376296" y="2828164"/>
                  <a:pt x="2385060" y="2824480"/>
                  <a:pt x="2392680" y="2819400"/>
                </a:cubicBezTo>
                <a:cubicBezTo>
                  <a:pt x="2410151" y="2766986"/>
                  <a:pt x="2386254" y="2830645"/>
                  <a:pt x="2423160" y="2766060"/>
                </a:cubicBezTo>
                <a:cubicBezTo>
                  <a:pt x="2427145" y="2759086"/>
                  <a:pt x="2427188" y="2750384"/>
                  <a:pt x="2430780" y="2743200"/>
                </a:cubicBezTo>
                <a:cubicBezTo>
                  <a:pt x="2434876" y="2735009"/>
                  <a:pt x="2442498" y="2728794"/>
                  <a:pt x="2446020" y="2720340"/>
                </a:cubicBezTo>
                <a:cubicBezTo>
                  <a:pt x="2455288" y="2698097"/>
                  <a:pt x="2458104" y="2673313"/>
                  <a:pt x="2468880" y="2651760"/>
                </a:cubicBezTo>
                <a:lnTo>
                  <a:pt x="2506980" y="2575560"/>
                </a:lnTo>
                <a:cubicBezTo>
                  <a:pt x="2512060" y="2565400"/>
                  <a:pt x="2515919" y="2554531"/>
                  <a:pt x="2522220" y="2545080"/>
                </a:cubicBezTo>
                <a:cubicBezTo>
                  <a:pt x="2527300" y="2537460"/>
                  <a:pt x="2533364" y="2530411"/>
                  <a:pt x="2537460" y="2522220"/>
                </a:cubicBezTo>
                <a:cubicBezTo>
                  <a:pt x="2541052" y="2515036"/>
                  <a:pt x="2541179" y="2506381"/>
                  <a:pt x="2545080" y="2499360"/>
                </a:cubicBezTo>
                <a:cubicBezTo>
                  <a:pt x="2594086" y="2411149"/>
                  <a:pt x="2555226" y="2486316"/>
                  <a:pt x="2598420" y="2430780"/>
                </a:cubicBezTo>
                <a:cubicBezTo>
                  <a:pt x="2646289" y="2369234"/>
                  <a:pt x="2607505" y="2399323"/>
                  <a:pt x="2651760" y="2369820"/>
                </a:cubicBezTo>
                <a:cubicBezTo>
                  <a:pt x="2656840" y="2362200"/>
                  <a:pt x="2660524" y="2353436"/>
                  <a:pt x="2667000" y="2346960"/>
                </a:cubicBezTo>
                <a:cubicBezTo>
                  <a:pt x="2673476" y="2340484"/>
                  <a:pt x="2685006" y="2339486"/>
                  <a:pt x="2689860" y="2331720"/>
                </a:cubicBezTo>
                <a:cubicBezTo>
                  <a:pt x="2700222" y="2315141"/>
                  <a:pt x="2706543" y="2276110"/>
                  <a:pt x="2712720" y="2255520"/>
                </a:cubicBezTo>
                <a:cubicBezTo>
                  <a:pt x="2717336" y="2240133"/>
                  <a:pt x="2724064" y="2225385"/>
                  <a:pt x="2727960" y="2209800"/>
                </a:cubicBezTo>
                <a:lnTo>
                  <a:pt x="2743200" y="2148840"/>
                </a:lnTo>
                <a:cubicBezTo>
                  <a:pt x="2740660" y="2085340"/>
                  <a:pt x="2740108" y="2021729"/>
                  <a:pt x="2735580" y="1958340"/>
                </a:cubicBezTo>
                <a:cubicBezTo>
                  <a:pt x="2735008" y="1950328"/>
                  <a:pt x="2730167" y="1943203"/>
                  <a:pt x="2727960" y="1935480"/>
                </a:cubicBezTo>
                <a:cubicBezTo>
                  <a:pt x="2725083" y="1925410"/>
                  <a:pt x="2724465" y="1914626"/>
                  <a:pt x="2720340" y="1905000"/>
                </a:cubicBezTo>
                <a:cubicBezTo>
                  <a:pt x="2716732" y="1896582"/>
                  <a:pt x="2710180" y="1889760"/>
                  <a:pt x="2705100" y="1882140"/>
                </a:cubicBezTo>
                <a:cubicBezTo>
                  <a:pt x="2687639" y="1812295"/>
                  <a:pt x="2701478" y="1838608"/>
                  <a:pt x="2674620" y="1798320"/>
                </a:cubicBezTo>
                <a:cubicBezTo>
                  <a:pt x="2672080" y="1785620"/>
                  <a:pt x="2669129" y="1772995"/>
                  <a:pt x="2667000" y="1760220"/>
                </a:cubicBezTo>
                <a:cubicBezTo>
                  <a:pt x="2664047" y="1742504"/>
                  <a:pt x="2662593" y="1724551"/>
                  <a:pt x="2659380" y="1706880"/>
                </a:cubicBezTo>
                <a:cubicBezTo>
                  <a:pt x="2649878" y="1654618"/>
                  <a:pt x="2655021" y="1697065"/>
                  <a:pt x="2644140" y="1653540"/>
                </a:cubicBezTo>
                <a:cubicBezTo>
                  <a:pt x="2640999" y="1640975"/>
                  <a:pt x="2641879" y="1627231"/>
                  <a:pt x="2636520" y="1615440"/>
                </a:cubicBezTo>
                <a:cubicBezTo>
                  <a:pt x="2628941" y="1598766"/>
                  <a:pt x="2616200" y="1584960"/>
                  <a:pt x="2606040" y="1569720"/>
                </a:cubicBezTo>
                <a:cubicBezTo>
                  <a:pt x="2600960" y="1562100"/>
                  <a:pt x="2593696" y="1555548"/>
                  <a:pt x="2590800" y="1546860"/>
                </a:cubicBezTo>
                <a:cubicBezTo>
                  <a:pt x="2580284" y="1515312"/>
                  <a:pt x="2587635" y="1530683"/>
                  <a:pt x="2567940" y="1501140"/>
                </a:cubicBezTo>
                <a:cubicBezTo>
                  <a:pt x="2565499" y="1491374"/>
                  <a:pt x="2558166" y="1458732"/>
                  <a:pt x="2552700" y="1447800"/>
                </a:cubicBezTo>
                <a:cubicBezTo>
                  <a:pt x="2548604" y="1439609"/>
                  <a:pt x="2542540" y="1432560"/>
                  <a:pt x="2537460" y="1424940"/>
                </a:cubicBezTo>
                <a:cubicBezTo>
                  <a:pt x="2532380" y="1404620"/>
                  <a:pt x="2531587" y="1382714"/>
                  <a:pt x="2522220" y="1363980"/>
                </a:cubicBezTo>
                <a:cubicBezTo>
                  <a:pt x="2517140" y="1353820"/>
                  <a:pt x="2510968" y="1344136"/>
                  <a:pt x="2506980" y="1333500"/>
                </a:cubicBezTo>
                <a:cubicBezTo>
                  <a:pt x="2503303" y="1323694"/>
                  <a:pt x="2502237" y="1313090"/>
                  <a:pt x="2499360" y="1303020"/>
                </a:cubicBezTo>
                <a:cubicBezTo>
                  <a:pt x="2497153" y="1295297"/>
                  <a:pt x="2493688" y="1287952"/>
                  <a:pt x="2491740" y="1280160"/>
                </a:cubicBezTo>
                <a:cubicBezTo>
                  <a:pt x="2488599" y="1267595"/>
                  <a:pt x="2487261" y="1254625"/>
                  <a:pt x="2484120" y="1242060"/>
                </a:cubicBezTo>
                <a:cubicBezTo>
                  <a:pt x="2482172" y="1234268"/>
                  <a:pt x="2478707" y="1226923"/>
                  <a:pt x="2476500" y="1219200"/>
                </a:cubicBezTo>
                <a:cubicBezTo>
                  <a:pt x="2473623" y="1209130"/>
                  <a:pt x="2471757" y="1198790"/>
                  <a:pt x="2468880" y="1188720"/>
                </a:cubicBezTo>
                <a:cubicBezTo>
                  <a:pt x="2458179" y="1151267"/>
                  <a:pt x="2462124" y="1176071"/>
                  <a:pt x="2446020" y="1127760"/>
                </a:cubicBezTo>
                <a:cubicBezTo>
                  <a:pt x="2442708" y="1117825"/>
                  <a:pt x="2440672" y="1107503"/>
                  <a:pt x="2438400" y="1097280"/>
                </a:cubicBezTo>
                <a:cubicBezTo>
                  <a:pt x="2435590" y="1084637"/>
                  <a:pt x="2434876" y="1071467"/>
                  <a:pt x="2430780" y="1059180"/>
                </a:cubicBezTo>
                <a:cubicBezTo>
                  <a:pt x="2427188" y="1048404"/>
                  <a:pt x="2419528" y="1039336"/>
                  <a:pt x="2415540" y="1028700"/>
                </a:cubicBezTo>
                <a:cubicBezTo>
                  <a:pt x="2411863" y="1018894"/>
                  <a:pt x="2410797" y="1008290"/>
                  <a:pt x="2407920" y="998220"/>
                </a:cubicBezTo>
                <a:cubicBezTo>
                  <a:pt x="2405713" y="990497"/>
                  <a:pt x="2402840" y="982980"/>
                  <a:pt x="2400300" y="975360"/>
                </a:cubicBezTo>
                <a:cubicBezTo>
                  <a:pt x="2397760" y="957580"/>
                  <a:pt x="2394259" y="939911"/>
                  <a:pt x="2392680" y="922020"/>
                </a:cubicBezTo>
                <a:cubicBezTo>
                  <a:pt x="2378377" y="759917"/>
                  <a:pt x="2384153" y="762360"/>
                  <a:pt x="2369820" y="647700"/>
                </a:cubicBezTo>
                <a:cubicBezTo>
                  <a:pt x="2368612" y="638032"/>
                  <a:pt x="2357758" y="561351"/>
                  <a:pt x="2354580" y="548640"/>
                </a:cubicBezTo>
                <a:cubicBezTo>
                  <a:pt x="2350684" y="533055"/>
                  <a:pt x="2348251" y="516286"/>
                  <a:pt x="2339340" y="502920"/>
                </a:cubicBezTo>
                <a:lnTo>
                  <a:pt x="2308860" y="457200"/>
                </a:lnTo>
                <a:cubicBezTo>
                  <a:pt x="2303780" y="449580"/>
                  <a:pt x="2296516" y="443028"/>
                  <a:pt x="2293620" y="434340"/>
                </a:cubicBezTo>
                <a:cubicBezTo>
                  <a:pt x="2274467" y="376881"/>
                  <a:pt x="2300303" y="447706"/>
                  <a:pt x="2270760" y="388620"/>
                </a:cubicBezTo>
                <a:cubicBezTo>
                  <a:pt x="2267168" y="381436"/>
                  <a:pt x="2267041" y="372781"/>
                  <a:pt x="2263140" y="365760"/>
                </a:cubicBezTo>
                <a:cubicBezTo>
                  <a:pt x="2254245" y="349749"/>
                  <a:pt x="2242820" y="335280"/>
                  <a:pt x="2232660" y="320040"/>
                </a:cubicBezTo>
                <a:cubicBezTo>
                  <a:pt x="2227580" y="312420"/>
                  <a:pt x="2225040" y="302260"/>
                  <a:pt x="2217420" y="297180"/>
                </a:cubicBezTo>
                <a:lnTo>
                  <a:pt x="2194560" y="281940"/>
                </a:lnTo>
                <a:cubicBezTo>
                  <a:pt x="2153920" y="220980"/>
                  <a:pt x="2207260" y="294640"/>
                  <a:pt x="2156460" y="243840"/>
                </a:cubicBezTo>
                <a:cubicBezTo>
                  <a:pt x="2149984" y="237364"/>
                  <a:pt x="2145316" y="229171"/>
                  <a:pt x="2141220" y="220980"/>
                </a:cubicBezTo>
                <a:cubicBezTo>
                  <a:pt x="2137628" y="213796"/>
                  <a:pt x="2139280" y="203800"/>
                  <a:pt x="2133600" y="198120"/>
                </a:cubicBezTo>
                <a:lnTo>
                  <a:pt x="2133600" y="152400"/>
                </a:lnTo>
                <a:close/>
              </a:path>
            </a:pathLst>
          </a:custGeom>
          <a:no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4" name="Freeform: Shape 163"/>
          <p:cNvSpPr/>
          <p:nvPr/>
        </p:nvSpPr>
        <p:spPr>
          <a:xfrm>
            <a:off x="2689200" y="3200400"/>
            <a:ext cx="3940200" cy="2925720"/>
          </a:xfrm>
          <a:custGeom>
            <a:avLst/>
            <a:gdLst/>
            <a:ahLst/>
            <a:rect l="l" t="t" r="r" b="b"/>
            <a:pathLst>
              <a:path w="3939540" h="2926080">
                <a:moveTo>
                  <a:pt x="3604260" y="2164080"/>
                </a:moveTo>
                <a:lnTo>
                  <a:pt x="3604260" y="2164080"/>
                </a:lnTo>
                <a:cubicBezTo>
                  <a:pt x="3589020" y="2181860"/>
                  <a:pt x="3573169" y="2199134"/>
                  <a:pt x="3558540" y="2217420"/>
                </a:cubicBezTo>
                <a:cubicBezTo>
                  <a:pt x="3552819" y="2224571"/>
                  <a:pt x="3550192" y="2234249"/>
                  <a:pt x="3543300" y="2240280"/>
                </a:cubicBezTo>
                <a:cubicBezTo>
                  <a:pt x="3529516" y="2252341"/>
                  <a:pt x="3512820" y="2260600"/>
                  <a:pt x="3497580" y="2270760"/>
                </a:cubicBezTo>
                <a:cubicBezTo>
                  <a:pt x="3489960" y="2275840"/>
                  <a:pt x="3481196" y="2279524"/>
                  <a:pt x="3474720" y="2286000"/>
                </a:cubicBezTo>
                <a:cubicBezTo>
                  <a:pt x="3459480" y="2301240"/>
                  <a:pt x="3448277" y="2322081"/>
                  <a:pt x="3429000" y="2331720"/>
                </a:cubicBezTo>
                <a:cubicBezTo>
                  <a:pt x="3418840" y="2336800"/>
                  <a:pt x="3408961" y="2342485"/>
                  <a:pt x="3398520" y="2346960"/>
                </a:cubicBezTo>
                <a:cubicBezTo>
                  <a:pt x="3391137" y="2350124"/>
                  <a:pt x="3383181" y="2351760"/>
                  <a:pt x="3375660" y="2354580"/>
                </a:cubicBezTo>
                <a:cubicBezTo>
                  <a:pt x="3362853" y="2359383"/>
                  <a:pt x="3350415" y="2365146"/>
                  <a:pt x="3337560" y="2369820"/>
                </a:cubicBezTo>
                <a:cubicBezTo>
                  <a:pt x="3322463" y="2375310"/>
                  <a:pt x="3306208" y="2377876"/>
                  <a:pt x="3291840" y="2385060"/>
                </a:cubicBezTo>
                <a:cubicBezTo>
                  <a:pt x="3281680" y="2390140"/>
                  <a:pt x="3271100" y="2394456"/>
                  <a:pt x="3261360" y="2400300"/>
                </a:cubicBezTo>
                <a:cubicBezTo>
                  <a:pt x="3245654" y="2409724"/>
                  <a:pt x="3231093" y="2420946"/>
                  <a:pt x="3215640" y="2430780"/>
                </a:cubicBezTo>
                <a:cubicBezTo>
                  <a:pt x="3195770" y="2443425"/>
                  <a:pt x="3169335" y="2459334"/>
                  <a:pt x="3147060" y="2468880"/>
                </a:cubicBezTo>
                <a:cubicBezTo>
                  <a:pt x="3128790" y="2476710"/>
                  <a:pt x="3113054" y="2478596"/>
                  <a:pt x="3093720" y="2484120"/>
                </a:cubicBezTo>
                <a:cubicBezTo>
                  <a:pt x="3085997" y="2486327"/>
                  <a:pt x="3078044" y="2488148"/>
                  <a:pt x="3070860" y="2491740"/>
                </a:cubicBezTo>
                <a:cubicBezTo>
                  <a:pt x="3043914" y="2505213"/>
                  <a:pt x="3048733" y="2509617"/>
                  <a:pt x="3025140" y="2529840"/>
                </a:cubicBezTo>
                <a:cubicBezTo>
                  <a:pt x="3015497" y="2538105"/>
                  <a:pt x="3005762" y="2546532"/>
                  <a:pt x="2994660" y="2552700"/>
                </a:cubicBezTo>
                <a:cubicBezTo>
                  <a:pt x="2974269" y="2564028"/>
                  <a:pt x="2954758" y="2567663"/>
                  <a:pt x="2933700" y="2575560"/>
                </a:cubicBezTo>
                <a:cubicBezTo>
                  <a:pt x="2876414" y="2597042"/>
                  <a:pt x="2915793" y="2586761"/>
                  <a:pt x="2857500" y="2598420"/>
                </a:cubicBezTo>
                <a:cubicBezTo>
                  <a:pt x="2837180" y="2608580"/>
                  <a:pt x="2815443" y="2616298"/>
                  <a:pt x="2796540" y="2628900"/>
                </a:cubicBezTo>
                <a:cubicBezTo>
                  <a:pt x="2781300" y="2639060"/>
                  <a:pt x="2765473" y="2648390"/>
                  <a:pt x="2750820" y="2659380"/>
                </a:cubicBezTo>
                <a:cubicBezTo>
                  <a:pt x="2740660" y="2667000"/>
                  <a:pt x="2731367" y="2675939"/>
                  <a:pt x="2720340" y="2682240"/>
                </a:cubicBezTo>
                <a:cubicBezTo>
                  <a:pt x="2713366" y="2686225"/>
                  <a:pt x="2704863" y="2686696"/>
                  <a:pt x="2697480" y="2689860"/>
                </a:cubicBezTo>
                <a:cubicBezTo>
                  <a:pt x="2642271" y="2713521"/>
                  <a:pt x="2693126" y="2699875"/>
                  <a:pt x="2628900" y="2712720"/>
                </a:cubicBezTo>
                <a:cubicBezTo>
                  <a:pt x="2601807" y="2726267"/>
                  <a:pt x="2601722" y="2728105"/>
                  <a:pt x="2575560" y="2735580"/>
                </a:cubicBezTo>
                <a:cubicBezTo>
                  <a:pt x="2565490" y="2738457"/>
                  <a:pt x="2555303" y="2740928"/>
                  <a:pt x="2545080" y="2743200"/>
                </a:cubicBezTo>
                <a:cubicBezTo>
                  <a:pt x="2532437" y="2746010"/>
                  <a:pt x="2519475" y="2747412"/>
                  <a:pt x="2506980" y="2750820"/>
                </a:cubicBezTo>
                <a:cubicBezTo>
                  <a:pt x="2491482" y="2755047"/>
                  <a:pt x="2477106" y="2763419"/>
                  <a:pt x="2461260" y="2766060"/>
                </a:cubicBezTo>
                <a:cubicBezTo>
                  <a:pt x="2430780" y="2771140"/>
                  <a:pt x="2400120" y="2775240"/>
                  <a:pt x="2369820" y="2781300"/>
                </a:cubicBezTo>
                <a:lnTo>
                  <a:pt x="2331720" y="2788920"/>
                </a:lnTo>
                <a:cubicBezTo>
                  <a:pt x="2316519" y="2791684"/>
                  <a:pt x="2301150" y="2793510"/>
                  <a:pt x="2286000" y="2796540"/>
                </a:cubicBezTo>
                <a:cubicBezTo>
                  <a:pt x="2275731" y="2798594"/>
                  <a:pt x="2265590" y="2801283"/>
                  <a:pt x="2255520" y="2804160"/>
                </a:cubicBezTo>
                <a:cubicBezTo>
                  <a:pt x="2247797" y="2806367"/>
                  <a:pt x="2240501" y="2810038"/>
                  <a:pt x="2232660" y="2811780"/>
                </a:cubicBezTo>
                <a:cubicBezTo>
                  <a:pt x="2217578" y="2815132"/>
                  <a:pt x="2202022" y="2816048"/>
                  <a:pt x="2186940" y="2819400"/>
                </a:cubicBezTo>
                <a:cubicBezTo>
                  <a:pt x="2179099" y="2821142"/>
                  <a:pt x="2171872" y="2825072"/>
                  <a:pt x="2164080" y="2827020"/>
                </a:cubicBezTo>
                <a:cubicBezTo>
                  <a:pt x="2151515" y="2830161"/>
                  <a:pt x="2138545" y="2831499"/>
                  <a:pt x="2125980" y="2834640"/>
                </a:cubicBezTo>
                <a:cubicBezTo>
                  <a:pt x="2107962" y="2839145"/>
                  <a:pt x="2088217" y="2848154"/>
                  <a:pt x="2072640" y="2857500"/>
                </a:cubicBezTo>
                <a:cubicBezTo>
                  <a:pt x="2056934" y="2866924"/>
                  <a:pt x="2044296" y="2882188"/>
                  <a:pt x="2026920" y="2887980"/>
                </a:cubicBezTo>
                <a:cubicBezTo>
                  <a:pt x="2011680" y="2893060"/>
                  <a:pt x="1994566" y="2894309"/>
                  <a:pt x="1981200" y="2903220"/>
                </a:cubicBezTo>
                <a:cubicBezTo>
                  <a:pt x="1951657" y="2922915"/>
                  <a:pt x="1967028" y="2915564"/>
                  <a:pt x="1935480" y="2926080"/>
                </a:cubicBezTo>
                <a:cubicBezTo>
                  <a:pt x="1879600" y="2923540"/>
                  <a:pt x="1823379" y="2925125"/>
                  <a:pt x="1767840" y="2918460"/>
                </a:cubicBezTo>
                <a:cubicBezTo>
                  <a:pt x="1758747" y="2917369"/>
                  <a:pt x="1752931" y="2907764"/>
                  <a:pt x="1744980" y="2903220"/>
                </a:cubicBezTo>
                <a:cubicBezTo>
                  <a:pt x="1735117" y="2897584"/>
                  <a:pt x="1724430" y="2893497"/>
                  <a:pt x="1714500" y="2887980"/>
                </a:cubicBezTo>
                <a:cubicBezTo>
                  <a:pt x="1701553" y="2880787"/>
                  <a:pt x="1689647" y="2871744"/>
                  <a:pt x="1676400" y="2865120"/>
                </a:cubicBezTo>
                <a:cubicBezTo>
                  <a:pt x="1669216" y="2861528"/>
                  <a:pt x="1661061" y="2860320"/>
                  <a:pt x="1653540" y="2857500"/>
                </a:cubicBezTo>
                <a:cubicBezTo>
                  <a:pt x="1614623" y="2842906"/>
                  <a:pt x="1619594" y="2844337"/>
                  <a:pt x="1584960" y="2827020"/>
                </a:cubicBezTo>
                <a:cubicBezTo>
                  <a:pt x="1544320" y="2766060"/>
                  <a:pt x="1597660" y="2839720"/>
                  <a:pt x="1546860" y="2788920"/>
                </a:cubicBezTo>
                <a:cubicBezTo>
                  <a:pt x="1540384" y="2782444"/>
                  <a:pt x="1538771" y="2771781"/>
                  <a:pt x="1531620" y="2766060"/>
                </a:cubicBezTo>
                <a:cubicBezTo>
                  <a:pt x="1525348" y="2761042"/>
                  <a:pt x="1515944" y="2762032"/>
                  <a:pt x="1508760" y="2758440"/>
                </a:cubicBezTo>
                <a:cubicBezTo>
                  <a:pt x="1500569" y="2754344"/>
                  <a:pt x="1493851" y="2747744"/>
                  <a:pt x="1485900" y="2743200"/>
                </a:cubicBezTo>
                <a:cubicBezTo>
                  <a:pt x="1476037" y="2737564"/>
                  <a:pt x="1465283" y="2733596"/>
                  <a:pt x="1455420" y="2727960"/>
                </a:cubicBezTo>
                <a:cubicBezTo>
                  <a:pt x="1394950" y="2693406"/>
                  <a:pt x="1472741" y="2734889"/>
                  <a:pt x="1409700" y="2689860"/>
                </a:cubicBezTo>
                <a:cubicBezTo>
                  <a:pt x="1384428" y="2671808"/>
                  <a:pt x="1381234" y="2677660"/>
                  <a:pt x="1356360" y="2667000"/>
                </a:cubicBezTo>
                <a:cubicBezTo>
                  <a:pt x="1345919" y="2662525"/>
                  <a:pt x="1336321" y="2656235"/>
                  <a:pt x="1325880" y="2651760"/>
                </a:cubicBezTo>
                <a:cubicBezTo>
                  <a:pt x="1283136" y="2633441"/>
                  <a:pt x="1323085" y="2657783"/>
                  <a:pt x="1272540" y="2628900"/>
                </a:cubicBezTo>
                <a:cubicBezTo>
                  <a:pt x="1228554" y="2603765"/>
                  <a:pt x="1270463" y="2624745"/>
                  <a:pt x="1226820" y="2590800"/>
                </a:cubicBezTo>
                <a:cubicBezTo>
                  <a:pt x="1212362" y="2579555"/>
                  <a:pt x="1194052" y="2573272"/>
                  <a:pt x="1181100" y="2560320"/>
                </a:cubicBezTo>
                <a:cubicBezTo>
                  <a:pt x="1173480" y="2552700"/>
                  <a:pt x="1167378" y="2543171"/>
                  <a:pt x="1158240" y="2537460"/>
                </a:cubicBezTo>
                <a:cubicBezTo>
                  <a:pt x="1146641" y="2530211"/>
                  <a:pt x="1132374" y="2528337"/>
                  <a:pt x="1120140" y="2522220"/>
                </a:cubicBezTo>
                <a:cubicBezTo>
                  <a:pt x="1111949" y="2518124"/>
                  <a:pt x="1105471" y="2511076"/>
                  <a:pt x="1097280" y="2506980"/>
                </a:cubicBezTo>
                <a:cubicBezTo>
                  <a:pt x="1090096" y="2503388"/>
                  <a:pt x="1081941" y="2502180"/>
                  <a:pt x="1074420" y="2499360"/>
                </a:cubicBezTo>
                <a:cubicBezTo>
                  <a:pt x="1017032" y="2477839"/>
                  <a:pt x="1056913" y="2489268"/>
                  <a:pt x="1005840" y="2476500"/>
                </a:cubicBezTo>
                <a:cubicBezTo>
                  <a:pt x="998220" y="2471420"/>
                  <a:pt x="991171" y="2465356"/>
                  <a:pt x="982980" y="2461260"/>
                </a:cubicBezTo>
                <a:cubicBezTo>
                  <a:pt x="914541" y="2427041"/>
                  <a:pt x="1023098" y="2494554"/>
                  <a:pt x="922020" y="2438400"/>
                </a:cubicBezTo>
                <a:cubicBezTo>
                  <a:pt x="857760" y="2402700"/>
                  <a:pt x="930126" y="2421971"/>
                  <a:pt x="845820" y="2407920"/>
                </a:cubicBezTo>
                <a:cubicBezTo>
                  <a:pt x="833120" y="2400300"/>
                  <a:pt x="820967" y="2391684"/>
                  <a:pt x="807720" y="2385060"/>
                </a:cubicBezTo>
                <a:cubicBezTo>
                  <a:pt x="800536" y="2381468"/>
                  <a:pt x="792044" y="2381032"/>
                  <a:pt x="784860" y="2377440"/>
                </a:cubicBezTo>
                <a:cubicBezTo>
                  <a:pt x="776669" y="2373344"/>
                  <a:pt x="770418" y="2365808"/>
                  <a:pt x="762000" y="2362200"/>
                </a:cubicBezTo>
                <a:cubicBezTo>
                  <a:pt x="752374" y="2358075"/>
                  <a:pt x="741244" y="2358469"/>
                  <a:pt x="731520" y="2354580"/>
                </a:cubicBezTo>
                <a:cubicBezTo>
                  <a:pt x="715700" y="2348252"/>
                  <a:pt x="701370" y="2338640"/>
                  <a:pt x="685800" y="2331720"/>
                </a:cubicBezTo>
                <a:cubicBezTo>
                  <a:pt x="678460" y="2328458"/>
                  <a:pt x="670124" y="2327692"/>
                  <a:pt x="662940" y="2324100"/>
                </a:cubicBezTo>
                <a:cubicBezTo>
                  <a:pt x="654749" y="2320004"/>
                  <a:pt x="648498" y="2312468"/>
                  <a:pt x="640080" y="2308860"/>
                </a:cubicBezTo>
                <a:cubicBezTo>
                  <a:pt x="630454" y="2304735"/>
                  <a:pt x="619535" y="2304552"/>
                  <a:pt x="609600" y="2301240"/>
                </a:cubicBezTo>
                <a:cubicBezTo>
                  <a:pt x="532448" y="2275523"/>
                  <a:pt x="607407" y="2297315"/>
                  <a:pt x="541020" y="2270760"/>
                </a:cubicBezTo>
                <a:cubicBezTo>
                  <a:pt x="456542" y="2236969"/>
                  <a:pt x="532167" y="2273599"/>
                  <a:pt x="457200" y="2240280"/>
                </a:cubicBezTo>
                <a:cubicBezTo>
                  <a:pt x="446820" y="2235667"/>
                  <a:pt x="436059" y="2231506"/>
                  <a:pt x="426720" y="2225040"/>
                </a:cubicBezTo>
                <a:cubicBezTo>
                  <a:pt x="402909" y="2208555"/>
                  <a:pt x="381095" y="2189358"/>
                  <a:pt x="358140" y="2171700"/>
                </a:cubicBezTo>
                <a:cubicBezTo>
                  <a:pt x="348074" y="2163957"/>
                  <a:pt x="336640" y="2157820"/>
                  <a:pt x="327660" y="2148840"/>
                </a:cubicBezTo>
                <a:cubicBezTo>
                  <a:pt x="275464" y="2096644"/>
                  <a:pt x="299873" y="2115075"/>
                  <a:pt x="259080" y="2087880"/>
                </a:cubicBezTo>
                <a:cubicBezTo>
                  <a:pt x="218440" y="2026920"/>
                  <a:pt x="271780" y="2100580"/>
                  <a:pt x="220980" y="2049780"/>
                </a:cubicBezTo>
                <a:cubicBezTo>
                  <a:pt x="170180" y="1998980"/>
                  <a:pt x="243840" y="2052320"/>
                  <a:pt x="182880" y="2011680"/>
                </a:cubicBezTo>
                <a:cubicBezTo>
                  <a:pt x="142240" y="1950720"/>
                  <a:pt x="195580" y="2024380"/>
                  <a:pt x="144780" y="1973580"/>
                </a:cubicBezTo>
                <a:cubicBezTo>
                  <a:pt x="93980" y="1922780"/>
                  <a:pt x="167640" y="1976120"/>
                  <a:pt x="106680" y="1935480"/>
                </a:cubicBezTo>
                <a:cubicBezTo>
                  <a:pt x="81471" y="1859852"/>
                  <a:pt x="123766" y="1975379"/>
                  <a:pt x="76200" y="1889760"/>
                </a:cubicBezTo>
                <a:cubicBezTo>
                  <a:pt x="68398" y="1875717"/>
                  <a:pt x="66040" y="1859280"/>
                  <a:pt x="60960" y="1844040"/>
                </a:cubicBezTo>
                <a:cubicBezTo>
                  <a:pt x="58420" y="1836420"/>
                  <a:pt x="57795" y="1827863"/>
                  <a:pt x="53340" y="1821180"/>
                </a:cubicBezTo>
                <a:cubicBezTo>
                  <a:pt x="48260" y="1813560"/>
                  <a:pt x="41819" y="1806689"/>
                  <a:pt x="38100" y="1798320"/>
                </a:cubicBezTo>
                <a:cubicBezTo>
                  <a:pt x="31576" y="1783640"/>
                  <a:pt x="27940" y="1767840"/>
                  <a:pt x="22860" y="1752600"/>
                </a:cubicBezTo>
                <a:cubicBezTo>
                  <a:pt x="14313" y="1726958"/>
                  <a:pt x="11707" y="1722291"/>
                  <a:pt x="7620" y="1691640"/>
                </a:cubicBezTo>
                <a:cubicBezTo>
                  <a:pt x="4246" y="1666337"/>
                  <a:pt x="2540" y="1640840"/>
                  <a:pt x="0" y="1615440"/>
                </a:cubicBezTo>
                <a:cubicBezTo>
                  <a:pt x="2540" y="1569720"/>
                  <a:pt x="3279" y="1523864"/>
                  <a:pt x="7620" y="1478280"/>
                </a:cubicBezTo>
                <a:cubicBezTo>
                  <a:pt x="10684" y="1446108"/>
                  <a:pt x="34382" y="1443715"/>
                  <a:pt x="45720" y="1409700"/>
                </a:cubicBezTo>
                <a:cubicBezTo>
                  <a:pt x="59111" y="1369526"/>
                  <a:pt x="44489" y="1402033"/>
                  <a:pt x="76200" y="1363980"/>
                </a:cubicBezTo>
                <a:cubicBezTo>
                  <a:pt x="82063" y="1356945"/>
                  <a:pt x="85356" y="1347965"/>
                  <a:pt x="91440" y="1341120"/>
                </a:cubicBezTo>
                <a:cubicBezTo>
                  <a:pt x="105759" y="1325011"/>
                  <a:pt x="121920" y="1310640"/>
                  <a:pt x="137160" y="1295400"/>
                </a:cubicBezTo>
                <a:lnTo>
                  <a:pt x="182880" y="1249680"/>
                </a:lnTo>
                <a:cubicBezTo>
                  <a:pt x="190500" y="1242060"/>
                  <a:pt x="199762" y="1235786"/>
                  <a:pt x="205740" y="1226820"/>
                </a:cubicBezTo>
                <a:cubicBezTo>
                  <a:pt x="220725" y="1204343"/>
                  <a:pt x="221838" y="1199435"/>
                  <a:pt x="243840" y="1181100"/>
                </a:cubicBezTo>
                <a:cubicBezTo>
                  <a:pt x="250875" y="1175237"/>
                  <a:pt x="259080" y="1170940"/>
                  <a:pt x="266700" y="1165860"/>
                </a:cubicBezTo>
                <a:cubicBezTo>
                  <a:pt x="271780" y="1158240"/>
                  <a:pt x="275464" y="1149476"/>
                  <a:pt x="281940" y="1143000"/>
                </a:cubicBezTo>
                <a:cubicBezTo>
                  <a:pt x="287392" y="1137548"/>
                  <a:pt x="325184" y="1110669"/>
                  <a:pt x="335280" y="1104900"/>
                </a:cubicBezTo>
                <a:cubicBezTo>
                  <a:pt x="345143" y="1099264"/>
                  <a:pt x="356127" y="1095680"/>
                  <a:pt x="365760" y="1089660"/>
                </a:cubicBezTo>
                <a:cubicBezTo>
                  <a:pt x="376530" y="1082929"/>
                  <a:pt x="385213" y="1073101"/>
                  <a:pt x="396240" y="1066800"/>
                </a:cubicBezTo>
                <a:cubicBezTo>
                  <a:pt x="403214" y="1062815"/>
                  <a:pt x="411717" y="1062344"/>
                  <a:pt x="419100" y="1059180"/>
                </a:cubicBezTo>
                <a:cubicBezTo>
                  <a:pt x="429541" y="1054705"/>
                  <a:pt x="439717" y="1049576"/>
                  <a:pt x="449580" y="1043940"/>
                </a:cubicBezTo>
                <a:cubicBezTo>
                  <a:pt x="457531" y="1039396"/>
                  <a:pt x="463865" y="1031916"/>
                  <a:pt x="472440" y="1028700"/>
                </a:cubicBezTo>
                <a:cubicBezTo>
                  <a:pt x="484567" y="1024152"/>
                  <a:pt x="497840" y="1023620"/>
                  <a:pt x="510540" y="1021080"/>
                </a:cubicBezTo>
                <a:lnTo>
                  <a:pt x="579120" y="975360"/>
                </a:lnTo>
                <a:lnTo>
                  <a:pt x="601980" y="960120"/>
                </a:lnTo>
                <a:cubicBezTo>
                  <a:pt x="609600" y="955040"/>
                  <a:pt x="617514" y="950375"/>
                  <a:pt x="624840" y="944880"/>
                </a:cubicBezTo>
                <a:cubicBezTo>
                  <a:pt x="635000" y="937260"/>
                  <a:pt x="644293" y="928321"/>
                  <a:pt x="655320" y="922020"/>
                </a:cubicBezTo>
                <a:cubicBezTo>
                  <a:pt x="662294" y="918035"/>
                  <a:pt x="670868" y="917724"/>
                  <a:pt x="678180" y="914400"/>
                </a:cubicBezTo>
                <a:cubicBezTo>
                  <a:pt x="710290" y="899805"/>
                  <a:pt x="730327" y="884218"/>
                  <a:pt x="762000" y="876300"/>
                </a:cubicBezTo>
                <a:cubicBezTo>
                  <a:pt x="774565" y="873159"/>
                  <a:pt x="787400" y="871220"/>
                  <a:pt x="800100" y="868680"/>
                </a:cubicBezTo>
                <a:cubicBezTo>
                  <a:pt x="810260" y="863600"/>
                  <a:pt x="820717" y="859076"/>
                  <a:pt x="830580" y="853440"/>
                </a:cubicBezTo>
                <a:cubicBezTo>
                  <a:pt x="873485" y="828923"/>
                  <a:pt x="832109" y="845987"/>
                  <a:pt x="883920" y="822960"/>
                </a:cubicBezTo>
                <a:cubicBezTo>
                  <a:pt x="896419" y="817405"/>
                  <a:pt x="910063" y="814363"/>
                  <a:pt x="922020" y="807720"/>
                </a:cubicBezTo>
                <a:cubicBezTo>
                  <a:pt x="933122" y="801552"/>
                  <a:pt x="941730" y="791591"/>
                  <a:pt x="952500" y="784860"/>
                </a:cubicBezTo>
                <a:cubicBezTo>
                  <a:pt x="962133" y="778840"/>
                  <a:pt x="973737" y="776222"/>
                  <a:pt x="982980" y="769620"/>
                </a:cubicBezTo>
                <a:cubicBezTo>
                  <a:pt x="991749" y="763356"/>
                  <a:pt x="997071" y="753024"/>
                  <a:pt x="1005840" y="746760"/>
                </a:cubicBezTo>
                <a:cubicBezTo>
                  <a:pt x="1015083" y="740158"/>
                  <a:pt x="1026580" y="737364"/>
                  <a:pt x="1036320" y="731520"/>
                </a:cubicBezTo>
                <a:cubicBezTo>
                  <a:pt x="1052026" y="722096"/>
                  <a:pt x="1066800" y="711200"/>
                  <a:pt x="1082040" y="701040"/>
                </a:cubicBezTo>
                <a:cubicBezTo>
                  <a:pt x="1089660" y="695960"/>
                  <a:pt x="1098424" y="692276"/>
                  <a:pt x="1104900" y="685800"/>
                </a:cubicBezTo>
                <a:cubicBezTo>
                  <a:pt x="1112520" y="678180"/>
                  <a:pt x="1118991" y="669204"/>
                  <a:pt x="1127760" y="662940"/>
                </a:cubicBezTo>
                <a:cubicBezTo>
                  <a:pt x="1137003" y="656338"/>
                  <a:pt x="1149370" y="654796"/>
                  <a:pt x="1158240" y="647700"/>
                </a:cubicBezTo>
                <a:cubicBezTo>
                  <a:pt x="1175070" y="634236"/>
                  <a:pt x="1188720" y="617220"/>
                  <a:pt x="1203960" y="601980"/>
                </a:cubicBezTo>
                <a:cubicBezTo>
                  <a:pt x="1211580" y="594360"/>
                  <a:pt x="1217181" y="583939"/>
                  <a:pt x="1226820" y="579120"/>
                </a:cubicBezTo>
                <a:cubicBezTo>
                  <a:pt x="1310356" y="537352"/>
                  <a:pt x="1208078" y="592507"/>
                  <a:pt x="1280160" y="541020"/>
                </a:cubicBezTo>
                <a:cubicBezTo>
                  <a:pt x="1289403" y="534418"/>
                  <a:pt x="1300777" y="531416"/>
                  <a:pt x="1310640" y="525780"/>
                </a:cubicBezTo>
                <a:cubicBezTo>
                  <a:pt x="1351569" y="502392"/>
                  <a:pt x="1313917" y="515436"/>
                  <a:pt x="1363980" y="502920"/>
                </a:cubicBezTo>
                <a:cubicBezTo>
                  <a:pt x="1371600" y="497840"/>
                  <a:pt x="1378649" y="491776"/>
                  <a:pt x="1386840" y="487680"/>
                </a:cubicBezTo>
                <a:cubicBezTo>
                  <a:pt x="1394024" y="484088"/>
                  <a:pt x="1402726" y="484045"/>
                  <a:pt x="1409700" y="480060"/>
                </a:cubicBezTo>
                <a:cubicBezTo>
                  <a:pt x="1474285" y="443154"/>
                  <a:pt x="1410626" y="467051"/>
                  <a:pt x="1463040" y="449580"/>
                </a:cubicBezTo>
                <a:cubicBezTo>
                  <a:pt x="1470660" y="441960"/>
                  <a:pt x="1477394" y="433336"/>
                  <a:pt x="1485900" y="426720"/>
                </a:cubicBezTo>
                <a:cubicBezTo>
                  <a:pt x="1500358" y="415475"/>
                  <a:pt x="1531620" y="396240"/>
                  <a:pt x="1531620" y="396240"/>
                </a:cubicBezTo>
                <a:cubicBezTo>
                  <a:pt x="1567180" y="342900"/>
                  <a:pt x="1546860" y="360680"/>
                  <a:pt x="1584960" y="335280"/>
                </a:cubicBezTo>
                <a:cubicBezTo>
                  <a:pt x="1625600" y="274320"/>
                  <a:pt x="1572260" y="347980"/>
                  <a:pt x="1623060" y="297180"/>
                </a:cubicBezTo>
                <a:cubicBezTo>
                  <a:pt x="1629536" y="290704"/>
                  <a:pt x="1631824" y="280796"/>
                  <a:pt x="1638300" y="274320"/>
                </a:cubicBezTo>
                <a:cubicBezTo>
                  <a:pt x="1644776" y="267844"/>
                  <a:pt x="1654125" y="264943"/>
                  <a:pt x="1661160" y="259080"/>
                </a:cubicBezTo>
                <a:cubicBezTo>
                  <a:pt x="1669439" y="252181"/>
                  <a:pt x="1675514" y="242836"/>
                  <a:pt x="1684020" y="236220"/>
                </a:cubicBezTo>
                <a:cubicBezTo>
                  <a:pt x="1698478" y="224975"/>
                  <a:pt x="1716788" y="218692"/>
                  <a:pt x="1729740" y="205740"/>
                </a:cubicBezTo>
                <a:cubicBezTo>
                  <a:pt x="1770147" y="165333"/>
                  <a:pt x="1732932" y="197729"/>
                  <a:pt x="1783080" y="167640"/>
                </a:cubicBezTo>
                <a:cubicBezTo>
                  <a:pt x="1798786" y="158216"/>
                  <a:pt x="1813560" y="147320"/>
                  <a:pt x="1828800" y="137160"/>
                </a:cubicBezTo>
                <a:lnTo>
                  <a:pt x="1874520" y="106680"/>
                </a:lnTo>
                <a:cubicBezTo>
                  <a:pt x="1882140" y="101600"/>
                  <a:pt x="1888692" y="94336"/>
                  <a:pt x="1897380" y="91440"/>
                </a:cubicBezTo>
                <a:cubicBezTo>
                  <a:pt x="1905000" y="88900"/>
                  <a:pt x="1913219" y="87721"/>
                  <a:pt x="1920240" y="83820"/>
                </a:cubicBezTo>
                <a:cubicBezTo>
                  <a:pt x="1936251" y="74925"/>
                  <a:pt x="1950720" y="63500"/>
                  <a:pt x="1965960" y="53340"/>
                </a:cubicBezTo>
                <a:cubicBezTo>
                  <a:pt x="1973580" y="48260"/>
                  <a:pt x="1980132" y="40996"/>
                  <a:pt x="1988820" y="38100"/>
                </a:cubicBezTo>
                <a:cubicBezTo>
                  <a:pt x="1996440" y="35560"/>
                  <a:pt x="2004496" y="34072"/>
                  <a:pt x="2011680" y="30480"/>
                </a:cubicBezTo>
                <a:cubicBezTo>
                  <a:pt x="2019871" y="26384"/>
                  <a:pt x="2026171" y="18959"/>
                  <a:pt x="2034540" y="15240"/>
                </a:cubicBezTo>
                <a:cubicBezTo>
                  <a:pt x="2049220" y="8716"/>
                  <a:pt x="2080260" y="0"/>
                  <a:pt x="2080260" y="0"/>
                </a:cubicBezTo>
                <a:cubicBezTo>
                  <a:pt x="2120900" y="2540"/>
                  <a:pt x="2161959" y="1269"/>
                  <a:pt x="2202180" y="7620"/>
                </a:cubicBezTo>
                <a:cubicBezTo>
                  <a:pt x="2226310" y="11430"/>
                  <a:pt x="2226310" y="31750"/>
                  <a:pt x="2240280" y="45720"/>
                </a:cubicBezTo>
                <a:cubicBezTo>
                  <a:pt x="2246756" y="52196"/>
                  <a:pt x="2255520" y="55880"/>
                  <a:pt x="2263140" y="60960"/>
                </a:cubicBezTo>
                <a:cubicBezTo>
                  <a:pt x="2278125" y="83437"/>
                  <a:pt x="2279238" y="88345"/>
                  <a:pt x="2301240" y="106680"/>
                </a:cubicBezTo>
                <a:cubicBezTo>
                  <a:pt x="2308275" y="112543"/>
                  <a:pt x="2316480" y="116840"/>
                  <a:pt x="2324100" y="121920"/>
                </a:cubicBezTo>
                <a:cubicBezTo>
                  <a:pt x="2341260" y="173400"/>
                  <a:pt x="2317462" y="117599"/>
                  <a:pt x="2354580" y="160020"/>
                </a:cubicBezTo>
                <a:cubicBezTo>
                  <a:pt x="2366641" y="173804"/>
                  <a:pt x="2374900" y="190500"/>
                  <a:pt x="2385060" y="205740"/>
                </a:cubicBezTo>
                <a:cubicBezTo>
                  <a:pt x="2390140" y="213360"/>
                  <a:pt x="2396204" y="220409"/>
                  <a:pt x="2400300" y="228600"/>
                </a:cubicBezTo>
                <a:cubicBezTo>
                  <a:pt x="2405380" y="238760"/>
                  <a:pt x="2409696" y="249340"/>
                  <a:pt x="2415540" y="259080"/>
                </a:cubicBezTo>
                <a:cubicBezTo>
                  <a:pt x="2424964" y="274786"/>
                  <a:pt x="2437829" y="288417"/>
                  <a:pt x="2446020" y="304800"/>
                </a:cubicBezTo>
                <a:cubicBezTo>
                  <a:pt x="2451100" y="314960"/>
                  <a:pt x="2454658" y="326037"/>
                  <a:pt x="2461260" y="335280"/>
                </a:cubicBezTo>
                <a:cubicBezTo>
                  <a:pt x="2467524" y="344049"/>
                  <a:pt x="2477107" y="349958"/>
                  <a:pt x="2484120" y="358140"/>
                </a:cubicBezTo>
                <a:cubicBezTo>
                  <a:pt x="2492385" y="367783"/>
                  <a:pt x="2499697" y="378216"/>
                  <a:pt x="2506980" y="388620"/>
                </a:cubicBezTo>
                <a:lnTo>
                  <a:pt x="2552700" y="457200"/>
                </a:lnTo>
                <a:cubicBezTo>
                  <a:pt x="2557780" y="464820"/>
                  <a:pt x="2561464" y="473584"/>
                  <a:pt x="2567940" y="480060"/>
                </a:cubicBezTo>
                <a:cubicBezTo>
                  <a:pt x="2575560" y="487680"/>
                  <a:pt x="2583901" y="494641"/>
                  <a:pt x="2590800" y="502920"/>
                </a:cubicBezTo>
                <a:cubicBezTo>
                  <a:pt x="2622550" y="541020"/>
                  <a:pt x="2586990" y="513080"/>
                  <a:pt x="2628900" y="541020"/>
                </a:cubicBezTo>
                <a:cubicBezTo>
                  <a:pt x="2703463" y="652864"/>
                  <a:pt x="2627757" y="535211"/>
                  <a:pt x="2674620" y="617220"/>
                </a:cubicBezTo>
                <a:cubicBezTo>
                  <a:pt x="2679164" y="625171"/>
                  <a:pt x="2685764" y="631889"/>
                  <a:pt x="2689860" y="640080"/>
                </a:cubicBezTo>
                <a:cubicBezTo>
                  <a:pt x="2693452" y="647264"/>
                  <a:pt x="2692462" y="656668"/>
                  <a:pt x="2697480" y="662940"/>
                </a:cubicBezTo>
                <a:cubicBezTo>
                  <a:pt x="2703201" y="670091"/>
                  <a:pt x="2712720" y="673100"/>
                  <a:pt x="2720340" y="678180"/>
                </a:cubicBezTo>
                <a:cubicBezTo>
                  <a:pt x="2726169" y="701498"/>
                  <a:pt x="2725659" y="713979"/>
                  <a:pt x="2743200" y="731520"/>
                </a:cubicBezTo>
                <a:cubicBezTo>
                  <a:pt x="2749676" y="737996"/>
                  <a:pt x="2758440" y="741680"/>
                  <a:pt x="2766060" y="746760"/>
                </a:cubicBezTo>
                <a:cubicBezTo>
                  <a:pt x="2771140" y="756920"/>
                  <a:pt x="2776825" y="766799"/>
                  <a:pt x="2781300" y="777240"/>
                </a:cubicBezTo>
                <a:cubicBezTo>
                  <a:pt x="2795673" y="810777"/>
                  <a:pt x="2782273" y="808693"/>
                  <a:pt x="2819400" y="845820"/>
                </a:cubicBezTo>
                <a:lnTo>
                  <a:pt x="2887980" y="914400"/>
                </a:lnTo>
                <a:cubicBezTo>
                  <a:pt x="2895600" y="922020"/>
                  <a:pt x="2904862" y="928294"/>
                  <a:pt x="2910840" y="937260"/>
                </a:cubicBezTo>
                <a:cubicBezTo>
                  <a:pt x="2938780" y="979170"/>
                  <a:pt x="2910840" y="943610"/>
                  <a:pt x="2948940" y="975360"/>
                </a:cubicBezTo>
                <a:cubicBezTo>
                  <a:pt x="2995278" y="1013975"/>
                  <a:pt x="2945880" y="985260"/>
                  <a:pt x="3002280" y="1013460"/>
                </a:cubicBezTo>
                <a:cubicBezTo>
                  <a:pt x="3010933" y="1026440"/>
                  <a:pt x="3030928" y="1057348"/>
                  <a:pt x="3040380" y="1066800"/>
                </a:cubicBezTo>
                <a:cubicBezTo>
                  <a:pt x="3091564" y="1117984"/>
                  <a:pt x="3036441" y="1015172"/>
                  <a:pt x="3116580" y="1135380"/>
                </a:cubicBezTo>
                <a:cubicBezTo>
                  <a:pt x="3136900" y="1165860"/>
                  <a:pt x="3124200" y="1153160"/>
                  <a:pt x="3154680" y="1173480"/>
                </a:cubicBezTo>
                <a:cubicBezTo>
                  <a:pt x="3195320" y="1234440"/>
                  <a:pt x="3141980" y="1160780"/>
                  <a:pt x="3192780" y="1211580"/>
                </a:cubicBezTo>
                <a:cubicBezTo>
                  <a:pt x="3243580" y="1262380"/>
                  <a:pt x="3169920" y="1209040"/>
                  <a:pt x="3230880" y="1249680"/>
                </a:cubicBezTo>
                <a:cubicBezTo>
                  <a:pt x="3274556" y="1315194"/>
                  <a:pt x="3216400" y="1238096"/>
                  <a:pt x="3268980" y="1280160"/>
                </a:cubicBezTo>
                <a:cubicBezTo>
                  <a:pt x="3276131" y="1285881"/>
                  <a:pt x="3278357" y="1295985"/>
                  <a:pt x="3284220" y="1303020"/>
                </a:cubicBezTo>
                <a:cubicBezTo>
                  <a:pt x="3291119" y="1311299"/>
                  <a:pt x="3298574" y="1319264"/>
                  <a:pt x="3307080" y="1325880"/>
                </a:cubicBezTo>
                <a:cubicBezTo>
                  <a:pt x="3321538" y="1337125"/>
                  <a:pt x="3352800" y="1356360"/>
                  <a:pt x="3352800" y="1356360"/>
                </a:cubicBezTo>
                <a:cubicBezTo>
                  <a:pt x="3384204" y="1403465"/>
                  <a:pt x="3349336" y="1357515"/>
                  <a:pt x="3390900" y="1394460"/>
                </a:cubicBezTo>
                <a:cubicBezTo>
                  <a:pt x="3407009" y="1408779"/>
                  <a:pt x="3421380" y="1424940"/>
                  <a:pt x="3436620" y="1440180"/>
                </a:cubicBezTo>
                <a:cubicBezTo>
                  <a:pt x="3444240" y="1447800"/>
                  <a:pt x="3450514" y="1457062"/>
                  <a:pt x="3459480" y="1463040"/>
                </a:cubicBezTo>
                <a:cubicBezTo>
                  <a:pt x="3467100" y="1468120"/>
                  <a:pt x="3475305" y="1472417"/>
                  <a:pt x="3482340" y="1478280"/>
                </a:cubicBezTo>
                <a:cubicBezTo>
                  <a:pt x="3557240" y="1540697"/>
                  <a:pt x="3460500" y="1464060"/>
                  <a:pt x="3520440" y="1524000"/>
                </a:cubicBezTo>
                <a:cubicBezTo>
                  <a:pt x="3526916" y="1530476"/>
                  <a:pt x="3535680" y="1534160"/>
                  <a:pt x="3543300" y="1539240"/>
                </a:cubicBezTo>
                <a:cubicBezTo>
                  <a:pt x="3583940" y="1600200"/>
                  <a:pt x="3530600" y="1526540"/>
                  <a:pt x="3581400" y="1577340"/>
                </a:cubicBezTo>
                <a:cubicBezTo>
                  <a:pt x="3587876" y="1583816"/>
                  <a:pt x="3589748" y="1594169"/>
                  <a:pt x="3596640" y="1600200"/>
                </a:cubicBezTo>
                <a:cubicBezTo>
                  <a:pt x="3610424" y="1612261"/>
                  <a:pt x="3627120" y="1620520"/>
                  <a:pt x="3642360" y="1630680"/>
                </a:cubicBezTo>
                <a:lnTo>
                  <a:pt x="3665220" y="1645920"/>
                </a:lnTo>
                <a:cubicBezTo>
                  <a:pt x="3670300" y="1653540"/>
                  <a:pt x="3674597" y="1661745"/>
                  <a:pt x="3680460" y="1668780"/>
                </a:cubicBezTo>
                <a:cubicBezTo>
                  <a:pt x="3698795" y="1690782"/>
                  <a:pt x="3703703" y="1691895"/>
                  <a:pt x="3726180" y="1706880"/>
                </a:cubicBezTo>
                <a:cubicBezTo>
                  <a:pt x="3760264" y="1758005"/>
                  <a:pt x="3720113" y="1707915"/>
                  <a:pt x="3764280" y="1737360"/>
                </a:cubicBezTo>
                <a:cubicBezTo>
                  <a:pt x="3773246" y="1743338"/>
                  <a:pt x="3778634" y="1753604"/>
                  <a:pt x="3787140" y="1760220"/>
                </a:cubicBezTo>
                <a:cubicBezTo>
                  <a:pt x="3801598" y="1771465"/>
                  <a:pt x="3832860" y="1790700"/>
                  <a:pt x="3832860" y="1790700"/>
                </a:cubicBezTo>
                <a:cubicBezTo>
                  <a:pt x="3847695" y="1835204"/>
                  <a:pt x="3828873" y="1794333"/>
                  <a:pt x="3863340" y="1828800"/>
                </a:cubicBezTo>
                <a:cubicBezTo>
                  <a:pt x="3869816" y="1835276"/>
                  <a:pt x="3872717" y="1844625"/>
                  <a:pt x="3878580" y="1851660"/>
                </a:cubicBezTo>
                <a:cubicBezTo>
                  <a:pt x="3895670" y="1872168"/>
                  <a:pt x="3905869" y="1873056"/>
                  <a:pt x="3916680" y="1897380"/>
                </a:cubicBezTo>
                <a:cubicBezTo>
                  <a:pt x="3923204" y="1912060"/>
                  <a:pt x="3926840" y="1927860"/>
                  <a:pt x="3931920" y="1943100"/>
                </a:cubicBezTo>
                <a:lnTo>
                  <a:pt x="3939540" y="1965960"/>
                </a:lnTo>
                <a:cubicBezTo>
                  <a:pt x="3937774" y="1978320"/>
                  <a:pt x="3931999" y="2031816"/>
                  <a:pt x="3924300" y="2049780"/>
                </a:cubicBezTo>
                <a:cubicBezTo>
                  <a:pt x="3917640" y="2065320"/>
                  <a:pt x="3898406" y="2085328"/>
                  <a:pt x="3886200" y="2095500"/>
                </a:cubicBezTo>
                <a:cubicBezTo>
                  <a:pt x="3879165" y="2101363"/>
                  <a:pt x="3870375" y="2104877"/>
                  <a:pt x="3863340" y="2110740"/>
                </a:cubicBezTo>
                <a:cubicBezTo>
                  <a:pt x="3855061" y="2117639"/>
                  <a:pt x="3849900" y="2128367"/>
                  <a:pt x="3840480" y="2133600"/>
                </a:cubicBezTo>
                <a:cubicBezTo>
                  <a:pt x="3814604" y="2147976"/>
                  <a:pt x="3777423" y="2151729"/>
                  <a:pt x="3749040" y="2156460"/>
                </a:cubicBezTo>
                <a:cubicBezTo>
                  <a:pt x="3723640" y="2153920"/>
                  <a:pt x="3698070" y="2152722"/>
                  <a:pt x="3672840" y="2148840"/>
                </a:cubicBezTo>
                <a:cubicBezTo>
                  <a:pt x="3664901" y="2147619"/>
                  <a:pt x="3657600" y="2138680"/>
                  <a:pt x="3649980" y="2141220"/>
                </a:cubicBezTo>
                <a:cubicBezTo>
                  <a:pt x="3639757" y="2144628"/>
                  <a:pt x="3634019" y="2155801"/>
                  <a:pt x="3627120" y="2164080"/>
                </a:cubicBezTo>
                <a:cubicBezTo>
                  <a:pt x="3606309" y="2189053"/>
                  <a:pt x="3608070" y="2164080"/>
                  <a:pt x="3604260" y="2164080"/>
                </a:cubicBezTo>
                <a:close/>
              </a:path>
            </a:pathLst>
          </a:custGeom>
          <a:noFill/>
          <a:ln w="25560">
            <a:solidFill>
              <a:srgbClr val="9bbb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Freeform: Shape 164"/>
          <p:cNvSpPr/>
          <p:nvPr/>
        </p:nvSpPr>
        <p:spPr>
          <a:xfrm>
            <a:off x="343080" y="2911320"/>
            <a:ext cx="2636640" cy="2757600"/>
          </a:xfrm>
          <a:custGeom>
            <a:avLst/>
            <a:gdLst/>
            <a:ahLst/>
            <a:rect l="l" t="t" r="r" b="b"/>
            <a:pathLst>
              <a:path w="2636551" h="2758440">
                <a:moveTo>
                  <a:pt x="2034540" y="2148840"/>
                </a:moveTo>
                <a:lnTo>
                  <a:pt x="2034540" y="2148840"/>
                </a:lnTo>
                <a:cubicBezTo>
                  <a:pt x="2019300" y="2174240"/>
                  <a:pt x="2006593" y="2201343"/>
                  <a:pt x="1988820" y="2225040"/>
                </a:cubicBezTo>
                <a:cubicBezTo>
                  <a:pt x="1975888" y="2242282"/>
                  <a:pt x="1955055" y="2252827"/>
                  <a:pt x="1943100" y="2270760"/>
                </a:cubicBezTo>
                <a:cubicBezTo>
                  <a:pt x="1922780" y="2301240"/>
                  <a:pt x="1935480" y="2288540"/>
                  <a:pt x="1905000" y="2308860"/>
                </a:cubicBezTo>
                <a:cubicBezTo>
                  <a:pt x="1864360" y="2369820"/>
                  <a:pt x="1917700" y="2296160"/>
                  <a:pt x="1866900" y="2346960"/>
                </a:cubicBezTo>
                <a:cubicBezTo>
                  <a:pt x="1816100" y="2397760"/>
                  <a:pt x="1889760" y="2344420"/>
                  <a:pt x="1828800" y="2385060"/>
                </a:cubicBezTo>
                <a:cubicBezTo>
                  <a:pt x="1815253" y="2405380"/>
                  <a:pt x="1811009" y="2414984"/>
                  <a:pt x="1790700" y="2430780"/>
                </a:cubicBezTo>
                <a:cubicBezTo>
                  <a:pt x="1776242" y="2442025"/>
                  <a:pt x="1744980" y="2461260"/>
                  <a:pt x="1744980" y="2461260"/>
                </a:cubicBezTo>
                <a:cubicBezTo>
                  <a:pt x="1739900" y="2468880"/>
                  <a:pt x="1736775" y="2478257"/>
                  <a:pt x="1729740" y="2484120"/>
                </a:cubicBezTo>
                <a:cubicBezTo>
                  <a:pt x="1721014" y="2491392"/>
                  <a:pt x="1709123" y="2493724"/>
                  <a:pt x="1699260" y="2499360"/>
                </a:cubicBezTo>
                <a:cubicBezTo>
                  <a:pt x="1657900" y="2522995"/>
                  <a:pt x="1695453" y="2508249"/>
                  <a:pt x="1653540" y="2522220"/>
                </a:cubicBezTo>
                <a:cubicBezTo>
                  <a:pt x="1636688" y="2539072"/>
                  <a:pt x="1629038" y="2549711"/>
                  <a:pt x="1607820" y="2560320"/>
                </a:cubicBezTo>
                <a:cubicBezTo>
                  <a:pt x="1600636" y="2563912"/>
                  <a:pt x="1592144" y="2564348"/>
                  <a:pt x="1584960" y="2567940"/>
                </a:cubicBezTo>
                <a:cubicBezTo>
                  <a:pt x="1576769" y="2572036"/>
                  <a:pt x="1570291" y="2579084"/>
                  <a:pt x="1562100" y="2583180"/>
                </a:cubicBezTo>
                <a:cubicBezTo>
                  <a:pt x="1554916" y="2586772"/>
                  <a:pt x="1546424" y="2587208"/>
                  <a:pt x="1539240" y="2590800"/>
                </a:cubicBezTo>
                <a:cubicBezTo>
                  <a:pt x="1531049" y="2594896"/>
                  <a:pt x="1524749" y="2602321"/>
                  <a:pt x="1516380" y="2606040"/>
                </a:cubicBezTo>
                <a:cubicBezTo>
                  <a:pt x="1501700" y="2612564"/>
                  <a:pt x="1484026" y="2612369"/>
                  <a:pt x="1470660" y="2621280"/>
                </a:cubicBezTo>
                <a:cubicBezTo>
                  <a:pt x="1405146" y="2664956"/>
                  <a:pt x="1488036" y="2612592"/>
                  <a:pt x="1424940" y="2644140"/>
                </a:cubicBezTo>
                <a:cubicBezTo>
                  <a:pt x="1416749" y="2648236"/>
                  <a:pt x="1410271" y="2655284"/>
                  <a:pt x="1402080" y="2659380"/>
                </a:cubicBezTo>
                <a:cubicBezTo>
                  <a:pt x="1394896" y="2662972"/>
                  <a:pt x="1386404" y="2663408"/>
                  <a:pt x="1379220" y="2667000"/>
                </a:cubicBezTo>
                <a:cubicBezTo>
                  <a:pt x="1371029" y="2671096"/>
                  <a:pt x="1364729" y="2678521"/>
                  <a:pt x="1356360" y="2682240"/>
                </a:cubicBezTo>
                <a:cubicBezTo>
                  <a:pt x="1341680" y="2688764"/>
                  <a:pt x="1324006" y="2688569"/>
                  <a:pt x="1310640" y="2697480"/>
                </a:cubicBezTo>
                <a:cubicBezTo>
                  <a:pt x="1274414" y="2721631"/>
                  <a:pt x="1296468" y="2709824"/>
                  <a:pt x="1242060" y="2727960"/>
                </a:cubicBezTo>
                <a:cubicBezTo>
                  <a:pt x="1187250" y="2746230"/>
                  <a:pt x="1255697" y="2724064"/>
                  <a:pt x="1188720" y="2743200"/>
                </a:cubicBezTo>
                <a:cubicBezTo>
                  <a:pt x="1180997" y="2745407"/>
                  <a:pt x="1173763" y="2749383"/>
                  <a:pt x="1165860" y="2750820"/>
                </a:cubicBezTo>
                <a:cubicBezTo>
                  <a:pt x="1145712" y="2754483"/>
                  <a:pt x="1125220" y="2755900"/>
                  <a:pt x="1104900" y="2758440"/>
                </a:cubicBezTo>
                <a:cubicBezTo>
                  <a:pt x="1061720" y="2755900"/>
                  <a:pt x="1018400" y="2755124"/>
                  <a:pt x="975360" y="2750820"/>
                </a:cubicBezTo>
                <a:cubicBezTo>
                  <a:pt x="967368" y="2750021"/>
                  <a:pt x="958772" y="2748218"/>
                  <a:pt x="952500" y="2743200"/>
                </a:cubicBezTo>
                <a:cubicBezTo>
                  <a:pt x="909486" y="2708789"/>
                  <a:pt x="973244" y="2725844"/>
                  <a:pt x="922020" y="2674620"/>
                </a:cubicBezTo>
                <a:cubicBezTo>
                  <a:pt x="914400" y="2667000"/>
                  <a:pt x="905776" y="2660266"/>
                  <a:pt x="899160" y="2651760"/>
                </a:cubicBezTo>
                <a:cubicBezTo>
                  <a:pt x="887915" y="2637302"/>
                  <a:pt x="881632" y="2618992"/>
                  <a:pt x="868680" y="2606040"/>
                </a:cubicBezTo>
                <a:cubicBezTo>
                  <a:pt x="861060" y="2598420"/>
                  <a:pt x="852436" y="2591686"/>
                  <a:pt x="845820" y="2583180"/>
                </a:cubicBezTo>
                <a:cubicBezTo>
                  <a:pt x="797951" y="2521634"/>
                  <a:pt x="836735" y="2551723"/>
                  <a:pt x="792480" y="2522220"/>
                </a:cubicBezTo>
                <a:cubicBezTo>
                  <a:pt x="748804" y="2456706"/>
                  <a:pt x="801168" y="2539596"/>
                  <a:pt x="769620" y="2476500"/>
                </a:cubicBezTo>
                <a:cubicBezTo>
                  <a:pt x="765524" y="2468309"/>
                  <a:pt x="758476" y="2461831"/>
                  <a:pt x="754380" y="2453640"/>
                </a:cubicBezTo>
                <a:cubicBezTo>
                  <a:pt x="750788" y="2446456"/>
                  <a:pt x="751778" y="2437052"/>
                  <a:pt x="746760" y="2430780"/>
                </a:cubicBezTo>
                <a:cubicBezTo>
                  <a:pt x="741039" y="2423629"/>
                  <a:pt x="731520" y="2420620"/>
                  <a:pt x="723900" y="2415540"/>
                </a:cubicBezTo>
                <a:cubicBezTo>
                  <a:pt x="718820" y="2407920"/>
                  <a:pt x="714523" y="2399715"/>
                  <a:pt x="708660" y="2392680"/>
                </a:cubicBezTo>
                <a:cubicBezTo>
                  <a:pt x="701761" y="2384401"/>
                  <a:pt x="691778" y="2378786"/>
                  <a:pt x="685800" y="2369820"/>
                </a:cubicBezTo>
                <a:cubicBezTo>
                  <a:pt x="681345" y="2363137"/>
                  <a:pt x="681772" y="2354144"/>
                  <a:pt x="678180" y="2346960"/>
                </a:cubicBezTo>
                <a:cubicBezTo>
                  <a:pt x="674084" y="2338769"/>
                  <a:pt x="668020" y="2331720"/>
                  <a:pt x="662940" y="2324100"/>
                </a:cubicBezTo>
                <a:cubicBezTo>
                  <a:pt x="660499" y="2314334"/>
                  <a:pt x="653166" y="2281692"/>
                  <a:pt x="647700" y="2270760"/>
                </a:cubicBezTo>
                <a:cubicBezTo>
                  <a:pt x="628285" y="2231929"/>
                  <a:pt x="627049" y="2261157"/>
                  <a:pt x="617220" y="2202180"/>
                </a:cubicBezTo>
                <a:cubicBezTo>
                  <a:pt x="614680" y="2186940"/>
                  <a:pt x="614040" y="2171259"/>
                  <a:pt x="609600" y="2156460"/>
                </a:cubicBezTo>
                <a:cubicBezTo>
                  <a:pt x="599581" y="2123062"/>
                  <a:pt x="593150" y="2131180"/>
                  <a:pt x="579120" y="2103120"/>
                </a:cubicBezTo>
                <a:cubicBezTo>
                  <a:pt x="547588" y="2040056"/>
                  <a:pt x="603829" y="2129062"/>
                  <a:pt x="556260" y="2049780"/>
                </a:cubicBezTo>
                <a:cubicBezTo>
                  <a:pt x="506737" y="1967241"/>
                  <a:pt x="546419" y="2033398"/>
                  <a:pt x="502920" y="1981200"/>
                </a:cubicBezTo>
                <a:cubicBezTo>
                  <a:pt x="471170" y="1943100"/>
                  <a:pt x="506730" y="1971040"/>
                  <a:pt x="464820" y="1943100"/>
                </a:cubicBezTo>
                <a:cubicBezTo>
                  <a:pt x="428904" y="1889226"/>
                  <a:pt x="473978" y="1955921"/>
                  <a:pt x="426720" y="1889760"/>
                </a:cubicBezTo>
                <a:cubicBezTo>
                  <a:pt x="421397" y="1882308"/>
                  <a:pt x="415576" y="1875091"/>
                  <a:pt x="411480" y="1866900"/>
                </a:cubicBezTo>
                <a:cubicBezTo>
                  <a:pt x="407888" y="1859716"/>
                  <a:pt x="407452" y="1851224"/>
                  <a:pt x="403860" y="1844040"/>
                </a:cubicBezTo>
                <a:cubicBezTo>
                  <a:pt x="399764" y="1835849"/>
                  <a:pt x="393164" y="1829131"/>
                  <a:pt x="388620" y="1821180"/>
                </a:cubicBezTo>
                <a:cubicBezTo>
                  <a:pt x="382984" y="1811317"/>
                  <a:pt x="379224" y="1800440"/>
                  <a:pt x="373380" y="1790700"/>
                </a:cubicBezTo>
                <a:cubicBezTo>
                  <a:pt x="363956" y="1774994"/>
                  <a:pt x="348692" y="1762356"/>
                  <a:pt x="342900" y="1744980"/>
                </a:cubicBezTo>
                <a:cubicBezTo>
                  <a:pt x="331872" y="1711897"/>
                  <a:pt x="340960" y="1727800"/>
                  <a:pt x="312420" y="1699260"/>
                </a:cubicBezTo>
                <a:cubicBezTo>
                  <a:pt x="309880" y="1691640"/>
                  <a:pt x="308701" y="1683421"/>
                  <a:pt x="304800" y="1676400"/>
                </a:cubicBezTo>
                <a:cubicBezTo>
                  <a:pt x="295905" y="1660389"/>
                  <a:pt x="280112" y="1648056"/>
                  <a:pt x="274320" y="1630680"/>
                </a:cubicBezTo>
                <a:lnTo>
                  <a:pt x="259080" y="1584960"/>
                </a:lnTo>
                <a:cubicBezTo>
                  <a:pt x="256540" y="1567180"/>
                  <a:pt x="254413" y="1549336"/>
                  <a:pt x="251460" y="1531620"/>
                </a:cubicBezTo>
                <a:cubicBezTo>
                  <a:pt x="249331" y="1518845"/>
                  <a:pt x="245969" y="1506295"/>
                  <a:pt x="243840" y="1493520"/>
                </a:cubicBezTo>
                <a:cubicBezTo>
                  <a:pt x="235206" y="1441718"/>
                  <a:pt x="240304" y="1450662"/>
                  <a:pt x="228600" y="1409700"/>
                </a:cubicBezTo>
                <a:cubicBezTo>
                  <a:pt x="226393" y="1401977"/>
                  <a:pt x="225998" y="1393112"/>
                  <a:pt x="220980" y="1386840"/>
                </a:cubicBezTo>
                <a:cubicBezTo>
                  <a:pt x="215259" y="1379689"/>
                  <a:pt x="205740" y="1376680"/>
                  <a:pt x="198120" y="1371600"/>
                </a:cubicBezTo>
                <a:cubicBezTo>
                  <a:pt x="195580" y="1363980"/>
                  <a:pt x="194955" y="1355423"/>
                  <a:pt x="190500" y="1348740"/>
                </a:cubicBezTo>
                <a:cubicBezTo>
                  <a:pt x="156795" y="1298183"/>
                  <a:pt x="177331" y="1352881"/>
                  <a:pt x="152400" y="1303020"/>
                </a:cubicBezTo>
                <a:cubicBezTo>
                  <a:pt x="135817" y="1269855"/>
                  <a:pt x="155967" y="1286678"/>
                  <a:pt x="129540" y="1249680"/>
                </a:cubicBezTo>
                <a:cubicBezTo>
                  <a:pt x="123276" y="1240911"/>
                  <a:pt x="113579" y="1235099"/>
                  <a:pt x="106680" y="1226820"/>
                </a:cubicBezTo>
                <a:cubicBezTo>
                  <a:pt x="74930" y="1188720"/>
                  <a:pt x="110490" y="1216660"/>
                  <a:pt x="68580" y="1188720"/>
                </a:cubicBezTo>
                <a:cubicBezTo>
                  <a:pt x="58420" y="1173480"/>
                  <a:pt x="43892" y="1160376"/>
                  <a:pt x="38100" y="1143000"/>
                </a:cubicBezTo>
                <a:cubicBezTo>
                  <a:pt x="35560" y="1135380"/>
                  <a:pt x="34072" y="1127324"/>
                  <a:pt x="30480" y="1120140"/>
                </a:cubicBezTo>
                <a:cubicBezTo>
                  <a:pt x="26384" y="1111949"/>
                  <a:pt x="18959" y="1105649"/>
                  <a:pt x="15240" y="1097280"/>
                </a:cubicBezTo>
                <a:cubicBezTo>
                  <a:pt x="8716" y="1082600"/>
                  <a:pt x="0" y="1051560"/>
                  <a:pt x="0" y="1051560"/>
                </a:cubicBezTo>
                <a:cubicBezTo>
                  <a:pt x="540" y="1045075"/>
                  <a:pt x="-18" y="964724"/>
                  <a:pt x="15240" y="937260"/>
                </a:cubicBezTo>
                <a:cubicBezTo>
                  <a:pt x="24135" y="921249"/>
                  <a:pt x="35560" y="906780"/>
                  <a:pt x="45720" y="891540"/>
                </a:cubicBezTo>
                <a:cubicBezTo>
                  <a:pt x="50800" y="883920"/>
                  <a:pt x="54484" y="875156"/>
                  <a:pt x="60960" y="868680"/>
                </a:cubicBezTo>
                <a:cubicBezTo>
                  <a:pt x="77812" y="851828"/>
                  <a:pt x="88451" y="844178"/>
                  <a:pt x="99060" y="822960"/>
                </a:cubicBezTo>
                <a:cubicBezTo>
                  <a:pt x="102652" y="815776"/>
                  <a:pt x="102779" y="807121"/>
                  <a:pt x="106680" y="800100"/>
                </a:cubicBezTo>
                <a:cubicBezTo>
                  <a:pt x="132827" y="753035"/>
                  <a:pt x="126626" y="761402"/>
                  <a:pt x="160020" y="739140"/>
                </a:cubicBezTo>
                <a:cubicBezTo>
                  <a:pt x="200660" y="678180"/>
                  <a:pt x="147320" y="751840"/>
                  <a:pt x="198120" y="701040"/>
                </a:cubicBezTo>
                <a:cubicBezTo>
                  <a:pt x="204596" y="694564"/>
                  <a:pt x="206468" y="684211"/>
                  <a:pt x="213360" y="678180"/>
                </a:cubicBezTo>
                <a:cubicBezTo>
                  <a:pt x="277429" y="622119"/>
                  <a:pt x="236588" y="662756"/>
                  <a:pt x="281940" y="640080"/>
                </a:cubicBezTo>
                <a:cubicBezTo>
                  <a:pt x="290131" y="635984"/>
                  <a:pt x="296028" y="627472"/>
                  <a:pt x="304800" y="624840"/>
                </a:cubicBezTo>
                <a:cubicBezTo>
                  <a:pt x="322003" y="619679"/>
                  <a:pt x="340388" y="619951"/>
                  <a:pt x="358140" y="617220"/>
                </a:cubicBezTo>
                <a:cubicBezTo>
                  <a:pt x="451608" y="602840"/>
                  <a:pt x="359416" y="612775"/>
                  <a:pt x="510540" y="601980"/>
                </a:cubicBezTo>
                <a:cubicBezTo>
                  <a:pt x="579367" y="574449"/>
                  <a:pt x="516644" y="596390"/>
                  <a:pt x="594360" y="579120"/>
                </a:cubicBezTo>
                <a:cubicBezTo>
                  <a:pt x="634309" y="570242"/>
                  <a:pt x="601108" y="571791"/>
                  <a:pt x="647700" y="556260"/>
                </a:cubicBezTo>
                <a:cubicBezTo>
                  <a:pt x="673785" y="547565"/>
                  <a:pt x="685849" y="552425"/>
                  <a:pt x="708660" y="541020"/>
                </a:cubicBezTo>
                <a:cubicBezTo>
                  <a:pt x="750276" y="520212"/>
                  <a:pt x="712243" y="529652"/>
                  <a:pt x="754380" y="518160"/>
                </a:cubicBezTo>
                <a:cubicBezTo>
                  <a:pt x="774587" y="512649"/>
                  <a:pt x="795469" y="509544"/>
                  <a:pt x="815340" y="502920"/>
                </a:cubicBezTo>
                <a:cubicBezTo>
                  <a:pt x="822960" y="500380"/>
                  <a:pt x="831016" y="498892"/>
                  <a:pt x="838200" y="495300"/>
                </a:cubicBezTo>
                <a:cubicBezTo>
                  <a:pt x="846391" y="491204"/>
                  <a:pt x="852691" y="483779"/>
                  <a:pt x="861060" y="480060"/>
                </a:cubicBezTo>
                <a:cubicBezTo>
                  <a:pt x="880055" y="471618"/>
                  <a:pt x="915095" y="462126"/>
                  <a:pt x="937260" y="457200"/>
                </a:cubicBezTo>
                <a:cubicBezTo>
                  <a:pt x="949903" y="454390"/>
                  <a:pt x="962740" y="452492"/>
                  <a:pt x="975360" y="449580"/>
                </a:cubicBezTo>
                <a:cubicBezTo>
                  <a:pt x="995769" y="444870"/>
                  <a:pt x="1016000" y="439420"/>
                  <a:pt x="1036320" y="434340"/>
                </a:cubicBezTo>
                <a:cubicBezTo>
                  <a:pt x="1046480" y="431800"/>
                  <a:pt x="1056408" y="428019"/>
                  <a:pt x="1066800" y="426720"/>
                </a:cubicBezTo>
                <a:cubicBezTo>
                  <a:pt x="1087120" y="424180"/>
                  <a:pt x="1107520" y="422214"/>
                  <a:pt x="1127760" y="419100"/>
                </a:cubicBezTo>
                <a:cubicBezTo>
                  <a:pt x="1140561" y="417131"/>
                  <a:pt x="1153295" y="414621"/>
                  <a:pt x="1165860" y="411480"/>
                </a:cubicBezTo>
                <a:cubicBezTo>
                  <a:pt x="1173652" y="409532"/>
                  <a:pt x="1180844" y="405435"/>
                  <a:pt x="1188720" y="403860"/>
                </a:cubicBezTo>
                <a:cubicBezTo>
                  <a:pt x="1206332" y="400338"/>
                  <a:pt x="1224344" y="399193"/>
                  <a:pt x="1242060" y="396240"/>
                </a:cubicBezTo>
                <a:cubicBezTo>
                  <a:pt x="1288024" y="388579"/>
                  <a:pt x="1269540" y="390133"/>
                  <a:pt x="1310640" y="381000"/>
                </a:cubicBezTo>
                <a:cubicBezTo>
                  <a:pt x="1323283" y="378190"/>
                  <a:pt x="1336245" y="376788"/>
                  <a:pt x="1348740" y="373380"/>
                </a:cubicBezTo>
                <a:cubicBezTo>
                  <a:pt x="1466180" y="341351"/>
                  <a:pt x="1345160" y="374971"/>
                  <a:pt x="1417320" y="342900"/>
                </a:cubicBezTo>
                <a:cubicBezTo>
                  <a:pt x="1432000" y="336376"/>
                  <a:pt x="1463040" y="327660"/>
                  <a:pt x="1463040" y="327660"/>
                </a:cubicBezTo>
                <a:cubicBezTo>
                  <a:pt x="1470660" y="320040"/>
                  <a:pt x="1476480" y="310033"/>
                  <a:pt x="1485900" y="304800"/>
                </a:cubicBezTo>
                <a:cubicBezTo>
                  <a:pt x="1501079" y="296367"/>
                  <a:pt x="1542423" y="286859"/>
                  <a:pt x="1562100" y="281940"/>
                </a:cubicBezTo>
                <a:cubicBezTo>
                  <a:pt x="1569720" y="276860"/>
                  <a:pt x="1576591" y="270419"/>
                  <a:pt x="1584960" y="266700"/>
                </a:cubicBezTo>
                <a:cubicBezTo>
                  <a:pt x="1599640" y="260176"/>
                  <a:pt x="1617314" y="260371"/>
                  <a:pt x="1630680" y="251460"/>
                </a:cubicBezTo>
                <a:cubicBezTo>
                  <a:pt x="1645920" y="241300"/>
                  <a:pt x="1659024" y="226772"/>
                  <a:pt x="1676400" y="220980"/>
                </a:cubicBezTo>
                <a:cubicBezTo>
                  <a:pt x="1684020" y="218440"/>
                  <a:pt x="1692076" y="216952"/>
                  <a:pt x="1699260" y="213360"/>
                </a:cubicBezTo>
                <a:cubicBezTo>
                  <a:pt x="1707451" y="209264"/>
                  <a:pt x="1713751" y="201839"/>
                  <a:pt x="1722120" y="198120"/>
                </a:cubicBezTo>
                <a:cubicBezTo>
                  <a:pt x="1743862" y="188457"/>
                  <a:pt x="1809427" y="170869"/>
                  <a:pt x="1828800" y="167640"/>
                </a:cubicBezTo>
                <a:cubicBezTo>
                  <a:pt x="1844040" y="165100"/>
                  <a:pt x="1859370" y="163050"/>
                  <a:pt x="1874520" y="160020"/>
                </a:cubicBezTo>
                <a:cubicBezTo>
                  <a:pt x="1884789" y="157966"/>
                  <a:pt x="1894777" y="154672"/>
                  <a:pt x="1905000" y="152400"/>
                </a:cubicBezTo>
                <a:cubicBezTo>
                  <a:pt x="1917643" y="149590"/>
                  <a:pt x="1930400" y="147320"/>
                  <a:pt x="1943100" y="144780"/>
                </a:cubicBezTo>
                <a:cubicBezTo>
                  <a:pt x="1959622" y="136519"/>
                  <a:pt x="1977753" y="125657"/>
                  <a:pt x="1996440" y="121920"/>
                </a:cubicBezTo>
                <a:cubicBezTo>
                  <a:pt x="2014052" y="118398"/>
                  <a:pt x="2032000" y="116840"/>
                  <a:pt x="2049780" y="114300"/>
                </a:cubicBezTo>
                <a:cubicBezTo>
                  <a:pt x="2128858" y="61581"/>
                  <a:pt x="2006442" y="141827"/>
                  <a:pt x="2103120" y="83820"/>
                </a:cubicBezTo>
                <a:cubicBezTo>
                  <a:pt x="2167922" y="44939"/>
                  <a:pt x="2125142" y="59264"/>
                  <a:pt x="2179320" y="45720"/>
                </a:cubicBezTo>
                <a:cubicBezTo>
                  <a:pt x="2213539" y="11501"/>
                  <a:pt x="2191957" y="26268"/>
                  <a:pt x="2247900" y="7620"/>
                </a:cubicBezTo>
                <a:lnTo>
                  <a:pt x="2270760" y="0"/>
                </a:lnTo>
                <a:cubicBezTo>
                  <a:pt x="2367280" y="2540"/>
                  <a:pt x="2463990" y="1052"/>
                  <a:pt x="2560320" y="7620"/>
                </a:cubicBezTo>
                <a:cubicBezTo>
                  <a:pt x="2576347" y="8713"/>
                  <a:pt x="2606040" y="22860"/>
                  <a:pt x="2606040" y="22860"/>
                </a:cubicBezTo>
                <a:cubicBezTo>
                  <a:pt x="2616200" y="38100"/>
                  <a:pt x="2637483" y="50289"/>
                  <a:pt x="2636520" y="68580"/>
                </a:cubicBezTo>
                <a:cubicBezTo>
                  <a:pt x="2631229" y="169117"/>
                  <a:pt x="2639997" y="178330"/>
                  <a:pt x="2621280" y="243840"/>
                </a:cubicBezTo>
                <a:cubicBezTo>
                  <a:pt x="2619073" y="251563"/>
                  <a:pt x="2618115" y="260017"/>
                  <a:pt x="2613660" y="266700"/>
                </a:cubicBezTo>
                <a:cubicBezTo>
                  <a:pt x="2607682" y="275666"/>
                  <a:pt x="2598420" y="281940"/>
                  <a:pt x="2590800" y="289560"/>
                </a:cubicBezTo>
                <a:cubicBezTo>
                  <a:pt x="2556112" y="393625"/>
                  <a:pt x="2593956" y="287275"/>
                  <a:pt x="2560320" y="365760"/>
                </a:cubicBezTo>
                <a:cubicBezTo>
                  <a:pt x="2541898" y="408744"/>
                  <a:pt x="2564414" y="367543"/>
                  <a:pt x="2545080" y="419100"/>
                </a:cubicBezTo>
                <a:cubicBezTo>
                  <a:pt x="2541092" y="429736"/>
                  <a:pt x="2534059" y="439033"/>
                  <a:pt x="2529840" y="449580"/>
                </a:cubicBezTo>
                <a:cubicBezTo>
                  <a:pt x="2502636" y="517590"/>
                  <a:pt x="2528680" y="474179"/>
                  <a:pt x="2499360" y="518160"/>
                </a:cubicBezTo>
                <a:cubicBezTo>
                  <a:pt x="2487446" y="589646"/>
                  <a:pt x="2484451" y="586409"/>
                  <a:pt x="2499360" y="685800"/>
                </a:cubicBezTo>
                <a:cubicBezTo>
                  <a:pt x="2501045" y="697034"/>
                  <a:pt x="2510125" y="705839"/>
                  <a:pt x="2514600" y="716280"/>
                </a:cubicBezTo>
                <a:cubicBezTo>
                  <a:pt x="2517764" y="723663"/>
                  <a:pt x="2520013" y="731417"/>
                  <a:pt x="2522220" y="739140"/>
                </a:cubicBezTo>
                <a:cubicBezTo>
                  <a:pt x="2525097" y="749210"/>
                  <a:pt x="2526963" y="759550"/>
                  <a:pt x="2529840" y="769620"/>
                </a:cubicBezTo>
                <a:cubicBezTo>
                  <a:pt x="2532047" y="777343"/>
                  <a:pt x="2535253" y="784757"/>
                  <a:pt x="2537460" y="792480"/>
                </a:cubicBezTo>
                <a:cubicBezTo>
                  <a:pt x="2540337" y="802550"/>
                  <a:pt x="2540955" y="813334"/>
                  <a:pt x="2545080" y="822960"/>
                </a:cubicBezTo>
                <a:cubicBezTo>
                  <a:pt x="2548688" y="831378"/>
                  <a:pt x="2555240" y="838200"/>
                  <a:pt x="2560320" y="845820"/>
                </a:cubicBezTo>
                <a:cubicBezTo>
                  <a:pt x="2562860" y="858520"/>
                  <a:pt x="2564799" y="871355"/>
                  <a:pt x="2567940" y="883920"/>
                </a:cubicBezTo>
                <a:cubicBezTo>
                  <a:pt x="2569888" y="891712"/>
                  <a:pt x="2575560" y="898748"/>
                  <a:pt x="2575560" y="906780"/>
                </a:cubicBezTo>
                <a:cubicBezTo>
                  <a:pt x="2575560" y="947499"/>
                  <a:pt x="2571992" y="988183"/>
                  <a:pt x="2567940" y="1028700"/>
                </a:cubicBezTo>
                <a:cubicBezTo>
                  <a:pt x="2566295" y="1045152"/>
                  <a:pt x="2548490" y="1094669"/>
                  <a:pt x="2545080" y="1104900"/>
                </a:cubicBezTo>
                <a:lnTo>
                  <a:pt x="2537460" y="1127760"/>
                </a:lnTo>
                <a:cubicBezTo>
                  <a:pt x="2534920" y="1135380"/>
                  <a:pt x="2531788" y="1142828"/>
                  <a:pt x="2529840" y="1150620"/>
                </a:cubicBezTo>
                <a:cubicBezTo>
                  <a:pt x="2527300" y="1160780"/>
                  <a:pt x="2525097" y="1171030"/>
                  <a:pt x="2522220" y="1181100"/>
                </a:cubicBezTo>
                <a:cubicBezTo>
                  <a:pt x="2500356" y="1257622"/>
                  <a:pt x="2530801" y="1139155"/>
                  <a:pt x="2506980" y="1234440"/>
                </a:cubicBezTo>
                <a:cubicBezTo>
                  <a:pt x="2500161" y="1302632"/>
                  <a:pt x="2493757" y="1313107"/>
                  <a:pt x="2506980" y="1379220"/>
                </a:cubicBezTo>
                <a:lnTo>
                  <a:pt x="2529840" y="1447800"/>
                </a:lnTo>
                <a:lnTo>
                  <a:pt x="2537460" y="1470660"/>
                </a:lnTo>
                <a:cubicBezTo>
                  <a:pt x="2540000" y="1488440"/>
                  <a:pt x="2541867" y="1506329"/>
                  <a:pt x="2545080" y="1524000"/>
                </a:cubicBezTo>
                <a:cubicBezTo>
                  <a:pt x="2546953" y="1534304"/>
                  <a:pt x="2551926" y="1544036"/>
                  <a:pt x="2552700" y="1554480"/>
                </a:cubicBezTo>
                <a:cubicBezTo>
                  <a:pt x="2557020" y="1612795"/>
                  <a:pt x="2557780" y="1671320"/>
                  <a:pt x="2560320" y="1729740"/>
                </a:cubicBezTo>
                <a:cubicBezTo>
                  <a:pt x="2557780" y="1780540"/>
                  <a:pt x="2557106" y="1831468"/>
                  <a:pt x="2552700" y="1882140"/>
                </a:cubicBezTo>
                <a:cubicBezTo>
                  <a:pt x="2552004" y="1890142"/>
                  <a:pt x="2548672" y="1897816"/>
                  <a:pt x="2545080" y="1905000"/>
                </a:cubicBezTo>
                <a:cubicBezTo>
                  <a:pt x="2540984" y="1913191"/>
                  <a:pt x="2536316" y="1921384"/>
                  <a:pt x="2529840" y="1927860"/>
                </a:cubicBezTo>
                <a:cubicBezTo>
                  <a:pt x="2523364" y="1934336"/>
                  <a:pt x="2514600" y="1938020"/>
                  <a:pt x="2506980" y="1943100"/>
                </a:cubicBezTo>
                <a:cubicBezTo>
                  <a:pt x="2469142" y="1999857"/>
                  <a:pt x="2517773" y="1930148"/>
                  <a:pt x="2468880" y="1988820"/>
                </a:cubicBezTo>
                <a:cubicBezTo>
                  <a:pt x="2437130" y="2026920"/>
                  <a:pt x="2472690" y="1998980"/>
                  <a:pt x="2430780" y="2026920"/>
                </a:cubicBezTo>
                <a:cubicBezTo>
                  <a:pt x="2417368" y="2067156"/>
                  <a:pt x="2429843" y="2045325"/>
                  <a:pt x="2377440" y="2080260"/>
                </a:cubicBezTo>
                <a:cubicBezTo>
                  <a:pt x="2369820" y="2085340"/>
                  <a:pt x="2363268" y="2092604"/>
                  <a:pt x="2354580" y="2095500"/>
                </a:cubicBezTo>
                <a:lnTo>
                  <a:pt x="2308860" y="2110740"/>
                </a:lnTo>
                <a:cubicBezTo>
                  <a:pt x="2247370" y="2131237"/>
                  <a:pt x="2294017" y="2117859"/>
                  <a:pt x="2164080" y="2125980"/>
                </a:cubicBezTo>
                <a:cubicBezTo>
                  <a:pt x="2154314" y="2128421"/>
                  <a:pt x="2121672" y="2135754"/>
                  <a:pt x="2110740" y="2141220"/>
                </a:cubicBezTo>
                <a:cubicBezTo>
                  <a:pt x="2102549" y="2145316"/>
                  <a:pt x="2095500" y="2151380"/>
                  <a:pt x="2087880" y="2156460"/>
                </a:cubicBezTo>
                <a:cubicBezTo>
                  <a:pt x="2051890" y="2147462"/>
                  <a:pt x="2043430" y="2150110"/>
                  <a:pt x="2034540" y="2148840"/>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Freeform: Shape 165"/>
          <p:cNvSpPr/>
          <p:nvPr/>
        </p:nvSpPr>
        <p:spPr>
          <a:xfrm>
            <a:off x="258840" y="1494000"/>
            <a:ext cx="4781520" cy="2438280"/>
          </a:xfrm>
          <a:custGeom>
            <a:avLst/>
            <a:gdLst/>
            <a:ahLst/>
            <a:rect l="l" t="t" r="r" b="b"/>
            <a:pathLst>
              <a:path w="4780495" h="2438400">
                <a:moveTo>
                  <a:pt x="99060" y="99060"/>
                </a:moveTo>
                <a:lnTo>
                  <a:pt x="99060" y="99060"/>
                </a:lnTo>
                <a:cubicBezTo>
                  <a:pt x="104140" y="121920"/>
                  <a:pt x="109034" y="144822"/>
                  <a:pt x="114300" y="167640"/>
                </a:cubicBezTo>
                <a:cubicBezTo>
                  <a:pt x="116655" y="177844"/>
                  <a:pt x="119648" y="187897"/>
                  <a:pt x="121920" y="198120"/>
                </a:cubicBezTo>
                <a:cubicBezTo>
                  <a:pt x="124730" y="210763"/>
                  <a:pt x="127000" y="223520"/>
                  <a:pt x="129540" y="236220"/>
                </a:cubicBezTo>
                <a:cubicBezTo>
                  <a:pt x="127000" y="264160"/>
                  <a:pt x="127422" y="292530"/>
                  <a:pt x="121920" y="320040"/>
                </a:cubicBezTo>
                <a:cubicBezTo>
                  <a:pt x="119692" y="331179"/>
                  <a:pt x="110272" y="339744"/>
                  <a:pt x="106680" y="350520"/>
                </a:cubicBezTo>
                <a:cubicBezTo>
                  <a:pt x="102584" y="362807"/>
                  <a:pt x="102468" y="376125"/>
                  <a:pt x="99060" y="388620"/>
                </a:cubicBezTo>
                <a:cubicBezTo>
                  <a:pt x="94833" y="404118"/>
                  <a:pt x="88900" y="419100"/>
                  <a:pt x="83820" y="434340"/>
                </a:cubicBezTo>
                <a:lnTo>
                  <a:pt x="68580" y="480060"/>
                </a:lnTo>
                <a:cubicBezTo>
                  <a:pt x="66040" y="487680"/>
                  <a:pt x="62908" y="495128"/>
                  <a:pt x="60960" y="502920"/>
                </a:cubicBezTo>
                <a:cubicBezTo>
                  <a:pt x="55880" y="523240"/>
                  <a:pt x="49828" y="543341"/>
                  <a:pt x="45720" y="563880"/>
                </a:cubicBezTo>
                <a:cubicBezTo>
                  <a:pt x="39888" y="593039"/>
                  <a:pt x="32128" y="638121"/>
                  <a:pt x="22860" y="670560"/>
                </a:cubicBezTo>
                <a:cubicBezTo>
                  <a:pt x="20653" y="678283"/>
                  <a:pt x="17780" y="685800"/>
                  <a:pt x="15240" y="693420"/>
                </a:cubicBezTo>
                <a:cubicBezTo>
                  <a:pt x="12700" y="711200"/>
                  <a:pt x="10351" y="729008"/>
                  <a:pt x="7620" y="746760"/>
                </a:cubicBezTo>
                <a:cubicBezTo>
                  <a:pt x="5271" y="762031"/>
                  <a:pt x="0" y="777030"/>
                  <a:pt x="0" y="792480"/>
                </a:cubicBezTo>
                <a:cubicBezTo>
                  <a:pt x="0" y="889033"/>
                  <a:pt x="741" y="985732"/>
                  <a:pt x="7620" y="1082040"/>
                </a:cubicBezTo>
                <a:cubicBezTo>
                  <a:pt x="8429" y="1093370"/>
                  <a:pt x="17780" y="1102360"/>
                  <a:pt x="22860" y="1112520"/>
                </a:cubicBezTo>
                <a:cubicBezTo>
                  <a:pt x="25400" y="1127760"/>
                  <a:pt x="27716" y="1143039"/>
                  <a:pt x="30480" y="1158240"/>
                </a:cubicBezTo>
                <a:cubicBezTo>
                  <a:pt x="32797" y="1170983"/>
                  <a:pt x="36268" y="1183519"/>
                  <a:pt x="38100" y="1196340"/>
                </a:cubicBezTo>
                <a:cubicBezTo>
                  <a:pt x="41580" y="1220698"/>
                  <a:pt x="51155" y="1319269"/>
                  <a:pt x="53340" y="1341120"/>
                </a:cubicBezTo>
                <a:cubicBezTo>
                  <a:pt x="50800" y="1430020"/>
                  <a:pt x="49758" y="1518975"/>
                  <a:pt x="45720" y="1607820"/>
                </a:cubicBezTo>
                <a:cubicBezTo>
                  <a:pt x="44676" y="1630797"/>
                  <a:pt x="39121" y="1653422"/>
                  <a:pt x="38100" y="1676400"/>
                </a:cubicBezTo>
                <a:cubicBezTo>
                  <a:pt x="34038" y="1767785"/>
                  <a:pt x="33020" y="1859280"/>
                  <a:pt x="30480" y="1950720"/>
                </a:cubicBezTo>
                <a:cubicBezTo>
                  <a:pt x="33020" y="1968500"/>
                  <a:pt x="35369" y="1986308"/>
                  <a:pt x="38100" y="2004060"/>
                </a:cubicBezTo>
                <a:cubicBezTo>
                  <a:pt x="40449" y="2019331"/>
                  <a:pt x="43535" y="2034485"/>
                  <a:pt x="45720" y="2049780"/>
                </a:cubicBezTo>
                <a:cubicBezTo>
                  <a:pt x="48616" y="2070052"/>
                  <a:pt x="49973" y="2090540"/>
                  <a:pt x="53340" y="2110740"/>
                </a:cubicBezTo>
                <a:cubicBezTo>
                  <a:pt x="58104" y="2139326"/>
                  <a:pt x="61333" y="2138714"/>
                  <a:pt x="68580" y="2164080"/>
                </a:cubicBezTo>
                <a:cubicBezTo>
                  <a:pt x="71457" y="2174150"/>
                  <a:pt x="74327" y="2184256"/>
                  <a:pt x="76200" y="2194560"/>
                </a:cubicBezTo>
                <a:cubicBezTo>
                  <a:pt x="80212" y="2216624"/>
                  <a:pt x="80262" y="2248404"/>
                  <a:pt x="91440" y="2270760"/>
                </a:cubicBezTo>
                <a:cubicBezTo>
                  <a:pt x="95536" y="2278951"/>
                  <a:pt x="102584" y="2285429"/>
                  <a:pt x="106680" y="2293620"/>
                </a:cubicBezTo>
                <a:cubicBezTo>
                  <a:pt x="110272" y="2300804"/>
                  <a:pt x="109845" y="2309797"/>
                  <a:pt x="114300" y="2316480"/>
                </a:cubicBezTo>
                <a:cubicBezTo>
                  <a:pt x="126034" y="2334081"/>
                  <a:pt x="143152" y="2343335"/>
                  <a:pt x="160020" y="2354580"/>
                </a:cubicBezTo>
                <a:cubicBezTo>
                  <a:pt x="200660" y="2415540"/>
                  <a:pt x="147320" y="2341880"/>
                  <a:pt x="198120" y="2392680"/>
                </a:cubicBezTo>
                <a:cubicBezTo>
                  <a:pt x="204596" y="2399156"/>
                  <a:pt x="205594" y="2410686"/>
                  <a:pt x="213360" y="2415540"/>
                </a:cubicBezTo>
                <a:cubicBezTo>
                  <a:pt x="226983" y="2424054"/>
                  <a:pt x="243840" y="2425700"/>
                  <a:pt x="259080" y="2430780"/>
                </a:cubicBezTo>
                <a:lnTo>
                  <a:pt x="281940" y="2438400"/>
                </a:lnTo>
                <a:cubicBezTo>
                  <a:pt x="297180" y="2435860"/>
                  <a:pt x="312671" y="2434527"/>
                  <a:pt x="327660" y="2430780"/>
                </a:cubicBezTo>
                <a:cubicBezTo>
                  <a:pt x="343245" y="2426884"/>
                  <a:pt x="373380" y="2415540"/>
                  <a:pt x="373380" y="2415540"/>
                </a:cubicBezTo>
                <a:cubicBezTo>
                  <a:pt x="390232" y="2398688"/>
                  <a:pt x="397882" y="2388049"/>
                  <a:pt x="419100" y="2377440"/>
                </a:cubicBezTo>
                <a:cubicBezTo>
                  <a:pt x="426284" y="2373848"/>
                  <a:pt x="434776" y="2373412"/>
                  <a:pt x="441960" y="2369820"/>
                </a:cubicBezTo>
                <a:cubicBezTo>
                  <a:pt x="470339" y="2355631"/>
                  <a:pt x="462401" y="2352786"/>
                  <a:pt x="487680" y="2331720"/>
                </a:cubicBezTo>
                <a:cubicBezTo>
                  <a:pt x="494715" y="2325857"/>
                  <a:pt x="502920" y="2321560"/>
                  <a:pt x="510540" y="2316480"/>
                </a:cubicBezTo>
                <a:cubicBezTo>
                  <a:pt x="515620" y="2308860"/>
                  <a:pt x="518629" y="2299341"/>
                  <a:pt x="525780" y="2293620"/>
                </a:cubicBezTo>
                <a:cubicBezTo>
                  <a:pt x="532052" y="2288602"/>
                  <a:pt x="541257" y="2289164"/>
                  <a:pt x="548640" y="2286000"/>
                </a:cubicBezTo>
                <a:cubicBezTo>
                  <a:pt x="559081" y="2281525"/>
                  <a:pt x="569257" y="2276396"/>
                  <a:pt x="579120" y="2270760"/>
                </a:cubicBezTo>
                <a:cubicBezTo>
                  <a:pt x="587071" y="2266216"/>
                  <a:pt x="593611" y="2259239"/>
                  <a:pt x="601980" y="2255520"/>
                </a:cubicBezTo>
                <a:cubicBezTo>
                  <a:pt x="616660" y="2248996"/>
                  <a:pt x="634334" y="2249191"/>
                  <a:pt x="647700" y="2240280"/>
                </a:cubicBezTo>
                <a:cubicBezTo>
                  <a:pt x="655320" y="2235200"/>
                  <a:pt x="662191" y="2228759"/>
                  <a:pt x="670560" y="2225040"/>
                </a:cubicBezTo>
                <a:lnTo>
                  <a:pt x="739140" y="2202180"/>
                </a:lnTo>
                <a:lnTo>
                  <a:pt x="784860" y="2186940"/>
                </a:lnTo>
                <a:cubicBezTo>
                  <a:pt x="792480" y="2184400"/>
                  <a:pt x="799844" y="2180895"/>
                  <a:pt x="807720" y="2179320"/>
                </a:cubicBezTo>
                <a:cubicBezTo>
                  <a:pt x="833120" y="2174240"/>
                  <a:pt x="859346" y="2172271"/>
                  <a:pt x="883920" y="2164080"/>
                </a:cubicBezTo>
                <a:cubicBezTo>
                  <a:pt x="899160" y="2159000"/>
                  <a:pt x="913794" y="2151481"/>
                  <a:pt x="929640" y="2148840"/>
                </a:cubicBezTo>
                <a:cubicBezTo>
                  <a:pt x="962726" y="2143326"/>
                  <a:pt x="981510" y="2140700"/>
                  <a:pt x="1013460" y="2133600"/>
                </a:cubicBezTo>
                <a:cubicBezTo>
                  <a:pt x="1023683" y="2131328"/>
                  <a:pt x="1033483" y="2126545"/>
                  <a:pt x="1043940" y="2125980"/>
                </a:cubicBezTo>
                <a:cubicBezTo>
                  <a:pt x="1127676" y="2121454"/>
                  <a:pt x="1211580" y="2120900"/>
                  <a:pt x="1295400" y="2118360"/>
                </a:cubicBezTo>
                <a:cubicBezTo>
                  <a:pt x="1346949" y="2101177"/>
                  <a:pt x="1284380" y="2123870"/>
                  <a:pt x="1356360" y="2087880"/>
                </a:cubicBezTo>
                <a:cubicBezTo>
                  <a:pt x="1373662" y="2079229"/>
                  <a:pt x="1391739" y="2072204"/>
                  <a:pt x="1409700" y="2065020"/>
                </a:cubicBezTo>
                <a:cubicBezTo>
                  <a:pt x="1438507" y="2053497"/>
                  <a:pt x="1432206" y="2061431"/>
                  <a:pt x="1463040" y="2042160"/>
                </a:cubicBezTo>
                <a:cubicBezTo>
                  <a:pt x="1473810" y="2035429"/>
                  <a:pt x="1481629" y="2023759"/>
                  <a:pt x="1493520" y="2019300"/>
                </a:cubicBezTo>
                <a:cubicBezTo>
                  <a:pt x="1522938" y="2008268"/>
                  <a:pt x="1554152" y="2002602"/>
                  <a:pt x="1584960" y="1996440"/>
                </a:cubicBezTo>
                <a:cubicBezTo>
                  <a:pt x="1597660" y="1993900"/>
                  <a:pt x="1610259" y="1990789"/>
                  <a:pt x="1623060" y="1988820"/>
                </a:cubicBezTo>
                <a:cubicBezTo>
                  <a:pt x="1643300" y="1985706"/>
                  <a:pt x="1663722" y="1983906"/>
                  <a:pt x="1684020" y="1981200"/>
                </a:cubicBezTo>
                <a:lnTo>
                  <a:pt x="1737360" y="1973580"/>
                </a:lnTo>
                <a:cubicBezTo>
                  <a:pt x="1752631" y="1971231"/>
                  <a:pt x="1767785" y="1968145"/>
                  <a:pt x="1783080" y="1965960"/>
                </a:cubicBezTo>
                <a:cubicBezTo>
                  <a:pt x="1803352" y="1963064"/>
                  <a:pt x="1823768" y="1961236"/>
                  <a:pt x="1844040" y="1958340"/>
                </a:cubicBezTo>
                <a:cubicBezTo>
                  <a:pt x="1912847" y="1948510"/>
                  <a:pt x="1877844" y="1948974"/>
                  <a:pt x="1965960" y="1943100"/>
                </a:cubicBezTo>
                <a:cubicBezTo>
                  <a:pt x="2016711" y="1939717"/>
                  <a:pt x="2067560" y="1938020"/>
                  <a:pt x="2118360" y="1935480"/>
                </a:cubicBezTo>
                <a:cubicBezTo>
                  <a:pt x="2187801" y="1921592"/>
                  <a:pt x="2124837" y="1935823"/>
                  <a:pt x="2202180" y="1912620"/>
                </a:cubicBezTo>
                <a:cubicBezTo>
                  <a:pt x="2212211" y="1909611"/>
                  <a:pt x="2222725" y="1908312"/>
                  <a:pt x="2232660" y="1905000"/>
                </a:cubicBezTo>
                <a:cubicBezTo>
                  <a:pt x="2245636" y="1900675"/>
                  <a:pt x="2257564" y="1893359"/>
                  <a:pt x="2270760" y="1889760"/>
                </a:cubicBezTo>
                <a:cubicBezTo>
                  <a:pt x="2285666" y="1885695"/>
                  <a:pt x="2301240" y="1884680"/>
                  <a:pt x="2316480" y="1882140"/>
                </a:cubicBezTo>
                <a:cubicBezTo>
                  <a:pt x="2324100" y="1877060"/>
                  <a:pt x="2331149" y="1870996"/>
                  <a:pt x="2339340" y="1866900"/>
                </a:cubicBezTo>
                <a:cubicBezTo>
                  <a:pt x="2356758" y="1858191"/>
                  <a:pt x="2382910" y="1856007"/>
                  <a:pt x="2400300" y="1851660"/>
                </a:cubicBezTo>
                <a:cubicBezTo>
                  <a:pt x="2408092" y="1849712"/>
                  <a:pt x="2415437" y="1846247"/>
                  <a:pt x="2423160" y="1844040"/>
                </a:cubicBezTo>
                <a:cubicBezTo>
                  <a:pt x="2444564" y="1837925"/>
                  <a:pt x="2470134" y="1832728"/>
                  <a:pt x="2491740" y="1828800"/>
                </a:cubicBezTo>
                <a:cubicBezTo>
                  <a:pt x="2506941" y="1826036"/>
                  <a:pt x="2522079" y="1822645"/>
                  <a:pt x="2537460" y="1821180"/>
                </a:cubicBezTo>
                <a:cubicBezTo>
                  <a:pt x="2575473" y="1817560"/>
                  <a:pt x="2613660" y="1816100"/>
                  <a:pt x="2651760" y="1813560"/>
                </a:cubicBezTo>
                <a:cubicBezTo>
                  <a:pt x="2727960" y="1816100"/>
                  <a:pt x="2804235" y="1816951"/>
                  <a:pt x="2880360" y="1821180"/>
                </a:cubicBezTo>
                <a:cubicBezTo>
                  <a:pt x="2921628" y="1823473"/>
                  <a:pt x="2938383" y="1834570"/>
                  <a:pt x="2979420" y="1844040"/>
                </a:cubicBezTo>
                <a:cubicBezTo>
                  <a:pt x="2994475" y="1847514"/>
                  <a:pt x="3010151" y="1847913"/>
                  <a:pt x="3025140" y="1851660"/>
                </a:cubicBezTo>
                <a:cubicBezTo>
                  <a:pt x="3040725" y="1855556"/>
                  <a:pt x="3055014" y="1864259"/>
                  <a:pt x="3070860" y="1866900"/>
                </a:cubicBezTo>
                <a:cubicBezTo>
                  <a:pt x="3196669" y="1887868"/>
                  <a:pt x="3064405" y="1863381"/>
                  <a:pt x="3139440" y="1882140"/>
                </a:cubicBezTo>
                <a:cubicBezTo>
                  <a:pt x="3152005" y="1885281"/>
                  <a:pt x="3165045" y="1886352"/>
                  <a:pt x="3177540" y="1889760"/>
                </a:cubicBezTo>
                <a:cubicBezTo>
                  <a:pt x="3283886" y="1918763"/>
                  <a:pt x="3168535" y="1894055"/>
                  <a:pt x="3261360" y="1912620"/>
                </a:cubicBezTo>
                <a:cubicBezTo>
                  <a:pt x="3283875" y="1923877"/>
                  <a:pt x="3305617" y="1935803"/>
                  <a:pt x="3329940" y="1943100"/>
                </a:cubicBezTo>
                <a:cubicBezTo>
                  <a:pt x="3342345" y="1946822"/>
                  <a:pt x="3355545" y="1947312"/>
                  <a:pt x="3368040" y="1950720"/>
                </a:cubicBezTo>
                <a:cubicBezTo>
                  <a:pt x="3436530" y="1969399"/>
                  <a:pt x="3390506" y="1960749"/>
                  <a:pt x="3451860" y="1981200"/>
                </a:cubicBezTo>
                <a:cubicBezTo>
                  <a:pt x="3528228" y="2006656"/>
                  <a:pt x="3479661" y="1988150"/>
                  <a:pt x="3543300" y="2004060"/>
                </a:cubicBezTo>
                <a:cubicBezTo>
                  <a:pt x="3551092" y="2006008"/>
                  <a:pt x="3558284" y="2010105"/>
                  <a:pt x="3566160" y="2011680"/>
                </a:cubicBezTo>
                <a:cubicBezTo>
                  <a:pt x="3583772" y="2015202"/>
                  <a:pt x="3601748" y="2016569"/>
                  <a:pt x="3619500" y="2019300"/>
                </a:cubicBezTo>
                <a:cubicBezTo>
                  <a:pt x="3671247" y="2027261"/>
                  <a:pt x="3681489" y="2031753"/>
                  <a:pt x="3741420" y="2034540"/>
                </a:cubicBezTo>
                <a:cubicBezTo>
                  <a:pt x="3825188" y="2038436"/>
                  <a:pt x="3909060" y="2039620"/>
                  <a:pt x="3992880" y="2042160"/>
                </a:cubicBezTo>
                <a:cubicBezTo>
                  <a:pt x="4003040" y="2044700"/>
                  <a:pt x="4013137" y="2047508"/>
                  <a:pt x="4023360" y="2049780"/>
                </a:cubicBezTo>
                <a:cubicBezTo>
                  <a:pt x="4036003" y="2052590"/>
                  <a:pt x="4048965" y="2053992"/>
                  <a:pt x="4061460" y="2057400"/>
                </a:cubicBezTo>
                <a:cubicBezTo>
                  <a:pt x="4076958" y="2061627"/>
                  <a:pt x="4091595" y="2068744"/>
                  <a:pt x="4107180" y="2072640"/>
                </a:cubicBezTo>
                <a:lnTo>
                  <a:pt x="4168140" y="2087880"/>
                </a:lnTo>
                <a:cubicBezTo>
                  <a:pt x="4178300" y="2090420"/>
                  <a:pt x="4188685" y="2092188"/>
                  <a:pt x="4198620" y="2095500"/>
                </a:cubicBezTo>
                <a:cubicBezTo>
                  <a:pt x="4206240" y="2098040"/>
                  <a:pt x="4213577" y="2101683"/>
                  <a:pt x="4221480" y="2103120"/>
                </a:cubicBezTo>
                <a:cubicBezTo>
                  <a:pt x="4241628" y="2106783"/>
                  <a:pt x="4262120" y="2108200"/>
                  <a:pt x="4282440" y="2110740"/>
                </a:cubicBezTo>
                <a:cubicBezTo>
                  <a:pt x="4356185" y="2140238"/>
                  <a:pt x="4282918" y="2114858"/>
                  <a:pt x="4389120" y="2133600"/>
                </a:cubicBezTo>
                <a:cubicBezTo>
                  <a:pt x="4409747" y="2137240"/>
                  <a:pt x="4429760" y="2143760"/>
                  <a:pt x="4450080" y="2148840"/>
                </a:cubicBezTo>
                <a:cubicBezTo>
                  <a:pt x="4460240" y="2151380"/>
                  <a:pt x="4470193" y="2154979"/>
                  <a:pt x="4480560" y="2156460"/>
                </a:cubicBezTo>
                <a:lnTo>
                  <a:pt x="4533900" y="2164080"/>
                </a:lnTo>
                <a:cubicBezTo>
                  <a:pt x="4564380" y="2161540"/>
                  <a:pt x="4596702" y="2167199"/>
                  <a:pt x="4625340" y="2156460"/>
                </a:cubicBezTo>
                <a:cubicBezTo>
                  <a:pt x="4628791" y="2155166"/>
                  <a:pt x="4665240" y="2107140"/>
                  <a:pt x="4671060" y="2095500"/>
                </a:cubicBezTo>
                <a:cubicBezTo>
                  <a:pt x="4674652" y="2088316"/>
                  <a:pt x="4674011" y="2079176"/>
                  <a:pt x="4678680" y="2072640"/>
                </a:cubicBezTo>
                <a:cubicBezTo>
                  <a:pt x="4687031" y="2060948"/>
                  <a:pt x="4699000" y="2052320"/>
                  <a:pt x="4709160" y="2042160"/>
                </a:cubicBezTo>
                <a:cubicBezTo>
                  <a:pt x="4717101" y="2018338"/>
                  <a:pt x="4724801" y="1988552"/>
                  <a:pt x="4747260" y="1973580"/>
                </a:cubicBezTo>
                <a:lnTo>
                  <a:pt x="4770120" y="1958340"/>
                </a:lnTo>
                <a:cubicBezTo>
                  <a:pt x="4780142" y="1908231"/>
                  <a:pt x="4787309" y="1890680"/>
                  <a:pt x="4770120" y="1828800"/>
                </a:cubicBezTo>
                <a:cubicBezTo>
                  <a:pt x="4765218" y="1811152"/>
                  <a:pt x="4749800" y="1798320"/>
                  <a:pt x="4739640" y="1783080"/>
                </a:cubicBezTo>
                <a:cubicBezTo>
                  <a:pt x="4730987" y="1770100"/>
                  <a:pt x="4710992" y="1739192"/>
                  <a:pt x="4701540" y="1729740"/>
                </a:cubicBezTo>
                <a:cubicBezTo>
                  <a:pt x="4695064" y="1723264"/>
                  <a:pt x="4685156" y="1720976"/>
                  <a:pt x="4678680" y="1714500"/>
                </a:cubicBezTo>
                <a:cubicBezTo>
                  <a:pt x="4669700" y="1705520"/>
                  <a:pt x="4664316" y="1693460"/>
                  <a:pt x="4655820" y="1684020"/>
                </a:cubicBezTo>
                <a:cubicBezTo>
                  <a:pt x="4641402" y="1668000"/>
                  <a:pt x="4625340" y="1653540"/>
                  <a:pt x="4610100" y="1638300"/>
                </a:cubicBezTo>
                <a:cubicBezTo>
                  <a:pt x="4602480" y="1630680"/>
                  <a:pt x="4596206" y="1621418"/>
                  <a:pt x="4587240" y="1615440"/>
                </a:cubicBezTo>
                <a:cubicBezTo>
                  <a:pt x="4579620" y="1610360"/>
                  <a:pt x="4571415" y="1606063"/>
                  <a:pt x="4564380" y="1600200"/>
                </a:cubicBezTo>
                <a:cubicBezTo>
                  <a:pt x="4556101" y="1593301"/>
                  <a:pt x="4550289" y="1583604"/>
                  <a:pt x="4541520" y="1577340"/>
                </a:cubicBezTo>
                <a:cubicBezTo>
                  <a:pt x="4532277" y="1570738"/>
                  <a:pt x="4520283" y="1568702"/>
                  <a:pt x="4511040" y="1562100"/>
                </a:cubicBezTo>
                <a:cubicBezTo>
                  <a:pt x="4502271" y="1555836"/>
                  <a:pt x="4497146" y="1545218"/>
                  <a:pt x="4488180" y="1539240"/>
                </a:cubicBezTo>
                <a:cubicBezTo>
                  <a:pt x="4481497" y="1534785"/>
                  <a:pt x="4472504" y="1535212"/>
                  <a:pt x="4465320" y="1531620"/>
                </a:cubicBezTo>
                <a:cubicBezTo>
                  <a:pt x="4452073" y="1524996"/>
                  <a:pt x="4440167" y="1515953"/>
                  <a:pt x="4427220" y="1508760"/>
                </a:cubicBezTo>
                <a:cubicBezTo>
                  <a:pt x="4417290" y="1503243"/>
                  <a:pt x="4406670" y="1499037"/>
                  <a:pt x="4396740" y="1493520"/>
                </a:cubicBezTo>
                <a:cubicBezTo>
                  <a:pt x="4346381" y="1465543"/>
                  <a:pt x="4336515" y="1449889"/>
                  <a:pt x="4267200" y="1432560"/>
                </a:cubicBezTo>
                <a:cubicBezTo>
                  <a:pt x="4257040" y="1430020"/>
                  <a:pt x="4246526" y="1428617"/>
                  <a:pt x="4236720" y="1424940"/>
                </a:cubicBezTo>
                <a:cubicBezTo>
                  <a:pt x="4226084" y="1420952"/>
                  <a:pt x="4217016" y="1413292"/>
                  <a:pt x="4206240" y="1409700"/>
                </a:cubicBezTo>
                <a:cubicBezTo>
                  <a:pt x="4193953" y="1405604"/>
                  <a:pt x="4180635" y="1405488"/>
                  <a:pt x="4168140" y="1402080"/>
                </a:cubicBezTo>
                <a:cubicBezTo>
                  <a:pt x="4152642" y="1397853"/>
                  <a:pt x="4137100" y="1393364"/>
                  <a:pt x="4122420" y="1386840"/>
                </a:cubicBezTo>
                <a:cubicBezTo>
                  <a:pt x="4114051" y="1383121"/>
                  <a:pt x="4108248" y="1374496"/>
                  <a:pt x="4099560" y="1371600"/>
                </a:cubicBezTo>
                <a:cubicBezTo>
                  <a:pt x="4077344" y="1364195"/>
                  <a:pt x="4053840" y="1361440"/>
                  <a:pt x="4030980" y="1356360"/>
                </a:cubicBezTo>
                <a:cubicBezTo>
                  <a:pt x="4020820" y="1351280"/>
                  <a:pt x="4010363" y="1346756"/>
                  <a:pt x="4000500" y="1341120"/>
                </a:cubicBezTo>
                <a:cubicBezTo>
                  <a:pt x="3992549" y="1336576"/>
                  <a:pt x="3985831" y="1329976"/>
                  <a:pt x="3977640" y="1325880"/>
                </a:cubicBezTo>
                <a:cubicBezTo>
                  <a:pt x="3965406" y="1319763"/>
                  <a:pt x="3952039" y="1316195"/>
                  <a:pt x="3939540" y="1310640"/>
                </a:cubicBezTo>
                <a:cubicBezTo>
                  <a:pt x="3929160" y="1306027"/>
                  <a:pt x="3919501" y="1299875"/>
                  <a:pt x="3909060" y="1295400"/>
                </a:cubicBezTo>
                <a:cubicBezTo>
                  <a:pt x="3901677" y="1292236"/>
                  <a:pt x="3893384" y="1291372"/>
                  <a:pt x="3886200" y="1287780"/>
                </a:cubicBezTo>
                <a:cubicBezTo>
                  <a:pt x="3800037" y="1244699"/>
                  <a:pt x="3862426" y="1267155"/>
                  <a:pt x="3810000" y="1249680"/>
                </a:cubicBezTo>
                <a:cubicBezTo>
                  <a:pt x="3802380" y="1242060"/>
                  <a:pt x="3796106" y="1232798"/>
                  <a:pt x="3787140" y="1226820"/>
                </a:cubicBezTo>
                <a:cubicBezTo>
                  <a:pt x="3780457" y="1222365"/>
                  <a:pt x="3771464" y="1222792"/>
                  <a:pt x="3764280" y="1219200"/>
                </a:cubicBezTo>
                <a:cubicBezTo>
                  <a:pt x="3756089" y="1215104"/>
                  <a:pt x="3749838" y="1207568"/>
                  <a:pt x="3741420" y="1203960"/>
                </a:cubicBezTo>
                <a:cubicBezTo>
                  <a:pt x="3731794" y="1199835"/>
                  <a:pt x="3721010" y="1199217"/>
                  <a:pt x="3710940" y="1196340"/>
                </a:cubicBezTo>
                <a:cubicBezTo>
                  <a:pt x="3703217" y="1194133"/>
                  <a:pt x="3695700" y="1191260"/>
                  <a:pt x="3688080" y="1188720"/>
                </a:cubicBezTo>
                <a:cubicBezTo>
                  <a:pt x="3684611" y="1186118"/>
                  <a:pt x="3643406" y="1154334"/>
                  <a:pt x="3634740" y="1150620"/>
                </a:cubicBezTo>
                <a:cubicBezTo>
                  <a:pt x="3625114" y="1146495"/>
                  <a:pt x="3614066" y="1146677"/>
                  <a:pt x="3604260" y="1143000"/>
                </a:cubicBezTo>
                <a:cubicBezTo>
                  <a:pt x="3559614" y="1126258"/>
                  <a:pt x="3586653" y="1126422"/>
                  <a:pt x="3535680" y="1112520"/>
                </a:cubicBezTo>
                <a:cubicBezTo>
                  <a:pt x="3520774" y="1108455"/>
                  <a:pt x="3505110" y="1107930"/>
                  <a:pt x="3489960" y="1104900"/>
                </a:cubicBezTo>
                <a:cubicBezTo>
                  <a:pt x="3479691" y="1102846"/>
                  <a:pt x="3469831" y="1098872"/>
                  <a:pt x="3459480" y="1097280"/>
                </a:cubicBezTo>
                <a:cubicBezTo>
                  <a:pt x="3392013" y="1086900"/>
                  <a:pt x="3288071" y="1083470"/>
                  <a:pt x="3230880" y="1082040"/>
                </a:cubicBezTo>
                <a:lnTo>
                  <a:pt x="2781300" y="1074420"/>
                </a:lnTo>
                <a:lnTo>
                  <a:pt x="2651760" y="1059180"/>
                </a:lnTo>
                <a:cubicBezTo>
                  <a:pt x="2631173" y="1055320"/>
                  <a:pt x="2611209" y="1048650"/>
                  <a:pt x="2590800" y="1043940"/>
                </a:cubicBezTo>
                <a:cubicBezTo>
                  <a:pt x="2578180" y="1041028"/>
                  <a:pt x="2565079" y="1040129"/>
                  <a:pt x="2552700" y="1036320"/>
                </a:cubicBezTo>
                <a:cubicBezTo>
                  <a:pt x="2531958" y="1029938"/>
                  <a:pt x="2512223" y="1020629"/>
                  <a:pt x="2491740" y="1013460"/>
                </a:cubicBezTo>
                <a:cubicBezTo>
                  <a:pt x="2461415" y="1002846"/>
                  <a:pt x="2430780" y="993140"/>
                  <a:pt x="2400300" y="982980"/>
                </a:cubicBezTo>
                <a:cubicBezTo>
                  <a:pt x="2385060" y="977900"/>
                  <a:pt x="2370165" y="971636"/>
                  <a:pt x="2354580" y="967740"/>
                </a:cubicBezTo>
                <a:cubicBezTo>
                  <a:pt x="2277926" y="948577"/>
                  <a:pt x="2353883" y="968191"/>
                  <a:pt x="2202180" y="922020"/>
                </a:cubicBezTo>
                <a:cubicBezTo>
                  <a:pt x="2184490" y="916636"/>
                  <a:pt x="2166383" y="912628"/>
                  <a:pt x="2148840" y="906780"/>
                </a:cubicBezTo>
                <a:cubicBezTo>
                  <a:pt x="2118360" y="896620"/>
                  <a:pt x="2088905" y="882601"/>
                  <a:pt x="2057400" y="876300"/>
                </a:cubicBezTo>
                <a:cubicBezTo>
                  <a:pt x="2013291" y="867478"/>
                  <a:pt x="2019502" y="870359"/>
                  <a:pt x="1973580" y="853440"/>
                </a:cubicBezTo>
                <a:cubicBezTo>
                  <a:pt x="1940383" y="841210"/>
                  <a:pt x="1907493" y="828163"/>
                  <a:pt x="1874520" y="815340"/>
                </a:cubicBezTo>
                <a:cubicBezTo>
                  <a:pt x="1842509" y="802891"/>
                  <a:pt x="1824728" y="794140"/>
                  <a:pt x="1790700" y="784860"/>
                </a:cubicBezTo>
                <a:cubicBezTo>
                  <a:pt x="1778205" y="781452"/>
                  <a:pt x="1765005" y="780962"/>
                  <a:pt x="1752600" y="777240"/>
                </a:cubicBezTo>
                <a:cubicBezTo>
                  <a:pt x="1739499" y="773310"/>
                  <a:pt x="1726734" y="768117"/>
                  <a:pt x="1714500" y="762000"/>
                </a:cubicBezTo>
                <a:cubicBezTo>
                  <a:pt x="1637973" y="723736"/>
                  <a:pt x="1754674" y="771597"/>
                  <a:pt x="1661160" y="731520"/>
                </a:cubicBezTo>
                <a:cubicBezTo>
                  <a:pt x="1636015" y="720744"/>
                  <a:pt x="1610913" y="709691"/>
                  <a:pt x="1584960" y="701040"/>
                </a:cubicBezTo>
                <a:cubicBezTo>
                  <a:pt x="1577340" y="698500"/>
                  <a:pt x="1569597" y="696303"/>
                  <a:pt x="1562100" y="693420"/>
                </a:cubicBezTo>
                <a:cubicBezTo>
                  <a:pt x="1536567" y="683600"/>
                  <a:pt x="1511300" y="673100"/>
                  <a:pt x="1485900" y="662940"/>
                </a:cubicBezTo>
                <a:cubicBezTo>
                  <a:pt x="1473200" y="657860"/>
                  <a:pt x="1460952" y="651458"/>
                  <a:pt x="1447800" y="647700"/>
                </a:cubicBezTo>
                <a:lnTo>
                  <a:pt x="1394460" y="632460"/>
                </a:lnTo>
                <a:cubicBezTo>
                  <a:pt x="1320788" y="588257"/>
                  <a:pt x="1389373" y="631185"/>
                  <a:pt x="1325880" y="586740"/>
                </a:cubicBezTo>
                <a:cubicBezTo>
                  <a:pt x="1310875" y="576236"/>
                  <a:pt x="1294618" y="567505"/>
                  <a:pt x="1280160" y="556260"/>
                </a:cubicBezTo>
                <a:cubicBezTo>
                  <a:pt x="1271654" y="549644"/>
                  <a:pt x="1265579" y="540299"/>
                  <a:pt x="1257300" y="533400"/>
                </a:cubicBezTo>
                <a:cubicBezTo>
                  <a:pt x="1250265" y="527537"/>
                  <a:pt x="1241475" y="524023"/>
                  <a:pt x="1234440" y="518160"/>
                </a:cubicBezTo>
                <a:cubicBezTo>
                  <a:pt x="1226161" y="511261"/>
                  <a:pt x="1219920" y="502124"/>
                  <a:pt x="1211580" y="495300"/>
                </a:cubicBezTo>
                <a:cubicBezTo>
                  <a:pt x="1191921" y="479216"/>
                  <a:pt x="1168581" y="467541"/>
                  <a:pt x="1150620" y="449580"/>
                </a:cubicBezTo>
                <a:lnTo>
                  <a:pt x="1082040" y="381000"/>
                </a:lnTo>
                <a:cubicBezTo>
                  <a:pt x="1074420" y="373380"/>
                  <a:pt x="1067801" y="364606"/>
                  <a:pt x="1059180" y="358140"/>
                </a:cubicBezTo>
                <a:cubicBezTo>
                  <a:pt x="930997" y="262003"/>
                  <a:pt x="1053554" y="358411"/>
                  <a:pt x="960120" y="274320"/>
                </a:cubicBezTo>
                <a:cubicBezTo>
                  <a:pt x="933920" y="250740"/>
                  <a:pt x="914598" y="237499"/>
                  <a:pt x="883920" y="220980"/>
                </a:cubicBezTo>
                <a:cubicBezTo>
                  <a:pt x="863917" y="210209"/>
                  <a:pt x="841135" y="204131"/>
                  <a:pt x="822960" y="190500"/>
                </a:cubicBezTo>
                <a:cubicBezTo>
                  <a:pt x="812800" y="182880"/>
                  <a:pt x="802123" y="175905"/>
                  <a:pt x="792480" y="167640"/>
                </a:cubicBezTo>
                <a:cubicBezTo>
                  <a:pt x="784298" y="160627"/>
                  <a:pt x="778712" y="150566"/>
                  <a:pt x="769620" y="144780"/>
                </a:cubicBezTo>
                <a:cubicBezTo>
                  <a:pt x="732141" y="120930"/>
                  <a:pt x="719371" y="117870"/>
                  <a:pt x="685800" y="106680"/>
                </a:cubicBezTo>
                <a:cubicBezTo>
                  <a:pt x="675640" y="99060"/>
                  <a:pt x="664963" y="92085"/>
                  <a:pt x="655320" y="83820"/>
                </a:cubicBezTo>
                <a:cubicBezTo>
                  <a:pt x="623432" y="56488"/>
                  <a:pt x="639715" y="58258"/>
                  <a:pt x="594360" y="38100"/>
                </a:cubicBezTo>
                <a:cubicBezTo>
                  <a:pt x="584790" y="33847"/>
                  <a:pt x="574040" y="33020"/>
                  <a:pt x="563880" y="30480"/>
                </a:cubicBezTo>
                <a:cubicBezTo>
                  <a:pt x="556260" y="25400"/>
                  <a:pt x="549211" y="19336"/>
                  <a:pt x="541020" y="15240"/>
                </a:cubicBezTo>
                <a:cubicBezTo>
                  <a:pt x="522261" y="5861"/>
                  <a:pt x="490000" y="2927"/>
                  <a:pt x="472440" y="0"/>
                </a:cubicBezTo>
                <a:cubicBezTo>
                  <a:pt x="398780" y="2540"/>
                  <a:pt x="324842" y="740"/>
                  <a:pt x="251460" y="7620"/>
                </a:cubicBezTo>
                <a:cubicBezTo>
                  <a:pt x="242342" y="8475"/>
                  <a:pt x="236551" y="18316"/>
                  <a:pt x="228600" y="22860"/>
                </a:cubicBezTo>
                <a:cubicBezTo>
                  <a:pt x="200539" y="38895"/>
                  <a:pt x="177254" y="43726"/>
                  <a:pt x="152400" y="68580"/>
                </a:cubicBezTo>
                <a:cubicBezTo>
                  <a:pt x="144780" y="76200"/>
                  <a:pt x="137819" y="84541"/>
                  <a:pt x="129540" y="91440"/>
                </a:cubicBezTo>
                <a:cubicBezTo>
                  <a:pt x="97606" y="118051"/>
                  <a:pt x="110104" y="93353"/>
                  <a:pt x="83820" y="137160"/>
                </a:cubicBezTo>
                <a:cubicBezTo>
                  <a:pt x="82513" y="139338"/>
                  <a:pt x="96520" y="105410"/>
                  <a:pt x="99060" y="9906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266"/>
                                        </p:tgtEl>
                                        <p:attrNameLst>
                                          <p:attrName>style.visibility</p:attrName>
                                        </p:attrNameLst>
                                      </p:cBhvr>
                                      <p:to>
                                        <p:strVal val="visible"/>
                                      </p:to>
                                    </p:set>
                                    <p:animEffect filter="wipe(down)" transition="in">
                                      <p:cBhvr additive="repl">
                                        <p:cTn id="203" dur="500"/>
                                        <p:tgtEl>
                                          <p:spTgt spid="26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341"/>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71"/>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286"/>
                                        </p:tgtEl>
                                        <p:attrNameLst>
                                          <p:attrName>style.visibility</p:attrName>
                                        </p:attrNameLst>
                                      </p:cBhvr>
                                      <p:to>
                                        <p:strVal val="visible"/>
                                      </p:to>
                                    </p:set>
                                    <p:animEffect filter="wipe(down)" transition="in">
                                      <p:cBhvr additive="repl">
                                        <p:cTn id="216" dur="500"/>
                                        <p:tgtEl>
                                          <p:spTgt spid="286"/>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42"/>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78"/>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91"/>
                                        </p:tgtEl>
                                        <p:attrNameLst>
                                          <p:attrName>style.visibility</p:attrName>
                                        </p:attrNameLst>
                                      </p:cBhvr>
                                      <p:to>
                                        <p:strVal val="visible"/>
                                      </p:to>
                                    </p:set>
                                    <p:animEffect filter="wipe(left)" transition="in">
                                      <p:cBhvr additive="repl">
                                        <p:cTn id="229" dur="500"/>
                                        <p:tgtEl>
                                          <p:spTgt spid="291"/>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343"/>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96"/>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310"/>
                                        </p:tgtEl>
                                        <p:attrNameLst>
                                          <p:attrName>style.visibility</p:attrName>
                                        </p:attrNameLst>
                                      </p:cBhvr>
                                      <p:to>
                                        <p:strVal val="visible"/>
                                      </p:to>
                                    </p:set>
                                    <p:animEffect filter="wipe(up)" transition="in">
                                      <p:cBhvr additive="repl">
                                        <p:cTn id="242" dur="500"/>
                                        <p:tgtEl>
                                          <p:spTgt spid="310"/>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44"/>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03"/>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2">
                                  <p:stCondLst>
                                    <p:cond delay="0"/>
                                  </p:stCondLst>
                                  <p:childTnLst>
                                    <p:set>
                                      <p:cBhvr>
                                        <p:cTn id="254" dur="1" fill="hold">
                                          <p:stCondLst>
                                            <p:cond delay="0"/>
                                          </p:stCondLst>
                                        </p:cTn>
                                        <p:tgtEl>
                                          <p:spTgt spid="322"/>
                                        </p:tgtEl>
                                        <p:attrNameLst>
                                          <p:attrName>style.visibility</p:attrName>
                                        </p:attrNameLst>
                                      </p:cBhvr>
                                      <p:to>
                                        <p:strVal val="visible"/>
                                      </p:to>
                                    </p:set>
                                    <p:animEffect filter="wipe(right)" transition="in">
                                      <p:cBhvr additive="repl">
                                        <p:cTn id="255" dur="500"/>
                                        <p:tgtEl>
                                          <p:spTgt spid="322"/>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345"/>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15"/>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2">
                                  <p:stCondLst>
                                    <p:cond delay="0"/>
                                  </p:stCondLst>
                                  <p:childTnLst>
                                    <p:set>
                                      <p:cBhvr>
                                        <p:cTn id="267" dur="1" fill="hold">
                                          <p:stCondLst>
                                            <p:cond delay="0"/>
                                          </p:stCondLst>
                                        </p:cTn>
                                        <p:tgtEl>
                                          <p:spTgt spid="336"/>
                                        </p:tgtEl>
                                        <p:attrNameLst>
                                          <p:attrName>style.visibility</p:attrName>
                                        </p:attrNameLst>
                                      </p:cBhvr>
                                      <p:to>
                                        <p:strVal val="visible"/>
                                      </p:to>
                                    </p:set>
                                    <p:animEffect filter="wipe(right)" transition="in">
                                      <p:cBhvr additive="repl">
                                        <p:cTn id="268" dur="500"/>
                                        <p:tgtEl>
                                          <p:spTgt spid="33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6"/>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3:12:00Z</dcterms:created>
  <dc:creator>Dan Martin</dc:creator>
  <dc:description/>
  <dc:language>en-US</dc:language>
  <cp:lastModifiedBy>Dan Martin</cp:lastModifiedBy>
  <dcterms:modified xsi:type="dcterms:W3CDTF">2022-11-02T20:29:53Z</dcterms:modified>
  <cp:revision>66</cp:revision>
  <dc:subject/>
  <dc:title>Adjustment Slides</dc:title>
</cp:coreProperties>
</file>