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3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3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 type="sldNum" idx="3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D129A-A22A-4EF0-8F94-258BE3562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05ABA-DD92-4325-AFF9-EF4AAEEA38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90BC1-041B-4FD5-A637-DB626E2C42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5551C-207C-4845-99B8-29549163F1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D1240-7181-4B91-9024-BEE42CCC73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96758-5918-46B5-A2E5-B8C0361B9B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361EA-1624-4430-990C-E3F389C2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5A6F2-9DE3-4AF1-A29D-601D7846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4BBBA-5BDF-4E19-935F-7FF07C3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51454-EAA0-4C6F-A4D0-31C74A9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D0E8E-0799-4766-93C8-B0B03CB8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606A5-0867-4A33-B234-BAFFF3AD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F8A80-1D8D-499A-B800-F43E7EE9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E31E7-E6B8-4C2C-A59F-A02A1F58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BBF42-9EB8-400B-87B6-504BC2FD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E7697-3B26-46FC-97A2-ADFD0F1B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B4BBF-FB43-4088-9DD0-8F6A70DF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6CE05-F8CD-48DA-BCFF-6C31C1BD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16114-A487-4395-B7E8-23377DEF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AA835-8309-404B-AA54-7F1DA306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C7721-7299-4FBA-9EA1-9511D5D2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30B04-E66D-4ACA-911E-45DBCB09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B5287-EA70-4854-A25C-D8D1C47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6F192-AB1D-42BF-95CF-BFD1E26D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BAB51-B223-47E3-80A6-039BB47B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AE252-7B0D-4F40-B571-A8B3A923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01B04-04D2-4F0E-BF0F-575ECB3E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B5D72-CA4F-4C0C-A044-43124FE7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19BF7-907E-47EB-919D-A234F4F1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CB079-C76F-4E8F-8A22-69184CC3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32995-19E0-40D9-BB24-CAF15B4D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E5D3C-6541-41E7-9549-91C2E119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C0E0D-C225-4347-AC2A-0E7787C0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0A01B-8EA1-4AA8-AD80-46082772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ACF71-AFD5-40EC-8CDB-AB15985A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1FEF3-E37A-46F1-AAB5-F3351229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213F8-53AF-4948-8917-C38103B2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B40B4-B0AA-4356-AF9E-57703710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B86BC-1C0F-4AE4-8F1A-649EADEF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4C195-B0F7-474A-B0E7-63C36390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DD6D5-E528-468C-8557-1C007D48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4431C-60A1-4D38-B91E-148B0C69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1F7F5-2938-4BEA-B284-D91A69E0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354A0-FF38-4B30-B822-D55469AA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EC614-D3F9-44D9-AA97-05AC10C9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ED774-4D51-4D2B-831B-38AF2313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40299-F614-4736-B767-640BFFC5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82E9D-9942-4A46-8BA1-8CFE206E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94055-6BAF-4C52-9EE9-E77F0E10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9A161-7CBA-4596-BE1A-A0B9CE85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73A24-47B1-4107-BE7D-433957BA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5CD1D-D2A3-48C7-AF22-E84276AB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8396A-322E-47CE-9BBD-7EC0EF78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1CDFF-8F51-4DC1-AD6E-074D8BF6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33620-E7FA-4E5C-9863-AC4A061D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AD665-54F5-4BF9-B88F-48CF0A96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0B1B1-CEA5-4640-AB22-53C5380D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A6531-E917-4D16-9287-DB66F5A8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EC2FD-3D78-48F0-B2CF-28C2848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E737E-1585-48C2-AB4C-3EE8CA9D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70B8D-C68E-44AF-AB11-C1C864FB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46524-D4E2-4464-B473-C374C6B5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47389-A4A7-47BF-80BC-DFB8AD27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F01C-16DB-4A11-884D-DEAED16F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72CE-37E1-414E-8332-D0C65CB0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D24E-5194-45BB-A6E3-68E229A6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2AA1-39BF-4BF0-926F-03AD36DD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D053-5616-4AE5-8017-B51F76BC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5777-39C2-4AD2-B113-98D43B4B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13B1-866D-4675-BC1A-E88F6A89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6524-851C-4C11-952E-CA96F2B6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6F7F-C011-408F-A74B-C736A863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53C4-A7E6-45C4-AB91-11AF3A6F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5753-2A54-4B5E-B201-720E0879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5869-5C73-4996-BDEE-7CD55B5E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D268C-7253-46F3-9702-2760C425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85F5-9F1B-42CC-9088-FCB789CB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6F4C-CB5E-4CB9-97D5-58932206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CCA6-E9BD-4C1F-ACA8-9CC2194D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A744-B981-4B72-97B4-128CF68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080B-BA04-4EF3-B926-C97EDC38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B7840-70F7-42FD-923F-B4A2D23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CDAD-DDE4-444A-835D-92555F4E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F8EF-CCBB-465A-89B6-1E59ABA5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4A64-52BB-40E5-9583-DBDEF5CB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A6C84-D73B-4DDF-B2B7-6CF29E39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27D7-038B-4346-825D-62E22628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B97A-9C3E-4378-A041-613378BA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22F82-F6C6-4950-82B7-42DF7EC8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73AE-B615-4B78-B4B0-301DCC05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960AE-AD52-4F60-BA2F-97BC54F4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A378-A837-480D-9659-02ACFA01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5CA42-A876-47D0-8C08-49D2DE7F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0D417-C991-4846-B774-A74E4E16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AB6C-CAA0-46A6-BCDB-F21AAF87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9FE74-19B1-40F3-A017-E168DA71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80AB-6B77-4350-B2A6-6618F548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FC507-E2A3-4FBF-9520-0DB9ECCF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858BD-9BD2-434C-A1EB-201AE02E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9115B-C7C8-4C12-8DFB-7FB96610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EEB0D-68E9-4632-AC4C-2FB627C1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C5DD-5CA3-4F6D-B4A7-7EE6F5BE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69260-C97C-4664-8ED3-4D5AB103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A1834-3550-4E4F-B616-30421E30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FD9D-A08E-47BC-AEA9-5D8A60A3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3027C-F9AD-4E91-8D4A-3A763C71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94C24-8DB4-4C2E-8E2F-9710FB9D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3E65E-0DE8-45D0-952F-12F4AC7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61BE-0011-4827-9BE5-B99E729B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B39A2-B86A-4CFE-BEFE-DD053521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E7C9B-9CDA-422E-BDDD-8F17DDD0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36F9E-B783-4AC5-8BE8-85500AA6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9DBB4-6634-4163-BBB4-A163EA02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54683-30C8-4536-82FE-D35DD8CC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12C5-9E1C-4A50-909F-A3EA4AA9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2BECF-9148-4ADE-9FD1-EC2BEC15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D1191-20D5-46F5-88AF-66292D4A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0CD6D-9EC0-416D-AF4D-10B9A7BD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DD645-5653-4C42-B9BF-2B56C0F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4CB92-D2AA-440E-94A9-DA23C050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18201-E27E-4D63-ADCD-63EAD614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CE477-4E87-452F-BE65-6177610D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C76E0-F4CF-4861-9D70-F968342F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98692-5C89-42A1-B83B-7FED80EB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4CCA0-3ECC-4459-AA83-76675114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B9535-049F-43B2-A6DD-47E34A9A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A743F-FCC6-45FA-A3F5-16301BA5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30CD3-EEB5-4C98-87B7-5C29E94C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1614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CE275-BF52-4BB7-9067-029F914F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E55FC-66F6-42C4-A5FC-A8FD988E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2D5BC-F79F-43B8-A61A-4A4617FF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B3BB-DCD6-4E54-92E0-41E98749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27196-36B8-4BFA-8328-E98A53D2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E1DAF-1631-40C3-A94B-E700D6C5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3EFBB-40A4-4044-A6ED-8E347D89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79E07-9353-495A-A799-4F77EDED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6A74D-D3CD-40BD-AA7E-7C59CDBE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E82D6-A761-4FE4-BB7E-E4018E25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75E93-087C-472F-87C2-D5A716FE77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52532-4B45-4B14-A6E5-439E809F4D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CFAC5-AC90-4036-B245-02DBF623A7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701C0-919A-4C2F-8D0C-4588525BEB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3D4B5-BFE1-490F-96AB-F72344DF70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11BD9-DA15-4002-9C6F-825815498C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70472-513B-4CB1-A787-4D0C56EE12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60203-3EC8-4CE9-BE68-6BC1F36D99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8796F-79E9-42E3-B9C1-01451EA7B7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83D38-35F4-49D7-B664-AE6611D925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6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405040" y="6384960"/>
            <a:ext cx="3281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2209D-DEB0-4C1A-84DE-89EF7C5382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itle 1"/>
          <p:cNvSpPr/>
          <p:nvPr/>
        </p:nvSpPr>
        <p:spPr>
          <a:xfrm>
            <a:off x="0" y="2192400"/>
            <a:ext cx="91440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rial"/>
              </a:rPr>
              <a:t>Overview of 2010 Geospatial Summ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ubtitle 2"/>
          <p:cNvSpPr/>
          <p:nvPr/>
        </p:nvSpPr>
        <p:spPr>
          <a:xfrm>
            <a:off x="1395360" y="4203720"/>
            <a:ext cx="64008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Juliana P. Black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rector, National Geodetic Surv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ational Ocean Service, NOA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"/>
          <p:cNvSpPr/>
          <p:nvPr/>
        </p:nvSpPr>
        <p:spPr>
          <a:xfrm>
            <a:off x="2063880" y="628668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Geospatial Summit,  April 13-14,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Gill Sans MT"/>
              </a:rPr>
              <a:t>Highl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246240" y="1828800"/>
            <a:ext cx="8775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Lessons from the P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dernizing the National Spatial Reference System (NS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Geopotential Datum – Replacing NAVD 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368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Geometric Datum – Replacing NAD 8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erspectives and Feed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"/>
          <p:cNvSpPr/>
          <p:nvPr/>
        </p:nvSpPr>
        <p:spPr>
          <a:xfrm>
            <a:off x="8448840" y="62722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Gill Sans MT"/>
              </a:rPr>
              <a:t>Lessons from the Pa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7"/>
          <p:cNvSpPr/>
          <p:nvPr/>
        </p:nvSpPr>
        <p:spPr>
          <a:xfrm>
            <a:off x="587520" y="1760400"/>
            <a:ext cx="809928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xpect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yea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of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Requires a lot of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geodetic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xpect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low-adopt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and no-adop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Users care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differenti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ccurac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more th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absol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ommunicate,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ommunic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ommun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evelop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upport tool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3"/>
          <p:cNvSpPr/>
          <p:nvPr/>
        </p:nvSpPr>
        <p:spPr>
          <a:xfrm>
            <a:off x="8448840" y="62722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Gill Sans MT"/>
              </a:rPr>
              <a:t>Modernizing the NS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7"/>
          <p:cNvSpPr/>
          <p:nvPr/>
        </p:nvSpPr>
        <p:spPr>
          <a:xfrm>
            <a:off x="457200" y="1535040"/>
            <a:ext cx="817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orth American Vertical Datum of 1988 (NAVD 8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estroyed marks, poor locations, no monitoring, bias, til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o continent-wide consis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Re-leveling is expensive, doesn’t solve roo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uture:  GPS+Geoid!  Role of passive marks demo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orth American Datum of 1983 (NAD 8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on-geocentric, misaligned with satellite orb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Legally binding in 48 stat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Built from Bilby passive to GPS passive to C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oo many “realization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uture:  CORS rules!  Role of passive marks demote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Future:  Plate-fixed?  Remains an open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3"/>
          <p:cNvSpPr/>
          <p:nvPr/>
        </p:nvSpPr>
        <p:spPr>
          <a:xfrm>
            <a:off x="8448840" y="62722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Gill Sans MT"/>
              </a:rPr>
              <a:t>Perspectives and Feedbac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457200" y="176040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anel Q&amp;A and End User Feed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ny users desired some form of “fixed” coordin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eed for passive control varies from “none” to “critica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Volume of federal NAD 83/NAVD 88 geospatial data is tremendous, but almost all digital or becoming dig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raceability back to NAD 83 or NAVD 88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onsistency of the NSRS across decades is import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autious optimism and some exci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doption of true time-dependent coordinates will be slow, but some us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 MT"/>
                <a:ea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this information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3"/>
          <p:cNvSpPr/>
          <p:nvPr/>
        </p:nvSpPr>
        <p:spPr>
          <a:xfrm>
            <a:off x="8448840" y="62722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38120" y="2341440"/>
            <a:ext cx="822960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Gill Sans MT"/>
              </a:rPr>
              <a:t>Thank yo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8448840" y="627228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2:31:45Z</dcterms:created>
  <dc:creator>neil.d.weston</dc:creator>
  <dc:description/>
  <dc:language>en-US</dc:language>
  <cp:lastModifiedBy>Brett Howe - NGS</cp:lastModifiedBy>
  <cp:lastPrinted>2014-09-15T12:04:58Z</cp:lastPrinted>
  <dcterms:modified xsi:type="dcterms:W3CDTF">2015-04-13T12:24:33Z</dcterms:modified>
  <cp:revision>291</cp:revision>
  <dc:subject/>
  <dc:title>Slide 1</dc:title>
</cp:coreProperties>
</file>