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0C6F8-0ECC-48B2-B2E7-4AEB9BD3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68AF9-165C-46F6-BC9E-D7F91801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35F93-7885-49BB-A61A-81487E2A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7E05F-D9B4-4072-8557-21621F4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CAB31-111F-42A0-9E5C-226C234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82A58-9031-4927-9A99-D4147C9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FB88F-802D-4D33-A7D8-19EE5ADD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3C957-2F8C-40B7-8DC9-F6266097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7DD54-F5EE-4CE9-AB50-860B0F1E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341B5-835A-4922-A0C3-2A510AE0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83C4F-7B72-40C5-803F-E2E7DE06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DE9D5-39B6-4557-A8AD-2C305E9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82B14-241F-4C91-8439-2C7110E2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7861C-32AF-4BD3-A8B5-A577540A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E9B73-1748-44BB-A546-D18F0859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00534-C775-45E4-AD1C-23E345C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6D247-7198-4F25-A1A7-C1285DE4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3C97A-8538-41ED-B1D2-EE86B682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EBED8-79EB-4C98-9FE8-6D94ED15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52E24-1A27-4934-AC35-05FE4D87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BFB2E-6ACE-4FB6-B9AD-2FC1BAFC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B928F-F646-4604-863E-8D7134D3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7DD01-252F-4FCF-8D1B-659EF676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81DDE-778A-4987-8802-D3671975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B3F73-6525-494E-87BA-A0294F67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B1152-CC78-481E-B5DE-860734E0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2B776-F21F-4A1C-9EE2-B17EA85C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0B617-89C0-4C99-A129-CABB7E8D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F50C1-0D57-4758-B06D-DA630276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3DE98-4DDB-45EB-A2BA-36B83A05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76A1A-E7A4-4416-8191-22678169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DF145-19FB-468F-9761-79CE5B92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D54A2-B6AB-48E2-BDB1-EB7C6157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76306-FE0E-47CD-AE9D-C9DBF4CF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282DF-747A-492E-8A69-0B6DBADA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D0DC7-7D25-4C57-9131-B0FF4FEC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EA89B-EA92-43AB-BF7C-DDF0B0E7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A7C1E-C6D8-4955-A71D-1E6180FF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507D9-BE16-4609-93FF-F2DBA8C9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14740-D5C8-4954-9394-8A631FE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5FC91-46BC-4EB8-A08B-91D74928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22538-02DE-4E86-837E-0A440280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E8E2A-9FA4-48ED-B002-E188A9CF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A409E-0A32-4A34-9C6E-9A1AEAC6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192A0-5BF9-429D-9B68-876549D4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7F9D8-6C6B-4FE6-953B-9848E872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92C2F-7B5B-4FB4-85EE-D88BEE30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F80F9-DA93-4DB6-B37C-14A2C93A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1349F-0153-4E39-B34F-6EFABE82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C366F-52F1-4C79-88CC-55A00ACE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9E866-F998-40D7-8E81-E2CB2193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3975D-F3D0-40D4-92CE-96E53C20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03ECD-4498-4797-8C8E-AB44AE5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4DC0D-0611-4329-93E9-267F16BC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7ABD9-E10C-495B-87B5-84118F2A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6D23E-8328-4E2C-A94C-D0030CC3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89412-28F3-4BC3-8691-427DDB1D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5450-D6FB-4CD1-BF32-DEFFD873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EEE3-B925-455B-8DF5-C7B3DA6A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DD10-D2B8-4385-89FB-395B5896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CBD7-6BD8-4361-B69D-6390AC0D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AEB1-D659-4937-AD8B-C3224940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3D22-5A01-4885-81BF-9E2B07E3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E945-4B5D-4D85-B298-1D22BE8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6FF3-82FE-48C4-A9E9-D0A6722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55DB-C138-4B73-B48A-0CBE86EA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1F72-EA11-492D-8BF6-CD7FB49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198D-C2E9-4AFC-8AA6-8117DAC0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0D5F-120D-45F3-94DB-61C7DD51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ABFF9-5BB6-415F-A089-3CB4790E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7A5D-56FC-48EA-BE08-53F06E05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B46B-BE9A-4647-BCC2-5B6B3CA0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CBEF-4E86-4ABD-9DF3-280FB083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B9A2-E669-4AC9-A103-1CA046DA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2412-9566-401C-A2E0-6B61A549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A977-393F-4319-AC6F-44CD994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0319-F4F1-4874-81A7-D074DCA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F3AA-60FB-4583-8251-527AF21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E2EF-F6EF-44DF-8703-654697DC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812EE-7C02-4A1A-B291-BAC5295B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B6CC-C2A6-40FB-B0E2-668D39AC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7E28-5E70-46DB-BC08-F17A91ED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95943-9DC8-410B-B792-887DE0AC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B8BC-2550-4D25-978D-D5AC5A24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11CFE-5435-40E0-8D7C-1E2482E9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CE01A-72EF-4AB8-9E1C-91BA3A3C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B074A-D6D6-40E0-B980-7A827056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01FD-1521-4363-B0B8-DD77C9EF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CA531-566F-4560-B8DD-195D964C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D7142-E81E-486A-957B-9ABA5AA4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0E596-3253-4666-9D46-877F2DF6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4B17-E3C7-490B-81F9-F05B12F8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8229-A90F-4F44-8286-20940D0C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0D5B7-3B77-41A9-AE43-2F84F020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A4396-606C-433F-B1BF-96A3B24C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D2D42-EFE4-438A-B456-EA7B48D3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F8C07-62D5-4E4B-A4B6-31868640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2DE1-1710-4B46-B78A-9A4BE47E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F1040-8FF2-4BD0-9B9A-BCAF7ED8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096A-51EF-447E-B8F6-C9535CA8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0F0F0-075A-4E8B-B2D3-4C7DFB26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C789-19FD-4636-A64B-E70B8E3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3B9B0-4624-4C33-AE5C-4AA2DBD2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14CF-0C3E-47D4-A49E-20D4F200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E8F47-BD5F-40B9-AB49-20450A7C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4DA1C-DB95-4786-B939-5FA6DE15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E7D2-102E-43C3-B75B-35E4326E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72B2-BDFE-4E3C-BE9E-367BB072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0E70-129D-48F0-A0E0-D399454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8A378-05EA-40C3-A59E-AC9BE882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E178A-3BE9-4479-A624-87B4F19F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0B5EF-34CA-4068-AEA9-9FF29271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35877-C779-4E1C-BADB-0E69EB7A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EFA03-8F83-4CAE-8318-D0B99CC3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02E63-0FF0-4149-B74F-37F43F2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7ACB1-DEB6-46D1-92AB-9B4F950E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C534C-A34E-4209-AB83-6B545469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D3FA3-635A-4367-BEFF-93DB5056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B08F-95FC-4557-AD58-03D935BD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903AA-C117-4ECF-88BA-A0216D32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3A87C-F8D1-47D5-8506-33664B6E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36F49-AA0B-4AD5-95A3-EC4CB085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8AB9F-036B-4BCC-B93A-41A8F061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1869-8956-400F-8C8A-EB5696AB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47D5F-C215-4976-9B62-EB9783EC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373B0-8319-42F7-A23B-C4BD9457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135A9-5D53-4740-8D10-7BA7FBFF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361BB-6C6A-448D-B79D-8E3A8C45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BE08-612D-4B8E-AECA-63580EA3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F0097-CEC6-4E96-A111-A3A8C026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00103-0B16-4413-9F69-452D9AE4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39BFE-8AB2-48A0-A265-60B58359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293A4-274D-4D4F-B6D0-5717C410D2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0017F-40FB-451E-A9EC-CA66E51B29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8B730-0069-4F87-9878-8C66DF01CC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6A70C-D2A0-4A14-80A5-E8CC1F7370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B3679-8CC6-4EB4-BF98-62CAFF6A1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E3D61-6B6B-41E3-8D97-EEE3CB20FC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660D5-A670-4310-9639-BD3EBB6A61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5CDCD-1575-4BE4-873D-D15B6A78C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51CCF-73DD-46A8-8CB5-5469F3A3E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FB9A7-076F-4ED9-97AD-161E57531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96D0B-AB62-44A3-A5CB-7F4C280C5C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tle 1"/>
          <p:cNvSpPr/>
          <p:nvPr/>
        </p:nvSpPr>
        <p:spPr>
          <a:xfrm>
            <a:off x="281160" y="2192400"/>
            <a:ext cx="8654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  <a:ea typeface="Times New Roman"/>
              </a:rPr>
              <a:t>International Geospatial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ubtitle 2"/>
          <p:cNvSpPr/>
          <p:nvPr/>
        </p:nvSpPr>
        <p:spPr>
          <a:xfrm>
            <a:off x="1395360" y="3876840"/>
            <a:ext cx="640080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Neil D. Wes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eputy Dir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Geodetic Survey, NOS, NOA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1"/>
          <p:cNvSpPr/>
          <p:nvPr/>
        </p:nvSpPr>
        <p:spPr>
          <a:xfrm>
            <a:off x="2049480" y="628668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ospatial Summit, April 13-14,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itle 1"/>
          <p:cNvSpPr/>
          <p:nvPr/>
        </p:nvSpPr>
        <p:spPr>
          <a:xfrm>
            <a:off x="457200" y="593640"/>
            <a:ext cx="82296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United Nations-Global Geospatial Information Managem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14280" y="2265480"/>
            <a:ext cx="871236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ed Nations General Assem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Co-sponsored by 52 Member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Supports sustainable development, policymaking, climate change monitoring, natural disaster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Will enable a wide range of applications - transportation, agriculture and co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itle 1"/>
          <p:cNvSpPr/>
          <p:nvPr/>
        </p:nvSpPr>
        <p:spPr>
          <a:xfrm>
            <a:off x="1322280" y="528480"/>
            <a:ext cx="70898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International Committee on Global Navigation Satellite Syste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1322280" y="1833480"/>
            <a:ext cx="755676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Nations Office for Outer Space Aff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558ed5"/>
                </a:solidFill>
                <a:latin typeface="Arial"/>
              </a:rPr>
              <a:t>Compatibility and Interoper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B </a:t>
            </a:r>
            <a:br>
              <a:rPr sz="2400"/>
            </a:br>
            <a:r>
              <a:rPr b="0" i="1" lang="en-US" sz="2400" spc="-1" strike="noStrike">
                <a:solidFill>
                  <a:srgbClr val="558ed5"/>
                </a:solidFill>
                <a:latin typeface="Arial"/>
              </a:rPr>
              <a:t>Enhancing Performance of GNSS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 </a:t>
            </a:r>
            <a:br>
              <a:rPr sz="2400"/>
            </a:br>
            <a:r>
              <a:rPr b="0" i="1" lang="en-US" sz="2400" spc="-1" strike="noStrike">
                <a:solidFill>
                  <a:srgbClr val="558ed5"/>
                </a:solidFill>
                <a:latin typeface="Arial"/>
              </a:rPr>
              <a:t>Information Dissemination and Capacity Buil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D </a:t>
            </a:r>
            <a:br>
              <a:rPr sz="2400"/>
            </a:br>
            <a:r>
              <a:rPr b="0" i="1" lang="en-US" sz="2400" spc="-1" strike="noStrike">
                <a:solidFill>
                  <a:srgbClr val="558ed5"/>
                </a:solidFill>
                <a:latin typeface="Arial"/>
              </a:rPr>
              <a:t>Reference Frames, Timing and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4" descr="GNSS.jpg"/>
          <p:cNvPicPr/>
          <p:nvPr/>
        </p:nvPicPr>
        <p:blipFill>
          <a:blip r:embed="rId1"/>
          <a:stretch/>
        </p:blipFill>
        <p:spPr>
          <a:xfrm>
            <a:off x="8023320" y="6022800"/>
            <a:ext cx="105552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itle 1"/>
          <p:cNvSpPr/>
          <p:nvPr/>
        </p:nvSpPr>
        <p:spPr>
          <a:xfrm>
            <a:off x="1057320" y="266760"/>
            <a:ext cx="70898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U.S. Group on Earth Observation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684360" y="1284120"/>
            <a:ext cx="7835760" cy="54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e, plan and assess Federal Earth observation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ons spent on Earth observations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558ed5"/>
                </a:solidFill>
                <a:latin typeface="Arial"/>
              </a:rPr>
              <a:t>Federal, State and local governments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Systems</a:t>
            </a:r>
            <a:br>
              <a:rPr sz="2400"/>
            </a:br>
            <a:r>
              <a:rPr b="0" i="1" lang="en-US" sz="2400" spc="-1" strike="noStrike">
                <a:solidFill>
                  <a:srgbClr val="558ed5"/>
                </a:solidFill>
                <a:latin typeface="Arial"/>
              </a:rPr>
              <a:t>Collect data to monitor environment and Earth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br>
              <a:rPr sz="2400"/>
            </a:br>
            <a:r>
              <a:rPr b="0" i="1" lang="en-US" sz="2400" spc="-1" strike="noStrike">
                <a:solidFill>
                  <a:srgbClr val="558ed5"/>
                </a:solidFill>
                <a:latin typeface="Arial"/>
              </a:rPr>
              <a:t>Contribute to models, simulations and information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br>
              <a:rPr sz="2400"/>
            </a:br>
            <a:r>
              <a:rPr b="0" i="1" lang="en-US" sz="2400" spc="-1" strike="noStrike">
                <a:solidFill>
                  <a:srgbClr val="558ed5"/>
                </a:solidFill>
                <a:latin typeface="Arial"/>
              </a:rPr>
              <a:t>Climate &amp; weather, disasters, land-use change, ecosystem heal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38120" y="2341440"/>
            <a:ext cx="822960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ubtitle 2"/>
          <p:cNvSpPr/>
          <p:nvPr/>
        </p:nvSpPr>
        <p:spPr>
          <a:xfrm>
            <a:off x="1395360" y="4268880"/>
            <a:ext cx="64008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eil Wes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01-713-32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457200" y="1760400"/>
            <a:ext cx="84326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national Association of Geodesy </a:t>
            </a:r>
            <a:r>
              <a:rPr b="0" i="1" lang="en-US" sz="3200" spc="-1" strike="noStrike">
                <a:solidFill>
                  <a:srgbClr val="558ed5"/>
                </a:solidFill>
                <a:latin typeface="Calibri"/>
              </a:rPr>
              <a:t>I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ed Nations Global Geospatial Information Management </a:t>
            </a:r>
            <a:r>
              <a:rPr b="0" i="1" lang="en-US" sz="3200" spc="-1" strike="noStrike">
                <a:solidFill>
                  <a:srgbClr val="558ed5"/>
                </a:solidFill>
                <a:latin typeface="Calibri"/>
              </a:rPr>
              <a:t>UN-GG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national Committee on Global Navigation Satellite Systems </a:t>
            </a:r>
            <a:r>
              <a:rPr b="0" i="1" lang="en-US" sz="3200" spc="-1" strike="noStrike">
                <a:solidFill>
                  <a:srgbClr val="558ed5"/>
                </a:solidFill>
                <a:latin typeface="Calibri"/>
              </a:rPr>
              <a:t>IC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 Group on Earth Observations </a:t>
            </a:r>
            <a:r>
              <a:rPr b="0" i="1" lang="en-US" sz="3200" spc="-1" strike="noStrike">
                <a:solidFill>
                  <a:srgbClr val="558ed5"/>
                </a:solidFill>
                <a:latin typeface="Calibri"/>
              </a:rPr>
              <a:t>USG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itle 1"/>
          <p:cNvSpPr/>
          <p:nvPr/>
        </p:nvSpPr>
        <p:spPr>
          <a:xfrm>
            <a:off x="1112760" y="593640"/>
            <a:ext cx="7574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International Association of Geodes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1112760" y="1833480"/>
            <a:ext cx="75740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ission 1: Reference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Definitions, establishments, maintenance, and improvements 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of geodetic reference fr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Advance terrestrial and space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observation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International collaboration for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deployment of geodetic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8163000" y="5929200"/>
            <a:ext cx="84780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itle 1"/>
          <p:cNvSpPr/>
          <p:nvPr/>
        </p:nvSpPr>
        <p:spPr>
          <a:xfrm>
            <a:off x="1112760" y="593640"/>
            <a:ext cx="7574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International Association of Geodes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1112760" y="1833480"/>
            <a:ext cx="7574040" cy="36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ission 1: Reference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Collaboration with international services and geodetic agencies on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space geodesy 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 reference fr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Maintain 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 improve 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a reference frame that is important for global change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itle 1"/>
          <p:cNvSpPr/>
          <p:nvPr/>
        </p:nvSpPr>
        <p:spPr>
          <a:xfrm>
            <a:off x="457200" y="593640"/>
            <a:ext cx="82296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International Association of Geodes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57320" y="1809720"/>
            <a:ext cx="8874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Frames for Applications in Geosci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Theory and Con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Measurement accu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Station position time vari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Geodetic Measurement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SLR, VLBI, Doris, GN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Strengths and 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Geophysical model limi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1" descr="networkDGPS.jpg"/>
          <p:cNvPicPr/>
          <p:nvPr/>
        </p:nvPicPr>
        <p:blipFill>
          <a:blip r:embed="rId1"/>
          <a:stretch/>
        </p:blipFill>
        <p:spPr>
          <a:xfrm>
            <a:off x="8096400" y="5808600"/>
            <a:ext cx="93492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itle 1"/>
          <p:cNvSpPr/>
          <p:nvPr/>
        </p:nvSpPr>
        <p:spPr>
          <a:xfrm>
            <a:off x="457200" y="593640"/>
            <a:ext cx="82296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International Association of Geodes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157320" y="1809720"/>
            <a:ext cx="8889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Frames for Applications in Geosci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Regional Reference Fr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Role of sub-global reference fr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Coordinating national and regional eff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Reference Frames in Geosc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Societal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Scientific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itle 1"/>
          <p:cNvSpPr/>
          <p:nvPr/>
        </p:nvSpPr>
        <p:spPr>
          <a:xfrm>
            <a:off x="457200" y="593640"/>
            <a:ext cx="82296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United Nations-Global Geospatial Information Managem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31920" y="2265480"/>
            <a:ext cx="856908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 and Objectives of UN-G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Development of a global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geodetic reference 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Development of a global map for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sustainable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Geospatial information 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to support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Develop a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knowledge base 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for geospati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" descr=""/>
          <p:cNvPicPr/>
          <p:nvPr/>
        </p:nvPicPr>
        <p:blipFill>
          <a:blip r:embed="rId1"/>
          <a:stretch/>
        </p:blipFill>
        <p:spPr>
          <a:xfrm>
            <a:off x="8167680" y="5900760"/>
            <a:ext cx="82548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itle 1"/>
          <p:cNvSpPr/>
          <p:nvPr/>
        </p:nvSpPr>
        <p:spPr>
          <a:xfrm>
            <a:off x="457200" y="593640"/>
            <a:ext cx="82296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United Nations-Global Geospatial Information Managem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39840" y="2265480"/>
            <a:ext cx="86868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 and Objectives of UN-G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Creation and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adoption of standards 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for geospatial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Legal and policy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 frameworks for critical data; priv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Identify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fundamental data sets </a:t>
            </a: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and corresponding meta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Define principles on 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</a:rPr>
              <a:t>managing geospatia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itle 1"/>
          <p:cNvSpPr/>
          <p:nvPr/>
        </p:nvSpPr>
        <p:spPr>
          <a:xfrm>
            <a:off x="457200" y="593640"/>
            <a:ext cx="82296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libri"/>
              </a:rPr>
              <a:t>United Nations-Global Geospatial Information Managemen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4280" y="1838160"/>
            <a:ext cx="8712360" cy="36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ed Nations General Assem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Adopted first resolution recognizing the importance of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globally-coordinated approach to geode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Arial"/>
              </a:rPr>
              <a:t>Resolution – “A Global Geodetic Reference Frame for Sustainable Developmen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4" descr=""/>
          <p:cNvPicPr/>
          <p:nvPr/>
        </p:nvPicPr>
        <p:blipFill>
          <a:blip r:embed="rId1"/>
          <a:stretch/>
        </p:blipFill>
        <p:spPr>
          <a:xfrm>
            <a:off x="6888240" y="5711760"/>
            <a:ext cx="213840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2:31:45Z</dcterms:created>
  <dc:creator>neil.d.weston</dc:creator>
  <dc:description/>
  <dc:language>en-US</dc:language>
  <cp:lastModifiedBy>Brett Howe - NGS</cp:lastModifiedBy>
  <cp:lastPrinted>2014-09-15T12:04:58Z</cp:lastPrinted>
  <dcterms:modified xsi:type="dcterms:W3CDTF">2015-04-10T17:21:24Z</dcterms:modified>
  <cp:revision>281</cp:revision>
  <dc:subject/>
  <dc:title>Slide 1</dc:title>
</cp:coreProperties>
</file>