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2200" cy="3481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0032-0DBB-4887-BAF3-253CC158F1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49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5F6-395C-474E-9C22-0D792C66D0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52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9EF-5FA6-43FC-B65C-30E4DE25E3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55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B08C-74D2-4325-87A6-FFBFFB3328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e’ll close the webinar with questions from the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y will be “typed” and read aloud in the meeting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fter the webinar, the audience can complete a survey that as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hat is your profession? (e.g. land survey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was the info in the webinar appropriately technical in na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ow satisfied were you with the webin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do you have suggestions for future webin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74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1EC-5FFF-4552-B20D-FBC78AF44C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otential outline and speaker assignments; can be adjusted 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108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C84-D42C-4F2F-B9A5-2DA8C335D0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High level summary numbers from the Sum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11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6845-A746-4FB0-80FA-70E6289B39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Both charts combine information about our in-person and remote attend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first chart (left) is based on the voluntary evaluation form that everyone had the opportunity to complete. (Dissatisfaction was unique to a technical issue for remote attende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second chart (right) is based on aggregating some registration data, when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hape 128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622B-F1FD-45BC-BE8C-AEE9875C23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se high-level issues were all brought up in multiple presentations from our stakeholders at the Summ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y are consistent with what is included in the Summit Repo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re were many other items that each stakeholder brought up that were more unique to his or her particular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36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B88-BDB7-4B2B-9F2B-6418B92982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se were reported in the Summit Report as “actions” or “next-steps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hey are relatively high level, and they seemed logical and implicitly agreed upon at the Sum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44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974-8C7C-46AA-9DDD-F515B00AEE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40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2C8-E727-4388-B47C-E8051E18CB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43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AA13-D018-47D5-9BBF-2C84A95904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146" name="Shape 151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A48A-D3F6-49D0-AE73-AF925F3015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5D1-0BBE-4068-8C1D-8AA96AFD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CF0-9CB5-4F56-A796-941159A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AD3-3DAB-4E89-88B4-344EEDBD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5AE-70ED-4A73-BD26-322BB13F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5272-9F10-4CFD-8888-7DD87CF0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FA8-9DC0-4B0B-9B29-71D18056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7A0-9428-48B5-B482-2E34F24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18A3-86C0-4E77-A4A6-AB13F49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50F3-CC91-4F6F-8D82-4152879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F89-F819-4665-988F-D9283B5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1249-74F1-499E-BE94-FF25C4B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BF7-0687-4CCB-9BA2-6A176A1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9540-FB12-4419-B3AA-9013451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05C4-6359-48BD-8542-F1B143B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0D4C-985B-42AC-A64D-52B3B2E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6907-B45B-4281-98FC-2A5E1629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523-6D53-4F2D-BA9D-6884BD8D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46D-05CC-4255-95D2-C375A14B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598-4295-4C0B-8333-8FAF945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062-A479-4BED-90CB-557CD0F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0E6-1877-4CFA-9F1B-E1D7429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3EC-057A-42CB-B672-285F896D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AA0-B9DC-4E24-84B0-76CE3C6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3E5-8556-45E8-8C2E-7C3D1FD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7E3F-9C17-422E-8DBB-63DFAC17C272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C72-5D74-4C1D-92EF-261647EE7FE1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hape 97"/>
          <p:cNvSpPr/>
          <p:nvPr/>
        </p:nvSpPr>
        <p:spPr>
          <a:xfrm>
            <a:off x="66600" y="2082960"/>
            <a:ext cx="8944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riefing the Geospatial Sum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98"/>
          <p:cNvSpPr/>
          <p:nvPr/>
        </p:nvSpPr>
        <p:spPr>
          <a:xfrm>
            <a:off x="262080" y="2957400"/>
            <a:ext cx="8619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 Monthly Webinar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0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ild an NSRS Data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GS IDB was built for time-invariant coordinates derived from terrestrial survey techniques (traverse, leveling and monumented gravity data).  Since then, all space-geodesy observations (GNSS, etc) have been forced into a database incapable, at its very core, of fully housing all of the scientific information contained in such observations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new NSRS data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buil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rving the best of the NGS ID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scarding the assumptions of the past, in order to serve the new reference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:  Krishna Tadepa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Completion:  October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oid Monitoring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nitor and measure geoid changes at decadal and larger scales and apply them to the new geopotential referenc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:  Dr. Theresa Dam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Completion:  September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US-Projects to NGS I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velop a val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placement for GPS blueboo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OPUS-Projects at its co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:  Dr. Mark Schene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2860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Completion:  Jul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5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hape 170"/>
          <p:cNvSpPr/>
          <p:nvPr/>
        </p:nvSpPr>
        <p:spPr>
          <a:xfrm>
            <a:off x="38160" y="4265640"/>
            <a:ext cx="8853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today’s Recorded Webinar (video will be posted within 1-2 weeks)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ngs.noaa.gov/web/science_edu/webinar_series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Summit Materi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geodesy.noaa.gov/2015GeospatialSummit/</a:t>
            </a:r>
            <a:r>
              <a:rPr b="0" lang="en-US" sz="1800" spc="-1" strike="noStrike" u="sng">
                <a:solidFill>
                  <a:srgbClr val="99999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&amp; Pres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ing the Geospatial Summ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08000">
              <a:lnSpc>
                <a:spcPct val="15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tt Howe and Christine Galla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ing to Feedback / Tracking Progress since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08000">
              <a:lnSpc>
                <a:spcPct val="15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 Smith and Joe Ev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 poll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08000">
              <a:lnSpc>
                <a:spcPct val="150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l Weston and Christine Galla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from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 Geospatial Sum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Attendees: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ers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a webin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and Can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Now Online: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s, presentations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repo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geodesy.noaa.gov/2015GeospatialSummit/</a:t>
            </a:r>
            <a:r>
              <a:rPr b="1" lang="en-US" sz="2200" spc="-1" strike="noStrike" u="sng">
                <a:solidFill>
                  <a:srgbClr val="999999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hape 112" descr=""/>
          <p:cNvPicPr/>
          <p:nvPr/>
        </p:nvPicPr>
        <p:blipFill>
          <a:blip r:embed="rId1"/>
          <a:stretch/>
        </p:blipFill>
        <p:spPr>
          <a:xfrm>
            <a:off x="565200" y="4219560"/>
            <a:ext cx="784548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Shape 113" descr=""/>
          <p:cNvPicPr/>
          <p:nvPr/>
        </p:nvPicPr>
        <p:blipFill>
          <a:blip r:embed="rId2"/>
          <a:srcRect l="0" t="12141" r="16826" b="0"/>
          <a:stretch/>
        </p:blipFill>
        <p:spPr>
          <a:xfrm>
            <a:off x="5718240" y="1401840"/>
            <a:ext cx="275436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it Attend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hape 120" descr=""/>
          <p:cNvPicPr/>
          <p:nvPr/>
        </p:nvPicPr>
        <p:blipFill>
          <a:blip r:embed="rId1"/>
          <a:stretch/>
        </p:blipFill>
        <p:spPr>
          <a:xfrm>
            <a:off x="4730760" y="2421000"/>
            <a:ext cx="4086360" cy="4297320"/>
          </a:xfrm>
          <a:prstGeom prst="rect">
            <a:avLst/>
          </a:prstGeom>
          <a:ln w="0">
            <a:noFill/>
          </a:ln>
        </p:spPr>
      </p:pic>
      <p:pic>
        <p:nvPicPr>
          <p:cNvPr id="99" name="Shape 121" descr=""/>
          <p:cNvPicPr/>
          <p:nvPr/>
        </p:nvPicPr>
        <p:blipFill>
          <a:blip r:embed="rId2"/>
          <a:stretch/>
        </p:blipFill>
        <p:spPr>
          <a:xfrm>
            <a:off x="182520" y="2436840"/>
            <a:ext cx="4338720" cy="4265640"/>
          </a:xfrm>
          <a:prstGeom prst="rect">
            <a:avLst/>
          </a:prstGeom>
          <a:ln w="0">
            <a:noFill/>
          </a:ln>
        </p:spPr>
      </p:pic>
      <p:sp>
        <p:nvSpPr>
          <p:cNvPr id="100" name="Shape 122"/>
          <p:cNvSpPr/>
          <p:nvPr/>
        </p:nvSpPr>
        <p:spPr>
          <a:xfrm>
            <a:off x="182520" y="1293840"/>
            <a:ext cx="433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, how satisfied wer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event? (n=1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hape 123"/>
          <p:cNvSpPr/>
          <p:nvPr/>
        </p:nvSpPr>
        <p:spPr>
          <a:xfrm>
            <a:off x="4730760" y="1293840"/>
            <a:ext cx="408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by s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=3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hape 124"/>
          <p:cNvCxnSpPr/>
          <p:nvPr/>
        </p:nvCxnSpPr>
        <p:spPr>
          <a:xfrm>
            <a:off x="4625640" y="1579320"/>
            <a:ext cx="1080" cy="5166360"/>
          </a:xfrm>
          <a:prstGeom prst="straightConnector1">
            <a:avLst/>
          </a:prstGeom>
          <a:ln w="19080">
            <a:solidFill>
              <a:srgbClr val="999999"/>
            </a:solidFill>
            <a:prstDash val="dash"/>
            <a:miter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from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3753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ees expressed need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-friendly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transformation tools or routin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ilt into a modern programming langu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ommercial GPS, geoprocessing, and GIS vendors to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integrate these transformation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t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communic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NGS, whether through bi-annual summits or more regular webina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training and tutori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vering specifics about datum transformations, but also geodesy basic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5480" y="1510920"/>
            <a:ext cx="3753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ees request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Formal publ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bing the differences between NAD 83 / NAVD 88 and the new datums / reference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ees recommend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PS distribute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sample langu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update state legislation that references NAD 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-aways” from Sum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3753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 plan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formal project pl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communications pla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utline all related activities between 2015 and adopting the new reference fra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frequenc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recurring large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summi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 be supplemented by other communication eff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Communicate as policies are adopt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NGS regarding the definition or access to the new reference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improvement to the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Geodetic Toolk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 anticipation of a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geospatially enabled databas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robust transformation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480" y="1510920"/>
            <a:ext cx="37530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ents are encouraged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98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Provide feedba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continue to engage with NOAA and NGS through summits and other eff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98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Engage with professional societ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st take advantage of their communication networks that translate to the state and local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ownership of this project of transitioning to the new datums, tackling challenges related to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data manage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isting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 and </a:t>
            </a:r>
            <a:r>
              <a:rPr b="1" lang="en-US" sz="1600" spc="-1" strike="noStrike">
                <a:solidFill>
                  <a:srgbClr val="980000"/>
                </a:solidFill>
                <a:latin typeface="Times New Roman"/>
                <a:ea typeface="Times New Roman"/>
              </a:rPr>
              <a:t>share your dat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opportunities ari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 has begun a new project entitled “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ometric Transformation Consist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scheduled to conclude in the summer of 2016, with the following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all inconsistencies between GEOCON and NAD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ng various missteps in the creation of NAD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a seamless transformation from USSD through     NAD 83(2011/MA11/PA11) without resorting to grids for individual states or separate pieces of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documenting the entir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the entire suite of transformation tools available online via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w Geodetic Toolk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 has expand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Datums (truly “New Reference Frames”)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our progress” button now cont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1560" indent="-38088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miles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71560" indent="-38088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ly updates, beginning in September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 since Ap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1092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namic Heights from G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GLD2020 (replacing IGLD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: Dr. Daniel R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Completion:  October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0">
              <a:lnSpc>
                <a:spcPct val="11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thematical connection between IGSxx and New Geometric 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which mathematical model will be used to connect the foundational IGS frame and the new frame (or frames) of the modernized N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Manager: Dr. Neil We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71560" indent="-228600">
              <a:lnSpc>
                <a:spcPct val="115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ed Completion:  April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u Smith</dc:creator>
  <dc:description/>
  <dc:language>en-US</dc:language>
  <cp:lastModifiedBy>Christine Gallagher</cp:lastModifiedBy>
  <dcterms:modified xsi:type="dcterms:W3CDTF">2015-09-10T12:45:17Z</dcterms:modified>
  <cp:revision>6</cp:revision>
  <dc:subject/>
  <dc:title>Potential Ice-breaker questions: will be entered into PollEverywhere</dc:title>
</cp:coreProperties>
</file>