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1D1-EF1E-440A-AE59-BF77E341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E23-F679-40CA-9BAD-B7F5325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43D-6182-4871-9A0B-322C0387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C8A-F459-490C-BF10-1C853D5A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2AB-A172-430D-B065-D9178A2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40E-670B-4A58-9093-23F80D64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42A-436D-40AB-859B-E4A76DD1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323-9CAC-4D11-9097-C360389C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68F-4AFB-4E74-B0F8-D7C109F0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911-17AD-4AF8-9B4A-84BF5280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A81-86C3-4A3A-8E29-1BB28FA6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767-F92C-4B05-B3A7-3D41FBC1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F33-3A52-4A55-B062-D8CC062DB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70200" y="5234040"/>
            <a:ext cx="547344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ake Griffith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&amp; Jim Ray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AA/National Geodetic Survey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cknowledgement: Kevin Choi</a:t>
            </a:r>
            <a:endParaRPr b="1" lang="en-US" sz="1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63280" y="287280"/>
            <a:ext cx="748836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SUBDAILY ALIAS AND DRACONITIC ERRORS IN THE IGS ORB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74600" y="1517760"/>
            <a:ext cx="7290000" cy="34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401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Harmonics of 351 d evident in all IGS products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origin still unknown:  local multipath or GPS orbits ?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Study orbital </a:t>
            </a: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response</a:t>
            </a: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 due to IERS diurnal &amp; semi-diurnal (subdaily) EOP </a:t>
            </a:r>
            <a:r>
              <a:rPr b="1" sz="2200" spc="-1" strike="noStrike">
                <a:solidFill>
                  <a:srgbClr val="3333cc"/>
                </a:solidFill>
                <a:latin typeface="Calibri"/>
                <a:ea typeface="Arial"/>
              </a:rPr>
              <a:t>tide errors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simulate response: compare conventional orbits to those determined using pseudo real-Earth (“fake”) model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beating of subdaily tides causes signatures at other period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compare signatures with IGS orbit discontinuity result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Subdaily model errors enter orbits at various periods, including odd harmonics of 351 d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24 h sampling causes input errors to alias at unexpected period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1349280" y="6541920"/>
            <a:ext cx="642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GU Fall 2011, Session G54A-01, San Francisco, 9 December 2011</a:t>
            </a:r>
            <a:endParaRPr b="1" lang="en-US" sz="14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45" name="Picture 7" descr="ngs_logo.tif"/>
          <p:cNvPicPr/>
          <p:nvPr/>
        </p:nvPicPr>
        <p:blipFill>
          <a:blip r:embed="rId1"/>
          <a:stretch/>
        </p:blipFill>
        <p:spPr>
          <a:xfrm>
            <a:off x="7667640" y="537372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250px-NOAA.png"/>
          <p:cNvPicPr/>
          <p:nvPr/>
        </p:nvPicPr>
        <p:blipFill>
          <a:blip r:embed="rId2"/>
          <a:stretch/>
        </p:blipFill>
        <p:spPr>
          <a:xfrm>
            <a:off x="34920" y="5265720"/>
            <a:ext cx="15494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subdeop-orbtest-spec2.tif"/>
          <p:cNvPicPr/>
          <p:nvPr/>
        </p:nvPicPr>
        <p:blipFill>
          <a:blip r:embed="rId1"/>
          <a:stretch/>
        </p:blipFill>
        <p:spPr>
          <a:xfrm>
            <a:off x="1185840" y="1701720"/>
            <a:ext cx="6821640" cy="488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52280" y="915840"/>
            <a:ext cx="86918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at semi-diurnal period, EOP model errors absorbed mostly into orbit radial (via Kepler’s 3</a:t>
            </a:r>
            <a:r>
              <a:rPr b="1" lang="en-GB" sz="2400" spc="-1" strike="noStrike" baseline="30000">
                <a:solidFill>
                  <a:srgbClr val="3333cc"/>
                </a:solidFill>
                <a:latin typeface="Calibri"/>
              </a:rPr>
              <a:t>rd</a:t>
            </a: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 law)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6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349740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 rot="16200000">
            <a:off x="-722880" y="404028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3348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of Orbital Responses to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ubdaily EOP Errors – Near 2 cpd</a:t>
            </a:r>
            <a:endParaRPr b="1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52280" y="779400"/>
            <a:ext cx="869184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Basic problem is lack of an independent “truth” for IGS orbit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but can compute discontinuities between daily orbit set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oing so aliases subdaily differences into longer-period signal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to compare, also compute EOP-induced orbit differences once dail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2d2db9"/>
                </a:solidFill>
                <a:uFillTx/>
                <a:latin typeface="Calibri"/>
              </a:rPr>
              <a:t>IGS ORBIT JUMP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fit orbits for each day with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BERNE (6+9) orbit model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parameterize fit as                            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plu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 SRPs per SV component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fit 96 SP3 orbit positions for each SV as pseudo-observations for Day A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propagate fit forward to 23:52:30 for Day A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repeat for Day B &amp; propagate backwards to 23:52:30 of day before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ute IGS orbit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jumps at 23:52:30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2d2db9"/>
                </a:solidFill>
                <a:uFillTx/>
                <a:latin typeface="Calibri"/>
              </a:rPr>
              <a:t>SIMULATED EOP SIGNATURE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ifference conventional &amp; EOP-test orbits at 23:45:00 onl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Compute IGS orbit jumps over ~5.6 yr, test orbits over ~2.8 yr 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ompare Simulated EOP Signatures with IGS Orb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7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2"/>
              <p:cNvSpPr txBox="1"/>
              <p:nvPr/>
            </p:nvSpPr>
            <p:spPr>
              <a:xfrm>
                <a:off x="3011400" y="3164040"/>
                <a:ext cx="1446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14" name="Group 7"/>
          <p:cNvGrpSpPr/>
          <p:nvPr/>
        </p:nvGrpSpPr>
        <p:grpSpPr>
          <a:xfrm>
            <a:off x="4730760" y="2233440"/>
            <a:ext cx="4240080" cy="1365480"/>
            <a:chOff x="4730760" y="2233440"/>
            <a:chExt cx="4240080" cy="1365480"/>
          </a:xfrm>
        </p:grpSpPr>
        <p:pic>
          <p:nvPicPr>
            <p:cNvPr id="115" name="Picture 3" descr="fit-extrap.tif"/>
            <p:cNvPicPr/>
            <p:nvPr/>
          </p:nvPicPr>
          <p:blipFill>
            <a:blip r:embed="rId1"/>
            <a:stretch/>
          </p:blipFill>
          <p:spPr>
            <a:xfrm>
              <a:off x="4730760" y="2233440"/>
              <a:ext cx="4240080" cy="1365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6" name="Straight Arrow Connector 10"/>
            <p:cNvCxnSpPr/>
            <p:nvPr/>
          </p:nvCxnSpPr>
          <p:spPr>
            <a:xfrm flipH="1" flipV="1">
              <a:off x="6514200" y="2963160"/>
              <a:ext cx="3600" cy="3204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CAL-ALL-SM-IG1-acr-45-xpower-a.tif"/>
          <p:cNvPicPr/>
          <p:nvPr/>
        </p:nvPicPr>
        <p:blipFill>
          <a:blip r:embed="rId1"/>
          <a:stretch/>
        </p:blipFill>
        <p:spPr>
          <a:xfrm>
            <a:off x="1201680" y="1673280"/>
            <a:ext cx="6821640" cy="4897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for IGS orbit jumps &amp; EOP-test orbit di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8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497400" y="653580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 rot="16200000">
            <a:off x="-722880" y="400716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52280" y="595440"/>
            <a:ext cx="886320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IGS orbit jumps computed from Berne model fit to adjacent day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970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ute spectra for each SV orbit jump set, stack &amp; smooth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970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alibrated” for errors due to (fit + extrapolation) method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97040" indent="-339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AL-ALL-SM-IG1-acr-45-xpower-a.tif"/>
          <p:cNvPicPr/>
          <p:nvPr/>
        </p:nvPicPr>
        <p:blipFill>
          <a:blip r:embed="rId1"/>
          <a:stretch/>
        </p:blipFill>
        <p:spPr>
          <a:xfrm>
            <a:off x="1201680" y="1673280"/>
            <a:ext cx="6821640" cy="4897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52280" y="598320"/>
            <a:ext cx="886320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background power follows ~flicker noise on seasonal time scale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bands at 29, 14, 9 &amp; 7 d; peaks offset from expected period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excitation at harmonics of GPS draconitic year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8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3497400" y="653580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7" name="Rectangle 16"/>
          <p:cNvSpPr/>
          <p:nvPr/>
        </p:nvSpPr>
        <p:spPr>
          <a:xfrm rot="16200000">
            <a:off x="-722880" y="400716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762520" y="2968560"/>
            <a:ext cx="447840" cy="174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862600" y="5021280"/>
            <a:ext cx="15670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most peaks in ~29, ~14, ~9 and ~7 d bands do not coincide with aliases of subdaily EOP tidal errors for simple daily sampling</a:t>
            </a: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6238800" y="3540240"/>
            <a:ext cx="306360" cy="1193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6524640" y="3611520"/>
            <a:ext cx="306360" cy="1193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2655720" y="3919680"/>
            <a:ext cx="1567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peaks at mostly odd harmonics of GPS draconitic</a:t>
            </a: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1440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for IGS orbit jumps &amp; EOP-test orbit dif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Oval 18" descr=""/>
          <p:cNvPicPr/>
          <p:nvPr/>
        </p:nvPicPr>
        <p:blipFill>
          <a:blip r:embed="rId2"/>
          <a:stretch/>
        </p:blipFill>
        <p:spPr>
          <a:xfrm>
            <a:off x="3425760" y="2597040"/>
            <a:ext cx="1951200" cy="1573200"/>
          </a:xfrm>
          <a:prstGeom prst="rect">
            <a:avLst/>
          </a:prstGeom>
          <a:ln w="0">
            <a:noFill/>
          </a:ln>
        </p:spPr>
      </p:pic>
      <p:sp>
        <p:nvSpPr>
          <p:cNvPr id="135" name="Oval 19"/>
          <p:cNvSpPr/>
          <p:nvPr/>
        </p:nvSpPr>
        <p:spPr>
          <a:xfrm>
            <a:off x="5106960" y="2622600"/>
            <a:ext cx="447840" cy="206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4" descr="CAL-ALL-SM-IG1-acr-45-xpower-b.tif"/>
          <p:cNvPicPr/>
          <p:nvPr/>
        </p:nvPicPr>
        <p:blipFill>
          <a:blip r:embed="rId1"/>
          <a:stretch/>
        </p:blipFill>
        <p:spPr>
          <a:xfrm>
            <a:off x="1201680" y="1673280"/>
            <a:ext cx="6821640" cy="4897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8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497400" y="653580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9" name="Rectangle 16"/>
          <p:cNvSpPr/>
          <p:nvPr/>
        </p:nvSpPr>
        <p:spPr>
          <a:xfrm rot="16200000">
            <a:off x="-722880" y="400716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280" y="595440"/>
            <a:ext cx="8863200" cy="60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conventional GPS orbits using IERS model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EOP-test orbits using pseudo real-Earth (“fake”) model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spectra of orbit differences computed at 23:45:00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-1440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for IGS orbit jumps &amp; EOP-test orbit diffs</a:t>
            </a:r>
            <a:endParaRPr b="1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354400" y="5584680"/>
            <a:ext cx="186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background power is relatively flat, with bumps at seasonal time scales</a:t>
            </a: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4" descr="CAL-ALL-SM-IG1-acr-45-xpower-b.tif"/>
          <p:cNvPicPr/>
          <p:nvPr/>
        </p:nvPicPr>
        <p:blipFill>
          <a:blip r:embed="rId1"/>
          <a:stretch/>
        </p:blipFill>
        <p:spPr>
          <a:xfrm>
            <a:off x="1201680" y="1673280"/>
            <a:ext cx="6821640" cy="4897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152280" y="598320"/>
            <a:ext cx="869184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offset peaks in ~14, ~9 and ~7 bands due to simple daily sampling of input error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8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497400" y="653580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 rot="16200000">
            <a:off x="-722880" y="400716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-1440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for IGS orbit jumps &amp; EOP-test orbit diffs</a:t>
            </a:r>
            <a:endParaRPr b="1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5762520" y="2968560"/>
            <a:ext cx="447840" cy="2754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6238800" y="3540240"/>
            <a:ext cx="306360" cy="2141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6524640" y="3611520"/>
            <a:ext cx="306360" cy="2103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4" descr="CAL-ALL-SM-IG1-acr-45-xpower-b.tif"/>
          <p:cNvPicPr/>
          <p:nvPr/>
        </p:nvPicPr>
        <p:blipFill>
          <a:blip r:embed="rId1"/>
          <a:stretch/>
        </p:blipFill>
        <p:spPr>
          <a:xfrm>
            <a:off x="1201680" y="1673280"/>
            <a:ext cx="6821640" cy="4897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152280" y="598320"/>
            <a:ext cx="869184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aliasing subdaily errors responsible for some harmonics of 351 d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970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peaks at other harmonics likely caused by aliasing of other error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8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3497400" y="653580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 rot="16200000">
            <a:off x="-722880" y="400716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cxnSp>
        <p:nvCxnSpPr>
          <p:cNvPr id="157" name="Straight Arrow Connector 22"/>
          <p:cNvCxnSpPr/>
          <p:nvPr/>
        </p:nvCxnSpPr>
        <p:spPr>
          <a:xfrm flipV="1">
            <a:off x="3338280" y="3369960"/>
            <a:ext cx="50076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Box 26"/>
          <p:cNvSpPr/>
          <p:nvPr/>
        </p:nvSpPr>
        <p:spPr>
          <a:xfrm>
            <a:off x="1743120" y="3701880"/>
            <a:ext cx="164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4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&amp;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harmonics also caused by subdaily EOP errors</a:t>
            </a: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</p:txBody>
      </p:sp>
      <p:cxnSp>
        <p:nvCxnSpPr>
          <p:cNvPr id="159" name="Straight Arrow Connector 27"/>
          <p:cNvCxnSpPr/>
          <p:nvPr/>
        </p:nvCxnSpPr>
        <p:spPr>
          <a:xfrm>
            <a:off x="3340080" y="3962160"/>
            <a:ext cx="381600" cy="40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Rectangle 2"/>
          <p:cNvSpPr/>
          <p:nvPr/>
        </p:nvSpPr>
        <p:spPr>
          <a:xfrm>
            <a:off x="0" y="-14400"/>
            <a:ext cx="9144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for IGS orbit jumps &amp; EOP-test orbit diffs</a:t>
            </a:r>
            <a:endParaRPr b="1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cxnSp>
        <p:nvCxnSpPr>
          <p:cNvPr id="161" name="Straight Arrow Connector 19"/>
          <p:cNvCxnSpPr/>
          <p:nvPr/>
        </p:nvCxnSpPr>
        <p:spPr>
          <a:xfrm>
            <a:off x="3349800" y="3976200"/>
            <a:ext cx="1775520" cy="13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Straight Arrow Connector 11"/>
          <p:cNvCxnSpPr/>
          <p:nvPr/>
        </p:nvCxnSpPr>
        <p:spPr>
          <a:xfrm flipV="1">
            <a:off x="3338640" y="3561480"/>
            <a:ext cx="172296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Straight Arrow Connector 21"/>
          <p:cNvCxnSpPr/>
          <p:nvPr/>
        </p:nvCxnSpPr>
        <p:spPr>
          <a:xfrm flipV="1">
            <a:off x="3358800" y="3486960"/>
            <a:ext cx="69300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Straight Arrow Connector 25"/>
          <p:cNvCxnSpPr/>
          <p:nvPr/>
        </p:nvCxnSpPr>
        <p:spPr>
          <a:xfrm>
            <a:off x="3349440" y="3976200"/>
            <a:ext cx="702360" cy="61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5"/>
          <p:cNvSpPr/>
          <p:nvPr/>
        </p:nvSpPr>
        <p:spPr>
          <a:xfrm>
            <a:off x="4332240" y="302256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ther harmonics -- aliasing of other errors</a:t>
            </a: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ummary &amp;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9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49280" y="835200"/>
            <a:ext cx="824544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Harmonics of 351 d pervasive in all IGS products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fr-FR" sz="2200" spc="-1" strike="noStrike">
                <a:solidFill>
                  <a:srgbClr val="3333cc"/>
                </a:solidFill>
                <a:latin typeface="Calibri"/>
                <a:ea typeface="Arial"/>
              </a:rPr>
              <a:t>Simulated orbital response to IERS subdaily EOP tide model errors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compared conventional orbits to EOP-test orbits at 15 min interval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Beating of subdaily EOP tides causes spectral differences at other periods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long-period errors go into EOP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99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short-period errors go mostly into orbit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99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bump in background noise at 2 cpd -&gt; resonance with GPS orbital period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Calibri"/>
                <a:ea typeface="Arial"/>
              </a:rPr>
              <a:t>Compared IGS orbit discontinuities to EOP-test orbit differences at 23:45:00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24 h sampling causes subdaily EOP tide errors to alias at ~14, ~9 and ~7 d bands -&gt; peaks offset from expected period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alibri"/>
                <a:ea typeface="Arial"/>
              </a:rPr>
              <a:t>peaks at several (mostly odd) harmonics of 351 d 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fr-FR" sz="2200" spc="-1" strike="noStrike">
                <a:solidFill>
                  <a:srgbClr val="ff0000"/>
                </a:solidFill>
                <a:latin typeface="Calibri"/>
                <a:ea typeface="Arial"/>
              </a:rPr>
              <a:t>IERS diurnal &amp; semi-diurnal tide model errors are source for subdaily alias and some draconitic errors in IGS orbits</a:t>
            </a:r>
            <a:endParaRPr b="1" lang="en-US" sz="22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9396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9396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dditional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52280" y="812880"/>
            <a:ext cx="869184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GPS-sun geometry repeat period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raconitic” year = 351.2 d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1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st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&amp; 2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nd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harmonics overlay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seasonal signal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IGS station coordinates (2006)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in all dNEU component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up to at least 6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th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harmonic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later found in all IGS products: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geocenter” variation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polar motion rates (esp 5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th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&amp; 7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th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)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LOD (esp 6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th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)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orbit discontinuities (esp 3</a:t>
            </a:r>
            <a:r>
              <a:rPr b="1" lang="en-GB" sz="2000" spc="-1" strike="noStrike" baseline="30000">
                <a:solidFill>
                  <a:srgbClr val="3333cc"/>
                </a:solidFill>
                <a:latin typeface="Calibri"/>
                <a:ea typeface="Times New Roman"/>
              </a:rPr>
              <a:t>rd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)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strong fortnightly signals also common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signals clearer in reprocessed result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rmonics of GPS Draconitic Year are Perva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2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3695" t="42559" r="14671" b="21277"/>
          <a:stretch/>
        </p:blipFill>
        <p:spPr>
          <a:xfrm>
            <a:off x="4889520" y="776160"/>
            <a:ext cx="4017960" cy="4683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 rot="16200000">
            <a:off x="2927880" y="2899440"/>
            <a:ext cx="38750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% of GPS Stations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5530680" y="525780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year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3880" y="792000"/>
            <a:ext cx="585720" cy="7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dE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427800" y="2198520"/>
            <a:ext cx="1174680" cy="7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dN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6386400" y="3743280"/>
            <a:ext cx="12430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dU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6" name="Date Placeholder 4"/>
          <p:cNvSpPr/>
          <p:nvPr/>
        </p:nvSpPr>
        <p:spPr>
          <a:xfrm>
            <a:off x="6427800" y="5730840"/>
            <a:ext cx="2716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Calibri"/>
              </a:rPr>
              <a:t>(from X. Collilieux et al., 2011)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subdeop-orbtest-erp.tif"/>
          <p:cNvPicPr/>
          <p:nvPr/>
        </p:nvPicPr>
        <p:blipFill>
          <a:blip r:embed="rId1"/>
          <a:stretch/>
        </p:blipFill>
        <p:spPr>
          <a:xfrm>
            <a:off x="1174680" y="1638360"/>
            <a:ext cx="6821640" cy="4951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152280" y="896760"/>
            <a:ext cx="86918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M2 aliases into PM-x and PM-y; O1 aliases into LOD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1</a:t>
            </a:r>
            <a:r>
              <a:rPr b="1" lang="en-GB" sz="2400" spc="-1" strike="noStrike" baseline="30000">
                <a:solidFill>
                  <a:srgbClr val="3333cc"/>
                </a:solidFill>
                <a:latin typeface="Calibri"/>
              </a:rPr>
              <a:t>st</a:t>
            </a: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 draconitic harmonic enters PM-x &amp; LOD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um of Daily EOP Differences due to Subdaily EOP Tidal Model “Error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49740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5" name="Rectangle 16"/>
          <p:cNvSpPr/>
          <p:nvPr/>
        </p:nvSpPr>
        <p:spPr>
          <a:xfrm rot="16200000">
            <a:off x="-950040" y="3930840"/>
            <a:ext cx="385308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a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 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subdeop-orbtest-spec3.tif"/>
          <p:cNvPicPr/>
          <p:nvPr/>
        </p:nvPicPr>
        <p:blipFill>
          <a:blip r:embed="rId1"/>
          <a:stretch/>
        </p:blipFill>
        <p:spPr>
          <a:xfrm>
            <a:off x="1179360" y="1700280"/>
            <a:ext cx="6821640" cy="4878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152280" y="873000"/>
            <a:ext cx="86918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349740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 rot="16200000">
            <a:off x="-722880" y="404028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04920" y="1025640"/>
            <a:ext cx="869148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background power is lower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errors absorbed in all three component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3348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of Orbital Responses to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ubdaily EOP Errors – Near 3 cpd</a:t>
            </a:r>
            <a:endParaRPr b="1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subdeop-orbtest-spec4.tif"/>
          <p:cNvPicPr/>
          <p:nvPr/>
        </p:nvPicPr>
        <p:blipFill>
          <a:blip r:embed="rId1"/>
          <a:stretch/>
        </p:blipFill>
        <p:spPr>
          <a:xfrm>
            <a:off x="1179360" y="1700280"/>
            <a:ext cx="6821640" cy="487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152280" y="873000"/>
            <a:ext cx="86918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349740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 rot="16200000">
            <a:off x="-722880" y="404028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04920" y="1025640"/>
            <a:ext cx="8691480" cy="58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same near 4 cpd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3348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of Orbital Responses to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ubdaily EOP Errors – Near 4 cpd</a:t>
            </a:r>
            <a:endParaRPr b="1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52280" y="873000"/>
            <a:ext cx="869184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1) local multipath effect at station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station-satellite geometry repeats every sidereal day, approximately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2 GPS orbital periods during 1 Earth inertial revolution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2" marL="11970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actual GPS repeat period  =  (1 solar day - ~245 s)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2" marL="11970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sidereal period (K1)  =  (1 solar day - 235.9 s)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for 24-hr sampling (e.g., data analysis), alias period → GPS draconitic year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2) mismodelling effect in satellite orbit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empirical solar radiation parameters intrinsically linked to orbital period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but no precise mechanism proposed yet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this presentation examines impact of errors in </a:t>
            </a:r>
            <a:r>
              <a:rPr b="1" i="1" lang="en-GB" sz="2400" spc="-1" strike="noStrike">
                <a:solidFill>
                  <a:srgbClr val="3333cc"/>
                </a:solidFill>
                <a:latin typeface="Calibri"/>
              </a:rPr>
              <a:t>a priori</a:t>
            </a: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IERS model for subdaily tidal EOP</a:t>
            </a: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 variations on GPS orbit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EOP tide errors at ~12 hr couple directly into GPS orbit parameter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EOP tide errors at ~24 hr may couple into other estimate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subdaily EOP total magnitudes are ~1 mas = 13 cm shift @ GP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IERS model is known to have visible errors, which could reach the 10 to 20% level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Possible Origins of Draconitic Sig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3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subdeop-orbtest-spec-a.tif"/>
          <p:cNvPicPr/>
          <p:nvPr/>
        </p:nvPicPr>
        <p:blipFill>
          <a:blip r:embed="rId1"/>
          <a:stretch/>
        </p:blipFill>
        <p:spPr>
          <a:xfrm>
            <a:off x="1343160" y="1897200"/>
            <a:ext cx="6602400" cy="4711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58760" y="646200"/>
            <a:ext cx="883584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process ~3 years of GPS orbits with IERS &amp; “fake” model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fake” model subdaily admittances differ by ~20%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model intended to mimic a real-Earth model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subdaily tides beat to generate spectral differences at other period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imulate Impact of Subdaily EOP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4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351144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 rot="16200000">
            <a:off x="-573840" y="4080600"/>
            <a:ext cx="3399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subdeop-orbtest-spec-b.tif"/>
          <p:cNvPicPr/>
          <p:nvPr/>
        </p:nvPicPr>
        <p:blipFill>
          <a:blip r:embed="rId1"/>
          <a:stretch/>
        </p:blipFill>
        <p:spPr>
          <a:xfrm>
            <a:off x="1343160" y="1897200"/>
            <a:ext cx="6602400" cy="4711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imulate Impact of Subdaily EOP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4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351144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0" name="Rectangle 16"/>
          <p:cNvSpPr/>
          <p:nvPr/>
        </p:nvSpPr>
        <p:spPr>
          <a:xfrm rot="16200000">
            <a:off x="-573840" y="4080600"/>
            <a:ext cx="3399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52280" y="646200"/>
            <a:ext cx="876456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process ~3 years of GPS orbits with IERS &amp; “fake” model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ifference conventional &amp; EOP-test orbits @ 15 min interval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ute spectra of differences for each SV, stack &amp; smooth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are spectral differences: input model errors vs. orbital response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subdeop-orbtest-spec-b.tif"/>
          <p:cNvPicPr/>
          <p:nvPr/>
        </p:nvPicPr>
        <p:blipFill>
          <a:blip r:embed="rId1"/>
          <a:stretch/>
        </p:blipFill>
        <p:spPr>
          <a:xfrm>
            <a:off x="1343160" y="1897200"/>
            <a:ext cx="6602400" cy="47116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imulate Impact of Subdaily EOP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4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51144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6" name="Rectangle 16"/>
          <p:cNvSpPr/>
          <p:nvPr/>
        </p:nvSpPr>
        <p:spPr>
          <a:xfrm rot="16200000">
            <a:off x="-573840" y="4080600"/>
            <a:ext cx="3399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1717560" y="2171880"/>
            <a:ext cx="3287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00ff"/>
                </a:solidFill>
                <a:latin typeface="Calibri"/>
              </a:rPr>
              <a:t>long-period errors absorbed</a:t>
            </a:r>
            <a:br>
              <a:rPr sz="1500"/>
            </a:br>
            <a:r>
              <a:rPr b="1" lang="en-GB" sz="1500" spc="-1" strike="noStrike">
                <a:solidFill>
                  <a:srgbClr val="ff00ff"/>
                </a:solidFill>
                <a:latin typeface="Calibri"/>
              </a:rPr>
              <a:t>mostly by daily EOPs, not orbits</a:t>
            </a: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1728720" y="2398680"/>
            <a:ext cx="3746520" cy="393552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52280" y="646200"/>
            <a:ext cx="876456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process ~3 years of GPS orbits with IERS &amp; “fake” model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ifference conventional &amp; EOP-test orbits @ 15 min interval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ute spectra of differences for each SV, stack &amp; smooth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are spectral differences: input model errors vs. orbital response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9" descr="subdeop-orbtest-spec-b.tif"/>
          <p:cNvPicPr/>
          <p:nvPr/>
        </p:nvPicPr>
        <p:blipFill>
          <a:blip r:embed="rId1"/>
          <a:stretch/>
        </p:blipFill>
        <p:spPr>
          <a:xfrm>
            <a:off x="1343160" y="1897200"/>
            <a:ext cx="6602400" cy="4711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imulate Impact of Subdaily EOP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4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351144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 rot="16200000">
            <a:off x="-573840" y="4080600"/>
            <a:ext cx="3399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7039080" y="2813040"/>
            <a:ext cx="10317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00ff"/>
                </a:solidFill>
                <a:latin typeface="Calibri"/>
              </a:rPr>
              <a:t>short- period errors go into </a:t>
            </a:r>
            <a:br>
              <a:rPr sz="1500"/>
            </a:br>
            <a:r>
              <a:rPr b="1" lang="en-GB" sz="1500" spc="-1" strike="noStrike">
                <a:solidFill>
                  <a:srgbClr val="ff00ff"/>
                </a:solidFill>
                <a:latin typeface="Calibri"/>
              </a:rPr>
              <a:t>orbits</a:t>
            </a: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6" name="Rectangle 49"/>
          <p:cNvSpPr/>
          <p:nvPr/>
        </p:nvSpPr>
        <p:spPr>
          <a:xfrm>
            <a:off x="5486400" y="2290680"/>
            <a:ext cx="2392200" cy="4037040"/>
          </a:xfrm>
          <a:prstGeom prst="rect">
            <a:avLst/>
          </a:pr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646200"/>
            <a:ext cx="876456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process ~3 years of GPS orbits with IERS &amp; “fake” model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ifference conventional &amp; EOP-test orbits @ 15 min interval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ute spectra of differences for each SV, stack &amp; smooth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are spectral differences: input model errors vs. orbital response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0" descr="subdeop-orbtest-spec-b.tif"/>
          <p:cNvPicPr/>
          <p:nvPr/>
        </p:nvPicPr>
        <p:blipFill>
          <a:blip r:embed="rId1"/>
          <a:stretch/>
        </p:blipFill>
        <p:spPr>
          <a:xfrm>
            <a:off x="1343160" y="1897200"/>
            <a:ext cx="6602400" cy="471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920"/>
            <a:ext cx="91440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imulate Impact of Subdaily EOP E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4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1144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 rot="16200000">
            <a:off x="-573840" y="4080600"/>
            <a:ext cx="3399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5667480" y="3062160"/>
            <a:ext cx="595080" cy="162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720960" y="4400640"/>
            <a:ext cx="2116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bump in background power – resonance of ~2 cpd subdaily tide errors and GPS orbital period?</a:t>
            </a: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52280" y="646200"/>
            <a:ext cx="876456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process ~3 years of GPS orbits with IERS &amp; “fake” models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difference conventional &amp; EOP-test orbits @ 15 min intervals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ute spectra of differences for each SV, stack &amp; smooth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compare spectral differences: input model errors vs. orbital response </a:t>
            </a:r>
            <a:endParaRPr b="1" lang="en-US" sz="20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subdeop-orbtest-spec1.tif"/>
          <p:cNvPicPr/>
          <p:nvPr/>
        </p:nvPicPr>
        <p:blipFill>
          <a:blip r:embed="rId1"/>
          <a:stretch/>
        </p:blipFill>
        <p:spPr>
          <a:xfrm>
            <a:off x="1179360" y="1701720"/>
            <a:ext cx="6821640" cy="488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52280" y="914400"/>
            <a:ext cx="869184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alibri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alibri"/>
              </a:rPr>
              <a:t>at diurnal period, EOP model errors absorbed into orbits, esp cross- &amp; along-track</a:t>
            </a: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1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pectra of Orbital Responses to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Subdaily EOP Errors – Near 1 c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8817120" y="6611760"/>
            <a:ext cx="4222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alibri"/>
              </a:rPr>
              <a:t>05  </a:t>
            </a:r>
            <a:endParaRPr b="1" lang="en-US" sz="16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3497400" y="6568920"/>
            <a:ext cx="297180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Frequency (cycles per day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 rot="16200000">
            <a:off x="-722880" y="4040280"/>
            <a:ext cx="33987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ower Density  (m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/ cpd)</a:t>
            </a: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1860480" y="2571840"/>
            <a:ext cx="1839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only 2 subdaily tidal lines excited above background orbit noise</a:t>
            </a: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788080" y="2905200"/>
            <a:ext cx="1838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alibri"/>
              </a:rPr>
              <a:t>unexpected peak in cross-track – probably a beat effect</a:t>
            </a:r>
            <a:endParaRPr b="1" lang="en-US" sz="15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6:39:48Z</dcterms:created>
  <dc:creator>Jim Ray</dc:creator>
  <dc:description/>
  <dc:language>en-US</dc:language>
  <cp:lastModifiedBy>Jake Griffiths</cp:lastModifiedBy>
  <dcterms:modified xsi:type="dcterms:W3CDTF">2011-12-02T12:29:49Z</dcterms:modified>
  <cp:revision>3237</cp:revision>
  <dc:subject/>
  <dc:title>Systematic errors in GPS position estimates</dc:title>
</cp:coreProperties>
</file>