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7B5B-6A3D-4EFB-B901-A620B63C2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5F32-2A62-490B-9022-C19D4BA21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is the best option?  Because it addres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datums existing for CONUS, Hawaii, PR/VI  (and, theoretically, Canada, Mexico, and the Caribbean and Central American count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seness of bench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build up as one gets far from an origin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ncial and personnel rea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gility of bench mark net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DE18-D094-45B6-9522-1FB52493D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 idea of a GNSS/geoid vertical datum will mean realization errors generally no better than 2 cm at any given location, this is better than NAVD 88 which has leveling error build up away from Father point.  Additionally, the ability to know the datum through a single GNSS receiver at any point of convenience will mean that leveling from existing bench marks to “bring in” the datum will no longer be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 currently can replace geodetic leveling for precise local differential height dissemination.  GRAV-D is not meant to replace leveling of that sort, but instead to provide immediate 2 cm access to the datum anywhere, so that (if necessary) leveling can then be performed very precisely off of that starting point to locations of inte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5E5F-3C54-4ECD-A686-9DDD0D143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0351-C0EE-4743-97B6-3E3E5ECFA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rification on the word “convenient” – this is used to mean “there isn’t always a bench mark around when you need one – sometimes you have to find one far away and level from it to your site of interes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EB9C-ADB3-43D1-AB54-36D8CD4C3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9772-76E1-4A85-BAC2-291EE6013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3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slide for public presen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DE5D-C355-4101-921A-3AD4FA1D6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A9E-D146-4DB5-A1EF-5AE16677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67A3-3F3A-4D97-91D8-B1C1F949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315-9ED8-4CC0-891D-0BC7CBEC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D70-4546-43ED-B8C4-68C63262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DCBD-B6CA-4784-A019-581FF281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3260-8B9E-4AF7-A205-C5F80D35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63E8-68E0-4151-AA53-EF24551A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20A7-13A1-4A92-BD9A-32751C97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6C5D-E23B-4B49-9520-FDE7C600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5A32-E8E5-4661-B820-D41E1FED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B936-0474-4175-B674-D14FEFF5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F93-94E5-4505-934D-4DB98AD9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655F-2234-4F90-9067-0935020C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7B47-87F9-41A5-A9F4-01F355C2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8F62-A572-46C2-BD82-5AE110E0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C20F-7AB1-408F-A759-67578E14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338A-EC46-4AAA-BCDF-D0473990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588-9AF2-4654-BBB8-A3894EF2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35E-6E6E-4EBD-8630-6E338F33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5AC-B3E8-4725-981A-7E64BCB3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38A-8B6C-4196-B0BE-E12F7AEB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1D0-ABF6-4882-914D-C8D33AD3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D32-048F-40CE-983E-CC459832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1A0-C752-4528-9CB6-B10A1A0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eader 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64BE-A82D-46E3-A5ED-AD4A4BF7D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Continuation 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E30F-54BC-42AE-9C88-C210A1758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Header Slid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the Vertical Network in NE and Modernization of the Vertical Dat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USACE Vertical Datums Worksh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ncord,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ugust 11, 2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Dan Mar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National Geodetic Surv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Vermont State Ad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19320" y="2017440"/>
            <a:ext cx="716256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 fix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lace NAVD 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method of defining a vertical datum that seeks to fix all of the known issues with NAVD 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option:  Define the datum as a given geoid model and realize it through GNSS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-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DD02-8C39-48E5-9C8A-3F365EB3DB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6094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ways to f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D 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3132000" y="63644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deral Geospatial Summ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12 MAY 2010              Silver Spring,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19320" y="1942920"/>
            <a:ext cx="716256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 fix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lace NAVD 88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V-D Trade-off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um is only realizable to 2 cm at best at any given point (GNSS error + geoid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is is an improvement over NAVD 88 realiza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um could then be disseminated locally through very precise geodetic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B66D-5C9D-4637-A997-22314E51A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tle 1"/>
          <p:cNvSpPr/>
          <p:nvPr/>
        </p:nvSpPr>
        <p:spPr>
          <a:xfrm>
            <a:off x="6094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ways to f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D 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5"/>
          <p:cNvSpPr/>
          <p:nvPr/>
        </p:nvSpPr>
        <p:spPr>
          <a:xfrm>
            <a:off x="3132000" y="63644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deral Geospatial Summ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12 MAY 2010              Silver Spring,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6"/>
          <p:cNvSpPr/>
          <p:nvPr/>
        </p:nvSpPr>
        <p:spPr>
          <a:xfrm>
            <a:off x="109800" y="190980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:  Flood insuranc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6227640" y="259560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4-1991:  Subs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7"/>
          <p:cNvGrpSpPr/>
          <p:nvPr/>
        </p:nvGrpSpPr>
        <p:grpSpPr>
          <a:xfrm>
            <a:off x="1066680" y="2604960"/>
            <a:ext cx="6724800" cy="1114560"/>
            <a:chOff x="1066680" y="2604960"/>
            <a:chExt cx="6724800" cy="1114560"/>
          </a:xfrm>
        </p:grpSpPr>
        <p:sp>
          <p:nvSpPr>
            <p:cNvPr id="140" name="Freeform 7"/>
            <p:cNvSpPr/>
            <p:nvPr/>
          </p:nvSpPr>
          <p:spPr>
            <a:xfrm>
              <a:off x="1066680" y="2900160"/>
              <a:ext cx="6724800" cy="819360"/>
            </a:xfrm>
            <a:custGeom>
              <a:avLst/>
              <a:gdLst>
                <a:gd name="textAreaLeft" fmla="*/ 0 w 6724800"/>
                <a:gd name="textAreaRight" fmla="*/ 6725160 w 6724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6724650" h="819150">
                  <a:moveTo>
                    <a:pt x="0" y="819150"/>
                  </a:moveTo>
                  <a:cubicBezTo>
                    <a:pt x="702469" y="655637"/>
                    <a:pt x="1404938" y="492125"/>
                    <a:pt x="2105025" y="447675"/>
                  </a:cubicBezTo>
                  <a:cubicBezTo>
                    <a:pt x="2805112" y="403225"/>
                    <a:pt x="3430588" y="627062"/>
                    <a:pt x="4200525" y="552450"/>
                  </a:cubicBezTo>
                  <a:cubicBezTo>
                    <a:pt x="4970462" y="477838"/>
                    <a:pt x="5847556" y="238919"/>
                    <a:pt x="672465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3200400" y="3022200"/>
              <a:ext cx="285480" cy="3160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4867200" y="3376800"/>
              <a:ext cx="266400" cy="10476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Isosceles Triangle 11"/>
            <p:cNvSpPr/>
            <p:nvPr/>
          </p:nvSpPr>
          <p:spPr>
            <a:xfrm>
              <a:off x="3162240" y="2719080"/>
              <a:ext cx="364320" cy="314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3"/>
            <p:cNvSpPr/>
            <p:nvPr/>
          </p:nvSpPr>
          <p:spPr>
            <a:xfrm>
              <a:off x="3396240" y="26049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26"/>
            <p:cNvSpPr/>
            <p:nvPr/>
          </p:nvSpPr>
          <p:spPr>
            <a:xfrm>
              <a:off x="4593600" y="2985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9"/>
          <p:cNvGrpSpPr/>
          <p:nvPr/>
        </p:nvGrpSpPr>
        <p:grpSpPr>
          <a:xfrm>
            <a:off x="1066680" y="2604960"/>
            <a:ext cx="6724800" cy="1114560"/>
            <a:chOff x="1066680" y="2604960"/>
            <a:chExt cx="6724800" cy="1114560"/>
          </a:xfrm>
        </p:grpSpPr>
        <p:sp>
          <p:nvSpPr>
            <p:cNvPr id="147" name="Freeform 15"/>
            <p:cNvSpPr/>
            <p:nvPr/>
          </p:nvSpPr>
          <p:spPr>
            <a:xfrm>
              <a:off x="1066680" y="2900160"/>
              <a:ext cx="6724800" cy="819360"/>
            </a:xfrm>
            <a:custGeom>
              <a:avLst/>
              <a:gdLst>
                <a:gd name="textAreaLeft" fmla="*/ 0 w 6724800"/>
                <a:gd name="textAreaRight" fmla="*/ 6725160 w 6724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6724650" h="819150">
                  <a:moveTo>
                    <a:pt x="0" y="819150"/>
                  </a:moveTo>
                  <a:cubicBezTo>
                    <a:pt x="702469" y="655637"/>
                    <a:pt x="1404938" y="492125"/>
                    <a:pt x="2105025" y="447675"/>
                  </a:cubicBezTo>
                  <a:cubicBezTo>
                    <a:pt x="2805112" y="403225"/>
                    <a:pt x="3430588" y="627062"/>
                    <a:pt x="4200525" y="552450"/>
                  </a:cubicBezTo>
                  <a:cubicBezTo>
                    <a:pt x="4970462" y="477838"/>
                    <a:pt x="5847556" y="238919"/>
                    <a:pt x="672465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3200400" y="3022560"/>
              <a:ext cx="285480" cy="31572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7"/>
            <p:cNvSpPr/>
            <p:nvPr/>
          </p:nvSpPr>
          <p:spPr>
            <a:xfrm>
              <a:off x="4867200" y="3376800"/>
              <a:ext cx="266400" cy="10476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Isosceles Triangle 18"/>
            <p:cNvSpPr/>
            <p:nvPr/>
          </p:nvSpPr>
          <p:spPr>
            <a:xfrm>
              <a:off x="3162240" y="2719080"/>
              <a:ext cx="365040" cy="314280"/>
            </a:xfrm>
            <a:prstGeom prst="triangle">
              <a:avLst>
                <a:gd name="adj" fmla="val 50000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3395880" y="260496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20"/>
            <p:cNvSpPr/>
            <p:nvPr/>
          </p:nvSpPr>
          <p:spPr>
            <a:xfrm>
              <a:off x="4593600" y="2985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21"/>
          <p:cNvSpPr/>
          <p:nvPr/>
        </p:nvSpPr>
        <p:spPr>
          <a:xfrm>
            <a:off x="6227640" y="190980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4:  Leveling Perform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nch 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3"/>
          <p:cNvSpPr/>
          <p:nvPr/>
        </p:nvSpPr>
        <p:spPr>
          <a:xfrm>
            <a:off x="600120" y="5710320"/>
            <a:ext cx="80866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6227640" y="3214800"/>
            <a:ext cx="29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:  Original 1954 leveling data is used to compute the NAVD 88 height which is then published for this 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28"/>
          <p:cNvCxnSpPr/>
          <p:nvPr/>
        </p:nvCxnSpPr>
        <p:spPr>
          <a:xfrm flipV="1">
            <a:off x="4980600" y="3376080"/>
            <a:ext cx="19800" cy="2324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7" name="TextBox 30"/>
          <p:cNvSpPr/>
          <p:nvPr/>
        </p:nvSpPr>
        <p:spPr>
          <a:xfrm>
            <a:off x="3478320" y="5759280"/>
            <a:ext cx="515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iously the true height relative to the NAVD 8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surface is not the published NAVD 88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32"/>
          <p:cNvCxnSpPr/>
          <p:nvPr/>
        </p:nvCxnSpPr>
        <p:spPr>
          <a:xfrm flipV="1">
            <a:off x="4924440" y="4978080"/>
            <a:ext cx="2160" cy="71496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59" name="Right Brace 34"/>
          <p:cNvSpPr/>
          <p:nvPr/>
        </p:nvSpPr>
        <p:spPr>
          <a:xfrm>
            <a:off x="5124600" y="3452760"/>
            <a:ext cx="371160" cy="2209680"/>
          </a:xfrm>
          <a:custGeom>
            <a:avLst/>
            <a:gdLst>
              <a:gd name="textAreaLeft" fmla="*/ 0 w 371160"/>
              <a:gd name="textAreaRight" fmla="*/ 133920 w 371160"/>
              <a:gd name="textAreaTop" fmla="*/ 9360 h 2209680"/>
              <a:gd name="textAreaBottom" fmla="*/ 220032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2"/>
                  <a:pt x="10800" y="303"/>
                </a:cubicBezTo>
                <a:lnTo>
                  <a:pt x="10800" y="15990"/>
                </a:lnTo>
                <a:cubicBezTo>
                  <a:pt x="10800" y="16142"/>
                  <a:pt x="16200" y="16293"/>
                  <a:pt x="21600" y="16293"/>
                </a:cubicBezTo>
                <a:cubicBezTo>
                  <a:pt x="16200" y="16293"/>
                  <a:pt x="10800" y="16445"/>
                  <a:pt x="10800" y="16596"/>
                </a:cubicBezTo>
                <a:lnTo>
                  <a:pt x="10800" y="21297"/>
                </a:lnTo>
                <a:cubicBezTo>
                  <a:pt x="10800" y="2144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5"/>
          <p:cNvSpPr/>
          <p:nvPr/>
        </p:nvSpPr>
        <p:spPr>
          <a:xfrm>
            <a:off x="5573880" y="4967280"/>
            <a:ext cx="161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blish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ight Brace 36"/>
          <p:cNvSpPr/>
          <p:nvPr/>
        </p:nvSpPr>
        <p:spPr>
          <a:xfrm flipH="1">
            <a:off x="4457160" y="4995720"/>
            <a:ext cx="409320" cy="676440"/>
          </a:xfrm>
          <a:custGeom>
            <a:avLst/>
            <a:gdLst>
              <a:gd name="textAreaLeft" fmla="*/ -360 w 409320"/>
              <a:gd name="textAreaRight" fmla="*/ 147240 w 409320"/>
              <a:gd name="textAreaTop" fmla="*/ 10440 h 676440"/>
              <a:gd name="textAreaBottom" fmla="*/ 6660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5"/>
                  <a:pt x="10800" y="1090"/>
                </a:cubicBezTo>
                <a:lnTo>
                  <a:pt x="10800" y="9489"/>
                </a:lnTo>
                <a:cubicBezTo>
                  <a:pt x="10800" y="10034"/>
                  <a:pt x="16200" y="10579"/>
                  <a:pt x="21600" y="10579"/>
                </a:cubicBezTo>
                <a:cubicBezTo>
                  <a:pt x="16200" y="10579"/>
                  <a:pt x="10800" y="11124"/>
                  <a:pt x="10800" y="11669"/>
                </a:cubicBezTo>
                <a:lnTo>
                  <a:pt x="10800" y="20510"/>
                </a:lnTo>
                <a:cubicBezTo>
                  <a:pt x="10800" y="2105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7"/>
          <p:cNvSpPr/>
          <p:nvPr/>
        </p:nvSpPr>
        <p:spPr>
          <a:xfrm>
            <a:off x="3374640" y="5148360"/>
            <a:ext cx="103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8"/>
          <p:cNvSpPr/>
          <p:nvPr/>
        </p:nvSpPr>
        <p:spPr>
          <a:xfrm>
            <a:off x="-23040" y="534816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D 88 zero height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2D58-C8A3-485B-88B5-25F7E2BBD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6094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will I access the n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dat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3132000" y="63644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deral Geospatial Summ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12 MAY 2010              Silver Spring,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5E-006 0.22639 E">
                                      <p:cBhvr>
                                        <p:cTn id="65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50000005960464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6"/>
          <p:cNvSpPr/>
          <p:nvPr/>
        </p:nvSpPr>
        <p:spPr>
          <a:xfrm>
            <a:off x="109800" y="197316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:  Flood insuranc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1066680" y="2963880"/>
            <a:ext cx="6724800" cy="819000"/>
          </a:xfrm>
          <a:custGeom>
            <a:avLst/>
            <a:gdLst>
              <a:gd name="textAreaLeft" fmla="*/ 0 w 6724800"/>
              <a:gd name="textAreaRight" fmla="*/ 6725160 w 672480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6724650" h="819150">
                <a:moveTo>
                  <a:pt x="0" y="819150"/>
                </a:moveTo>
                <a:cubicBezTo>
                  <a:pt x="702469" y="655637"/>
                  <a:pt x="1404938" y="492125"/>
                  <a:pt x="2105025" y="447675"/>
                </a:cubicBezTo>
                <a:cubicBezTo>
                  <a:pt x="2805112" y="403225"/>
                  <a:pt x="3430588" y="627062"/>
                  <a:pt x="4200525" y="552450"/>
                </a:cubicBezTo>
                <a:cubicBezTo>
                  <a:pt x="4970462" y="477838"/>
                  <a:pt x="5847556" y="238919"/>
                  <a:pt x="672465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200400" y="3086280"/>
            <a:ext cx="285840" cy="3157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867200" y="3440160"/>
            <a:ext cx="266760" cy="104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sosceles Triangle 11"/>
          <p:cNvSpPr/>
          <p:nvPr/>
        </p:nvSpPr>
        <p:spPr>
          <a:xfrm>
            <a:off x="3162240" y="2782800"/>
            <a:ext cx="365040" cy="31428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3395880" y="2668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4593600" y="3049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"/>
          <p:cNvSpPr/>
          <p:nvPr/>
        </p:nvSpPr>
        <p:spPr>
          <a:xfrm>
            <a:off x="1085760" y="4506840"/>
            <a:ext cx="6724800" cy="819360"/>
          </a:xfrm>
          <a:custGeom>
            <a:avLst/>
            <a:gdLst>
              <a:gd name="textAreaLeft" fmla="*/ 0 w 6724800"/>
              <a:gd name="textAreaRight" fmla="*/ 6725160 w 672480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6724650" h="819150">
                <a:moveTo>
                  <a:pt x="0" y="819150"/>
                </a:moveTo>
                <a:cubicBezTo>
                  <a:pt x="702469" y="655637"/>
                  <a:pt x="1404938" y="492125"/>
                  <a:pt x="2105025" y="447675"/>
                </a:cubicBezTo>
                <a:cubicBezTo>
                  <a:pt x="2805112" y="403225"/>
                  <a:pt x="3430588" y="627062"/>
                  <a:pt x="4200525" y="552450"/>
                </a:cubicBezTo>
                <a:cubicBezTo>
                  <a:pt x="4970462" y="477838"/>
                  <a:pt x="5847556" y="238919"/>
                  <a:pt x="672465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3219480" y="4629240"/>
            <a:ext cx="285840" cy="3157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4886280" y="4983120"/>
            <a:ext cx="266760" cy="104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sosceles Triangle 18"/>
          <p:cNvSpPr/>
          <p:nvPr/>
        </p:nvSpPr>
        <p:spPr>
          <a:xfrm>
            <a:off x="3181320" y="4325760"/>
            <a:ext cx="365040" cy="3146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3414960" y="4211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0"/>
          <p:cNvSpPr/>
          <p:nvPr/>
        </p:nvSpPr>
        <p:spPr>
          <a:xfrm>
            <a:off x="4612680" y="45925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3"/>
          <p:cNvSpPr/>
          <p:nvPr/>
        </p:nvSpPr>
        <p:spPr>
          <a:xfrm>
            <a:off x="600120" y="5773680"/>
            <a:ext cx="80866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Straight Arrow Connector 28"/>
          <p:cNvCxnSpPr/>
          <p:nvPr/>
        </p:nvCxnSpPr>
        <p:spPr>
          <a:xfrm flipV="1">
            <a:off x="4970880" y="3420720"/>
            <a:ext cx="19800" cy="2324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2" name="Straight Arrow Connector 32"/>
          <p:cNvCxnSpPr/>
          <p:nvPr/>
        </p:nvCxnSpPr>
        <p:spPr>
          <a:xfrm flipV="1">
            <a:off x="4924440" y="5041080"/>
            <a:ext cx="2160" cy="715320"/>
          </a:xfrm>
          <a:prstGeom prst="straightConnector1">
            <a:avLst/>
          </a:prstGeom>
          <a:ln w="5724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183" name="Right Brace 34"/>
          <p:cNvSpPr/>
          <p:nvPr/>
        </p:nvSpPr>
        <p:spPr>
          <a:xfrm>
            <a:off x="5124600" y="3516480"/>
            <a:ext cx="371160" cy="2209680"/>
          </a:xfrm>
          <a:custGeom>
            <a:avLst/>
            <a:gdLst>
              <a:gd name="textAreaLeft" fmla="*/ 0 w 371160"/>
              <a:gd name="textAreaRight" fmla="*/ 133920 w 371160"/>
              <a:gd name="textAreaTop" fmla="*/ 9360 h 2209680"/>
              <a:gd name="textAreaBottom" fmla="*/ 220032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2"/>
                  <a:pt x="10800" y="303"/>
                </a:cubicBezTo>
                <a:lnTo>
                  <a:pt x="10800" y="15990"/>
                </a:lnTo>
                <a:cubicBezTo>
                  <a:pt x="10800" y="16142"/>
                  <a:pt x="16200" y="16293"/>
                  <a:pt x="21600" y="16293"/>
                </a:cubicBezTo>
                <a:cubicBezTo>
                  <a:pt x="16200" y="16293"/>
                  <a:pt x="10800" y="16445"/>
                  <a:pt x="10800" y="16596"/>
                </a:cubicBezTo>
                <a:lnTo>
                  <a:pt x="10800" y="21297"/>
                </a:lnTo>
                <a:cubicBezTo>
                  <a:pt x="10800" y="2144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5"/>
          <p:cNvSpPr/>
          <p:nvPr/>
        </p:nvSpPr>
        <p:spPr>
          <a:xfrm>
            <a:off x="5573880" y="5030640"/>
            <a:ext cx="161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blish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ight Brace 36"/>
          <p:cNvSpPr/>
          <p:nvPr/>
        </p:nvSpPr>
        <p:spPr>
          <a:xfrm flipH="1">
            <a:off x="4457160" y="5059440"/>
            <a:ext cx="409320" cy="676080"/>
          </a:xfrm>
          <a:custGeom>
            <a:avLst/>
            <a:gdLst>
              <a:gd name="textAreaLeft" fmla="*/ -360 w 409320"/>
              <a:gd name="textAreaRight" fmla="*/ 147240 w 409320"/>
              <a:gd name="textAreaTop" fmla="*/ 10440 h 676080"/>
              <a:gd name="textAreaBottom" fmla="*/ 665640 h 6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5"/>
                  <a:pt x="10800" y="1090"/>
                </a:cubicBezTo>
                <a:lnTo>
                  <a:pt x="10800" y="9489"/>
                </a:lnTo>
                <a:cubicBezTo>
                  <a:pt x="10800" y="10034"/>
                  <a:pt x="16200" y="10579"/>
                  <a:pt x="21600" y="10579"/>
                </a:cubicBezTo>
                <a:cubicBezTo>
                  <a:pt x="16200" y="10579"/>
                  <a:pt x="10800" y="11124"/>
                  <a:pt x="10800" y="11669"/>
                </a:cubicBezTo>
                <a:lnTo>
                  <a:pt x="10800" y="20510"/>
                </a:lnTo>
                <a:cubicBezTo>
                  <a:pt x="10800" y="2105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7"/>
          <p:cNvSpPr/>
          <p:nvPr/>
        </p:nvSpPr>
        <p:spPr>
          <a:xfrm>
            <a:off x="3374640" y="5211720"/>
            <a:ext cx="1037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8"/>
          <p:cNvSpPr/>
          <p:nvPr/>
        </p:nvSpPr>
        <p:spPr>
          <a:xfrm>
            <a:off x="-23040" y="54118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D 88 zero height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3"/>
          <p:cNvSpPr/>
          <p:nvPr/>
        </p:nvSpPr>
        <p:spPr>
          <a:xfrm>
            <a:off x="5384520" y="1917720"/>
            <a:ext cx="32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bench mark (if you 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published NAVD 88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f of bench 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ccount for subsiden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1873-3072-4E97-BB59-F552A819F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6094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will I access the n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dat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3132000" y="63644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deral Geospatial Summ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12 MAY 2010              Silver Spring,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6"/>
          <p:cNvSpPr/>
          <p:nvPr/>
        </p:nvSpPr>
        <p:spPr>
          <a:xfrm>
            <a:off x="109800" y="196200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:  Flood insuranc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1066680" y="2952720"/>
            <a:ext cx="6724800" cy="819360"/>
          </a:xfrm>
          <a:custGeom>
            <a:avLst/>
            <a:gdLst>
              <a:gd name="textAreaLeft" fmla="*/ 0 w 6724800"/>
              <a:gd name="textAreaRight" fmla="*/ 6725160 w 672480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6724650" h="819150">
                <a:moveTo>
                  <a:pt x="0" y="819150"/>
                </a:moveTo>
                <a:cubicBezTo>
                  <a:pt x="702469" y="655637"/>
                  <a:pt x="1404938" y="492125"/>
                  <a:pt x="2105025" y="447675"/>
                </a:cubicBezTo>
                <a:cubicBezTo>
                  <a:pt x="2805112" y="403225"/>
                  <a:pt x="3430588" y="627062"/>
                  <a:pt x="4200525" y="552450"/>
                </a:cubicBezTo>
                <a:cubicBezTo>
                  <a:pt x="4970462" y="477838"/>
                  <a:pt x="5847556" y="238919"/>
                  <a:pt x="672465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200400" y="3075120"/>
            <a:ext cx="285840" cy="3157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4867200" y="3429000"/>
            <a:ext cx="266760" cy="104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1"/>
          <p:cNvSpPr/>
          <p:nvPr/>
        </p:nvSpPr>
        <p:spPr>
          <a:xfrm>
            <a:off x="3162240" y="2771640"/>
            <a:ext cx="365040" cy="3146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3395880" y="26575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6"/>
          <p:cNvSpPr/>
          <p:nvPr/>
        </p:nvSpPr>
        <p:spPr>
          <a:xfrm>
            <a:off x="4593600" y="3038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1085760" y="4495680"/>
            <a:ext cx="6724800" cy="819360"/>
          </a:xfrm>
          <a:custGeom>
            <a:avLst/>
            <a:gdLst>
              <a:gd name="textAreaLeft" fmla="*/ 0 w 6724800"/>
              <a:gd name="textAreaRight" fmla="*/ 6725160 w 672480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6724650" h="819150">
                <a:moveTo>
                  <a:pt x="0" y="819150"/>
                </a:moveTo>
                <a:cubicBezTo>
                  <a:pt x="702469" y="655637"/>
                  <a:pt x="1404938" y="492125"/>
                  <a:pt x="2105025" y="447675"/>
                </a:cubicBezTo>
                <a:cubicBezTo>
                  <a:pt x="2805112" y="403225"/>
                  <a:pt x="3430588" y="627062"/>
                  <a:pt x="4200525" y="552450"/>
                </a:cubicBezTo>
                <a:cubicBezTo>
                  <a:pt x="4970462" y="477838"/>
                  <a:pt x="5847556" y="238919"/>
                  <a:pt x="672465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3219480" y="4618080"/>
            <a:ext cx="285840" cy="3157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886280" y="4971960"/>
            <a:ext cx="266760" cy="104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Isosceles Triangle 18"/>
          <p:cNvSpPr/>
          <p:nvPr/>
        </p:nvSpPr>
        <p:spPr>
          <a:xfrm>
            <a:off x="3181320" y="4314960"/>
            <a:ext cx="365040" cy="31428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3414960" y="420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4612680" y="4581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23"/>
          <p:cNvSpPr/>
          <p:nvPr/>
        </p:nvSpPr>
        <p:spPr>
          <a:xfrm>
            <a:off x="552600" y="6200640"/>
            <a:ext cx="80866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8"/>
          <p:cNvSpPr/>
          <p:nvPr/>
        </p:nvSpPr>
        <p:spPr>
          <a:xfrm>
            <a:off x="-1440" y="585792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D 2018(?) zero height surface = ge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5123160" y="1781280"/>
            <a:ext cx="4138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bench mark if you wish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 new one of your cho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NSS/OPUS to get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metric height in the new da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f of bench mark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ence is accounted for by C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geoid that are monit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traight Arrow Connector 30"/>
          <p:cNvCxnSpPr>
            <a:endCxn id="201" idx="2"/>
          </p:cNvCxnSpPr>
          <p:nvPr/>
        </p:nvCxnSpPr>
        <p:spPr>
          <a:xfrm flipV="1">
            <a:off x="5016960" y="5077800"/>
            <a:ext cx="3960" cy="11055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209" name="TextBox 33"/>
          <p:cNvSpPr/>
          <p:nvPr/>
        </p:nvSpPr>
        <p:spPr>
          <a:xfrm>
            <a:off x="5182920" y="558180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(2018?) from GNSS/ge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F09E-5D09-4435-B659-C0DD507ECE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6094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will I access the n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cal dat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3132000" y="63644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deral Geospatial Summ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12 MAY 2010              Silver Spring,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indefinite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100000001490116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7265880" y="2733840"/>
            <a:ext cx="1675080" cy="219528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B554-2EE2-4445-BB3C-5E68FD286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11040" y="1701720"/>
            <a:ext cx="1343160" cy="1762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266760" y="4213080"/>
            <a:ext cx="1509480" cy="22384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"/>
          <p:cNvSpPr/>
          <p:nvPr/>
        </p:nvSpPr>
        <p:spPr>
          <a:xfrm>
            <a:off x="1757160" y="19591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GS 10 year plan (2008-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gs.noaa.gov/INFO/NGS10yearplan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3252240" y="3349800"/>
            <a:ext cx="36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V-D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gs.noaa.gov/GRAV-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2334960" y="5064120"/>
            <a:ext cx="60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o-Economic Benefits of CORS and GRAV-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gs.noaa.gov/PUBS_LIB/Socio-EconomicBenefitsofCORSandGRAV-D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094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5"/>
          <p:cNvSpPr/>
          <p:nvPr/>
        </p:nvSpPr>
        <p:spPr>
          <a:xfrm>
            <a:off x="3132000" y="63644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deral Geospatial Summ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12 MAY 2010              Silver Spring,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SIDB BM Status (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d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1828800"/>
                <a:gridCol w="914400"/>
                <a:gridCol w="1066680"/>
                <a:gridCol w="1143000"/>
                <a:gridCol w="1295640"/>
                <a:gridCol w="106668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NGSI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Rec since Monum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 Rec ≤ 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 Rec ≤ 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5"/>
          <p:cNvSpPr/>
          <p:nvPr/>
        </p:nvSpPr>
        <p:spPr>
          <a:xfrm>
            <a:off x="457200" y="2362320"/>
            <a:ext cx="8229600" cy="304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57200" y="2666880"/>
            <a:ext cx="8229600" cy="381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57200" y="3733920"/>
            <a:ext cx="8229600" cy="304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57200" y="3048120"/>
            <a:ext cx="8229600" cy="6858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57200" y="4038480"/>
            <a:ext cx="8229600" cy="6858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NEvert.jpg"/>
          <p:cNvPicPr/>
          <p:nvPr/>
        </p:nvPicPr>
        <p:blipFill>
          <a:blip r:embed="rId1"/>
          <a:stretch/>
        </p:blipFill>
        <p:spPr>
          <a:xfrm>
            <a:off x="2362320" y="2289240"/>
            <a:ext cx="4724280" cy="4568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457200" y="3048120"/>
            <a:ext cx="8229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NEvert.jpg"/>
          <p:cNvPicPr/>
          <p:nvPr/>
        </p:nvPicPr>
        <p:blipFill>
          <a:blip r:embed="rId1"/>
          <a:stretch/>
        </p:blipFill>
        <p:spPr>
          <a:xfrm>
            <a:off x="1825560" y="1622520"/>
            <a:ext cx="5335560" cy="5159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 Vertica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NEvert2.jpg"/>
          <p:cNvPicPr/>
          <p:nvPr/>
        </p:nvPicPr>
        <p:blipFill>
          <a:blip r:embed="rId2"/>
          <a:stretch/>
        </p:blipFill>
        <p:spPr>
          <a:xfrm>
            <a:off x="1819440" y="1676520"/>
            <a:ext cx="534348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need to set more 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P1010085.JPG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7543800" y="4572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9320" y="2114280"/>
            <a:ext cx="716256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VD 88 suffers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bench mark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most never re-check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ppear by the thousands every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not funded for re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not necessarily in convenient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exist in most of 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n’t adopted in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determined by leveling from a single point, allowing cross-country error buil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A670-8622-43FA-9779-4F667ED03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6094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n’t NAVD 88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ugh anymo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5"/>
          <p:cNvSpPr/>
          <p:nvPr/>
        </p:nvSpPr>
        <p:spPr>
          <a:xfrm>
            <a:off x="3132000" y="63644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deral Geospatial Summ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12 MAY 2010              Silver Spring,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2114280"/>
            <a:ext cx="716256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VD 88 suffers fr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zero height surfac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been proven to be ~50 cm biased from the latest, best geoid models (GRACE satell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been proven to be ~ 1 meter tilted across CONUS (again, based on the independently computed geoid from the GRACE satell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F91B-949E-47BC-9F22-C0DE9D164E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le 1"/>
          <p:cNvSpPr/>
          <p:nvPr/>
        </p:nvSpPr>
        <p:spPr>
          <a:xfrm>
            <a:off x="6094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n’t NAVD 88 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ough anymo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3132000" y="63644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deral Geospatial Summ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12 MAY 2010              Silver Spring,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19320" y="2114280"/>
            <a:ext cx="716256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rt term fix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ast methods of expanding NAVD 88 in areas where it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term fix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level some / all of NAVD 8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NAVD 88 bench 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2F19-B660-46E1-A35C-0E653274D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6094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ways to f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D 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3132000" y="63644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deral Geospatial Summ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12 MAY 2010              Silver Spring,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219320" y="2114280"/>
            <a:ext cx="741024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term fix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ight Modernization GPS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provided a fast way to disseminate NAVD 88 bench mark heights to new marks through the use GPS and a constrained least squares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A TM NOS NGS 58 and 59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s NAVD 88 useful and accessible, but does not address the majority of problems of NAVD 88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8389-2074-4853-B268-64C1D0EA8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6094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ways to f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D 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3132000" y="63644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Federal Geospatial Summ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12 MAY 2010              Silver Spring,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219320" y="2018880"/>
            <a:ext cx="716256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 fix: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-lev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me/all of NAVD 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leveling NAVD 88 would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$200 Mill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$2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ouldn’t fix all of the problems associated with the use of bench marks th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10 Feb 24 - Briefing for P. Sandi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6094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ways to f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D 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5FCD-9681-4A59-A0B4-E16FFD4DD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5:32:12Z</dcterms:created>
  <dc:creator>Galen.Scott</dc:creator>
  <dc:description/>
  <dc:language>en-US</dc:language>
  <cp:lastModifiedBy>dmartin</cp:lastModifiedBy>
  <dcterms:modified xsi:type="dcterms:W3CDTF">2010-08-11T11:47:07Z</dcterms:modified>
  <cp:revision>127</cp:revision>
  <dc:subject/>
  <dc:title>Slide 1</dc:title>
</cp:coreProperties>
</file>