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8D8A-ECF3-4743-897C-D265C7748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BAA1-B030-4D21-BE9F-991101185B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EC2F-5673-4572-AB5F-13C9069B7D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493C-8F20-40AA-B430-45FA38C456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278E-8605-4D60-819A-500D36A9CF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14D8-0E25-4210-B897-8CFD7B372B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7159-35C8-4D08-BEC2-02BFEA6A2E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5FB7-1815-4948-ABD8-8F68500349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B765-652D-4373-B678-E88139F365A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F260-23B1-4278-8F14-BC17022EBE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F5C-7FBB-4058-97B1-0F64D1D2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B8D-7B15-42E2-875D-B275C739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F6E-38B4-4B93-AFB4-BFCD91A2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231-D7C3-4DDF-89DC-36B66559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87F-70BC-4387-9BB4-7A20D9E1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BFE-4AA6-4A62-B99D-3B27F025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BB2-0031-4F6D-BDCD-BC68250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E88-32C2-4716-8537-3ED00495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51B-3564-4768-95CC-71841C00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43A-8D9B-4E8E-8D7F-C9AF7FC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A2E-82B0-495E-8E8D-B39B236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FE4-272D-4FBB-B66E-D56AF4C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9425-5378-48ED-B6D0-B9516711F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1380960" y="2650680"/>
            <a:ext cx="638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253f"/>
                </a:solidFill>
                <a:latin typeface="Lucida Fax"/>
              </a:rPr>
              <a:t>GPS on Bench Mark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253f"/>
                </a:solidFill>
                <a:latin typeface="Lucida Fax"/>
              </a:rPr>
              <a:t>Webin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145320" y="442080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Lucida Fax"/>
              </a:rPr>
              <a:t>March 15,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447920" y="1015920"/>
            <a:ext cx="7476840" cy="5791320"/>
          </a:xfrm>
          <a:prstGeom prst="rect">
            <a:avLst/>
          </a:prstGeom>
          <a:ln w="0">
            <a:noFill/>
          </a:ln>
        </p:spPr>
      </p:pic>
      <p:sp>
        <p:nvSpPr>
          <p:cNvPr id="73" name="Right Brace 11"/>
          <p:cNvSpPr/>
          <p:nvPr/>
        </p:nvSpPr>
        <p:spPr>
          <a:xfrm rot="2977800">
            <a:off x="4843800" y="2996640"/>
            <a:ext cx="685800" cy="182880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828800"/>
              <a:gd name="textAreaBottom" fmla="*/ 1811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114880" y="4160880"/>
            <a:ext cx="1981080" cy="60948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libri"/>
              </a:rPr>
              <a:t>28.5 cm dif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alibri"/>
              </a:rPr>
              <a:t>30km a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797520" y="6499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ilkoski, GPS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3280" y="6559560"/>
            <a:ext cx="66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gpsworld.com/analyzing-ngs-gps-on-bench-mark-dataset-used-to-make-geoid12b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1829880" y="2743200"/>
            <a:ext cx="546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0253f"/>
                </a:solidFill>
                <a:latin typeface="Lucida Fax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905360" y="5542560"/>
            <a:ext cx="33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Lucida Fax"/>
              </a:rPr>
              <a:t>GPS on Bench Marks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Lucida Fax"/>
              </a:rPr>
              <a:t>ngs.gpsonbm@noaa.g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952560" y="577260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Lucida Fax"/>
              </a:rPr>
              <a:t>March 15, 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3398760" y="1069200"/>
            <a:ext cx="180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253f"/>
                </a:solidFill>
                <a:latin typeface="Lucida Fax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91960" y="4191120"/>
            <a:ext cx="85597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~27,000 GPS on bench marks used to create GEOID12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~40,000 at a distance more than 30 km from a BM used in 12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~300,000 bench marks with SCALED pos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~200,000 bench marks not recovered in 30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046880" y="2133720"/>
            <a:ext cx="695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here are ~430,000 publish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irst and Second Order Bench Ma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United States and Territo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:\BShaw\My_Maps\Leveling\images\LevelingByOrder_fina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2027880" y="916920"/>
            <a:ext cx="46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0253f"/>
                </a:solidFill>
                <a:latin typeface="Lucida Fax"/>
              </a:rPr>
              <a:t>Who and How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308600" y="1752480"/>
            <a:ext cx="6760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ey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OPUS-Sh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OPUS-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eyors and Geocach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Mark Reco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RT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Handhe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288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Cell ph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828160" y="915840"/>
            <a:ext cx="32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Lucida Fax"/>
              </a:rPr>
              <a:t>Different H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0" t="0" r="0" b="19056"/>
          <a:stretch/>
        </p:blipFill>
        <p:spPr>
          <a:xfrm>
            <a:off x="1417680" y="3124080"/>
            <a:ext cx="6964200" cy="3506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" name="TextBox 5"/>
          <p:cNvSpPr/>
          <p:nvPr/>
        </p:nvSpPr>
        <p:spPr>
          <a:xfrm>
            <a:off x="2009880" y="1604520"/>
            <a:ext cx="555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Lucida Fax"/>
              </a:rPr>
              <a:t>  </a:t>
            </a:r>
            <a:r>
              <a:rPr b="1" lang="en-US" sz="2400" spc="-1" strike="noStrike">
                <a:solidFill>
                  <a:srgbClr val="10253f"/>
                </a:solidFill>
                <a:latin typeface="Lucida Fax"/>
              </a:rPr>
              <a:t>H - Orthometric Height (elev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Lucida Fax"/>
              </a:rPr>
              <a:t>  </a:t>
            </a:r>
            <a:r>
              <a:rPr b="1" lang="en-US" sz="2400" spc="-1" strike="noStrike">
                <a:solidFill>
                  <a:srgbClr val="10253f"/>
                </a:solidFill>
                <a:latin typeface="Lucida Fax"/>
              </a:rPr>
              <a:t>h  - Ellipsoid H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Lucida Fax"/>
              </a:rPr>
              <a:t>  </a:t>
            </a:r>
            <a:r>
              <a:rPr b="1" lang="en-US" sz="2400" spc="-1" strike="noStrike">
                <a:solidFill>
                  <a:srgbClr val="10253f"/>
                </a:solidFill>
                <a:latin typeface="Lucida Fax"/>
              </a:rPr>
              <a:t>N – Geoid Height/Und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4"/>
          <p:cNvSpPr/>
          <p:nvPr/>
        </p:nvSpPr>
        <p:spPr>
          <a:xfrm>
            <a:off x="2436480" y="1298880"/>
            <a:ext cx="419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Lucida Fax"/>
              </a:rPr>
              <a:t>What is a residual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Lucida Fax"/>
              </a:rPr>
              <a:t>how is it calcula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3474000" y="2441160"/>
            <a:ext cx="19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Lucida Fax"/>
              </a:rPr>
              <a:t>H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3600" spc="-1" strike="noStrike">
                <a:solidFill>
                  <a:srgbClr val="10253f"/>
                </a:solidFill>
                <a:latin typeface="Lucida Fax"/>
              </a:rPr>
              <a:t> - 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359800" y="3350880"/>
            <a:ext cx="42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Lucida Fax"/>
              </a:rPr>
              <a:t>residual</a:t>
            </a:r>
            <a:r>
              <a:rPr b="1" lang="en-US" sz="3600" spc="-1" strike="noStrike">
                <a:solidFill>
                  <a:srgbClr val="10253f"/>
                </a:solidFill>
                <a:latin typeface="Lucida Fax"/>
              </a:rPr>
              <a:t> = </a:t>
            </a:r>
            <a:r>
              <a:rPr b="0" lang="en-US" sz="3600" spc="-1" strike="noStrike">
                <a:solidFill>
                  <a:srgbClr val="10253f"/>
                </a:solidFill>
                <a:latin typeface="Lucida Fax"/>
              </a:rPr>
              <a:t>H + N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917640" y="4268880"/>
            <a:ext cx="73832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s can be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/bad leveled height, bad ellipsoid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between heights, stability/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ed data i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1733400" y="1039680"/>
            <a:ext cx="59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Lucida Fax"/>
              </a:rPr>
              <a:t>GEOID12B GPS on BM data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320200" y="1655640"/>
            <a:ext cx="43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Lucida Fax"/>
              </a:rPr>
              <a:t>Rejection Codes (fla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858960" y="2389680"/>
            <a:ext cx="6649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Lucida Fax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Lucida Fax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Lucida Fax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253f"/>
                </a:solidFill>
                <a:latin typeface="Lucida Fax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Lucida Fax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Lucida Fax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523880" y="2305080"/>
            <a:ext cx="6934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de 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The State Advisor (now called Regional Geodetic Advisors) recommended it be dropped (subsidence, stabilit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de 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The residual ellipsoid height errors from the NAD 83 (2011) project indicated that the point was too noi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de 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The orthometric height was sus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de 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The residual errors during geoid modeling were too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800640" y="1930320"/>
            <a:ext cx="771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Lucida Fax"/>
              </a:rPr>
              <a:t>Dave Zilkoski GPS World arti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Lucida Fax"/>
              </a:rPr>
              <a:t>Analyzing NGS’ GPS on benchmark data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Lucida Fax"/>
              </a:rPr>
              <a:t>Used to make GEOID12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Lucida Fax"/>
              </a:rPr>
              <a:t>Discusses evaluating resid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407520" y="5486400"/>
            <a:ext cx="84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gpsworld.com/analyzing-ngs-gps-on-bench-mark-dataset-used-to-make-geoid12b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1325520" y="914400"/>
            <a:ext cx="7437600" cy="5761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3"/>
          <p:cNvSpPr/>
          <p:nvPr/>
        </p:nvSpPr>
        <p:spPr>
          <a:xfrm>
            <a:off x="6797520" y="6499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ilkoski, GPS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53280" y="6559560"/>
            <a:ext cx="66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gpsworld.com/analyzing-ngs-gps-on-bench-mark-dataset-used-to-make-geoid12b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1T15:33:47Z</dcterms:created>
  <dc:creator>NOSTEMP</dc:creator>
  <dc:description/>
  <dc:language>en-US</dc:language>
  <cp:lastModifiedBy>Brian Shaw</cp:lastModifiedBy>
  <dcterms:modified xsi:type="dcterms:W3CDTF">2017-03-15T21:00:20Z</dcterms:modified>
  <cp:revision>35</cp:revision>
  <dc:subject/>
  <dc:title>PowerPoint Presentation</dc:title>
</cp:coreProperties>
</file>