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260-CC05-49A7-A0A8-38FC2BBE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wever, all is not lost. While GOC02S may not yet agree sufficiently yet in the overlap band, it does highlight similar problems in EGM200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earlier slide showing the AK08 residual gravty is now shown as a height anomaly (right image)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same features present in the residual gravity are seen here as well – and also in the GOC02S differenc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is indicates that the source of these features lies in EGM200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re is a greater power in the GOC02S-EGM2008 residuals that might indicate the need for some regularization of the GOCE gravity field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E03-716D-49E9-AB8A-DE0145E4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transition band (Nmin=100 to Nmax=250), this contains estimates for the cumulate geoid error for each of EGM2008, GOC02S and AK08_v121010, over the AK08 survey are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K08 stay below cm-level out to about degree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is is higher than the stated goal of cm-level accuracy, this is actually an area of significant relief where the goal would be closer to 3-5 cm total er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is does look on track for su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A09-1598-4F20-B335-2C41614C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as from the residuals formed WRT EGM2008 was greater than the S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ones can be resolved by GRACE/GO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r surveys cannot and can contribute multi-dm level geoid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just the ones I expect to find – not necessarily all of those that ex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, the need for a robust campaign to detect and fix such systematic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5F1-D0F8-4565-819D-C541158C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CE/GOCE model is used to constrain long wavelength portion of Aero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urn, Aerogravity is used to fix terrestrial data e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CE/GOCE, Aerogravity, Terrestrial Gravity, and Terrain-Gravity Effects are spectrally merged in a EHM to produce a EGM with local significance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rther southward we expand the terrestrial data – the better control will be in overlap with a South American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ries and regions that do not provide data will be somewhat mitigated by use of GRACE/GOCE &amp; T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0380-8964-4E73-B202-41363653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lot of differences. Go over concepts of what i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idea is that lower differences would mean the models were in better agreement – such as is seen through about degree 70 for all three scales/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lower a curve stays, the better the comparison and the better the expected agreement, which facilitates melding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gions rapidly increase above about degree 100. Hence, the idea is to meld in the aerogravity over this span to better account for the gravity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5C0A-A0C3-43D6-8388-D90F819C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irst example of a triple difference. The three colors no longer represent different regions but different comparisons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ously, only the difference between the GOC02S and EGM2008 models was giv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are three models to compare; hence, three separate differences to p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idea here is that the better agreeing data will come in on the lowest two curves (i.e., blue and green here foe EGM200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as and trend were removed in the GPSL data to make a harmonic model that fit at the edges with the surrounding EGM (either GOC02S or EGM2008 for each differen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so, there are still long wavelength differences as such a simple trend and bias removal doesn’t adequately describe the problems in the NAVD 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emonstrates why we cannot rely on GPS/leveling by itself to evaluate glob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our interest lies in the band of 100-250, so lets focus there and compare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DB7-A695-487C-A098-D718527C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mage only shows the cumulative differences starting at Degree 100 – as opposed to the previous one which was from Degre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ffectively focuses on the bandwidth of interest (100-25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EGM2008 (blue and green lines) is lower through about degree 200 but then the GPSL shows better agre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see very rough agreement through about degree 150, though a much better agreement would be needed to meld these data (preferably under 1 c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definitive can be said about comparison of GPS/leveling except that it does not offer much hope for achieving a cm-level geoid even in combination with satellit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2432-7C7A-4E84-874B-60FAA57A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ted using the Newton 1.1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files are residual gravity anomalies at altitude in comparison to EGM200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worthy are the systematic differences seen from profile to profile with significant lateral extent and amplitu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ppears that signal is missing from EGM2008 in this region. How to substantiate this? Comparison with GO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4F5-4910-4380-9B83-79B703F3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ing in on the spectral band of interest (starting at degree 100 to accumulate differences), we now see that AK08 does b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fortunately, GOC02S seems to fare worse – higher two lines (red and gre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pe was to see better agreement between all three, especially closer to degree 100. This would facilitate merging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6C7F-F7D0-436C-8066-AB59AA1C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848-D570-4C10-87DE-9DDB47FE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6C4-7833-4F9A-9896-F687DEA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E8F-7D21-4BD2-A95B-C06D21B1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B84-326B-4073-B058-CC97A365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578-7590-4C61-9D5F-78DF2198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5BB-3864-46F0-888E-31A236A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2A2-8B98-4481-B48E-50145DF3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DD4-739F-43E6-9F41-910A4EF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38C-83F6-4EF4-8CCD-CAD4B8D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D91-1714-4C0C-B57B-C1B5D02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37E-D987-4179-81C4-6896DA1F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0B4-97FD-498A-AC4D-0EE8BC6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E54-1916-4F7B-8A39-68627DA00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parison of Extensive Aerogravity Surveys to EGM’s</a:t>
            </a:r>
            <a:br>
              <a:rPr sz="4400"/>
            </a:br>
            <a:br>
              <a:rPr sz="44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aniel R. Roman, Simon A. Holmes, Sandra A. Preaux, Theresa M. Diehl, and Vicki Chi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41911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elbourne, Australia                     June 28-July 07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d Limited Spectra – Deg. 100-2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CO2S – EGM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Content Placeholder 9" descr="Ht_Anom.GOC02S-EGM2008.n=100-250.AK08.Taper=151-250.jpg"/>
          <p:cNvPicPr/>
          <p:nvPr/>
        </p:nvPicPr>
        <p:blipFill>
          <a:blip r:embed="rId1"/>
          <a:stretch/>
        </p:blipFill>
        <p:spPr>
          <a:xfrm>
            <a:off x="457200" y="2743200"/>
            <a:ext cx="4040280" cy="2814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K08 – EGM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10" descr="Ht_Anom.AK08v121010-EGM2008.n=100-250.AK08.Taper=151-250.jpg"/>
          <p:cNvPicPr/>
          <p:nvPr/>
        </p:nvPicPr>
        <p:blipFill>
          <a:blip r:embed="rId2"/>
          <a:stretch/>
        </p:blipFill>
        <p:spPr>
          <a:xfrm>
            <a:off x="4645080" y="2743200"/>
            <a:ext cx="4041720" cy="281448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C98-7F88-4967-BB13-B9E36B6E9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ror Estimates From 3-way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Content Placeholder 6" descr="Z_SIGMA_s100-250_GOC02S_EGM08_AK08.jpg"/>
          <p:cNvPicPr/>
          <p:nvPr/>
        </p:nvPicPr>
        <p:blipFill>
          <a:blip r:embed="rId1"/>
          <a:stretch/>
        </p:blipFill>
        <p:spPr>
          <a:xfrm>
            <a:off x="1420920" y="1420920"/>
            <a:ext cx="5894280" cy="482760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B72-B585-497A-94E4-31BE073A9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V-D aims to combine satellite, airborne and terrestrial data for an improved geoid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 model should achieve cm-level accuracy in flat, coastal regions to 3-5 cm in mou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compared aerogravity and EGM’s in the transition band (Degree 100-25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expected that an AK08/GOC02S comparison would improve upon EGM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F67F-5DCB-4F61-9BCC-5A5DEC47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AK08 conforms more closely with EGM2008 than GOC02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hough that GOC02S does confirm some AK08 deviations from EGM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mulative differences in AK08 suggest that GRAV-D might achieve the desire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nhance combination, it is desirable that GOCE be consistent through degree 2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AA8-50F9-478D-A62F-0040CB5A5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819520" y="6340320"/>
            <a:ext cx="3657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5E2E-E6F8-4C00-98ED-4F68E77A7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44 Surveys with Significant Bi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80880" y="1298520"/>
            <a:ext cx="7954920" cy="499104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68EA-2295-4A2F-B689-FD0948FA1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7"/>
          <p:cNvSpPr/>
          <p:nvPr/>
        </p:nvSpPr>
        <p:spPr>
          <a:xfrm>
            <a:off x="2666880" y="6356520"/>
            <a:ext cx="3810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    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7737480" y="518148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ep. J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GRAV-D i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 of a cm-level accurate geo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meld different gravit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do this: must resolve systematic errors in gravity observ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mpare aerogravity to satellite da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train aerogravity to GRACE/GO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bined satellite &amp; airborne gravity field model- somewhere between deg 100-2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 aerogravity to fix errors and bridge spectral gap with terrestrial 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rive shortest wavelengths from high resolution terrain and density mod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 a seamless gravity field to 10,8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gorously transform to generate geoid heights and DoV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971-DAC2-439B-AED4-CA418F1BC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49568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5334120" y="2743200"/>
            <a:ext cx="23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atellite models (GRACE/GO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 flipH="1">
            <a:off x="5334120" y="2984400"/>
            <a:ext cx="9360" cy="18925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7083360" y="3932280"/>
            <a:ext cx="1755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terrain and density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7761240" y="4290840"/>
            <a:ext cx="163440" cy="509760"/>
          </a:xfrm>
          <a:prstGeom prst="line">
            <a:avLst/>
          </a:prstGeom>
          <a:ln w="5724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172200" y="3321000"/>
            <a:ext cx="1487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irborne and surface gr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 rot="10800000">
            <a:off x="4495320" y="2819520"/>
            <a:ext cx="228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nce (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5943600" y="3809880"/>
            <a:ext cx="635040" cy="838440"/>
          </a:xfrm>
          <a:prstGeom prst="line">
            <a:avLst/>
          </a:prstGeom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376960" y="4876920"/>
            <a:ext cx="1157040" cy="75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5273640" y="4952880"/>
            <a:ext cx="2890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5391000" y="3886200"/>
            <a:ext cx="171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6095880" y="4800600"/>
            <a:ext cx="2667240" cy="76320"/>
          </a:xfrm>
          <a:prstGeom prst="rect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7016400" y="301464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ition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5562720" y="3200400"/>
            <a:ext cx="154944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mulative RMS Geoid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Content Placeholder 9" descr="Zeta_GOC02S-EGM2008_s250_ALL.jpg"/>
          <p:cNvPicPr/>
          <p:nvPr/>
        </p:nvPicPr>
        <p:blipFill>
          <a:blip r:embed="rId1"/>
          <a:stretch/>
        </p:blipFill>
        <p:spPr>
          <a:xfrm>
            <a:off x="1746360" y="1600200"/>
            <a:ext cx="56512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C3F0-F922-4C31-A9DA-237F4C8A8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PSBM200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7"/>
          <p:cNvSpPr/>
          <p:nvPr/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EBBE-4AD1-49B5-BE45-7FB95C2F4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17297" r="2718" b="16339"/>
          <a:stretch/>
        </p:blipFill>
        <p:spPr>
          <a:xfrm>
            <a:off x="0" y="106668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7395840" y="4819680"/>
            <a:ext cx="157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 &amp;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T G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mulative RMS Geoid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Z_s2-250_GOC02S_EGM08_GPS3.jpg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743200" y="6356520"/>
            <a:ext cx="358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7C2D-0CAB-48CF-95A2-FDA0B4FA8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m. RMS Geoid Diff. &gt; Degree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ontent Placeholder 6" descr="N_s100-250_GOC02S_EGM08_GPS3.jpg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       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807A-15F7-4C7E-909C-F1250CA5D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7086600" y="2514600"/>
            <a:ext cx="18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100-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C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08 Residual Gravity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039-9BA7-43E7-954B-DB0D55FDA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ontent Placeholder 8" descr="RESIDUALS.dg.AK08_v121010_v44.jpg"/>
          <p:cNvPicPr/>
          <p:nvPr/>
        </p:nvPicPr>
        <p:blipFill>
          <a:blip r:embed="rId1"/>
          <a:stretch/>
        </p:blipFill>
        <p:spPr>
          <a:xfrm>
            <a:off x="1322280" y="1600200"/>
            <a:ext cx="6499440" cy="4525920"/>
          </a:xfrm>
          <a:prstGeom prst="rect">
            <a:avLst/>
          </a:prstGeom>
          <a:ln w="0">
            <a:noFill/>
          </a:ln>
        </p:spPr>
      </p:pic>
      <p:sp>
        <p:nvSpPr>
          <p:cNvPr id="1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m. RMS Geoid Diff. &gt; Degree 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6" descr="Cum_Z_s100-250_GOC02S_EGM08_AK08.jpg"/>
          <p:cNvPicPr/>
          <p:nvPr/>
        </p:nvPicPr>
        <p:blipFill>
          <a:blip r:embed="rId1"/>
          <a:stretch/>
        </p:blipFill>
        <p:spPr>
          <a:xfrm>
            <a:off x="1066680" y="1130400"/>
            <a:ext cx="6110280" cy="519408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BF3-89E0-4B56-8BEC-4D1C6F2F1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7086600" y="2514600"/>
            <a:ext cx="18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e 100-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AK08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mul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lbourne, Australia                                 June 28-July 0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81952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UGG Session G06S3: World Heigh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parison of Extensive Aerogravity Surveys to EG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20:18:12Z</dcterms:created>
  <dc:creator>Dan.Roman</dc:creator>
  <dc:description/>
  <dc:language>en-US</dc:language>
  <cp:lastModifiedBy>Dan</cp:lastModifiedBy>
  <dcterms:modified xsi:type="dcterms:W3CDTF">2011-07-03T04:19:46Z</dcterms:modified>
  <cp:revision>82</cp:revision>
  <dc:subject/>
  <dc:title>IUGG Presenttaion</dc:title>
</cp:coreProperties>
</file>