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10080625" cy="567055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-360" y="7059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4"/>
          </p:nvPr>
        </p:nvSpPr>
        <p:spPr>
          <a:xfrm>
            <a:off x="3966840" y="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6"/>
          </p:nvPr>
        </p:nvSpPr>
        <p:spPr>
          <a:xfrm>
            <a:off x="396684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17600"/>
                <a:tab algn="l" pos="835200"/>
                <a:tab algn="l" pos="1254240"/>
                <a:tab algn="l" pos="1671480"/>
                <a:tab algn="l" pos="2089080"/>
                <a:tab algn="l" pos="2508120"/>
                <a:tab algn="l" pos="2925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17600"/>
                <a:tab algn="l" pos="835200"/>
                <a:tab algn="l" pos="1254240"/>
                <a:tab algn="l" pos="1671480"/>
                <a:tab algn="l" pos="2089080"/>
                <a:tab algn="l" pos="2508120"/>
                <a:tab algn="l" pos="2925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4D17E-9EA7-425E-A121-8F5D159BA4B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0" y="7063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17600"/>
                <a:tab algn="l" pos="835200"/>
                <a:tab algn="l" pos="1254240"/>
                <a:tab algn="l" pos="1671480"/>
                <a:tab algn="l" pos="2089080"/>
                <a:tab algn="l" pos="2508120"/>
                <a:tab algn="l" pos="2925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FA4C5-A6E7-4A34-99EE-F814F7E3C7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0" y="7063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17600"/>
                <a:tab algn="l" pos="835200"/>
                <a:tab algn="l" pos="1254240"/>
                <a:tab algn="l" pos="1671480"/>
                <a:tab algn="l" pos="2089080"/>
                <a:tab algn="l" pos="2508120"/>
                <a:tab algn="l" pos="2925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00811-E8B2-40D4-AF3D-FA4CDB8B4B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0" y="7063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AA3BD-993D-4771-B18E-1C09EE4B493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0" y="7063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73B00-5D9B-4D84-B3AB-D54038074B6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0" y="7063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17600"/>
                <a:tab algn="l" pos="835200"/>
                <a:tab algn="l" pos="1254240"/>
                <a:tab algn="l" pos="1671480"/>
                <a:tab algn="l" pos="2089080"/>
                <a:tab algn="l" pos="2508120"/>
                <a:tab algn="l" pos="2925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5A2AF-8709-478F-9848-9DBEA95BD4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0" y="7063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17600"/>
                <a:tab algn="l" pos="835200"/>
                <a:tab algn="l" pos="1254240"/>
                <a:tab algn="l" pos="1671480"/>
                <a:tab algn="l" pos="2089080"/>
                <a:tab algn="l" pos="2508120"/>
                <a:tab algn="l" pos="2925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50828-1CDD-4D17-81B4-CD1E2573C2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17600"/>
                <a:tab algn="l" pos="835200"/>
                <a:tab algn="l" pos="1254240"/>
                <a:tab algn="l" pos="1671480"/>
                <a:tab algn="l" pos="2089080"/>
                <a:tab algn="l" pos="2508120"/>
                <a:tab algn="l" pos="2925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51068-1322-41F1-99B8-15F17F9F633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0" y="706320"/>
            <a:ext cx="1440" cy="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88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17600"/>
                <a:tab algn="l" pos="835200"/>
                <a:tab algn="l" pos="1254240"/>
                <a:tab algn="l" pos="1671480"/>
                <a:tab algn="l" pos="2089080"/>
                <a:tab algn="l" pos="2508120"/>
                <a:tab algn="l" pos="2925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CF8DC-7B41-4A3B-BD54-096E5773AA8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0" y="706320"/>
            <a:ext cx="1440" cy="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88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17600"/>
                <a:tab algn="l" pos="835200"/>
                <a:tab algn="l" pos="1254240"/>
                <a:tab algn="l" pos="1671480"/>
                <a:tab algn="l" pos="2089080"/>
                <a:tab algn="l" pos="2508120"/>
                <a:tab algn="l" pos="2925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D3C1B-58A3-4357-80B3-95094F67661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0" y="706320"/>
            <a:ext cx="1440" cy="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88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17600"/>
                <a:tab algn="l" pos="835200"/>
                <a:tab algn="l" pos="1254240"/>
                <a:tab algn="l" pos="1671480"/>
                <a:tab algn="l" pos="2089080"/>
                <a:tab algn="l" pos="2508120"/>
                <a:tab algn="l" pos="2925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21175-3D41-4C00-A50C-0F089B73913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0" y="706320"/>
            <a:ext cx="1440" cy="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88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17600"/>
                <a:tab algn="l" pos="835200"/>
                <a:tab algn="l" pos="1254240"/>
                <a:tab algn="l" pos="1671480"/>
                <a:tab algn="l" pos="2089080"/>
                <a:tab algn="l" pos="2508120"/>
                <a:tab algn="l" pos="2925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1CAA0-332A-494E-A089-0F4018AD5DB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0" y="706320"/>
            <a:ext cx="1440" cy="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88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17600"/>
                <a:tab algn="l" pos="835200"/>
                <a:tab algn="l" pos="1254240"/>
                <a:tab algn="l" pos="1671480"/>
                <a:tab algn="l" pos="2089080"/>
                <a:tab algn="l" pos="2508120"/>
                <a:tab algn="l" pos="2925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9D2AF-7DB2-4E16-AE55-17ACFDB3B6B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0" y="706320"/>
            <a:ext cx="1440" cy="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88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17600"/>
                <a:tab algn="l" pos="835200"/>
                <a:tab algn="l" pos="1254240"/>
                <a:tab algn="l" pos="1671480"/>
                <a:tab algn="l" pos="2089080"/>
                <a:tab algn="l" pos="2508120"/>
                <a:tab algn="l" pos="2925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DDA73-5F54-4415-8943-0379E3F1A9E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0" y="706320"/>
            <a:ext cx="1440" cy="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88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17600"/>
                <a:tab algn="l" pos="835200"/>
                <a:tab algn="l" pos="1254240"/>
                <a:tab algn="l" pos="1671480"/>
                <a:tab algn="l" pos="2089080"/>
                <a:tab algn="l" pos="2508120"/>
                <a:tab algn="l" pos="2925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458C8-1649-4C03-8457-28190B1C98F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0" y="706320"/>
            <a:ext cx="1440" cy="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88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0" y="7063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17600"/>
                <a:tab algn="l" pos="835200"/>
                <a:tab algn="l" pos="1254240"/>
                <a:tab algn="l" pos="1671480"/>
                <a:tab algn="l" pos="2089080"/>
                <a:tab algn="l" pos="2508120"/>
                <a:tab algn="l" pos="2925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217DF-019F-4653-966E-689486CA16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321804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920" y="3271320"/>
            <a:ext cx="321804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20080" y="165060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0920" y="327132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1720080" y="327132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1036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59200" y="1650600"/>
            <a:ext cx="1036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47480" y="1650600"/>
            <a:ext cx="1036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0920" y="3271320"/>
            <a:ext cx="1036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1159200" y="3271320"/>
            <a:ext cx="1036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2247480" y="3271320"/>
            <a:ext cx="1036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0920" y="1650600"/>
            <a:ext cx="321804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321804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15703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720080" y="1650600"/>
            <a:ext cx="15703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0920" y="63360"/>
            <a:ext cx="321804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720080" y="1650600"/>
            <a:ext cx="15703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0920" y="327132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0920" y="1650600"/>
            <a:ext cx="321804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15703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720080" y="165060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20080" y="327132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20080" y="165060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0920" y="3271320"/>
            <a:ext cx="321804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321804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0920" y="3271320"/>
            <a:ext cx="321804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20080" y="165060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0920" y="327132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720080" y="327132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1036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59200" y="1650600"/>
            <a:ext cx="1036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47480" y="1650600"/>
            <a:ext cx="1036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0920" y="3271320"/>
            <a:ext cx="1036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1159200" y="3271320"/>
            <a:ext cx="1036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2247480" y="3271320"/>
            <a:ext cx="1036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CB68-7268-4500-8F76-B5409227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0920" y="1650600"/>
            <a:ext cx="321804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48F-0082-4073-9778-F386B6F4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321804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498-3A16-44BC-A206-328B5E31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15703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720080" y="1650600"/>
            <a:ext cx="15703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9B50-1FB3-4D17-8149-2F96D3B7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70E-AD50-4765-9B48-C12E09B8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321804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0920" y="63360"/>
            <a:ext cx="321804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B82-03F7-49AA-AE40-16093A40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720080" y="1650600"/>
            <a:ext cx="15703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0920" y="327132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AC4E-D4D5-4716-B7C1-107B7D99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15703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720080" y="165060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720080" y="327132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4B3-A4F0-4DD4-BA96-EFAC937A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720080" y="165060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0920" y="3271320"/>
            <a:ext cx="321804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B4AD-3947-45FF-99A4-50C568A3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321804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0920" y="3271320"/>
            <a:ext cx="321804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A3E-4BB2-45A1-94B4-57F83B7F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20080" y="165060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0920" y="327132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720080" y="327132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4996-2771-40AD-8074-5742E859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1036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59200" y="1650600"/>
            <a:ext cx="1036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47480" y="1650600"/>
            <a:ext cx="1036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0920" y="3271320"/>
            <a:ext cx="1036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1159200" y="3271320"/>
            <a:ext cx="1036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2247480" y="3271320"/>
            <a:ext cx="1036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7F2-F3B9-4F55-BE2E-46A6A03A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15703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1720080" y="1650600"/>
            <a:ext cx="15703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0920" y="63360"/>
            <a:ext cx="321804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720080" y="1650600"/>
            <a:ext cx="15703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0920" y="327132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15703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720080" y="165060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20080" y="327132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0920" y="165060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720080" y="1650600"/>
            <a:ext cx="157032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0920" y="3271320"/>
            <a:ext cx="321804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2920" y="4800240"/>
            <a:ext cx="90694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20000"/>
          </a:bodyPr>
          <a:p>
            <a:pPr marL="68400" indent="0"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" indent="-68400" algn="ctr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400" indent="-68400" algn="ctr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400" indent="-68400" algn="ctr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68400" indent="-68400" algn="ctr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68400" indent="-68400" algn="ctr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68400" indent="-68400" algn="ctr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02920" y="1441080"/>
            <a:ext cx="906948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5f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5f7d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1187280"/>
          </a:xfrm>
          <a:prstGeom prst="rect">
            <a:avLst/>
          </a:prstGeom>
          <a:ln w="0">
            <a:noFill/>
          </a:ln>
        </p:spPr>
      </p:pic>
      <p:sp>
        <p:nvSpPr>
          <p:cNvPr id="3" name="Text Box 4"/>
          <p:cNvSpPr/>
          <p:nvPr/>
        </p:nvSpPr>
        <p:spPr>
          <a:xfrm>
            <a:off x="901800" y="71280"/>
            <a:ext cx="3274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5f7d"/>
                </a:solidFill>
                <a:latin typeface="Arial"/>
              </a:rPr>
              <a:t>Sander Geophy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0920" y="63360"/>
            <a:ext cx="321804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5f7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0920" y="1650600"/>
            <a:ext cx="321804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69000"/>
          </a:bodyPr>
          <a:p>
            <a:pPr marL="236520" indent="0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6520" indent="-23652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36520" indent="-23652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36520" indent="-23652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6520" indent="-23652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6520" indent="-23652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6520" indent="-23652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142920" y="4830840"/>
            <a:ext cx="72072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93720" y="301320"/>
            <a:ext cx="8693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93720" y="1509840"/>
            <a:ext cx="869328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693360" y="5256000"/>
            <a:ext cx="22669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38640" y="5256000"/>
            <a:ext cx="34034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7119720" y="5256000"/>
            <a:ext cx="22669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A3E0C-9A0C-4F89-BA99-EFF6A0DB6BB1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3800" y="946080"/>
            <a:ext cx="792468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4472c4"/>
                </a:solidFill>
                <a:latin typeface="Arial"/>
                <a:ea typeface="Arial"/>
              </a:rPr>
              <a:t>A comparison of Airborne Vector Gravimeter Measurements with the Geoid Slope </a:t>
            </a:r>
            <a:br>
              <a:rPr sz="2800"/>
            </a:br>
            <a:r>
              <a:rPr b="1" lang="en-US" sz="2800" spc="-1" strike="noStrike">
                <a:solidFill>
                  <a:srgbClr val="4472c4"/>
                </a:solidFill>
                <a:latin typeface="Arial"/>
                <a:ea typeface="Arial"/>
              </a:rPr>
              <a:t>Validation Survey 2014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079720" y="2835360"/>
            <a:ext cx="59212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rguson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ang YM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S. Elieff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X Li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S Holme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K Ahlgre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R Xi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ander Geophysics Ltd. Cana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National Geodetic Survey, NOAA, US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DST Inc. U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GT Inc. U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AG-IASPEI 2017</a:t>
            </a:r>
            <a:br>
              <a:rPr sz="13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obe | Japan | July 30 - August 5,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7120080" y="5256360"/>
            <a:ext cx="2266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618CE-7541-4FBC-AA02-4FA3A099C22F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Microsoft YaHe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Image result for noaa logo"/>
          <p:cNvPicPr/>
          <p:nvPr/>
        </p:nvPicPr>
        <p:blipFill>
          <a:blip r:embed="rId1"/>
          <a:stretch/>
        </p:blipFill>
        <p:spPr>
          <a:xfrm>
            <a:off x="8774280" y="1584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Image result for sander geophysics logo"/>
          <p:cNvPicPr/>
          <p:nvPr/>
        </p:nvPicPr>
        <p:blipFill>
          <a:blip r:embed="rId2"/>
          <a:stretch/>
        </p:blipFill>
        <p:spPr>
          <a:xfrm>
            <a:off x="11160" y="112680"/>
            <a:ext cx="33670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74280" y="252000"/>
            <a:ext cx="693108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Harmonic Downward Continuation Correction to the Geoid  (Eigen6c4, Unit in mm) </a:t>
            </a:r>
            <a:endParaRPr b="1" lang="en-US" sz="24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B8302-F13D-4392-8C95-CEC9BB1A09AD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260360" y="-1522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1386000" y="-27000"/>
            <a:ext cx="1839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DWC" descr=""/>
          <p:cNvPicPr/>
          <p:nvPr/>
        </p:nvPicPr>
        <p:blipFill>
          <a:blip r:embed="rId1"/>
          <a:stretch/>
        </p:blipFill>
        <p:spPr>
          <a:xfrm>
            <a:off x="1260360" y="1008000"/>
            <a:ext cx="7705800" cy="4341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Image result for noaa logo"/>
          <p:cNvPicPr/>
          <p:nvPr/>
        </p:nvPicPr>
        <p:blipFill>
          <a:blip r:embed="rId2"/>
          <a:stretch/>
        </p:blipFill>
        <p:spPr>
          <a:xfrm>
            <a:off x="9231480" y="4846680"/>
            <a:ext cx="7315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383E5-2F69-4511-A50F-AA9FC0BF12BD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260360" y="-1522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1386000" y="-27000"/>
            <a:ext cx="1839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Image result for noaa logo"/>
          <p:cNvPicPr/>
          <p:nvPr/>
        </p:nvPicPr>
        <p:blipFill>
          <a:blip r:embed="rId1"/>
          <a:stretch/>
        </p:blipFill>
        <p:spPr>
          <a:xfrm>
            <a:off x="9231480" y="4846680"/>
            <a:ext cx="731520" cy="7318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3"/>
          <p:cNvGrpSpPr/>
          <p:nvPr/>
        </p:nvGrpSpPr>
        <p:grpSpPr>
          <a:xfrm>
            <a:off x="925560" y="272880"/>
            <a:ext cx="8229600" cy="4754880"/>
            <a:chOff x="925560" y="272880"/>
            <a:chExt cx="8229600" cy="4754880"/>
          </a:xfrm>
        </p:grpSpPr>
        <p:pic>
          <p:nvPicPr>
            <p:cNvPr id="170" name="Picture 1" descr=""/>
            <p:cNvPicPr/>
            <p:nvPr/>
          </p:nvPicPr>
          <p:blipFill>
            <a:blip r:embed="rId2"/>
            <a:stretch/>
          </p:blipFill>
          <p:spPr>
            <a:xfrm>
              <a:off x="925560" y="272880"/>
              <a:ext cx="8229600" cy="475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2"/>
            <p:cNvSpPr/>
            <p:nvPr/>
          </p:nvSpPr>
          <p:spPr>
            <a:xfrm>
              <a:off x="7326360" y="898200"/>
              <a:ext cx="921600" cy="35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74280" y="252000"/>
            <a:ext cx="693108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Collocated points between the SGL flight and GSVS14 traverse</a:t>
            </a: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CD58F-BCDA-4F3F-9191-896F719C12D1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260360" y="-1522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1386000" y="-27000"/>
            <a:ext cx="1839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Image result for noaa logo"/>
          <p:cNvPicPr/>
          <p:nvPr/>
        </p:nvPicPr>
        <p:blipFill>
          <a:blip r:embed="rId1"/>
          <a:stretch/>
        </p:blipFill>
        <p:spPr>
          <a:xfrm>
            <a:off x="9231480" y="4846680"/>
            <a:ext cx="731520" cy="731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" descr=""/>
          <p:cNvPicPr/>
          <p:nvPr/>
        </p:nvPicPr>
        <p:blipFill>
          <a:blip r:embed="rId2"/>
          <a:stretch/>
        </p:blipFill>
        <p:spPr>
          <a:xfrm>
            <a:off x="0" y="1008000"/>
            <a:ext cx="10080720" cy="4570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3"/>
          <a:stretch/>
        </p:blipFill>
        <p:spPr>
          <a:xfrm>
            <a:off x="1459080" y="3139920"/>
            <a:ext cx="395892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46080" y="340920"/>
            <a:ext cx="81993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Geoid height differences (SGL flight – GSVS14)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at the collocated points</a:t>
            </a: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1A4A9-7BD3-48C3-AE02-A187A4F14033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260360" y="-1522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1386000" y="-27000"/>
            <a:ext cx="1839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1001880" y="1096920"/>
            <a:ext cx="8143560" cy="4259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Image result for noaa logo"/>
          <p:cNvPicPr/>
          <p:nvPr/>
        </p:nvPicPr>
        <p:blipFill>
          <a:blip r:embed="rId2"/>
          <a:stretch/>
        </p:blipFill>
        <p:spPr>
          <a:xfrm>
            <a:off x="9231480" y="4816440"/>
            <a:ext cx="7315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39960" y="248760"/>
            <a:ext cx="57960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Conclusions (1)</a:t>
            </a: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96960" y="1071720"/>
            <a:ext cx="868680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Autofit/>
          </a:bodyPr>
          <a:p>
            <a:pPr marL="141120" indent="-14112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components of the gravity disturbance observed by AIRGrav agree with EGM2008 around 1.4 mG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1120" indent="-14112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eoid height differences between the SGL and NGS - GSVS14  geoid profiles is ±0.9 cm at 10 collocated points, one order better than the result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pas and Jekeli (2005) due to the high quality AIRGrav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1120" indent="-14112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off-track corrections are critical because of strong gravity field variation in th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1120" indent="-14112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harmonic downward continuation correction is in the order of a few cm and has to be appl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112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0B65F-9162-44DF-BAE4-23BE62F30B22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Image result for noaa logo"/>
          <p:cNvPicPr/>
          <p:nvPr/>
        </p:nvPicPr>
        <p:blipFill>
          <a:blip r:embed="rId1"/>
          <a:stretch/>
        </p:blipFill>
        <p:spPr>
          <a:xfrm>
            <a:off x="9231480" y="4816440"/>
            <a:ext cx="7315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20640" y="701640"/>
            <a:ext cx="883944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3000"/>
          </a:bodyPr>
          <a:p>
            <a:pPr lvl="1" marL="798480" indent="-296640">
              <a:lnSpc>
                <a:spcPct val="93000"/>
              </a:lnSpc>
              <a:spcBef>
                <a:spcPts val="1199"/>
              </a:spcBef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gravity components (HGC) are a direct measure of the slope of the equipotential surface at fligh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96640">
              <a:lnSpc>
                <a:spcPct val="93000"/>
              </a:lnSpc>
              <a:spcBef>
                <a:spcPts val="1199"/>
              </a:spcBef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GC can be integrated directly to calculate equipotential surface at the flight altitude see Jekeli and Kwon (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96640">
              <a:lnSpc>
                <a:spcPct val="93000"/>
              </a:lnSpc>
              <a:spcBef>
                <a:spcPts val="1199"/>
              </a:spcBef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GC contain wavelengths down to about 5km full wavelength with sub-cm repea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96640">
              <a:lnSpc>
                <a:spcPct val="93000"/>
              </a:lnSpc>
              <a:spcBef>
                <a:spcPts val="1199"/>
              </a:spcBef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GC can be combined with satellite models to encompass full spectrum of gravity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96640">
              <a:lnSpc>
                <a:spcPct val="93000"/>
              </a:lnSpc>
              <a:spcBef>
                <a:spcPts val="1199"/>
              </a:spcBef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GC can be used to verify geoi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296640">
              <a:lnSpc>
                <a:spcPct val="93000"/>
              </a:lnSpc>
              <a:spcBef>
                <a:spcPts val="1199"/>
              </a:spcBef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the astrogeodetic leveling, HGC can be used in geoid computation along flight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71280" y="63000"/>
            <a:ext cx="9802800" cy="66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Conclusions (2)</a:t>
            </a: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pic>
        <p:nvPicPr>
          <p:cNvPr id="191" name="Picture 2" descr="Image result for noaa logo"/>
          <p:cNvPicPr/>
          <p:nvPr/>
        </p:nvPicPr>
        <p:blipFill>
          <a:blip r:embed="rId1"/>
          <a:stretch/>
        </p:blipFill>
        <p:spPr>
          <a:xfrm>
            <a:off x="9231480" y="4846680"/>
            <a:ext cx="731520" cy="7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167760"/>
            <a:ext cx="9070920" cy="916200"/>
          </a:xfrm>
          <a:prstGeom prst="rect">
            <a:avLst/>
          </a:prstGeom>
          <a:noFill/>
          <a:ln w="0">
            <a:noFill/>
          </a:ln>
        </p:spPr>
        <p:txBody>
          <a:bodyPr tIns="356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Geoid Slope Validation Survey 2014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674640" y="1084320"/>
            <a:ext cx="5562720" cy="4586400"/>
          </a:xfrm>
          <a:prstGeom prst="rect">
            <a:avLst/>
          </a:prstGeom>
          <a:noFill/>
          <a:ln w="0">
            <a:noFill/>
          </a:ln>
        </p:spPr>
        <p:txBody>
          <a:bodyPr tIns="15840" anchor="t">
            <a:normAutofit/>
          </a:bodyPr>
          <a:p>
            <a:pPr lvl="2" marL="1327320" indent="-319320">
              <a:lnSpc>
                <a:spcPct val="70000"/>
              </a:lnSpc>
              <a:spcBef>
                <a:spcPts val="601"/>
              </a:spcBef>
              <a:spcAft>
                <a:spcPts val="575"/>
              </a:spcAft>
              <a:buClr>
                <a:srgbClr val="005f7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SVS14 is the second survey conducted by the NGS to test differential accuracy of the gravimetric geoid mod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27320" indent="-319320">
              <a:lnSpc>
                <a:spcPct val="70000"/>
              </a:lnSpc>
              <a:spcBef>
                <a:spcPts val="601"/>
              </a:spcBef>
              <a:spcAft>
                <a:spcPts val="575"/>
              </a:spcAft>
              <a:buClr>
                <a:srgbClr val="005f7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t was conducted in Iowa, predominantly along Highway 30, from Denison to Cedar Rapi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27320" indent="-319320">
              <a:lnSpc>
                <a:spcPct val="70000"/>
              </a:lnSpc>
              <a:spcBef>
                <a:spcPts val="601"/>
              </a:spcBef>
              <a:spcAft>
                <a:spcPts val="575"/>
              </a:spcAft>
              <a:buClr>
                <a:srgbClr val="005f7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~ 200 miles (325 km) long, 204 survey benchmar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27320" indent="-319320">
              <a:lnSpc>
                <a:spcPct val="70000"/>
              </a:lnSpc>
              <a:spcBef>
                <a:spcPts val="601"/>
              </a:spcBef>
              <a:spcAft>
                <a:spcPts val="575"/>
              </a:spcAft>
              <a:buClr>
                <a:srgbClr val="005f7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dium-high, relatively flat area ranging from 740 feet to 1,440 feet above sea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27320" indent="-319320">
              <a:lnSpc>
                <a:spcPct val="70000"/>
              </a:lnSpc>
              <a:spcBef>
                <a:spcPts val="601"/>
              </a:spcBef>
              <a:spcAft>
                <a:spcPts val="575"/>
              </a:spcAft>
              <a:buClr>
                <a:srgbClr val="005f7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ravimetrically complex (Midcontinent Rif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58960" indent="-319320">
              <a:lnSpc>
                <a:spcPct val="70000"/>
              </a:lnSpc>
              <a:spcBef>
                <a:spcPts val="4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4842000" y="1539720"/>
            <a:ext cx="4846680" cy="33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4440" y="244080"/>
            <a:ext cx="9802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AIRGrav System</a:t>
            </a:r>
            <a:br>
              <a:rPr sz="2800"/>
            </a:b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irborne Inertially Referenced Gravimetry</a:t>
            </a:r>
            <a:endParaRPr b="1" lang="en-US" sz="24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11120"/>
            <a:ext cx="6945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lvl="1" marL="858960" indent="-319320">
              <a:lnSpc>
                <a:spcPct val="93000"/>
              </a:lnSpc>
              <a:spcAft>
                <a:spcPts val="601"/>
              </a:spcAft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IRGrav designed and built specifically for airborne gravity surveying by S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19320">
              <a:lnSpc>
                <a:spcPct val="93000"/>
              </a:lnSpc>
              <a:spcAft>
                <a:spcPts val="601"/>
              </a:spcAft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 years of R&amp;D following by 16 years of survey flying, 12 gravi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19320">
              <a:lnSpc>
                <a:spcPct val="93000"/>
              </a:lnSpc>
              <a:spcAft>
                <a:spcPts val="601"/>
              </a:spcAft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axis (x y z) gyro stabilized platfor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3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(x y z) accelero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19320">
              <a:lnSpc>
                <a:spcPct val="93000"/>
              </a:lnSpc>
              <a:spcAft>
                <a:spcPts val="601"/>
              </a:spcAft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al frequency GPS rece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19320">
              <a:lnSpc>
                <a:spcPct val="93000"/>
              </a:lnSpc>
              <a:spcAft>
                <a:spcPts val="601"/>
              </a:spcAft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vity = inertial accelerations – GPS accel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19320">
              <a:lnSpc>
                <a:spcPct val="93000"/>
              </a:lnSpc>
              <a:spcAft>
                <a:spcPts val="601"/>
              </a:spcAft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w gravity data sampled at 128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8031240" y="1276200"/>
            <a:ext cx="1914480" cy="1982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4" descr=""/>
          <p:cNvPicPr/>
          <p:nvPr/>
        </p:nvPicPr>
        <p:blipFill>
          <a:blip r:embed="rId2"/>
          <a:srcRect l="188" t="99" r="0" b="0"/>
          <a:stretch/>
        </p:blipFill>
        <p:spPr>
          <a:xfrm>
            <a:off x="6713640" y="3471840"/>
            <a:ext cx="3254400" cy="21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280" y="63000"/>
            <a:ext cx="9802800" cy="66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SGL</a:t>
            </a:r>
            <a:r>
              <a:rPr b="1" lang="en-US" sz="2800" spc="-1" strike="noStrike">
                <a:solidFill>
                  <a:srgbClr val="005f7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Flight Information</a:t>
            </a: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38973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lvl="1" marL="593640" indent="-318960">
              <a:lnSpc>
                <a:spcPct val="93000"/>
              </a:lnSpc>
              <a:spcBef>
                <a:spcPts val="850"/>
              </a:spcBef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8,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3640" indent="-318960">
              <a:lnSpc>
                <a:spcPct val="93000"/>
              </a:lnSpc>
              <a:spcBef>
                <a:spcPts val="850"/>
              </a:spcBef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line flown West then 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3640" indent="-318960">
              <a:lnSpc>
                <a:spcPct val="93000"/>
              </a:lnSpc>
              <a:spcBef>
                <a:spcPts val="850"/>
              </a:spcBef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0 m ellipsoidal (~ 400 m AGL at East end, ~200 m AGL at West e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3640" indent="-318960">
              <a:lnSpc>
                <a:spcPct val="93000"/>
              </a:lnSpc>
              <a:spcBef>
                <a:spcPts val="850"/>
              </a:spcBef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0 km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3640" indent="-318960">
              <a:lnSpc>
                <a:spcPct val="93000"/>
              </a:lnSpc>
              <a:spcBef>
                <a:spcPts val="850"/>
              </a:spcBef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 55 m/s (200 km/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3640" indent="-318960">
              <a:lnSpc>
                <a:spcPct val="93000"/>
              </a:lnSpc>
              <a:spcBef>
                <a:spcPts val="850"/>
              </a:spcBef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flown next day at 2185 m ellipsoidal, 58 m/s, West and East (results not presented he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3897360" y="1158840"/>
            <a:ext cx="61182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25560" y="10062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lvl="1" marL="858960" indent="-319320">
              <a:lnSpc>
                <a:spcPct val="100000"/>
              </a:lnSpc>
              <a:spcBef>
                <a:spcPts val="1199"/>
              </a:spcBef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man Filter combination of GPS positions and gravimeter accel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19320">
              <a:lnSpc>
                <a:spcPct val="100000"/>
              </a:lnSpc>
              <a:spcBef>
                <a:spcPts val="1199"/>
              </a:spcBef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GPS solutions used to minimize acceleration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19320">
              <a:lnSpc>
                <a:spcPct val="100000"/>
              </a:lnSpc>
              <a:spcBef>
                <a:spcPts val="1199"/>
              </a:spcBef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gravity components are estimated states in the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19320">
              <a:lnSpc>
                <a:spcPct val="100000"/>
              </a:lnSpc>
              <a:spcBef>
                <a:spcPts val="1199"/>
              </a:spcBef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M 2008 used during processing to loosely constrain horizontal component estimates, which are corrupted by uncertainty in gyro d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19320">
              <a:lnSpc>
                <a:spcPct val="100000"/>
              </a:lnSpc>
              <a:spcBef>
                <a:spcPts val="1199"/>
              </a:spcBef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s (5.5 km) full wavelength filter 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8240" y="167760"/>
            <a:ext cx="9802800" cy="66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AIRGrav Data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Processing Steps</a:t>
            </a: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rcRect l="7506" t="3217" r="7332" b="4857"/>
          <a:stretch/>
        </p:blipFill>
        <p:spPr>
          <a:xfrm>
            <a:off x="3798720" y="458640"/>
            <a:ext cx="6034320" cy="52120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7600" y="604440"/>
            <a:ext cx="37497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5000"/>
          </a:bodyPr>
          <a:p>
            <a:pPr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760" indent="-302760">
              <a:lnSpc>
                <a:spcPct val="93000"/>
              </a:lnSpc>
              <a:spcBef>
                <a:spcPts val="1987"/>
              </a:spcBef>
              <a:spcAft>
                <a:spcPts val="1137"/>
              </a:spcAft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lue = We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3760" indent="-302760">
              <a:lnSpc>
                <a:spcPct val="93000"/>
              </a:lnSpc>
              <a:spcBef>
                <a:spcPts val="1987"/>
              </a:spcBef>
              <a:spcAft>
                <a:spcPts val="1137"/>
              </a:spcAft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d = E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3760" indent="-302760">
              <a:lnSpc>
                <a:spcPct val="93000"/>
              </a:lnSpc>
              <a:spcBef>
                <a:spcPts val="1987"/>
              </a:spcBef>
              <a:spcAft>
                <a:spcPts val="1137"/>
              </a:spcAft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d dev from mean = 0.582 mG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3760" indent="-302760">
              <a:lnSpc>
                <a:spcPct val="93000"/>
              </a:lnSpc>
              <a:spcBef>
                <a:spcPts val="1987"/>
              </a:spcBef>
              <a:spcAft>
                <a:spcPts val="1137"/>
              </a:spcAft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 std dev from EGM2008  = 1.27 mG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3760" indent="-302760">
              <a:lnSpc>
                <a:spcPct val="93000"/>
              </a:lnSpc>
              <a:spcBef>
                <a:spcPts val="1987"/>
              </a:spcBef>
              <a:spcAft>
                <a:spcPts val="1137"/>
              </a:spcAft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 std dev from EGM2008 = 1.21 mG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3760" indent="0">
              <a:lnSpc>
                <a:spcPct val="93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1280" y="63000"/>
            <a:ext cx="9802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East-West Component of Gravity Disturbance</a:t>
            </a: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rcRect l="7506" t="3217" r="7332" b="4857"/>
          <a:stretch/>
        </p:blipFill>
        <p:spPr>
          <a:xfrm>
            <a:off x="3798720" y="458640"/>
            <a:ext cx="6034320" cy="5212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47600" y="604440"/>
            <a:ext cx="37497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5000"/>
          </a:bodyPr>
          <a:p>
            <a:pPr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760" indent="-302760">
              <a:lnSpc>
                <a:spcPct val="93000"/>
              </a:lnSpc>
              <a:spcBef>
                <a:spcPts val="1987"/>
              </a:spcBef>
              <a:spcAft>
                <a:spcPts val="1137"/>
              </a:spcAft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lue = We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3760" indent="-302760">
              <a:lnSpc>
                <a:spcPct val="93000"/>
              </a:lnSpc>
              <a:spcBef>
                <a:spcPts val="1987"/>
              </a:spcBef>
              <a:spcAft>
                <a:spcPts val="1137"/>
              </a:spcAft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d = E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3760" indent="-302760">
              <a:lnSpc>
                <a:spcPct val="93000"/>
              </a:lnSpc>
              <a:spcBef>
                <a:spcPts val="1987"/>
              </a:spcBef>
              <a:spcAft>
                <a:spcPts val="1137"/>
              </a:spcAft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d dev from mean = 0.567 mG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3760" indent="-302760">
              <a:lnSpc>
                <a:spcPct val="93000"/>
              </a:lnSpc>
              <a:spcBef>
                <a:spcPts val="1987"/>
              </a:spcBef>
              <a:spcAft>
                <a:spcPts val="1137"/>
              </a:spcAft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 std dev from EGM2008  = 1.35 mG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3760" indent="-302760">
              <a:lnSpc>
                <a:spcPct val="93000"/>
              </a:lnSpc>
              <a:spcBef>
                <a:spcPts val="1987"/>
              </a:spcBef>
              <a:spcAft>
                <a:spcPts val="1137"/>
              </a:spcAft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 std dev from EGM2008 = 1.62 mG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3760" indent="0">
              <a:lnSpc>
                <a:spcPct val="93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71280" y="63000"/>
            <a:ext cx="9802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North-South Component Gravity Disturbance</a:t>
            </a: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rcRect l="7506" t="3217" r="7332" b="4857"/>
          <a:stretch/>
        </p:blipFill>
        <p:spPr>
          <a:xfrm>
            <a:off x="3798720" y="458640"/>
            <a:ext cx="6034320" cy="52120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7600" y="604440"/>
            <a:ext cx="37497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5000"/>
          </a:bodyPr>
          <a:p>
            <a:pPr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760" indent="-302760">
              <a:lnSpc>
                <a:spcPct val="93000"/>
              </a:lnSpc>
              <a:spcBef>
                <a:spcPts val="1987"/>
              </a:spcBef>
              <a:spcAft>
                <a:spcPts val="1137"/>
              </a:spcAft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d = We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3760" indent="-302760">
              <a:lnSpc>
                <a:spcPct val="93000"/>
              </a:lnSpc>
              <a:spcBef>
                <a:spcPts val="1987"/>
              </a:spcBef>
              <a:spcAft>
                <a:spcPts val="1137"/>
              </a:spcAft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lue = E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3760" indent="-302760">
              <a:lnSpc>
                <a:spcPct val="93000"/>
              </a:lnSpc>
              <a:spcBef>
                <a:spcPts val="1987"/>
              </a:spcBef>
              <a:spcAft>
                <a:spcPts val="1137"/>
              </a:spcAft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d dev from mean = 0.418 mG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3760" indent="-302760">
              <a:lnSpc>
                <a:spcPct val="93000"/>
              </a:lnSpc>
              <a:spcBef>
                <a:spcPts val="1987"/>
              </a:spcBef>
              <a:spcAft>
                <a:spcPts val="1137"/>
              </a:spcAft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 std dev from EGM2008  = 1.62 mG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3760" indent="-302760">
              <a:lnSpc>
                <a:spcPct val="93000"/>
              </a:lnSpc>
              <a:spcBef>
                <a:spcPts val="1987"/>
              </a:spcBef>
              <a:spcAft>
                <a:spcPts val="1137"/>
              </a:spcAft>
              <a:buClr>
                <a:srgbClr val="005f7d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 std dev from EGM2008 = 1.67 mG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3760" indent="0">
              <a:lnSpc>
                <a:spcPct val="93000"/>
              </a:lnSpc>
              <a:spcBef>
                <a:spcPts val="8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71280" y="63000"/>
            <a:ext cx="9802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5f7d"/>
                </a:solidFill>
                <a:latin typeface="Arial"/>
              </a:rPr>
              <a:t>Vertical component of Gravity Disturbance</a:t>
            </a:r>
            <a:endParaRPr b="1" lang="en-US" sz="2800" spc="-1" strike="noStrike">
              <a:solidFill>
                <a:srgbClr val="005f7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74280" y="252000"/>
            <a:ext cx="693108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SGL Geoid Profile Computation </a:t>
            </a:r>
            <a:endParaRPr b="1" lang="en-US" sz="2400" spc="-1" strike="noStrike">
              <a:solidFill>
                <a:srgbClr val="005f7d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61997-0571-4419-8370-FDC6411BE649}" type="slidenum">
              <a:rPr b="0" lang="en-US" sz="900" spc="-1" strike="noStrike">
                <a:solidFill>
                  <a:srgbClr val="898989"/>
                </a:solidFill>
                <a:latin typeface="Calibri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1260360" y="-1522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1386000" y="-27000"/>
            <a:ext cx="1839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Image result for noaa logo"/>
          <p:cNvPicPr/>
          <p:nvPr/>
        </p:nvPicPr>
        <p:blipFill>
          <a:blip r:embed="rId1"/>
          <a:stretch/>
        </p:blipFill>
        <p:spPr>
          <a:xfrm>
            <a:off x="9231480" y="4816440"/>
            <a:ext cx="731520" cy="731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1260360" y="128736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marL="141120" indent="-14112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5f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of line-integration (Jekeli and Kwon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1120" indent="-14112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resolution global gravity model EIGEN6c4 was used in the remove-restore fash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1120" indent="-14112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wnward continuation correction is computed from EIGEN6c4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1120" indent="-14112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1120" indent="-14112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2T18:58:25Z</dcterms:created>
  <dc:creator>Yan Wang</dc:creator>
  <dc:description/>
  <dc:language>en-US</dc:language>
  <cp:lastModifiedBy>Yan Wang</cp:lastModifiedBy>
  <cp:lastPrinted>2017-07-19T13:07:25Z</cp:lastPrinted>
  <dcterms:modified xsi:type="dcterms:W3CDTF">2017-07-19T18:58:31Z</dcterms:modified>
  <cp:revision>78</cp:revision>
  <dc:subject/>
  <dc:title>AIRGrav System</dc:title>
</cp:coreProperties>
</file>