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D72-36FF-4440-A916-9C0832C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8B5-076F-4D7D-B492-E507316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91C52-62D4-4CF9-A11D-4E5C18B5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5BFBB-405C-48F3-A2F3-62CE2ED4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74CFD-5CA9-47BE-8E16-1043EB24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237D9-3459-44A4-9F1C-DD2696D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B30F7-BC4F-47E2-BE38-B09E0DC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6246C-8729-42B5-B7B5-0D807C4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3AF2E-35AA-42BE-990A-05C52DC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EA23-D0B0-49B6-8A48-5E95A2B6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BEE9D-8DE2-4870-AD11-3091C8BE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8E995-238B-4686-9B3D-AA71EF38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9DE-7F28-4941-9D7C-79AA4ED5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76EA8-2BBE-4EFD-AB0A-5057B6E6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84167-690B-4964-87AB-BA8F13F2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1DF20-F911-4D9B-BA12-DFD8B954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15AF5-A166-40A7-836E-539A0AB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4C535-33C7-4455-9C2A-7B50CD8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3EBCE-CEDC-452F-A458-65E6E127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A7FE3-52FB-4C35-ABCB-EA121B23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90F50-012A-45FD-9F54-A083B3A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101C8-F871-41B3-A083-71095F2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1BB76-8DE0-469F-A33E-C7E5F671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D7B-4D77-4259-A21D-1104AB61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DF58-0BD0-4DF4-947B-D76C9000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F520A-D1DE-4F5E-8FFE-B449E3F4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0214F-3850-409B-BC4A-E3F9D41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EA39D-4BBF-48B0-A106-B644F44F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A1871-4186-449D-9907-AC4A5F88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1FAAB-4CEA-4CD6-ADFC-C33F4BBA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27DB7-AB22-4842-9CA2-687F8E7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2AEA-F7BD-4E09-8FAA-EDFD524A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3A97-24AC-4D8B-93FF-29D6E30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3D2C-B1DA-43BA-BFB3-F100A22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D4B-D263-4E3C-87C2-96574BC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A574-3DFA-4376-B142-07FB5351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4BBFC-8ADE-4A2B-BCDD-0C40899F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0EC05-8DC8-44DF-A1BD-02E13683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4F815-D7A7-4973-B0F5-931D6D87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3AC13-67BD-468C-B092-19D3C9D1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E40FA-4C43-4DD6-949C-81549772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F9FE1-A1EE-44E9-B08A-8A9DC2A2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59226-AD33-4A52-8A40-D504FC3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B0CEA-C0DA-4323-96AF-529DD83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E2588-6718-4F11-8CE6-8443306A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9794-3DD5-4EDF-B1A2-9EC93FD6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8E672-901E-4639-8C2C-54FF400F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B9041-0D91-475F-8C28-6CD127D6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19520-BBD2-4C9D-8A09-C5095917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B9018-2195-4C15-B4AD-A31FDE4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98740-1E63-449F-91C5-C33C11FD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1AC07-BC66-4F78-87A1-E07A7645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2754C-CCBF-4FD3-9AE1-E080F7A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76947-352F-4508-94B9-F3E12C7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E9E27-A403-4A97-A494-DFAF39AA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C340A-8B4E-44A0-82F6-68717815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9BDE-8D43-4641-9683-56718987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014ED-7946-4CD3-AEB8-96E35A6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CB521-4FDE-4039-BAA1-FF24839C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E47D3-EF2D-4F24-BC8A-F477C46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C965F-742E-4B77-9B02-4B0B62B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BB368-3216-4C18-80B9-B9BC5DE4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9E7D0-AE9F-4C1F-A094-57756EA2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6C567-108A-41DE-BD40-0F2F5237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06712-58F9-41F6-BAE3-4BAA7F16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71502-14C1-46E7-91C2-D473DF38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F6ED7-F0D5-40DE-B264-2CE2B91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839-8EFD-4416-B0A3-2CCC337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F1388-F1E0-49EC-9D71-08E13232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8F09C-2C89-47B8-AD0B-246B88B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20B55-7A6E-438A-94D1-5B9AC59E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E8F00-5BD9-49DA-9010-44FEE51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01091-A053-48A0-9149-F0C8691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5DCCB-74A2-487B-8431-7191060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A1BBA-A65E-4071-BEF6-8B62700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72C96-9210-472A-8FA1-25504D76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1E419-3986-4C68-83CB-291B597C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1DE36-F11D-4C5A-91D5-14566CA7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DF1-E76F-407A-8A3D-DDBBED8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B1EF1-8594-4744-BC70-1045D57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FDAE3-2CE3-4095-B9D4-1DA3C508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992E6-3877-4544-8123-735FCFF9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C5796-7BDD-4DE0-B155-EF27B175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D17E4-8E88-4182-9CF0-48FCFEE9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982AB-80C3-47F8-9F37-413B91B0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8EB8F-9152-478A-B13D-DE3A844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E10A6-5480-4450-B295-D0C4B936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95AC1-CCDD-4EA8-9E6A-49AD2CB6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040B9-642E-477A-AE2B-5475C604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8543-86F4-4A56-B0E1-B753440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8DA39-5CAE-47B1-9DD1-395AA3B2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CDB-4AF6-41EE-B542-579291D2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DA6-FAC8-45FE-AD2A-6810510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D89-6C00-481A-A33E-1D42CFC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80CA-30C1-4972-A2FD-759976E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614-40A6-47AD-AD2D-3683FC3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529F-7940-49AE-B560-B0CE959A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A0C2-1E3B-4403-B6B7-8ACA3A6F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30C17-8B64-4684-BC17-B9D0EA28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37E3-D54B-442C-8377-5FC44AF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0A3A-8381-4711-A26B-624E143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C064A-10D3-4AC8-B519-69E4A68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9AC8E-E59B-468D-B2DD-7E9DC87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E7F-C8D8-46B7-AD9A-B8177FD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508F-96DC-4817-951E-118C3002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3910-1E11-4F8A-AF55-3812051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E475-CA85-4C2A-8AB1-C02C2015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E205-84F9-442D-82B3-43DDB9F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009E-DDE7-4362-951A-DEE1369F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32B85-3C17-41C4-B095-18AB847E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31BF-61B3-4537-B924-0DC08BCB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6BC1-1E96-457C-9769-BED49E0D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A536-E86F-4FE8-A719-D75B8858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D263-7B90-4874-B4B6-6E777DC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DDC-41EF-47EB-999C-DB995C0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6E2B-7EBF-4CEA-9C49-33793CB3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79B9-6EDC-4761-89DB-1AB37FCC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DA64-5EF0-42EE-BBF6-4C02846F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68FD-8A92-46FC-8043-5C0DFA33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ACE1-937F-47F3-878A-9B98A99D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245BD-103B-4E75-B970-72A9BBCA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85FC-50CE-426D-A44F-28F2DB5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178A-6FCE-428A-9B98-1DC57C4D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6FB6-C2AE-461C-8AD7-C1364E28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0671-6280-4FB9-BAD0-7ED5C31A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F1C-361C-463F-A0F6-89500F1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D3A49-4758-4CDF-A115-410BD3A0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DC04A-FF87-486C-ABE9-A6C17C3A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DB8A-CEA4-4534-8282-0D4D378A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0A34D-931B-43CA-B69D-DE08C2F0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F94CF-B57D-4A2C-B529-D7983839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CC392-58F0-40BA-B896-71DA4252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E559-3E11-4DC7-A380-FF2FF32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3CB48-4CF7-4A85-82A7-2B50093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18A0-9B03-4613-B636-792D8976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FE77-1D15-402E-9C24-C96EAAC8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639-8F3E-4F89-A981-DCB16179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35C5-3FEF-47E0-95A8-CBAAFF85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66FDA-F160-474C-8F48-734D4280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6FD1-0597-4612-8BAE-81EC2069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7627-1C26-4ADB-AA79-9CCC0A0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6A9B8-8BEB-4599-9E8F-4F70C18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CCF65-975D-496C-B50C-41E7C1B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3FB4F-326E-4917-86AB-936B913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B56E-98F6-44C8-8332-4D2D020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9C72-CE02-4417-8CE9-31C2B7D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1174-E91B-4372-ACCD-86E23F4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DD5-8531-44C5-AEF5-E4A0D4E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D854-F72B-42BA-87D6-D4A35F71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17DB-75FA-4A2A-8E1C-517DEA59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C802E-C47B-40FF-9B10-C82EF85D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1406-2ED5-48AE-A697-28C234F4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72920-DAE8-4F6B-8E2B-53D8818D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EF38-A247-4935-AD9A-BED5E0CF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6435-88B3-42E3-9C19-B5A3F563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A9F1-C296-4F72-B38E-4E66F41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0680-AA07-45A7-B455-087A2322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F37F-555B-4344-BA61-8772E1D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D58-5BC8-42E2-A278-76FFB2CF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1FE5A-AA4F-416C-A4C0-8D81EE8F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D4AE0-ECE0-4EB2-8F8E-7A0E5AC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C72C-7189-40DF-9C4D-F82AAB94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B348-E363-4F2E-BE38-1A903981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98E1-766F-4972-8A02-2321DE0A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7DA7-E4C9-491A-AC96-5F97B849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70EDA-C839-4BDB-8F34-D741557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0B6C1-791B-420E-838D-0117069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F00C-E7B7-4ADE-8B1C-AF67D61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143D3-C533-4118-87EC-71314A25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3DD-082F-4A0B-9DA6-773AAC1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1201-D995-4008-BA07-D8744A1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9CA87-A0C1-4DF3-AE0B-396944C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61BF7-5742-42FE-A1DE-50DE712F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174B-D708-41D0-B836-62976CB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3BA2-B118-4928-84C0-F6E2D2CC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55A4-427B-4EC7-8A72-80941438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D353A-56ED-466F-9CE4-791A489D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3C73A-98A3-402C-93A7-6C84E389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2D13F-B761-48C3-8A8F-DA69D1D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7EF5E-233B-4C2C-843B-DB4CC29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78B-CB80-4E3F-B57D-A3F4E7349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2B2473-C9B5-414D-8B01-4E32B617C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D59284-8755-4E0E-9688-EF67D9971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5B844B-DB46-44BC-B872-D13BC343B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283650-6292-4028-BACD-9AD977456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7F5733-9912-459E-90A1-75FB532CA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3D2297-7D07-4365-8803-A43707114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B495FD-5797-46E2-860A-A34242294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B1A-9720-4D39-B727-B049ABED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C60DAB-FC19-458E-9AC9-3F7C0496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1066B4-8FFA-4D61-A4F5-B20A3F6BD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9091E5-80BA-4582-B69B-9B708DC4E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8853C8-A918-46D5-A8FE-D655C8361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104E07-19A1-4A4E-819B-2D4E89AF8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AE0403-744A-4632-B10E-D35BC86C2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al Time Network (RTN) Oper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s and Operators Persp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nection to NAVD8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hould be completed before the CORS antenna is installe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y be completed afterwards if an offset leveling plate had been installed immediately below the antenn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eld techn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odetic level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igonometric level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GS -58 surve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10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38520" cy="2055960"/>
          </a:xfrm>
          <a:prstGeom prst="rect">
            <a:avLst/>
          </a:prstGeom>
          <a:ln w="0">
            <a:noFill/>
          </a:ln>
        </p:spPr>
      </p:pic>
      <p:sp>
        <p:nvSpPr>
          <p:cNvPr id="640" name="Line 11"/>
          <p:cNvSpPr/>
          <p:nvPr/>
        </p:nvSpPr>
        <p:spPr>
          <a:xfrm flipH="1">
            <a:off x="7696080" y="4724280"/>
            <a:ext cx="10670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5" descr="NCEMlogoColor1in_cmyk_U-150dpi"/>
          <p:cNvPicPr/>
          <p:nvPr/>
        </p:nvPicPr>
        <p:blipFill>
          <a:blip r:embed="rId1"/>
          <a:stretch/>
        </p:blipFill>
        <p:spPr>
          <a:xfrm>
            <a:off x="4876920" y="5175360"/>
            <a:ext cx="1790640" cy="15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3" name=""/>
          <p:cNvGraphicFramePr/>
          <p:nvPr/>
        </p:nvGraphicFramePr>
        <p:xfrm>
          <a:off x="1295280" y="2629080"/>
          <a:ext cx="7162920" cy="2476440"/>
        </p:xfrm>
        <a:graphic>
          <a:graphicData uri="http://schemas.openxmlformats.org/drawingml/2006/table">
            <a:tbl>
              <a:tblPr/>
              <a:tblGrid>
                <a:gridCol w="3276720"/>
                <a:gridCol w="388620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ling addres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ilding (shipping) addres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y W. Thompson, P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C Geodetic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98 Mail Service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leigh, NC 27699-4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y W. Thompson, P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C Geodetic Surv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wers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C National Guard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05 Reedy Creek 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aleigh, NC 27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1295280" y="762120"/>
          <a:ext cx="7162920" cy="1828800"/>
        </p:xfrm>
        <a:graphic>
          <a:graphicData uri="http://schemas.openxmlformats.org/drawingml/2006/table">
            <a:tbl>
              <a:tblPr/>
              <a:tblGrid>
                <a:gridCol w="7162920"/>
              </a:tblGrid>
              <a:tr h="182880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y W. Thompson, P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9-733-38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9-948-78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68580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ai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gary.thompson@ncdps.g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619280" cy="19814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"/>
          <p:cNvPicPr/>
          <p:nvPr/>
        </p:nvPicPr>
        <p:blipFill>
          <a:blip r:embed="rId3"/>
          <a:stretch/>
        </p:blipFill>
        <p:spPr>
          <a:xfrm>
            <a:off x="2362320" y="5257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Administ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iciently operates the various components of the net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ivers/antenn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s users with the information needed to utilize the net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Administ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rdware infrastru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o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 staff to provi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88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ful support to us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88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tnership with IT profession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Administ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component of administration staff  is the system administr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tes and maintains the RTN computer net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tributes the GNSS information to the network’s users in an efficient man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Administ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ministrator abil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and maintain computer servers and communication lin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ility to respond to service out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r reported proble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twork problem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lpful to have a background in geodesy and satellite positi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Administ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Partn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T securit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irewall issu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ghtning protec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wer system backu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3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 Station Dat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nefits of using a reference datum that is consistent with the datum used by 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asy to verif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sistent with National C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an use OPUS to position RTN C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 Station Dat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mifications of using a datum that differs from the datum utilized by 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PUS and RTN solutions would be based on different reference datum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US could not be used to check RTN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TN could not be used to check OPUS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862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uld create confusion with us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TN Oper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on to NS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inimum number of National CORS sites in the RTN should be the larger of the following two figures: 3 sites or 10% of th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mmend local static surveys be performed to connect RTN CORS with local NSRS passive s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3:12:58Z</dcterms:created>
  <dc:creator>DENR</dc:creator>
  <dc:description/>
  <dc:language>en-US</dc:language>
  <cp:lastModifiedBy>Erika Little</cp:lastModifiedBy>
  <dcterms:modified xsi:type="dcterms:W3CDTF">2013-08-02T14:22:00Z</dcterms:modified>
  <cp:revision>20</cp:revision>
  <dc:subject/>
  <dc:title>Slide 1</dc:title>
</cp:coreProperties>
</file>