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56CD-39F7-44F0-A23C-AA0EDFEFF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DE5A-B508-4E71-B590-44A420043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59D4-1427-4E68-9AC6-CC5AD2DE8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FAF9-EDC3-4AB2-B34D-E63AB15CB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C287-A8D8-40D2-AFC1-51A9A80A5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87E4-92D4-456C-9B77-4EDFFAF91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AA59-B540-48AB-800C-9D3F5FDF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3F49-298A-4668-A8D7-F01B07F8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9CA4-1582-4A77-8C42-A1CFD7C0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C10-3BB8-4C5B-8872-4E5582B5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A4EA-C4BA-4C8E-ADC2-19ED55EB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34F3-4E1D-40DA-80AB-7DC20D60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523-1C1B-45BF-9495-D13996BA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F7B6-EB64-403F-819C-22255FB1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865F-1C27-41D8-AE00-C0EF3BF8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0B56-8E44-4432-B61D-4428FA1F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18E1-A2FF-4021-B3AB-C8A12230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F074-0CCE-4384-B067-D9995268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ontinuation 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A545-AA44-40EA-BEED-122738730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3" descr="Header 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Continuation 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Header 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Continuation 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Header 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Continuation 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Header 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6" descr="Continuation 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Header Slid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st Advancements at the National Geodetic Surv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anuary 25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RB  90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Annual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onnie Tay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cting Director, 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Aeronautical Survey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33160" y="2133360"/>
            <a:ext cx="7848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n FY11 NGS wil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eview 154 Surveys for WAAS Program (Phase 7 Project) to be delivered to FAA by 06/30/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eview 171 Surveys for WAAS Program (Phase 8 Project) to be delivered to FAA by 12/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eview 164 Surveys for WAAS Program (Phase 9 Project) to be delivered to FAA by 3/31/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evelop a strategic plan for the Airport Survey Progra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(internal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rial"/>
              </a:rPr>
              <a:t>Project Managers for new Datu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rk Eckl – Geopotential da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rk.eckl@noaa.g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1-713-3176 x1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oe Evjen – Geometric da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oe.evjen@noaa.g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1-713-3194 x1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olving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37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Data is Submitted Via the Complex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“Bluebook”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Individual Systems Manually Linked by Us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75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Calibri"/>
              </a:rPr>
              <a:t>GPS C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ubmit GPS Data to NGS 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Stored using 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OPUS DB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in a New NGS Database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VDatum: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 Transforms Geospatial Data from Different Sources into a Common System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Calibri"/>
              </a:rPr>
              <a:t>GNSS CORS</a:t>
            </a:r>
            <a:r>
              <a:rPr b="0" lang="en-US" sz="2800" spc="-1" strike="noStrike">
                <a:solidFill>
                  <a:srgbClr val="4f6228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r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838080" y="175248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Geopotential  “Vertical” Dat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22 estimated comple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d by combination of GNSS and gravity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V-D working in AK and 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Y11 target is 1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Geometric “Horizontal” Dat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22 estimated comple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 access through GNSS technology and active control (CORS) instead of passive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Datum:</a:t>
            </a:r>
            <a:br>
              <a:rPr sz="44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ertical Datum Transformation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0574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transformation of a single point or many points from one vertical datum to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s vertical datum transformations for placement into three categori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lipsoid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thometr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d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vdatum.noaa.gov/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190760" y="182844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ata Collection Updat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urr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PC-12 survey in CA for Jan-Feb, then 7 months of flying aboard leased aircraft in AK.  Return to PC-12 in Sept 201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PR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7.83% of total area was measured by end of FY10.  As of Nov FY11, we upped the total to 9.05% coverage, toward a cumulative goal of 13% (stretch 15%) at end of FY1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ata Processing Updat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oftwa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In-house airborne gravity software is working.  Java interface is in develop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22 Targe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thometric heights good to 2 cm anywhere, anytime from GNSS tech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ight changes easily monitored using new vertical dat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itle 1"/>
          <p:cNvSpPr/>
          <p:nvPr/>
        </p:nvSpPr>
        <p:spPr>
          <a:xfrm>
            <a:off x="53352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GRAV-D Progra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Arial"/>
              </a:rPr>
              <a:t>Gravity for the Re-definition of the American Vertical Da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8"/>
          <p:cNvGrpSpPr/>
          <p:nvPr/>
        </p:nvGrpSpPr>
        <p:grpSpPr>
          <a:xfrm>
            <a:off x="152280" y="2286000"/>
            <a:ext cx="3980160" cy="3751560"/>
            <a:chOff x="152280" y="2286000"/>
            <a:chExt cx="3980160" cy="3751560"/>
          </a:xfrm>
        </p:grpSpPr>
        <p:pic>
          <p:nvPicPr>
            <p:cNvPr id="222" name="Picture 17" descr=""/>
            <p:cNvPicPr/>
            <p:nvPr/>
          </p:nvPicPr>
          <p:blipFill>
            <a:blip r:embed="rId1"/>
            <a:srcRect l="17168" t="9801" r="6369" b="3918"/>
            <a:stretch/>
          </p:blipFill>
          <p:spPr>
            <a:xfrm>
              <a:off x="228240" y="2286000"/>
              <a:ext cx="390420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Box 33"/>
            <p:cNvSpPr/>
            <p:nvPr/>
          </p:nvSpPr>
          <p:spPr>
            <a:xfrm>
              <a:off x="152280" y="5791320"/>
              <a:ext cx="221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2008 and 2009 Survey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7"/>
            <p:cNvGrpSpPr/>
            <p:nvPr/>
          </p:nvGrpSpPr>
          <p:grpSpPr>
            <a:xfrm>
              <a:off x="533160" y="2895480"/>
              <a:ext cx="2788560" cy="2895120"/>
              <a:chOff x="533160" y="2895480"/>
              <a:chExt cx="2788560" cy="2895120"/>
            </a:xfrm>
          </p:grpSpPr>
          <p:sp>
            <p:nvSpPr>
              <p:cNvPr id="225" name="Rectangle 25"/>
              <p:cNvSpPr/>
              <p:nvPr/>
            </p:nvSpPr>
            <p:spPr>
              <a:xfrm>
                <a:off x="2895840" y="4952880"/>
                <a:ext cx="3808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6" name="Straight Arrow Connector 27"/>
              <p:cNvCxnSpPr/>
              <p:nvPr/>
            </p:nvCxnSpPr>
            <p:spPr>
              <a:xfrm flipV="1">
                <a:off x="533160" y="3809160"/>
                <a:ext cx="838800" cy="198180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27" name="Straight Arrow Connector 29"/>
              <p:cNvCxnSpPr/>
              <p:nvPr/>
            </p:nvCxnSpPr>
            <p:spPr>
              <a:xfrm flipV="1">
                <a:off x="533160" y="4799880"/>
                <a:ext cx="991440" cy="9910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sp>
            <p:nvSpPr>
              <p:cNvPr id="228" name="Rectangle 31"/>
              <p:cNvSpPr/>
              <p:nvPr/>
            </p:nvSpPr>
            <p:spPr>
              <a:xfrm>
                <a:off x="1904760" y="4267080"/>
                <a:ext cx="3808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Box 39"/>
              <p:cNvSpPr/>
              <p:nvPr/>
            </p:nvSpPr>
            <p:spPr>
              <a:xfrm>
                <a:off x="1828800" y="4190760"/>
                <a:ext cx="523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20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33"/>
              <p:cNvSpPr/>
              <p:nvPr/>
            </p:nvSpPr>
            <p:spPr>
              <a:xfrm>
                <a:off x="1828800" y="2971440"/>
                <a:ext cx="3808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Box 43"/>
              <p:cNvSpPr/>
              <p:nvPr/>
            </p:nvSpPr>
            <p:spPr>
              <a:xfrm>
                <a:off x="1762920" y="2895480"/>
                <a:ext cx="49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20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35"/>
              <p:cNvSpPr/>
              <p:nvPr/>
            </p:nvSpPr>
            <p:spPr>
              <a:xfrm>
                <a:off x="1828800" y="3504960"/>
                <a:ext cx="3808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44"/>
              <p:cNvSpPr/>
              <p:nvPr/>
            </p:nvSpPr>
            <p:spPr>
              <a:xfrm>
                <a:off x="1762920" y="3428640"/>
                <a:ext cx="49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20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37"/>
              <p:cNvSpPr/>
              <p:nvPr/>
            </p:nvSpPr>
            <p:spPr>
              <a:xfrm>
                <a:off x="1599840" y="5029200"/>
                <a:ext cx="3808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Box 45"/>
              <p:cNvSpPr/>
              <p:nvPr/>
            </p:nvSpPr>
            <p:spPr>
              <a:xfrm>
                <a:off x="2829960" y="4876560"/>
                <a:ext cx="49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20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Box 46"/>
              <p:cNvSpPr/>
              <p:nvPr/>
            </p:nvSpPr>
            <p:spPr>
              <a:xfrm>
                <a:off x="1534320" y="4952880"/>
                <a:ext cx="49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20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TextBox 19"/>
          <p:cNvSpPr/>
          <p:nvPr/>
        </p:nvSpPr>
        <p:spPr>
          <a:xfrm>
            <a:off x="228600" y="62485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gs.noaa.gov/GRAV-D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RS Progr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3520" y="2819520"/>
            <a:ext cx="403848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rial"/>
              </a:rPr>
              <a:t>1,656 Sta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rial"/>
              </a:rPr>
              <a:t>Added ~210 (</a:t>
            </a:r>
            <a:r>
              <a:rPr b="0" lang="en-US" sz="1900" spc="-1" strike="noStrike">
                <a:solidFill>
                  <a:srgbClr val="00ff00"/>
                </a:solidFill>
                <a:latin typeface="Calibri"/>
                <a:ea typeface="Arial"/>
              </a:rPr>
              <a:t>green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rial"/>
              </a:rPr>
              <a:t>dots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rial"/>
              </a:rPr>
              <a:t>in FY 2009-201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rial"/>
              </a:rPr>
              <a:t>In FY11 NGS will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rial"/>
              </a:rPr>
              <a:t>Install 1 foundation CORS to support improvement  of ITRF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Arial"/>
              </a:rPr>
              <a:t>Install 3 CORS co-located with tide/water level sta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Content Placeholder 7" descr="CORS1.png"/>
          <p:cNvPicPr/>
          <p:nvPr/>
        </p:nvPicPr>
        <p:blipFill>
          <a:blip r:embed="rId1"/>
          <a:stretch/>
        </p:blipFill>
        <p:spPr>
          <a:xfrm>
            <a:off x="4495680" y="2057400"/>
            <a:ext cx="4523040" cy="35892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2"/>
          <p:cNvSpPr/>
          <p:nvPr/>
        </p:nvSpPr>
        <p:spPr>
          <a:xfrm>
            <a:off x="914400" y="1676520"/>
            <a:ext cx="236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Arial"/>
              </a:rPr>
              <a:t>CORS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Arial"/>
              </a:rPr>
              <a:t>November 2010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4800600" y="60199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gs.noaa.gov/CORS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19810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-based access to tools for projects involving multiple sites and occup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uploading through OP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mizable data processing via the PAGES software su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ualization and management 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ew repeat measu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adjustment with GPS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sh in NGS Integrated Data 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US - Pro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lin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lin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putatio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ine geodetic leveling processing tool which will allow user to adjust geodetic leveling projects and return coordinates, thus allowing a user access to the NS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es similar function as OPUS does for GN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ly in Beta testing s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Height Modernization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685800" y="1295280"/>
            <a:ext cx="77724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914400" y="1752480"/>
            <a:ext cx="79246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Great Lakes Datum (IG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eld Observations completed in August, processing under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use OPUS Projects and compare results with both NGS and Canadian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thern Louisiana Height Modernizatio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servations completed, mid-Oct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d volunteer participation from Pari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ing will be done by 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ussions underway for model to publish datashe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ge Datum Updates (ongo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GS stream gages – update NGVD 29 to NAVD 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aboration with NC and MO includes Statewide HM GPS survey by MoD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astal water level gages - USACE, USGS, and NOAA (NGS and CO-OPS) work group update geodetic datums and tie to tidal Dat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3:51:11Z</dcterms:created>
  <dc:creator>aria.remondi</dc:creator>
  <dc:description/>
  <dc:language>en-US</dc:language>
  <cp:lastModifiedBy>brett.howe</cp:lastModifiedBy>
  <dcterms:modified xsi:type="dcterms:W3CDTF">2011-03-25T17:07:45Z</dcterms:modified>
  <cp:revision>107</cp:revision>
  <dc:subject/>
  <dc:title>Latest Advancements at the National Geodetic Survey</dc:title>
</cp:coreProperties>
</file>